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7108534-C537-442C-9A7F-887A9315354E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14E81E03-E6F0-40FB-90A0-4CDB2EE39B8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32C7C61-B4E9-491D-B444-2E9016FACE9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7A74990-D191-4783-8D9D-846F944484B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38E84AE-8B7B-442A-B04F-217DC481EAB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6384EE0-EA01-4B6D-86FC-AF6EAC27D02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CEAB701-8FF9-4E59-97D9-EF052A5ECA7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47C5FA0-64C9-4DBB-802F-6ECBF0A313C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F9639D1-F45F-47F1-A86F-879B0EC93ED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14545209-1CEF-429C-9406-16FEFDD295D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1FDE0C6-ACE2-42F7-A9F2-E9349795C1DD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45400" y="6567480"/>
            <a:ext cx="939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August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10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regression provides a way to estimate the effects of multiple variables when you do not have separate data for each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3 steps are described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Use the following multiple regression formula to calculate the estimated val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"/>
              <p:cNvSpPr txBox="1"/>
              <p:nvPr/>
            </p:nvSpPr>
            <p:spPr>
              <a:xfrm>
                <a:off x="1266840" y="4092480"/>
                <a:ext cx="379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28800" y="1501560"/>
            <a:ext cx="76579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Find the Beta parameters by solving the following simultaneous linear equ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1168560" y="2262240"/>
            <a:ext cx="6814800" cy="3657600"/>
            <a:chOff x="1168560" y="2262240"/>
            <a:chExt cx="6814800" cy="3657600"/>
          </a:xfrm>
        </p:grpSpPr>
        <p:sp>
          <p:nvSpPr>
            <p:cNvPr id="186" name="Rectangle 7"/>
            <p:cNvSpPr/>
            <p:nvPr/>
          </p:nvSpPr>
          <p:spPr>
            <a:xfrm>
              <a:off x="1168560" y="2262240"/>
              <a:ext cx="6781680" cy="365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8"/>
                <p:cNvSpPr txBox="1"/>
                <p:nvPr/>
              </p:nvSpPr>
              <p:spPr>
                <a:xfrm>
                  <a:off x="1208160" y="2262240"/>
                  <a:ext cx="6775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9"/>
                <p:cNvSpPr txBox="1"/>
                <p:nvPr/>
              </p:nvSpPr>
              <p:spPr>
                <a:xfrm>
                  <a:off x="1208160" y="4091040"/>
                  <a:ext cx="6592680" cy="89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Object 10"/>
                <p:cNvSpPr txBox="1"/>
                <p:nvPr/>
              </p:nvSpPr>
              <p:spPr>
                <a:xfrm>
                  <a:off x="1208160" y="5005440"/>
                  <a:ext cx="667368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en you calculate the values of the terms, you get the following simultaneous linear equ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915840" y="2316240"/>
                <a:ext cx="77724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9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8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32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8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9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02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8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6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Diagonalize, using Gauss’ method. This successively eliminates one parameter at a time from the equations by successive multiplication and subtraction to give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1139760" y="2881440"/>
                <a:ext cx="7318440" cy="20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54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14</m:t>
                        </m:r>
                      </m:e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8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1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8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4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</m:e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9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35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2</m:t>
                        </m:r>
                      </m:e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7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  Solve for the Beta ter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1279440" y="2117880"/>
                <a:ext cx="214488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3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84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50</m:t>
                        </m:r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6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8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prediction interval by solving for the range with the following equ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.  Calculate the varianc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281240" y="2120760"/>
                <a:ext cx="75294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t xml:space="preserve">=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vg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avg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1303200" y="3746520"/>
                <a:ext cx="61232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9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.  The variance evaluates to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.  The terms under the square root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052"/>
              <p:cNvSpPr txBox="1"/>
              <p:nvPr/>
            </p:nvSpPr>
            <p:spPr>
              <a:xfrm>
                <a:off x="1284120" y="1874880"/>
                <a:ext cx="39006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8</m:t>
                        </m:r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053"/>
              <p:cNvSpPr txBox="1"/>
              <p:nvPr/>
            </p:nvSpPr>
            <p:spPr>
              <a:xfrm>
                <a:off x="1273320" y="3243240"/>
                <a:ext cx="67071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65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e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e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6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dif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dif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vg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9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10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  The value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 for a 70% prediction interval is found under the 85% column and two degrees of freedom in table A2, page 489.  It is 1.386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.  The square root is evaluated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028"/>
              <p:cNvSpPr txBox="1"/>
              <p:nvPr/>
            </p:nvSpPr>
            <p:spPr>
              <a:xfrm>
                <a:off x="1395360" y="3162240"/>
                <a:ext cx="6713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ng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6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num>
                          <m:den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16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1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nal estimat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 = 6.71+0.0784*650+0.0150*3,000+0.2461*15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 = 140.902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7240" indent="-5587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.  The prediction interval of 38.846 hours means that the estimate is between 102.1 and 179.7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Method for Solving Simultaneous Linear Equ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28800" y="2004840"/>
            <a:ext cx="741024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requently-occurring problem in scientific, engineering, and business applications is to solve a system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quations wit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unknow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ussian elimination is a commonly-used algorithm for solving these equ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auss method converts th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h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value of X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973160" y="191844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X + 6Y = 1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AutoShape 5"/>
          <p:cNvSpPr/>
          <p:nvPr/>
        </p:nvSpPr>
        <p:spPr>
          <a:xfrm rot="10800000">
            <a:off x="1955880" y="3375000"/>
            <a:ext cx="2574720" cy="1814400"/>
          </a:xfrm>
          <a:prstGeom prst="rtTriangle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rot="10800000">
            <a:no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Y = 2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645080" y="3581280"/>
            <a:ext cx="2592360" cy="8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This technique is called </a:t>
            </a:r>
            <a:r>
              <a:rPr b="1" i="1" lang="en-US" sz="1800" spc="-1" strike="noStrike">
                <a:solidFill>
                  <a:srgbClr val="ffcc99"/>
                </a:solidFill>
                <a:latin typeface="Arial"/>
              </a:rPr>
              <a:t>triangularization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ve this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The equation with the largest absolute coefficient in the pivot column [any row, col 1] is exchanged with the equation in the pivot r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157560" y="191052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X + 6Y = 1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178080" y="432288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3X + 6Y = 1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Freeform 6"/>
          <p:cNvSpPr/>
          <p:nvPr/>
        </p:nvSpPr>
        <p:spPr>
          <a:xfrm>
            <a:off x="5846760" y="4510080"/>
            <a:ext cx="409680" cy="538200"/>
          </a:xfrm>
          <a:custGeom>
            <a:avLst/>
            <a:gdLst/>
            <a:ahLst/>
            <a:rect l="l" t="t" r="r" b="b"/>
            <a:pathLst>
              <a:path w="229" h="301">
                <a:moveTo>
                  <a:pt x="0" y="0"/>
                </a:moveTo>
                <a:lnTo>
                  <a:pt x="228" y="0"/>
                </a:lnTo>
                <a:lnTo>
                  <a:pt x="228" y="300"/>
                </a:lnTo>
                <a:lnTo>
                  <a:pt x="12" y="30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3583080" y="1784520"/>
            <a:ext cx="779400" cy="606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Line 8"/>
          <p:cNvSpPr/>
          <p:nvPr/>
        </p:nvSpPr>
        <p:spPr>
          <a:xfrm flipV="1">
            <a:off x="2313000" y="2120400"/>
            <a:ext cx="1260360" cy="12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708840" y="2073240"/>
            <a:ext cx="19609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The Pivot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[Row 1, Col 1]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Reduce the coefficient for the pivot term to 1 by multiplying through by the reciprocal of the coeffici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now ha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174680" y="2272680"/>
            <a:ext cx="560556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(1/3 * 3X) + (1/3 * 6Y) = (1/3 * 15)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2706840" y="4085640"/>
            <a:ext cx="254160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Eliminate the pivot column terms in all rows below the pivot r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101600" y="2303640"/>
            <a:ext cx="33210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a. Multiply the pivot row by the negated coefficient of the row below the pivot term to be eliminated,  -2 in this exampl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1241280" y="2255040"/>
            <a:ext cx="7937280" cy="3454560"/>
            <a:chOff x="1241280" y="2255040"/>
            <a:chExt cx="7937280" cy="3454560"/>
          </a:xfrm>
        </p:grpSpPr>
        <p:sp>
          <p:nvSpPr>
            <p:cNvPr id="235" name="Rectangle 6"/>
            <p:cNvSpPr/>
            <p:nvPr/>
          </p:nvSpPr>
          <p:spPr>
            <a:xfrm>
              <a:off x="4821120" y="2255040"/>
              <a:ext cx="254160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2Y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2X + 3Y = 8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7"/>
            <p:cNvSpPr/>
            <p:nvPr/>
          </p:nvSpPr>
          <p:spPr>
            <a:xfrm>
              <a:off x="1241280" y="5203800"/>
              <a:ext cx="763560" cy="4741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-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8"/>
            <p:cNvSpPr/>
            <p:nvPr/>
          </p:nvSpPr>
          <p:spPr>
            <a:xfrm>
              <a:off x="2806560" y="5203800"/>
              <a:ext cx="2219400" cy="4741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2Y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Oval 9"/>
            <p:cNvSpPr/>
            <p:nvPr/>
          </p:nvSpPr>
          <p:spPr>
            <a:xfrm>
              <a:off x="5160600" y="2684520"/>
              <a:ext cx="628920" cy="585720"/>
            </a:xfrm>
            <a:prstGeom prst="ellipse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10"/>
            <p:cNvSpPr/>
            <p:nvPr/>
          </p:nvSpPr>
          <p:spPr>
            <a:xfrm>
              <a:off x="3567960" y="3830760"/>
              <a:ext cx="105840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Negate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11"/>
            <p:cNvSpPr/>
            <p:nvPr/>
          </p:nvSpPr>
          <p:spPr>
            <a:xfrm flipH="1">
              <a:off x="4341600" y="3324240"/>
              <a:ext cx="897120" cy="55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 flipH="1">
              <a:off x="2048760" y="4159080"/>
              <a:ext cx="1668600" cy="96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13"/>
            <p:cNvSpPr/>
            <p:nvPr/>
          </p:nvSpPr>
          <p:spPr>
            <a:xfrm>
              <a:off x="2198160" y="526716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Rectangle 14"/>
            <p:cNvSpPr/>
            <p:nvPr/>
          </p:nvSpPr>
          <p:spPr>
            <a:xfrm>
              <a:off x="5111640" y="5288040"/>
              <a:ext cx="3574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Rectangle 15"/>
            <p:cNvSpPr/>
            <p:nvPr/>
          </p:nvSpPr>
          <p:spPr>
            <a:xfrm>
              <a:off x="5549760" y="5235480"/>
              <a:ext cx="2862360" cy="4741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-2X + -4Y = -10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5841720" y="3959280"/>
              <a:ext cx="33368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i="1" lang="en-US" sz="2000" spc="-1" strike="noStrike">
                  <a:solidFill>
                    <a:srgbClr val="ffcc99"/>
                  </a:solidFill>
                  <a:latin typeface="Arial"/>
                </a:rPr>
                <a:t>Note: don’t change the pivot row; put this result in a temp store.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17"/>
            <p:cNvSpPr/>
            <p:nvPr/>
          </p:nvSpPr>
          <p:spPr>
            <a:xfrm>
              <a:off x="6953040" y="4887720"/>
              <a:ext cx="0" cy="27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Eliminate the pivot column terms in all rows below the pivot r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28"/>
          <p:cNvSpPr/>
          <p:nvPr/>
        </p:nvSpPr>
        <p:spPr>
          <a:xfrm>
            <a:off x="646200" y="3388680"/>
            <a:ext cx="230652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2X + 3Y = 8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1029"/>
          <p:cNvSpPr/>
          <p:nvPr/>
        </p:nvSpPr>
        <p:spPr>
          <a:xfrm>
            <a:off x="1160640" y="2200320"/>
            <a:ext cx="718488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b. Add the 3a result to the row being eliminat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c. Repeat 3a &amp; 3b for each row below the pivot term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1030"/>
          <p:cNvSpPr/>
          <p:nvPr/>
        </p:nvSpPr>
        <p:spPr>
          <a:xfrm>
            <a:off x="3497400" y="3884760"/>
            <a:ext cx="2776320" cy="4741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2X + -4Y = -10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1031"/>
          <p:cNvSpPr/>
          <p:nvPr/>
        </p:nvSpPr>
        <p:spPr>
          <a:xfrm>
            <a:off x="2975040" y="3808440"/>
            <a:ext cx="35712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+</a:t>
            </a:r>
            <a:endParaRPr b="1" lang="en-US" sz="4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Rectangle 1032"/>
          <p:cNvSpPr/>
          <p:nvPr/>
        </p:nvSpPr>
        <p:spPr>
          <a:xfrm>
            <a:off x="6297480" y="3914640"/>
            <a:ext cx="314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Rectangle 1033"/>
          <p:cNvSpPr/>
          <p:nvPr/>
        </p:nvSpPr>
        <p:spPr>
          <a:xfrm>
            <a:off x="6647040" y="3409920"/>
            <a:ext cx="2306520" cy="97272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spAutoFit/>
          </a:bodyPr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X + 2Y = 5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Y = -2  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Rectangle 1034"/>
          <p:cNvSpPr/>
          <p:nvPr/>
        </p:nvSpPr>
        <p:spPr>
          <a:xfrm>
            <a:off x="5268960" y="4815000"/>
            <a:ext cx="290664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2000" spc="-1" strike="noStrike">
                <a:solidFill>
                  <a:srgbClr val="99ff99"/>
                </a:solidFill>
                <a:latin typeface="Arial"/>
              </a:rPr>
              <a:t>Note: -Y = -2 is the same as Y = 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Line 1035"/>
          <p:cNvSpPr/>
          <p:nvPr/>
        </p:nvSpPr>
        <p:spPr>
          <a:xfrm flipV="1">
            <a:off x="7302600" y="4306680"/>
            <a:ext cx="682560" cy="446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auss Method Example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 Complete the triangularization by repeating steps 1 to 3 as needed, then solve for the remaining terms using back-substitu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898560" y="2512080"/>
            <a:ext cx="7020000" cy="3458880"/>
            <a:chOff x="898560" y="2512080"/>
            <a:chExt cx="7020000" cy="3458880"/>
          </a:xfrm>
        </p:grpSpPr>
        <p:sp>
          <p:nvSpPr>
            <p:cNvPr id="260" name="Rectangle 5"/>
            <p:cNvSpPr/>
            <p:nvPr/>
          </p:nvSpPr>
          <p:spPr>
            <a:xfrm>
              <a:off x="898560" y="2512080"/>
              <a:ext cx="230508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2Y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Y = 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3548160" y="2889000"/>
              <a:ext cx="20080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Substituting 2 for Y gives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276720" y="3755160"/>
              <a:ext cx="230652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+ 4 = 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Y = 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Line 8"/>
            <p:cNvSpPr/>
            <p:nvPr/>
          </p:nvSpPr>
          <p:spPr>
            <a:xfrm>
              <a:off x="3355920" y="3260520"/>
              <a:ext cx="403560" cy="40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613480" y="4998240"/>
              <a:ext cx="230508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X = ?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Y = 2  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>
              <a:off x="5648400" y="4567320"/>
              <a:ext cx="405000" cy="4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5905800" y="4195800"/>
              <a:ext cx="20080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 = ?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Algorithm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a computer, the equations are represented by a matrix of the coeffici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2830680" y="2435400"/>
            <a:ext cx="2820960" cy="1410120"/>
            <a:chOff x="2830680" y="2435400"/>
            <a:chExt cx="2820960" cy="1410120"/>
          </a:xfrm>
        </p:grpSpPr>
        <p:sp>
          <p:nvSpPr>
            <p:cNvPr id="270" name="Rectangle 5"/>
            <p:cNvSpPr/>
            <p:nvPr/>
          </p:nvSpPr>
          <p:spPr>
            <a:xfrm>
              <a:off x="2830680" y="2872800"/>
              <a:ext cx="2820960" cy="97272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 algn="ct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r">
                <a:lnSpc>
                  <a:spcPct val="90000"/>
                </a:lnSpc>
                <a:spcBef>
                  <a:spcPts val="1012"/>
                </a:spcBef>
                <a:buClr>
                  <a:srgbClr val="ffffff"/>
                </a:buClr>
                <a:buFont typeface="Arial"/>
                <a:buChar char=" "/>
                <a:tabLst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3080880" y="24354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4001760" y="24354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Algorithm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lgorithm is the s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Group 1028"/>
          <p:cNvGrpSpPr/>
          <p:nvPr/>
        </p:nvGrpSpPr>
        <p:grpSpPr>
          <a:xfrm>
            <a:off x="225360" y="1174680"/>
            <a:ext cx="8266320" cy="5007600"/>
            <a:chOff x="225360" y="1174680"/>
            <a:chExt cx="8266320" cy="5007600"/>
          </a:xfrm>
        </p:grpSpPr>
        <p:sp>
          <p:nvSpPr>
            <p:cNvPr id="276" name="Rectangle 1029"/>
            <p:cNvSpPr/>
            <p:nvPr/>
          </p:nvSpPr>
          <p:spPr>
            <a:xfrm>
              <a:off x="978120" y="3128040"/>
              <a:ext cx="168408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7" name="Rectangle 1030"/>
            <p:cNvSpPr/>
            <p:nvPr/>
          </p:nvSpPr>
          <p:spPr>
            <a:xfrm>
              <a:off x="107748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8" name="Rectangle 1031"/>
            <p:cNvSpPr/>
            <p:nvPr/>
          </p:nvSpPr>
          <p:spPr>
            <a:xfrm>
              <a:off x="154908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9" name="Oval 1032"/>
            <p:cNvSpPr/>
            <p:nvPr/>
          </p:nvSpPr>
          <p:spPr>
            <a:xfrm>
              <a:off x="225360" y="3210120"/>
              <a:ext cx="58608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0" name="Rectangle 1033"/>
            <p:cNvSpPr/>
            <p:nvPr/>
          </p:nvSpPr>
          <p:spPr>
            <a:xfrm>
              <a:off x="6400800" y="1542240"/>
              <a:ext cx="168444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1" name="Rectangle 1034"/>
            <p:cNvSpPr/>
            <p:nvPr/>
          </p:nvSpPr>
          <p:spPr>
            <a:xfrm>
              <a:off x="3700440" y="3128040"/>
              <a:ext cx="168444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2" name="Rectangle 1035"/>
            <p:cNvSpPr/>
            <p:nvPr/>
          </p:nvSpPr>
          <p:spPr>
            <a:xfrm>
              <a:off x="380016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3" name="Rectangle 1036"/>
            <p:cNvSpPr/>
            <p:nvPr/>
          </p:nvSpPr>
          <p:spPr>
            <a:xfrm>
              <a:off x="4271760" y="278280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4" name="Oval 1037"/>
            <p:cNvSpPr/>
            <p:nvPr/>
          </p:nvSpPr>
          <p:spPr>
            <a:xfrm>
              <a:off x="2946600" y="3210120"/>
              <a:ext cx="58572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5" name="Rectangle 1038"/>
            <p:cNvSpPr/>
            <p:nvPr/>
          </p:nvSpPr>
          <p:spPr>
            <a:xfrm>
              <a:off x="6443640" y="3128040"/>
              <a:ext cx="168444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-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Rectangle 1039"/>
            <p:cNvSpPr/>
            <p:nvPr/>
          </p:nvSpPr>
          <p:spPr>
            <a:xfrm>
              <a:off x="6543360" y="282564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7" name="Rectangle 1040"/>
            <p:cNvSpPr/>
            <p:nvPr/>
          </p:nvSpPr>
          <p:spPr>
            <a:xfrm>
              <a:off x="7014960" y="282564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8" name="Oval 1041"/>
            <p:cNvSpPr/>
            <p:nvPr/>
          </p:nvSpPr>
          <p:spPr>
            <a:xfrm>
              <a:off x="5689800" y="3210120"/>
              <a:ext cx="58572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Rectangle 1042"/>
            <p:cNvSpPr/>
            <p:nvPr/>
          </p:nvSpPr>
          <p:spPr>
            <a:xfrm>
              <a:off x="6435360" y="117468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0" name="Rectangle 1043"/>
            <p:cNvSpPr/>
            <p:nvPr/>
          </p:nvSpPr>
          <p:spPr>
            <a:xfrm>
              <a:off x="6906960" y="117468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1" name="Rectangle 1044"/>
            <p:cNvSpPr/>
            <p:nvPr/>
          </p:nvSpPr>
          <p:spPr>
            <a:xfrm>
              <a:off x="3807000" y="5399640"/>
              <a:ext cx="168408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Rectangle 1045"/>
            <p:cNvSpPr/>
            <p:nvPr/>
          </p:nvSpPr>
          <p:spPr>
            <a:xfrm>
              <a:off x="3885840" y="505476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3" name="Rectangle 1046"/>
            <p:cNvSpPr/>
            <p:nvPr/>
          </p:nvSpPr>
          <p:spPr>
            <a:xfrm>
              <a:off x="4357440" y="5054760"/>
              <a:ext cx="37728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4" name="Oval 1047"/>
            <p:cNvSpPr/>
            <p:nvPr/>
          </p:nvSpPr>
          <p:spPr>
            <a:xfrm>
              <a:off x="3054240" y="5481720"/>
              <a:ext cx="586080" cy="585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99ff99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5" name="Rectangle 1048"/>
            <p:cNvSpPr/>
            <p:nvPr/>
          </p:nvSpPr>
          <p:spPr>
            <a:xfrm>
              <a:off x="4933800" y="1839960"/>
              <a:ext cx="9151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Given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6" name="Line 1049"/>
            <p:cNvSpPr/>
            <p:nvPr/>
          </p:nvSpPr>
          <p:spPr>
            <a:xfrm>
              <a:off x="5921280" y="2014560"/>
              <a:ext cx="405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7" name="Rectangle 1050"/>
            <p:cNvSpPr/>
            <p:nvPr/>
          </p:nvSpPr>
          <p:spPr>
            <a:xfrm>
              <a:off x="3243240" y="4154400"/>
              <a:ext cx="298620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i="1" lang="en-US" sz="2000" spc="-1" strike="noStrike">
                  <a:solidFill>
                    <a:srgbClr val="ffcc99"/>
                  </a:solidFill>
                  <a:latin typeface="Arial"/>
                </a:rPr>
                <a:t>Why do we need to change these signs?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8" name="Rectangle 1051"/>
            <p:cNvSpPr/>
            <p:nvPr/>
          </p:nvSpPr>
          <p:spPr>
            <a:xfrm>
              <a:off x="6978600" y="3856680"/>
              <a:ext cx="1513080" cy="74808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ctr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 "/>
                <a:tabLst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9" name="Line 1052"/>
            <p:cNvSpPr/>
            <p:nvPr/>
          </p:nvSpPr>
          <p:spPr>
            <a:xfrm flipV="1">
              <a:off x="6070680" y="3730680"/>
              <a:ext cx="93816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0" name="Arc 1053"/>
            <p:cNvSpPr/>
            <p:nvPr/>
          </p:nvSpPr>
          <p:spPr>
            <a:xfrm>
              <a:off x="8212320" y="3476520"/>
              <a:ext cx="171360" cy="322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1" name="Rectangle 1054"/>
            <p:cNvSpPr/>
            <p:nvPr/>
          </p:nvSpPr>
          <p:spPr>
            <a:xfrm>
              <a:off x="5705280" y="5375160"/>
              <a:ext cx="808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X = 1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2" name="Rectangle 1055"/>
            <p:cNvSpPr/>
            <p:nvPr/>
          </p:nvSpPr>
          <p:spPr>
            <a:xfrm>
              <a:off x="5727600" y="5803920"/>
              <a:ext cx="808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cc99"/>
                  </a:solidFill>
                  <a:latin typeface="Arial"/>
                </a:rPr>
                <a:t>Y = 2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3" name="Line 1056"/>
            <p:cNvSpPr/>
            <p:nvPr/>
          </p:nvSpPr>
          <p:spPr>
            <a:xfrm flipH="1">
              <a:off x="5192640" y="5554800"/>
              <a:ext cx="51120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4" name="Line 1057"/>
            <p:cNvSpPr/>
            <p:nvPr/>
          </p:nvSpPr>
          <p:spPr>
            <a:xfrm flipH="1">
              <a:off x="5257800" y="5940360"/>
              <a:ext cx="51120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Gauss Algorithm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1. I 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2. LET P=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K , I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= max{|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J , I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| : I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J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N}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Find the pivot value which is the largest number in the column below the I,I position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3. IF P = 0 THEN EXIT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If the remainder of this column is zero, a unique solution does not exist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4. IF K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I THEN FOR J = I TO N + 1  SWAP A(I,J) AND A(K,J) 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Get the pivot value into the I,I position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5. FOR J = I + 1  TO  N + 1   LET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J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=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J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/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I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Get a one in the I,I position.)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  SET  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I , I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 = 1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6. FOR L = I + 1 to N multiply row I  by -A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Century Schoolbook"/>
              </a:rPr>
              <a:t>L , I  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and add to row L   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(Zero out the column below the I,I position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7. I = I + 1.  IF I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 N THEN GO TO 2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8. EXIT to back-substitution (</a:t>
            </a:r>
            <a:r>
              <a:rPr b="1" i="1" lang="en-US" sz="1800" spc="-1" strike="noStrike">
                <a:solidFill>
                  <a:srgbClr val="ffffff"/>
                </a:solidFill>
                <a:latin typeface="Century Schoolbook"/>
              </a:rPr>
              <a:t>Design your own algorithm!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2.1 process, complete the planning phase for 10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2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10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10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scenario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.1, develop program 10A to calculate the three-variable multiple-regression estimating parameters (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an estimate from user-supplied inputs, and determine the 70% and 90% prediction intervals for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linked list to store the data and the Simpson’s integration routine from 5A to calculat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using the data in table D16, page 763, as the historical data.  For the user inputs,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5 LOC of new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 LOC of reus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 LOC of modifie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216080" y="3270240"/>
          <a:ext cx="7111800" cy="27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6080" y="3270240"/>
                    <a:ext cx="71118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test the program using the data in table A32, page 556, as the historical data.  For the user inputs,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50 LOC of new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0 LOC of reus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5 LOC of modifi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1319040" y="3192480"/>
          <a:ext cx="5411880" cy="269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3192480"/>
                    <a:ext cx="5411880" cy="26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10A Requirements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a test report with your results in the format in table D17, page 76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1029"/>
          <p:cNvGraphicFramePr/>
          <p:nvPr/>
        </p:nvGraphicFramePr>
        <p:xfrm>
          <a:off x="1619280" y="2230560"/>
          <a:ext cx="5878440" cy="405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30560"/>
                    <a:ext cx="5878440" cy="40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80640" y="1501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that you had the following data on six pro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hours requi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, reused, and modified LOC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that you wished to estimate the hours for a new project that you judged would have 650 LOC of new code, 3,000 LOC reused code, and 155 LOC of modifie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estimate the development hours and the prediction interv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ultiple Regression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3880" y="1397160"/>
          <a:ext cx="6096240" cy="50799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 No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u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4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6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6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0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9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6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76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?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4Z</dcterms:modified>
  <cp:revision>163</cp:revision>
  <dc:subject/>
  <dc:title>No Slide Title</dc:title>
</cp:coreProperties>
</file>