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F8857AF-70BD-4B16-937F-AC8BA69C8F6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419373F2-ED67-4F36-B63F-90A592E18D3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90739E0-86D2-4768-B584-867C0F114AB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2AEA191-6D2F-4287-B1FD-229A91B7DB5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24353C5-BB05-4BB3-8804-6D74BA997D5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465CCA8-A906-4FED-8E85-4C83A68EF03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8336B1A-7EA6-4A68-89B4-430565D3425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05A82DA-0955-4806-9B58-73C373DEF66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724FEC5-2A83-4C30-98F5-BAB34800089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236CDA-8C90-4CF6-98A0-4F15281935A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C5B8766-64BE-4766-89AD-7AFAF9E551E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2056687-0195-4FBC-ACCA-E85C060E233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3B54862-83C7-4217-B4FB-0D6B93C1A2D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91F97FA-5ABA-47BA-8A2B-5A9FD25F671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9EBABFF-5F4B-44DD-B740-43246CE714C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21308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1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ed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, test results, not code, are evaluated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1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1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mean and standard deviation of a series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al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gram must rea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eal numbers from the keyboard, a file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hol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 for the calcu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At least three of the tests should use the data in in the three columns below (table D5, page 753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Object LOC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New and Changed LOC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velopment Hou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5.0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9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9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9.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3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.5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7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22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3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9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28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7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3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5.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2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9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9.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57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89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98.7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2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78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38.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5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6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138.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50.6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38.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0.3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d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72.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25.6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62.26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v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n and Standard Deviation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ean is the averag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calculat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symbol for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symbol for summ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 is an index to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 baseline="-20000">
                <a:solidFill>
                  <a:srgbClr val="ffffff"/>
                </a:solidFill>
                <a:latin typeface="Arial"/>
              </a:rPr>
              <a:t>av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averag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013120" y="2367000"/>
            <a:ext cx="3735360" cy="1574640"/>
            <a:chOff x="2013120" y="2367000"/>
            <a:chExt cx="3735360" cy="1574640"/>
          </a:xfrm>
        </p:grpSpPr>
        <p:sp>
          <p:nvSpPr>
            <p:cNvPr id="169" name="Rectangle 5"/>
            <p:cNvSpPr/>
            <p:nvPr/>
          </p:nvSpPr>
          <p:spPr>
            <a:xfrm>
              <a:off x="2013120" y="2367000"/>
              <a:ext cx="3735360" cy="157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aphicFrame>
          <p:nvGraphicFramePr>
            <p:cNvPr id="170" name="Object 6"/>
            <p:cNvGraphicFramePr/>
            <p:nvPr/>
          </p:nvGraphicFramePr>
          <p:xfrm>
            <a:off x="2295720" y="2489040"/>
            <a:ext cx="3322800" cy="12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5720" y="2489040"/>
                      <a:ext cx="3322800" cy="12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ked List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265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mon abstract data type used to maintain collections of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ed with poin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nked list often has these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19080" y="4230720"/>
            <a:ext cx="6908760" cy="1765440"/>
            <a:chOff x="919080" y="4230720"/>
            <a:chExt cx="6908760" cy="1765440"/>
          </a:xfrm>
        </p:grpSpPr>
        <p:sp>
          <p:nvSpPr>
            <p:cNvPr id="175" name="Rectangle 5"/>
            <p:cNvSpPr/>
            <p:nvPr/>
          </p:nvSpPr>
          <p:spPr>
            <a:xfrm>
              <a:off x="2997720" y="4853160"/>
              <a:ext cx="22546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s to nex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765600" y="4302360"/>
              <a:ext cx="717480" cy="565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HEA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919080" y="5274000"/>
              <a:ext cx="1067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2355840" y="5274000"/>
              <a:ext cx="1046160" cy="349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2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6481800" y="5274000"/>
              <a:ext cx="1346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n  </a:t>
              </a:r>
              <a:r>
                <a:rPr b="1" lang="en-US" sz="1400" spc="-1" strike="noStrike">
                  <a:solidFill>
                    <a:srgbClr val="000080"/>
                  </a:solidFill>
                  <a:latin typeface="Arial"/>
                </a:rPr>
                <a:t>nul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3919680" y="5335920"/>
              <a:ext cx="354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...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Arc 11"/>
            <p:cNvSpPr/>
            <p:nvPr/>
          </p:nvSpPr>
          <p:spPr>
            <a:xfrm>
              <a:off x="1595520" y="4754880"/>
              <a:ext cx="2286000" cy="533160"/>
            </a:xfrm>
            <a:custGeom>
              <a:avLst/>
              <a:gdLst/>
              <a:ahLst/>
              <a:rect l="l" t="t" r="r" b="b"/>
              <a:pathLst>
                <a:path fill="none" w="21369" h="21600">
                  <a:moveTo>
                    <a:pt x="-1" y="18450"/>
                  </a:moveTo>
                  <a:cubicBezTo>
                    <a:pt x="1560" y="7857"/>
                    <a:pt x="10646" y="7"/>
                    <a:pt x="21354" y="0"/>
                  </a:cubicBezTo>
                </a:path>
                <a:path stroke="0" w="21369" h="21600">
                  <a:moveTo>
                    <a:pt x="-1" y="18450"/>
                  </a:moveTo>
                  <a:cubicBezTo>
                    <a:pt x="1560" y="7857"/>
                    <a:pt x="10646" y="7"/>
                    <a:pt x="21354" y="0"/>
                  </a:cubicBezTo>
                  <a:lnTo>
                    <a:pt x="21369" y="21600"/>
                  </a:lnTo>
                  <a:lnTo>
                    <a:pt x="-1" y="1845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Arc 12"/>
            <p:cNvSpPr/>
            <p:nvPr/>
          </p:nvSpPr>
          <p:spPr>
            <a:xfrm>
              <a:off x="4419720" y="4748400"/>
              <a:ext cx="2495520" cy="463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3" y="0"/>
                  </a:moveTo>
                  <a:cubicBezTo>
                    <a:pt x="11937" y="7"/>
                    <a:pt x="21600" y="9676"/>
                    <a:pt x="21600" y="21600"/>
                  </a:cubicBezTo>
                </a:path>
                <a:path stroke="0" w="21600" h="21600">
                  <a:moveTo>
                    <a:pt x="13" y="0"/>
                  </a:moveTo>
                  <a:cubicBezTo>
                    <a:pt x="11937" y="7"/>
                    <a:pt x="21600" y="9676"/>
                    <a:pt x="21600" y="21600"/>
                  </a:cubicBezTo>
                  <a:lnTo>
                    <a:pt x="0" y="21600"/>
                  </a:lnTo>
                  <a:lnTo>
                    <a:pt x="13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1909800" y="5480280"/>
              <a:ext cx="44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338640" y="5480280"/>
              <a:ext cx="520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15"/>
            <p:cNvSpPr/>
            <p:nvPr/>
          </p:nvSpPr>
          <p:spPr>
            <a:xfrm>
              <a:off x="4818240" y="5274000"/>
              <a:ext cx="1238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NODE n-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4398840" y="5480280"/>
              <a:ext cx="432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2405880" y="4249800"/>
              <a:ext cx="13539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 firs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4499280" y="4230720"/>
              <a:ext cx="132048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 last nod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>
              <a:off x="5954760" y="5480280"/>
              <a:ext cx="533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20"/>
            <p:cNvSpPr/>
            <p:nvPr/>
          </p:nvSpPr>
          <p:spPr>
            <a:xfrm>
              <a:off x="919080" y="5642280"/>
              <a:ext cx="1067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21"/>
            <p:cNvSpPr/>
            <p:nvPr/>
          </p:nvSpPr>
          <p:spPr>
            <a:xfrm>
              <a:off x="2357640" y="5646960"/>
              <a:ext cx="1046160" cy="349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4818240" y="5642280"/>
              <a:ext cx="1238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23"/>
            <p:cNvSpPr/>
            <p:nvPr/>
          </p:nvSpPr>
          <p:spPr>
            <a:xfrm>
              <a:off x="6481800" y="5642280"/>
              <a:ext cx="134604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Dat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>
              <a:off x="179712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>
              <a:off x="3243240" y="5267520"/>
              <a:ext cx="0" cy="3492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587376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>
              <a:off x="7410600" y="5280120"/>
              <a:ext cx="0" cy="33660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3772080" y="4626000"/>
              <a:ext cx="717480" cy="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Line 29"/>
            <p:cNvSpPr/>
            <p:nvPr/>
          </p:nvSpPr>
          <p:spPr>
            <a:xfrm>
              <a:off x="4121280" y="4632480"/>
              <a:ext cx="0" cy="222120"/>
            </a:xfrm>
            <a:prstGeom prst="line">
              <a:avLst/>
            </a:prstGeom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ked Lis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f the options for linked list structure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st head can point to the first node, last node, 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list node can point to the next node, prior node, or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null value pointer is normally used to indicate an empty list or the end of the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operations on a linked list include add node, remove node, next node, and prior n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 process, complete the planning phase for assignment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5Z</dcterms:modified>
  <cp:revision>120</cp:revision>
  <dc:subject/>
  <dc:title>No Slide Title</dc:title>
</cp:coreProperties>
</file>