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16A3FAC-44BB-4FDB-BEEB-9BE3A656E537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70F7FB7A-8820-448F-95D1-4BFF959E2EE5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B052323-6C0F-4724-8941-33A790DA847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BC21AB2-AC94-4703-B3AB-3D458E7F626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8DB3788-58CA-4BAA-A54A-B65239A0D4FF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B0535FB-731A-422D-8666-6196F6C91F7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12BCED5-0F56-47D3-A256-127B15CB9BF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C9438C6-39F4-4BE8-8FD6-20FA8555BA0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F2F18D2-B43A-46ED-B0C7-332E23B30A2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23AFD3AF-8804-42C2-90EC-2138EC26D54C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79293B1E-BCAF-45B0-B984-328C2D907099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213080" y="6567480"/>
            <a:ext cx="797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une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4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1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worksh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1 Plann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PROBE method to estimate siz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ident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other program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estimating ba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er the estimate to the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resour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calculate prediction intervals for this program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e the Plan Summar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er the data from the size estimating template to the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 the planned time using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 Date percenta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program 3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the planned LOC/hour, using the estimated new and changed LOC and the planned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, you should complete this assignment to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4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4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4A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linear regression parameter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ata se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hance the linked list developed in program 1A to store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ts, where each data set contains exactly two real numb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4A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program with three data set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object LOC and actual N&amp;C LOC (table D8, page 75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N&amp;C LOC and actual N&amp;C LOC (table D8, page 75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N&amp;C LOC and actual N&amp;C LOC for your programs 2A, 3A, and 4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2252520" y="3710160"/>
          <a:ext cx="4262760" cy="23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2520" y="3710160"/>
                    <a:ext cx="426276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4A Requirement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 a report of your tests that includes a table of the planned and actual results from these tests in the format of table D9, page 756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1028"/>
          <p:cNvGraphicFramePr/>
          <p:nvPr/>
        </p:nvGraphicFramePr>
        <p:xfrm>
          <a:off x="2011320" y="2563920"/>
          <a:ext cx="5300640" cy="134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1320" y="2563920"/>
                    <a:ext cx="530064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gression Parameter -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entury Schoolbook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rmula for the regression parameter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090440" y="1871640"/>
            <a:ext cx="53946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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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Times New Roman"/>
              </a:rPr>
              <a:t>avg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Century Schoolbook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imes New Roman"/>
              </a:rPr>
              <a:t>avg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14)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Century Schoolbook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gression Parameter -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entury Schoolbook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rmula for the regression parameter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076"/>
              <p:cNvSpPr txBox="1"/>
              <p:nvPr/>
            </p:nvSpPr>
            <p:spPr>
              <a:xfrm>
                <a:off x="920880" y="1914480"/>
                <a:ext cx="586728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g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1 process, complete the planning phase for assignment 4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17Z</dcterms:modified>
  <cp:revision>134</cp:revision>
  <dc:subject/>
  <dc:title>No Slide Title</dc:title>
</cp:coreProperties>
</file>