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389688" cy="8675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390000" cy="86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3622320" y="-1440"/>
            <a:ext cx="2768760" cy="4348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3622320" y="8241840"/>
            <a:ext cx="2768760" cy="43524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D4811640-F39C-42CD-9C43-DF3A4D903A8D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610720" y="8263080"/>
            <a:ext cx="11714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2840" bIns="428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33400"/>
                <a:tab algn="l" pos="1666800"/>
                <a:tab algn="l" pos="2500200"/>
                <a:tab algn="l" pos="3333600"/>
                <a:tab algn="l" pos="4167360"/>
                <a:tab algn="l" pos="5000760"/>
                <a:tab algn="l" pos="5834160"/>
                <a:tab algn="l" pos="6667560"/>
                <a:tab algn="l" pos="7500960"/>
                <a:tab algn="l" pos="8334360"/>
                <a:tab algn="l" pos="9167760"/>
                <a:tab algn="l" pos="10001160"/>
                <a:tab algn="l" pos="108345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ge </a:t>
            </a:r>
            <a:fld id="{B4F7263B-4D3B-47E9-A571-7D5B6081A0C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036440" y="655200"/>
            <a:ext cx="4322520" cy="324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A99C9E58-A09B-4CD6-A085-208DCD4B696C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036800" y="655560"/>
            <a:ext cx="4322520" cy="3241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52480" y="4119120"/>
            <a:ext cx="4686480" cy="39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1DC5C085-8D77-4149-8EDA-51D5019C46F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832040" y="609480"/>
            <a:ext cx="2529000" cy="18972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20560" y="2639520"/>
            <a:ext cx="536112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30D11F4A-DE8F-4B1D-A2E6-E74E3DCDE1B7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AFFABC1-B11B-4123-8606-6FD2547CA2CD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2D0D58C6-2429-43A3-A9C8-0E331F88AACA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782720" y="579600"/>
            <a:ext cx="2629080" cy="1971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BDDFBC6D-2CCD-49FC-92FF-F8D3D65EFAC1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5"/>
          <p:cNvSpPr/>
          <p:nvPr/>
        </p:nvSpPr>
        <p:spPr>
          <a:xfrm>
            <a:off x="3622680" y="8242200"/>
            <a:ext cx="2768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640" rIns="176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4964D684-53FE-41D2-B139-E290240FE512}" type="slidenum">
              <a:rPr b="0" i="1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774800" y="566640"/>
            <a:ext cx="2641680" cy="1981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0C6ACECE-A27F-4C2F-8115-BDE8971EC6B0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B1FE78DD-39C2-4AF0-B4D9-996CE55AB43C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:  Assignment 2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sho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his workshop, you wi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program 2A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completed program 2A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gram 2A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0.1 to write a program to count the total logical LOC in a program, omitting comments and blank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your counting standard (R1) and coding standard (R2) to place one logical line on each physical line and count physical li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e a single count for the entire program source fi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program. As one test, count the LOC in programs 1A and 2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0.1 process, complete the planning phase for assignment 2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are finished planning, review your work with the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your plan has been reviewed, complete the assignment using PSP0.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ssignment Instruc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’ve completed the postmortem phase, submit your assignment package, source code, and test results to the instructor in the following ord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.1 project plan summary (from work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P for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ecording lo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rce program lis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1 LOC count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2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gnment 1A project plan summary (from work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ent surv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0.1 Evaluation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IP form must show that you’re thinking about the process and how it works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report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i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specific o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ocess data, including size calculations,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f-consist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, you should complete this assignment tod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your programs simple. You will learn as much from small programs as from large on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hesitate to copy or build on the PSP materi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it right the first time.  If you are not sure, find ou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Suggestion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is not a solo business, so you do not have to work alo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, however, produce your own estimates, designs, an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have others review your work, and you may change it as a resul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note any help in your process report. Include the review time that you and your associates spend, and log the defects foun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7:19Z</dcterms:modified>
  <cp:revision>122</cp:revision>
  <dc:subject/>
  <dc:title>No Slide Title</dc:title>
</cp:coreProperties>
</file>