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62232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-36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362232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16B1546-BA3E-4CDE-BD64-29BEBD4CEDBB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610720" y="82630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8E151F1D-2441-4627-AC75-911A0E72C4F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03644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2F741C6-B9F1-4FA7-BD3C-5E6FA53D2E23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03680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265D6E6-5482-4C79-ACAD-84A69C8DF7A6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B8ADC45-ABCE-400E-9D77-B84EECE6095C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832040" y="609480"/>
            <a:ext cx="2529000" cy="18972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20560" y="2639520"/>
            <a:ext cx="53611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79965510-F99F-42E3-A786-AE1DA6433342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319A5E5-11CD-4F2D-AE3F-E08C9859644C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3DC80A0-C1A0-434A-B9AE-C70A8C69F5E3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C63910D4-D476-44A5-AA91-2314A07943CD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0993F581-0040-40A7-91E4-C1FDC2B47855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92E6E742-8BD6-4282-A958-20B71EFB28B6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6240" y="106632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:  Assignment 3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14320" y="1450800"/>
            <a:ext cx="7778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is not a solo business, so you do not have to work alo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, however, produce your own estimates, designs, an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have others review your work, and you may change it as a resul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note any help in your process report. Include the review time that you and your associates spend, and log the defects fou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workshop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program 3A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completed program 3A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3A Requirement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3040" y="144792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PSP0.1 to write a program to cou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logical LOC in a progr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logical LOC in each object or fun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ber of methods in each ob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 and pr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ingle LOC count for the source program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arate LOC and method counts for each object along with the object’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out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934920" y="4903920"/>
          <a:ext cx="5634000" cy="104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4903920"/>
                    <a:ext cx="56340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3A Requirement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enhance program 2A to make program 3A (but keep a copy of 2A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update your LOC counting standard (R1) and coding standard (R2) to simplify the design of  program 3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roughly test the program.  At a minimum, test the program by counting the total program and object LOC in programs 1A, 2A, and 3A.  Include in your test report a table giving the counts obtained.  Use the format shown in table D7 on page 754 of the tex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29880" y="471240"/>
            <a:ext cx="7875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0.1 process, complete the planning phase for assignment 3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 are finished planning, review your work with the instruct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r plan has been reviewed, complete the assignment using PSP0.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16120" y="420480"/>
            <a:ext cx="821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26560" y="1450800"/>
            <a:ext cx="7766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’ve completed the postmortem phase, submit your assignment package, source code, and test results to the instructor in this ord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0.1 project plan 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P fo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 program lis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1 LOC counting stand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2 coding stand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3 defect analysis report (defect analysis tables D20-D22 and completed R3 exercise question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.1 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IP form must show that you’re thinking about the process and how it works for you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report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specific o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data, including size calculations,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ur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f-consis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14320" y="1450800"/>
            <a:ext cx="7678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ember, you should complete this assignment tod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programs simple. You will learn as much from small programs as from large 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it right the first time.  If you are not sure, find ou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2000-03-06T15:31:42Z</cp:lastPrinted>
  <dcterms:modified xsi:type="dcterms:W3CDTF">2018-09-06T00:17:20Z</dcterms:modified>
  <cp:revision>125</cp:revision>
  <dc:subject/>
  <dc:title>No Slide Title</dc:title>
</cp:coreProperties>
</file>