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E72C5B0-A6FA-45A8-BE38-4AE7AAB282A2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C8960919-A482-4B2C-8D15-DC8156E997A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FDAE523-8ADF-428E-AD2A-41A16FBD236B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21C68BF-F074-40C6-8251-EF9F5900198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2F8F851-D8FF-45F1-B58E-103B00412CA9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3D31501-9B63-475F-96F6-C7F24F9A12F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52B09B59-3998-42D1-8A20-87A6A373FE1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625E701-A5CB-4AE9-81FF-C6F8689F786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E28F15FF-759B-44F7-8433-0AA051AAD784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1280" y="6566040"/>
            <a:ext cx="22147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3100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CEE48AE-24E7-4F42-8DF5-E641513C45E8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0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0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8151EF5-34AA-49E9-B2BE-1E990F335C4F}" type="slidenum">
              <a:rPr b="0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88040" cy="488520"/>
            <a:chOff x="146160" y="201600"/>
            <a:chExt cx="348804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368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608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3720" y="256680"/>
              <a:ext cx="8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5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876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300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604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672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71560" y="256680"/>
              <a:ext cx="1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3200" y="256680"/>
              <a:ext cx="11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3220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90880" y="256680"/>
              <a:ext cx="5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3120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3344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76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4080" y="461520"/>
              <a:ext cx="6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9348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7280" y="461520"/>
              <a:ext cx="15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560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58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89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62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532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2014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760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1128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9920" y="461520"/>
              <a:ext cx="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804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556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24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90440" y="4615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4228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6760" y="461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5216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20200" y="46152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7564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4260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9600" y="461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5120" y="461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0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34240" y="6567480"/>
            <a:ext cx="95292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0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5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rmula for the normal distribution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518 contains formulas for the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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927000" y="1911240"/>
                <a:ext cx="45594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6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page 517 in Appendix A for an algorithm to evaluate the integral using Simpson’s rule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N = 20 and an acceptable error (E) of 1E-07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using C or C++, consider designing Simpson’s rule to accept a pointer to a function. (This makes reus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as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other languages, separate the Simpson’s rule calculation from the normal distribu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1.1 process, complete the planning phase for assignment 5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1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worksh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1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reports and standards simple and shor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5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5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ptual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5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SP1.1 to write a program to numerically integrate a function using Simpson’s rule to write a function for the normal distribu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program should be designed to integrate using various supplied function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will need this program to calculate the values of various statistical distributions used in later program assignment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roughly test the program.  At a minimum, use this program to calculate the values of the normal distribution integral for three valu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2.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9938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0.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579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-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-1.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.135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umerical Integr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inciple, numerical integration treats a function as being composed of multiple rectangular are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dds these areas to produce the integral valu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rick is to sum these areas so as to minimize the err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grating a Func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6951600" y="1905120"/>
            <a:ext cx="0" cy="37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6311880" y="1917720"/>
            <a:ext cx="622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6275520" y="1905120"/>
            <a:ext cx="0" cy="3790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5651640" y="2079720"/>
            <a:ext cx="608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5632560" y="2082960"/>
            <a:ext cx="0" cy="3612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12"/>
          <p:cNvSpPr/>
          <p:nvPr/>
        </p:nvSpPr>
        <p:spPr>
          <a:xfrm flipH="1" flipV="1">
            <a:off x="4959000" y="2611440"/>
            <a:ext cx="12600" cy="3098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4251240" y="3606480"/>
            <a:ext cx="0" cy="2087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3543480" y="4731840"/>
            <a:ext cx="0" cy="962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15"/>
          <p:cNvSpPr/>
          <p:nvPr/>
        </p:nvSpPr>
        <p:spPr>
          <a:xfrm flipV="1">
            <a:off x="2916360" y="5390640"/>
            <a:ext cx="0" cy="30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919240" y="5373720"/>
            <a:ext cx="624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3546360" y="473076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4237200" y="3622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4929120" y="2641680"/>
            <a:ext cx="671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585160" y="5778360"/>
            <a:ext cx="871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(low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67920" y="5794200"/>
            <a:ext cx="9738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(high)</a:t>
            </a:r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82" name="Picture 22" descr=""/>
          <p:cNvPicPr/>
          <p:nvPr/>
        </p:nvPicPr>
        <p:blipFill>
          <a:blip r:embed="rId1"/>
          <a:stretch/>
        </p:blipFill>
        <p:spPr>
          <a:xfrm>
            <a:off x="482760" y="1447920"/>
            <a:ext cx="8207280" cy="5083200"/>
          </a:xfrm>
          <a:prstGeom prst="rect">
            <a:avLst/>
          </a:prstGeom>
          <a:ln w="0">
            <a:noFill/>
          </a:ln>
        </p:spPr>
      </p:pic>
      <p:sp>
        <p:nvSpPr>
          <p:cNvPr id="183" name="Line 23"/>
          <p:cNvSpPr/>
          <p:nvPr/>
        </p:nvSpPr>
        <p:spPr>
          <a:xfrm>
            <a:off x="901800" y="5778360"/>
            <a:ext cx="6896160" cy="12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egration Limi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etermine the integration lim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statistical functions are integrated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some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statistical functions have a total area of 1.0 when integrated from -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+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ymmetric Func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ymmetric functions (the normal and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-distributions), the procedure is thi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Group 64"/>
          <p:cNvGrpSpPr/>
          <p:nvPr/>
        </p:nvGrpSpPr>
        <p:grpSpPr>
          <a:xfrm>
            <a:off x="919080" y="2220840"/>
            <a:ext cx="7851960" cy="941400"/>
            <a:chOff x="919080" y="2220840"/>
            <a:chExt cx="7851960" cy="941400"/>
          </a:xfrm>
        </p:grpSpPr>
        <p:sp>
          <p:nvSpPr>
            <p:cNvPr id="189" name="Rectangle 4"/>
            <p:cNvSpPr/>
            <p:nvPr/>
          </p:nvSpPr>
          <p:spPr>
            <a:xfrm>
              <a:off x="919080" y="2220840"/>
              <a:ext cx="7851960" cy="94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1159560" y="2264040"/>
              <a:ext cx="16909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If the value of X is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557520" y="2264040"/>
              <a:ext cx="18021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then integrate from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6945120" y="2264040"/>
              <a:ext cx="349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950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950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>
              <a:off x="967680" y="2264040"/>
              <a:ext cx="239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338076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3398400" y="2264040"/>
              <a:ext cx="2332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574704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5764680" y="2264040"/>
              <a:ext cx="292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>
              <a:off x="870372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8703720" y="226404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95004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338076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574704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Line 20"/>
            <p:cNvSpPr/>
            <p:nvPr/>
          </p:nvSpPr>
          <p:spPr>
            <a:xfrm>
              <a:off x="8703720" y="228168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173240" y="2542680"/>
              <a:ext cx="6836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sitive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Rectangle 22"/>
            <p:cNvSpPr/>
            <p:nvPr/>
          </p:nvSpPr>
          <p:spPr>
            <a:xfrm>
              <a:off x="3543120" y="2554560"/>
              <a:ext cx="543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 to X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Rectangle 23"/>
            <p:cNvSpPr/>
            <p:nvPr/>
          </p:nvSpPr>
          <p:spPr>
            <a:xfrm>
              <a:off x="5828760" y="2542680"/>
              <a:ext cx="3254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9" name="Rectangle 24"/>
            <p:cNvSpPr/>
            <p:nvPr/>
          </p:nvSpPr>
          <p:spPr>
            <a:xfrm>
              <a:off x="6132240" y="2542680"/>
              <a:ext cx="3816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.5 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0" name="Rectangle 25"/>
            <p:cNvSpPr/>
            <p:nvPr/>
          </p:nvSpPr>
          <p:spPr>
            <a:xfrm>
              <a:off x="6468840" y="2542680"/>
              <a:ext cx="1684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to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Rectangle 26"/>
            <p:cNvSpPr/>
            <p:nvPr/>
          </p:nvSpPr>
          <p:spPr>
            <a:xfrm>
              <a:off x="6617520" y="2542680"/>
              <a:ext cx="8524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result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Line 27"/>
            <p:cNvSpPr/>
            <p:nvPr/>
          </p:nvSpPr>
          <p:spPr>
            <a:xfrm>
              <a:off x="95004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Line 28"/>
            <p:cNvSpPr/>
            <p:nvPr/>
          </p:nvSpPr>
          <p:spPr>
            <a:xfrm>
              <a:off x="967680" y="2543760"/>
              <a:ext cx="239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Line 29"/>
            <p:cNvSpPr/>
            <p:nvPr/>
          </p:nvSpPr>
          <p:spPr>
            <a:xfrm>
              <a:off x="338076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Line 30"/>
            <p:cNvSpPr/>
            <p:nvPr/>
          </p:nvSpPr>
          <p:spPr>
            <a:xfrm>
              <a:off x="3398400" y="2543760"/>
              <a:ext cx="23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574704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Line 32"/>
            <p:cNvSpPr/>
            <p:nvPr/>
          </p:nvSpPr>
          <p:spPr>
            <a:xfrm>
              <a:off x="5764680" y="2543760"/>
              <a:ext cx="29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Line 33"/>
            <p:cNvSpPr/>
            <p:nvPr/>
          </p:nvSpPr>
          <p:spPr>
            <a:xfrm>
              <a:off x="8703720" y="254376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Line 34"/>
            <p:cNvSpPr/>
            <p:nvPr/>
          </p:nvSpPr>
          <p:spPr>
            <a:xfrm>
              <a:off x="95004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Line 35"/>
            <p:cNvSpPr/>
            <p:nvPr/>
          </p:nvSpPr>
          <p:spPr>
            <a:xfrm>
              <a:off x="338076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Line 36"/>
            <p:cNvSpPr/>
            <p:nvPr/>
          </p:nvSpPr>
          <p:spPr>
            <a:xfrm>
              <a:off x="574704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Line 37"/>
            <p:cNvSpPr/>
            <p:nvPr/>
          </p:nvSpPr>
          <p:spPr>
            <a:xfrm>
              <a:off x="8703720" y="2561760"/>
              <a:ext cx="1080" cy="24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38"/>
            <p:cNvSpPr/>
            <p:nvPr/>
          </p:nvSpPr>
          <p:spPr>
            <a:xfrm>
              <a:off x="1171800" y="2822760"/>
              <a:ext cx="732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egative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39"/>
            <p:cNvSpPr/>
            <p:nvPr/>
          </p:nvSpPr>
          <p:spPr>
            <a:xfrm>
              <a:off x="3555000" y="2834280"/>
              <a:ext cx="9745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 to abs(X)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40"/>
            <p:cNvSpPr/>
            <p:nvPr/>
          </p:nvSpPr>
          <p:spPr>
            <a:xfrm>
              <a:off x="5829120" y="2822760"/>
              <a:ext cx="7077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subtract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Rectangle 41"/>
            <p:cNvSpPr/>
            <p:nvPr/>
          </p:nvSpPr>
          <p:spPr>
            <a:xfrm>
              <a:off x="6433920" y="2822760"/>
              <a:ext cx="10173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e result  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Rectangle 42"/>
            <p:cNvSpPr/>
            <p:nvPr/>
          </p:nvSpPr>
          <p:spPr>
            <a:xfrm>
              <a:off x="7240320" y="2822760"/>
              <a:ext cx="5191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from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Rectangle 43"/>
            <p:cNvSpPr/>
            <p:nvPr/>
          </p:nvSpPr>
          <p:spPr>
            <a:xfrm>
              <a:off x="7710840" y="2822760"/>
              <a:ext cx="3268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0.5</a:t>
              </a:r>
              <a:endParaRPr b="0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>
              <a:off x="95004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>
              <a:off x="967680" y="2823840"/>
              <a:ext cx="239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>
              <a:off x="338076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>
              <a:off x="3398400" y="2823840"/>
              <a:ext cx="2332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>
              <a:off x="574704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49"/>
            <p:cNvSpPr/>
            <p:nvPr/>
          </p:nvSpPr>
          <p:spPr>
            <a:xfrm>
              <a:off x="5764680" y="2823840"/>
              <a:ext cx="2922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Line 50"/>
            <p:cNvSpPr/>
            <p:nvPr/>
          </p:nvSpPr>
          <p:spPr>
            <a:xfrm>
              <a:off x="8703720" y="2823840"/>
              <a:ext cx="10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95004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>
              <a:off x="950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Line 53"/>
            <p:cNvSpPr/>
            <p:nvPr/>
          </p:nvSpPr>
          <p:spPr>
            <a:xfrm>
              <a:off x="950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Line 54"/>
            <p:cNvSpPr/>
            <p:nvPr/>
          </p:nvSpPr>
          <p:spPr>
            <a:xfrm>
              <a:off x="967680" y="3102480"/>
              <a:ext cx="239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338076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Line 56"/>
            <p:cNvSpPr/>
            <p:nvPr/>
          </p:nvSpPr>
          <p:spPr>
            <a:xfrm>
              <a:off x="338076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Line 57"/>
            <p:cNvSpPr/>
            <p:nvPr/>
          </p:nvSpPr>
          <p:spPr>
            <a:xfrm>
              <a:off x="3398400" y="3102480"/>
              <a:ext cx="2332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Line 58"/>
            <p:cNvSpPr/>
            <p:nvPr/>
          </p:nvSpPr>
          <p:spPr>
            <a:xfrm>
              <a:off x="574704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Line 59"/>
            <p:cNvSpPr/>
            <p:nvPr/>
          </p:nvSpPr>
          <p:spPr>
            <a:xfrm>
              <a:off x="574704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Line 60"/>
            <p:cNvSpPr/>
            <p:nvPr/>
          </p:nvSpPr>
          <p:spPr>
            <a:xfrm>
              <a:off x="5764680" y="3102480"/>
              <a:ext cx="29224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61"/>
            <p:cNvSpPr/>
            <p:nvPr/>
          </p:nvSpPr>
          <p:spPr>
            <a:xfrm>
              <a:off x="8703720" y="2841840"/>
              <a:ext cx="1080" cy="24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62"/>
            <p:cNvSpPr/>
            <p:nvPr/>
          </p:nvSpPr>
          <p:spPr>
            <a:xfrm>
              <a:off x="870372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>
              <a:off x="8703720" y="3102480"/>
              <a:ext cx="1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mpson’s Ru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son’s rule for calculating the integral 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 is the width of the rectangular ce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is the value of the function for each x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son’s rule in another form*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N is the number of seg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e: The above equation for Simpson is a simplified form of equation A5 in the book, page 518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5"/>
              <p:cNvSpPr txBox="1"/>
              <p:nvPr/>
            </p:nvSpPr>
            <p:spPr>
              <a:xfrm>
                <a:off x="200160" y="1889280"/>
                <a:ext cx="8848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gh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6"/>
              <p:cNvSpPr txBox="1"/>
              <p:nvPr/>
            </p:nvSpPr>
            <p:spPr>
              <a:xfrm>
                <a:off x="934920" y="3960720"/>
                <a:ext cx="5112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w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gh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w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,3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w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W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2,4,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ow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W</m:t>
                                </m:r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gh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2Z</dcterms:modified>
  <cp:revision>138</cp:revision>
  <dc:subject/>
  <dc:title>No Slide Title</dc:title>
</cp:coreProperties>
</file>