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DA500F6-66EE-4CE7-A0B2-DFF8213A88E4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40A319E2-2A9B-44C1-A7B4-5547C81D9EC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B6DCA90-1FF0-418D-B721-9811B7134DE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AE732C7-633E-43A8-AB55-7EF1AE6109F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7EF8768-CCA3-4AE7-A77A-C9DCFF65286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6C4CEA3E-D9D9-4852-B97B-2F8A8AEC160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6B9F98C-7420-4C87-A5AE-24E07A83E01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DEDBA23-FBD4-47C3-B6FF-3BBD107D382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A2C7F47-A095-4D06-AA2D-D27B04E6B32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21CF8797-3B74-4E8F-8EEF-F1DF55446D86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8C736AC-4D26-4096-B6B9-73A60FCE7671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8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8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8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8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.1, write program 8A to sort a linked list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airs of real numbers into ascending orde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the capability to sort on either field of the pair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data in the right two columns of table D14, page 761, in the tex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two sorts, one on each fiel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a test report describing both resul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80640" y="1501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 algorith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orts by finding the correct sorted position for a data element, then inserting the data element into the data list at that position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ascending order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arches forward to the end of the data list or until the new data element is less than the current data element in the lis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new element is inserted in front of the current list element or at the end of the list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Aft>
                <a:spcPts val="70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985680" y="2351160"/>
            <a:ext cx="6819840" cy="1054080"/>
            <a:chOff x="985680" y="2351160"/>
            <a:chExt cx="6819840" cy="1054080"/>
          </a:xfrm>
        </p:grpSpPr>
        <p:sp>
          <p:nvSpPr>
            <p:cNvPr id="167" name="Rectangle 6"/>
            <p:cNvSpPr/>
            <p:nvPr/>
          </p:nvSpPr>
          <p:spPr>
            <a:xfrm>
              <a:off x="985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1557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2128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2700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32716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2" name="Rectangle 11"/>
            <p:cNvSpPr/>
            <p:nvPr/>
          </p:nvSpPr>
          <p:spPr>
            <a:xfrm>
              <a:off x="384300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280960" y="235116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4" name="Arc 13"/>
            <p:cNvSpPr/>
            <p:nvPr/>
          </p:nvSpPr>
          <p:spPr>
            <a:xfrm>
              <a:off x="2598480" y="2581200"/>
              <a:ext cx="8892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5" name="Rectangle 14"/>
            <p:cNvSpPr/>
            <p:nvPr/>
          </p:nvSpPr>
          <p:spPr>
            <a:xfrm>
              <a:off x="4421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4992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5564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Rectangle 17"/>
            <p:cNvSpPr/>
            <p:nvPr/>
          </p:nvSpPr>
          <p:spPr>
            <a:xfrm>
              <a:off x="6135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Rectangle 18"/>
            <p:cNvSpPr/>
            <p:nvPr/>
          </p:nvSpPr>
          <p:spPr>
            <a:xfrm>
              <a:off x="670716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7278480" y="308772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variant of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partitions the data into sorted and unsorted area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data are sorted by removing elements from the unsorted area and inserting them in order into the sorted area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950760" y="1808280"/>
            <a:ext cx="6993000" cy="1776600"/>
            <a:chOff x="950760" y="1808280"/>
            <a:chExt cx="6993000" cy="1776600"/>
          </a:xfrm>
        </p:grpSpPr>
        <p:sp>
          <p:nvSpPr>
            <p:cNvPr id="184" name="Rectangle 6"/>
            <p:cNvSpPr/>
            <p:nvPr/>
          </p:nvSpPr>
          <p:spPr>
            <a:xfrm>
              <a:off x="1001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1572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2144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9"/>
            <p:cNvSpPr/>
            <p:nvPr/>
          </p:nvSpPr>
          <p:spPr>
            <a:xfrm>
              <a:off x="2715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0"/>
            <p:cNvSpPr/>
            <p:nvPr/>
          </p:nvSpPr>
          <p:spPr>
            <a:xfrm>
              <a:off x="32875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Rectangle 11"/>
            <p:cNvSpPr/>
            <p:nvPr/>
          </p:nvSpPr>
          <p:spPr>
            <a:xfrm>
              <a:off x="385884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12"/>
            <p:cNvSpPr/>
            <p:nvPr/>
          </p:nvSpPr>
          <p:spPr>
            <a:xfrm>
              <a:off x="3554280" y="180828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13"/>
            <p:cNvSpPr/>
            <p:nvPr/>
          </p:nvSpPr>
          <p:spPr>
            <a:xfrm>
              <a:off x="4437000" y="235440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5008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15"/>
            <p:cNvSpPr/>
            <p:nvPr/>
          </p:nvSpPr>
          <p:spPr>
            <a:xfrm>
              <a:off x="558000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Rectangle 16"/>
            <p:cNvSpPr/>
            <p:nvPr/>
          </p:nvSpPr>
          <p:spPr>
            <a:xfrm>
              <a:off x="6151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Rectangle 17"/>
            <p:cNvSpPr/>
            <p:nvPr/>
          </p:nvSpPr>
          <p:spPr>
            <a:xfrm>
              <a:off x="672300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7294320" y="2544840"/>
              <a:ext cx="527040" cy="317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950760" y="3027600"/>
              <a:ext cx="3468600" cy="210960"/>
            </a:xfrm>
            <a:custGeom>
              <a:avLst/>
              <a:gdLst/>
              <a:ahLst/>
              <a:rect l="l" t="t" r="r" b="b"/>
              <a:pathLst>
                <a:path w="2185" h="133">
                  <a:moveTo>
                    <a:pt x="0" y="0"/>
                  </a:moveTo>
                  <a:lnTo>
                    <a:pt x="0" y="132"/>
                  </a:lnTo>
                  <a:lnTo>
                    <a:pt x="2184" y="132"/>
                  </a:lnTo>
                  <a:lnTo>
                    <a:pt x="2184" y="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Rectangle 20"/>
            <p:cNvSpPr/>
            <p:nvPr/>
          </p:nvSpPr>
          <p:spPr>
            <a:xfrm>
              <a:off x="2271600" y="3273480"/>
              <a:ext cx="82656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Sorted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4474800" y="3027600"/>
              <a:ext cx="3468960" cy="210960"/>
            </a:xfrm>
            <a:custGeom>
              <a:avLst/>
              <a:gdLst/>
              <a:ahLst/>
              <a:rect l="l" t="t" r="r" b="b"/>
              <a:pathLst>
                <a:path w="2185" h="133">
                  <a:moveTo>
                    <a:pt x="0" y="0"/>
                  </a:moveTo>
                  <a:lnTo>
                    <a:pt x="0" y="132"/>
                  </a:lnTo>
                  <a:lnTo>
                    <a:pt x="2184" y="132"/>
                  </a:lnTo>
                  <a:lnTo>
                    <a:pt x="2184" y="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>
              <a:off x="5672520" y="3273480"/>
              <a:ext cx="1073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Unsorted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Arc 23"/>
            <p:cNvSpPr/>
            <p:nvPr/>
          </p:nvSpPr>
          <p:spPr>
            <a:xfrm>
              <a:off x="2705040" y="1962360"/>
              <a:ext cx="761760" cy="495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99"/>
                  </a:moveTo>
                  <a:cubicBezTo>
                    <a:pt x="0" y="9688"/>
                    <a:pt x="9643" y="24"/>
                    <a:pt x="21555" y="0"/>
                  </a:cubicBezTo>
                </a:path>
                <a:path stroke="0" w="21600" h="21600">
                  <a:moveTo>
                    <a:pt x="0" y="21599"/>
                  </a:moveTo>
                  <a:cubicBezTo>
                    <a:pt x="0" y="9688"/>
                    <a:pt x="9643" y="24"/>
                    <a:pt x="21555" y="0"/>
                  </a:cubicBezTo>
                  <a:lnTo>
                    <a:pt x="21600" y="21600"/>
                  </a:lnTo>
                  <a:lnTo>
                    <a:pt x="0" y="21599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Arc 24"/>
            <p:cNvSpPr/>
            <p:nvPr/>
          </p:nvSpPr>
          <p:spPr>
            <a:xfrm>
              <a:off x="4170240" y="1962360"/>
              <a:ext cx="552240" cy="3236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sertion Sort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variant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ertion sor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be used to sort a linked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also consider using two linked lists, one unsorted and one sorted, to implement the insertion sort algorith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nsertion sort is not required; you may use any sort algorithm for assignment 8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.1 process, complete the planning phase for 8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SP2.1 project plan summ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al scenario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ctional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gic specification temp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4Z</dcterms:modified>
  <cp:revision>148</cp:revision>
  <dc:subject/>
  <dc:title>No Slide Title</dc:title>
</cp:coreProperties>
</file>