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11.wmf" ContentType="image/x-wmf"/>
  <Override PartName="/ppt/media/image6.wmf" ContentType="image/x-wmf"/>
  <Override PartName="/ppt/media/image21.png" ContentType="image/png"/>
  <Override PartName="/ppt/media/image19.png" ContentType="image/png"/>
  <Override PartName="/ppt/media/image3.jpeg" ContentType="image/jpeg"/>
  <Override PartName="/ppt/media/image2.wmf" ContentType="image/x-wmf"/>
  <Override PartName="/ppt/media/image20.png" ContentType="image/png"/>
  <Override PartName="/ppt/media/image18.png" ContentType="image/png"/>
  <Override PartName="/ppt/media/image17.png" ContentType="image/png"/>
  <Override PartName="/ppt/media/image10.wmf" ContentType="image/x-wmf"/>
  <Override PartName="/ppt/media/image4.jpeg" ContentType="image/jpeg"/>
  <Override PartName="/ppt/media/image16.jpeg" ContentType="image/jpeg"/>
  <Override PartName="/ppt/media/image15.wmf" ContentType="image/x-wmf"/>
  <Override PartName="/ppt/media/image14.wmf" ContentType="image/x-wmf"/>
  <Override PartName="/ppt/media/image1.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97" name="PlaceHolder 1"/>
          <p:cNvSpPr>
            <a:spLocks noGrp="1"/>
          </p:cNvSpPr>
          <p:nvPr>
            <p:ph type="sldImg"/>
          </p:nvPr>
        </p:nvSpPr>
        <p:spPr>
          <a:xfrm>
            <a:off x="1158840" y="693720"/>
            <a:ext cx="4616640" cy="3462480"/>
          </a:xfrm>
          <a:prstGeom prst="rect">
            <a:avLst/>
          </a:prstGeom>
          <a:noFill/>
          <a:ln w="9360">
            <a:solidFill>
              <a:srgbClr val="000000"/>
            </a:solidFill>
            <a:miter/>
          </a:ln>
        </p:spPr>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9" name="Rectangle 20"/>
          <p:cNvSpPr/>
          <p:nvPr/>
        </p:nvSpPr>
        <p:spPr>
          <a:xfrm>
            <a:off x="4070520" y="8672400"/>
            <a:ext cx="21333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Arial"/>
              </a:rPr>
              <a:t>© 2008 Carnegie Mellon University</a:t>
            </a:r>
            <a:endParaRPr b="1" lang="en-US" sz="900" spc="-1" strike="noStrike">
              <a:solidFill>
                <a:srgbClr val="000000"/>
              </a:solidFill>
              <a:latin typeface="Arial"/>
            </a:endParaRPr>
          </a:p>
          <a:p>
            <a:pPr>
              <a:lnSpc>
                <a:spcPct val="89000"/>
              </a:lnSpc>
              <a:spcBef>
                <a:spcPts val="400"/>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800" spc="-1" strike="noStrike">
                <a:solidFill>
                  <a:srgbClr val="000000"/>
                </a:solidFill>
                <a:latin typeface="Times New Roman"/>
              </a:rPr>
              <a:t>  </a:t>
            </a:r>
            <a:endParaRPr b="1" lang="en-US" sz="800" spc="-1" strike="noStrike">
              <a:solidFill>
                <a:srgbClr val="000000"/>
              </a:solidFill>
              <a:latin typeface="Arial"/>
            </a:endParaRPr>
          </a:p>
        </p:txBody>
      </p:sp>
      <p:sp>
        <p:nvSpPr>
          <p:cNvPr id="100" name="Rectangle 21"/>
          <p:cNvSpPr/>
          <p:nvPr/>
        </p:nvSpPr>
        <p:spPr>
          <a:xfrm>
            <a:off x="6221880" y="8813880"/>
            <a:ext cx="788400" cy="22572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713036A-7427-4064-AA46-AFE591DFE0D5}"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1" name="Line 22"/>
          <p:cNvSpPr/>
          <p:nvPr/>
        </p:nvSpPr>
        <p:spPr>
          <a:xfrm flipH="1">
            <a:off x="228600" y="8699400"/>
            <a:ext cx="6477120" cy="0"/>
          </a:xfrm>
          <a:prstGeom prst="line">
            <a:avLst/>
          </a:prstGeom>
          <a:ln w="6480">
            <a:solidFill>
              <a:srgbClr val="000000"/>
            </a:solidFill>
            <a:miter/>
          </a:ln>
        </p:spPr>
        <p:style>
          <a:lnRef idx="0"/>
          <a:fillRef idx="0"/>
          <a:effectRef idx="0"/>
          <a:fontRef idx="minor"/>
        </p:style>
        <p:txBody>
          <a:bodyPr lIns="91080" rIns="91080" tIns="-45360" bIns="-45360" anchor="ctr">
            <a:noAutofit/>
          </a:bodyPr>
          <a:p>
            <a:endParaRPr b="1" lang="en-US" sz="2000" spc="-1" strike="noStrike">
              <a:solidFill>
                <a:srgbClr val="000000"/>
              </a:solidFill>
              <a:latin typeface="Arial"/>
            </a:endParaRPr>
          </a:p>
        </p:txBody>
      </p:sp>
      <p:pic>
        <p:nvPicPr>
          <p:cNvPr id="102" name="Picture 23" descr="SEI_CMU_1Line_Blk"/>
          <p:cNvPicPr/>
          <p:nvPr/>
        </p:nvPicPr>
        <p:blipFill>
          <a:blip r:embed="rId2"/>
          <a:stretch/>
        </p:blipFill>
        <p:spPr>
          <a:xfrm>
            <a:off x="260280" y="8794800"/>
            <a:ext cx="3727440" cy="222120"/>
          </a:xfrm>
          <a:prstGeom prst="rect">
            <a:avLst/>
          </a:prstGeom>
          <a:ln w="0">
            <a:noFill/>
          </a:ln>
        </p:spPr>
      </p:pic>
      <p:sp>
        <p:nvSpPr>
          <p:cNvPr id="103" name="PlaceHolder 3"/>
          <p:cNvSpPr>
            <a:spLocks noGrp="1"/>
          </p:cNvSpPr>
          <p:nvPr>
            <p:ph type="hdr"/>
          </p:nvPr>
        </p:nvSpPr>
        <p:spPr>
          <a:xfrm>
            <a:off x="573120" y="297000"/>
            <a:ext cx="2703600" cy="466560"/>
          </a:xfrm>
          <a:prstGeom prst="rect">
            <a:avLst/>
          </a:prstGeom>
          <a:noFill/>
          <a:ln w="0">
            <a:noFill/>
          </a:ln>
        </p:spPr>
        <p:txBody>
          <a:bodyPr lIns="0" rIns="0" tIns="0" bIns="0" anchor="t">
            <a:noAutofit/>
          </a:bodyPr>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Improving Process Performance Using Six Sigma</a:t>
            </a:r>
            <a:endParaRPr b="0" lang="en-US" sz="900" spc="-1" strike="noStrike">
              <a:solidFill>
                <a:srgbClr val="000000"/>
              </a:solidFill>
              <a:latin typeface="Times New Roman"/>
            </a:endParaRPr>
          </a:p>
          <a:p>
            <a:pPr marL="216000" indent="0">
              <a:lnSpc>
                <a:spcPct val="90000"/>
              </a:lnSpc>
              <a:spcBef>
                <a:spcPts val="56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900" spc="-1" strike="noStrike">
                <a:solidFill>
                  <a:srgbClr val="000000"/>
                </a:solidFill>
                <a:latin typeface="Times New Roman"/>
              </a:rPr>
              <a:t>Module 1: Introduction</a:t>
            </a:r>
            <a:endParaRPr b="0" lang="en-US" sz="900" spc="-1" strike="noStrike">
              <a:solidFill>
                <a:srgbClr val="000000"/>
              </a:solidFill>
              <a:latin typeface="Times New Roman"/>
            </a:endParaRPr>
          </a:p>
        </p:txBody>
      </p:sp>
      <p:sp>
        <p:nvSpPr>
          <p:cNvPr id="104" name="PlaceHolder 4"/>
          <p:cNvSpPr>
            <a:spLocks noGrp="1"/>
          </p:cNvSpPr>
          <p:nvPr>
            <p:ph type="dt" idx="1"/>
          </p:nvPr>
        </p:nvSpPr>
        <p:spPr>
          <a:xfrm>
            <a:off x="3733560" y="297000"/>
            <a:ext cx="2703240" cy="466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8840" y="693720"/>
            <a:ext cx="4616640" cy="3462480"/>
          </a:xfrm>
          <a:prstGeom prst="rect">
            <a:avLst/>
          </a:prstGeom>
          <a:ln w="0">
            <a:noFill/>
          </a:ln>
        </p:spPr>
      </p:sp>
      <p:sp>
        <p:nvSpPr>
          <p:cNvPr id="952" name="Notes Placeholder 5"/>
          <p:cNvSpPr/>
          <p:nvPr/>
        </p:nvSpPr>
        <p:spPr>
          <a:xfrm>
            <a:off x="4702320" y="262080"/>
            <a:ext cx="2114280" cy="8275320"/>
          </a:xfrm>
          <a:prstGeom prst="rect">
            <a:avLst/>
          </a:prstGeom>
          <a:noFill/>
          <a:ln w="0">
            <a:noFill/>
          </a:ln>
        </p:spPr>
        <p:style>
          <a:lnRef idx="0"/>
          <a:fillRef idx="0"/>
          <a:effectRef idx="0"/>
          <a:fontRef idx="minor"/>
        </p:style>
        <p:txBody>
          <a:bodyPr lIns="92880" rIns="92880" tIns="47160" bIns="47160" anchor="t">
            <a:noAutofit/>
          </a:bodyPr>
          <a:p>
            <a:pPr>
              <a:lnSpc>
                <a:spcPct val="89000"/>
              </a:lnSpc>
              <a:spcBef>
                <a:spcPts val="5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58840" y="693720"/>
            <a:ext cx="4616640" cy="3462480"/>
          </a:xfrm>
          <a:prstGeom prst="rect">
            <a:avLst/>
          </a:prstGeom>
          <a:ln w="0">
            <a:noFill/>
          </a:ln>
        </p:spPr>
      </p:sp>
      <p:sp>
        <p:nvSpPr>
          <p:cNvPr id="982"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8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8840" y="693720"/>
            <a:ext cx="4616640" cy="3462480"/>
          </a:xfrm>
          <a:prstGeom prst="rect">
            <a:avLst/>
          </a:prstGeom>
          <a:ln w="0">
            <a:noFill/>
          </a:ln>
        </p:spPr>
      </p:sp>
      <p:sp>
        <p:nvSpPr>
          <p:cNvPr id="98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8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58840" y="693720"/>
            <a:ext cx="4616640" cy="3462480"/>
          </a:xfrm>
          <a:prstGeom prst="rect">
            <a:avLst/>
          </a:prstGeom>
          <a:ln w="0">
            <a:noFill/>
          </a:ln>
        </p:spPr>
      </p:sp>
      <p:sp>
        <p:nvSpPr>
          <p:cNvPr id="990"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the following measurement and analysis topics: project management, measurement infrastructure, process and product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you to be a practitioner, whatever your organizational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typical M&amp;A challenges and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s demonstrated bodies of knowledge </a:t>
            </a:r>
            <a:endParaRPr b="0" lang="en-US" sz="1200" spc="-1" strike="noStrike">
              <a:solidFill>
                <a:srgbClr val="000000"/>
              </a:solidFill>
              <a:latin typeface="Arial"/>
            </a:endParaRPr>
          </a:p>
          <a:p>
            <a:pPr lvl="1" marL="2253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and analysis best practices, such as GQ(I)M</a:t>
            </a:r>
            <a:endParaRPr b="0" lang="en-US" sz="1200" spc="-1" strike="noStrike">
              <a:solidFill>
                <a:srgbClr val="000000"/>
              </a:solidFill>
              <a:latin typeface="Arial"/>
            </a:endParaRPr>
          </a:p>
          <a:p>
            <a:pPr lvl="1" marL="2253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models, such as CMMI</a:t>
            </a:r>
            <a:endParaRPr b="0" lang="en-US" sz="1200" spc="-1" strike="noStrike">
              <a:solidFill>
                <a:srgbClr val="000000"/>
              </a:solidFill>
              <a:latin typeface="Arial"/>
            </a:endParaRPr>
          </a:p>
          <a:p>
            <a:pPr lvl="1" marL="2253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management bodies of knowledge, such as PMI PMBOK</a:t>
            </a:r>
            <a:endParaRPr b="0" lang="en-US" sz="1200" spc="-1" strike="noStrike">
              <a:solidFill>
                <a:srgbClr val="000000"/>
              </a:solidFill>
              <a:latin typeface="Arial"/>
            </a:endParaRPr>
          </a:p>
          <a:p>
            <a:pPr lvl="1" marL="225360">
              <a:spcBef>
                <a:spcPts val="224"/>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nd quality improvement initiatives, such as Six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9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58840" y="693720"/>
            <a:ext cx="4616640" cy="3462480"/>
          </a:xfrm>
          <a:prstGeom prst="rect">
            <a:avLst/>
          </a:prstGeom>
          <a:ln w="0">
            <a:noFill/>
          </a:ln>
        </p:spPr>
      </p:sp>
      <p:sp>
        <p:nvSpPr>
          <p:cNvPr id="99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9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58840" y="693720"/>
            <a:ext cx="4616640" cy="3462480"/>
          </a:xfrm>
          <a:prstGeom prst="rect">
            <a:avLst/>
          </a:prstGeom>
          <a:ln w="0">
            <a:noFill/>
          </a:ln>
        </p:spPr>
      </p:sp>
      <p:sp>
        <p:nvSpPr>
          <p:cNvPr id="99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0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58840" y="693720"/>
            <a:ext cx="4616640" cy="3462480"/>
          </a:xfrm>
          <a:prstGeom prst="rect">
            <a:avLst/>
          </a:prstGeom>
          <a:ln w="0">
            <a:noFill/>
          </a:ln>
        </p:spPr>
      </p:sp>
      <p:sp>
        <p:nvSpPr>
          <p:cNvPr id="1002"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0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58840" y="693720"/>
            <a:ext cx="4616640" cy="3462480"/>
          </a:xfrm>
          <a:prstGeom prst="rect">
            <a:avLst/>
          </a:prstGeom>
          <a:ln w="0">
            <a:noFill/>
          </a:ln>
        </p:spPr>
      </p:sp>
      <p:sp>
        <p:nvSpPr>
          <p:cNvPr id="100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0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58840" y="693720"/>
            <a:ext cx="4616640" cy="3462480"/>
          </a:xfrm>
          <a:prstGeom prst="rect">
            <a:avLst/>
          </a:prstGeom>
          <a:ln w="0">
            <a:noFill/>
          </a:ln>
        </p:spPr>
      </p:sp>
      <p:sp>
        <p:nvSpPr>
          <p:cNvPr id="101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1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58840" y="693720"/>
            <a:ext cx="4616640" cy="3462480"/>
          </a:xfrm>
          <a:prstGeom prst="rect">
            <a:avLst/>
          </a:prstGeom>
          <a:ln w="0">
            <a:noFill/>
          </a:ln>
        </p:spPr>
      </p:sp>
      <p:sp>
        <p:nvSpPr>
          <p:cNvPr id="1014"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form that students will use to record ideas during the week of class topics applicable to their work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1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58840" y="693720"/>
            <a:ext cx="4616640" cy="3462480"/>
          </a:xfrm>
          <a:prstGeom prst="rect">
            <a:avLst/>
          </a:prstGeom>
          <a:ln w="0">
            <a:noFill/>
          </a:ln>
        </p:spPr>
      </p:sp>
      <p:sp>
        <p:nvSpPr>
          <p:cNvPr id="101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2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58840" y="693720"/>
            <a:ext cx="4616640" cy="3462480"/>
          </a:xfrm>
          <a:prstGeom prst="rect">
            <a:avLst/>
          </a:prstGeom>
          <a:ln w="0">
            <a:noFill/>
          </a:ln>
        </p:spPr>
      </p:sp>
      <p:sp>
        <p:nvSpPr>
          <p:cNvPr id="1022"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2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58840" y="693720"/>
            <a:ext cx="4616640" cy="3462480"/>
          </a:xfrm>
          <a:prstGeom prst="rect">
            <a:avLst/>
          </a:prstGeom>
          <a:ln w="0">
            <a:noFill/>
          </a:ln>
        </p:spPr>
      </p:sp>
      <p:sp>
        <p:nvSpPr>
          <p:cNvPr id="1026"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Discuss types of performance issues and examples</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Emphasize and clarify distinction between Performance-Driven vs Compliance-Driven improvement</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2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2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58840" y="693720"/>
            <a:ext cx="4616640" cy="3462480"/>
          </a:xfrm>
          <a:prstGeom prst="rect">
            <a:avLst/>
          </a:prstGeom>
          <a:ln w="0">
            <a:noFill/>
          </a:ln>
        </p:spPr>
      </p:sp>
      <p:sp>
        <p:nvSpPr>
          <p:cNvPr id="1030"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731—Systems Engineering</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RUP—Rational Unified Process</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Sec 804—Acquisition Improvement for Software</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GQIM—Goal-Driven Software Measurement</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PSM—Practical Software Measurement</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ISO 12207—S/W LC Processes</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EIA 632—Electronics Industries Alliance Standard: Processes for Engineering a System</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ISO 900—Quality Management System</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ITIL—IT Infrastructure Library</a:t>
            </a:r>
            <a:endParaRPr b="0" lang="en-US" sz="1200" spc="-1" strike="noStrike">
              <a:solidFill>
                <a:srgbClr val="000000"/>
              </a:solidFill>
              <a:latin typeface="Arial"/>
            </a:endParaRPr>
          </a:p>
          <a:p>
            <a:pPr indent="0">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COBIT—IT Security and Control Practices, Info Sys Audit and Control Assoc. (Control Objectives for Info and Related Technologies)</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Scorecards</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Agile</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CMMI—Capability Maturity Modeling</a:t>
            </a:r>
            <a:endParaRPr b="0" lang="en-US" sz="1200" spc="-1" strike="noStrike">
              <a:solidFill>
                <a:srgbClr val="000000"/>
              </a:solidFill>
              <a:latin typeface="Arial"/>
            </a:endParaRPr>
          </a:p>
          <a:p>
            <a:pPr indent="0">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Arial"/>
              </a:rPr>
              <a:t>TSP—Team Software Process</a:t>
            </a:r>
            <a:endParaRPr b="0" lang="en-US" sz="1200" spc="-1" strike="noStrike">
              <a:solidFill>
                <a:srgbClr val="000000"/>
              </a:solidFill>
              <a:latin typeface="Arial"/>
            </a:endParaRPr>
          </a:p>
          <a:p>
            <a:pPr indent="0">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000000"/>
              </a:solidFill>
              <a:latin typeface="Arial"/>
            </a:endParaRPr>
          </a:p>
        </p:txBody>
      </p:sp>
      <p:sp>
        <p:nvSpPr>
          <p:cNvPr id="103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3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58840" y="693720"/>
            <a:ext cx="4616640" cy="3462480"/>
          </a:xfrm>
          <a:prstGeom prst="rect">
            <a:avLst/>
          </a:prstGeom>
          <a:ln w="0">
            <a:noFill/>
          </a:ln>
        </p:spPr>
      </p:sp>
      <p:sp>
        <p:nvSpPr>
          <p:cNvPr id="103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3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58840" y="693720"/>
            <a:ext cx="4616640" cy="3462480"/>
          </a:xfrm>
          <a:prstGeom prst="rect">
            <a:avLst/>
          </a:prstGeom>
          <a:ln w="0">
            <a:noFill/>
          </a:ln>
        </p:spPr>
      </p:sp>
      <p:sp>
        <p:nvSpPr>
          <p:cNvPr id="1038"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mind students this is an Improvement Project – not a software development project.)</a:t>
            </a:r>
            <a:endParaRPr b="0" lang="en-US" sz="1200" spc="-1" strike="noStrike">
              <a:solidFill>
                <a:srgbClr val="000000"/>
              </a:solidFill>
              <a:latin typeface="Arial"/>
            </a:endParaRPr>
          </a:p>
          <a:p>
            <a:pPr indent="0">
              <a:lnSpc>
                <a:spcPct val="89000"/>
              </a:lnSpc>
              <a:spcBef>
                <a:spcPts val="7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s the animations on this slide appear:</a:t>
            </a:r>
            <a:endParaRPr b="0" lang="en-US" sz="1200" spc="-1" strike="noStrike">
              <a:solidFill>
                <a:srgbClr val="000000"/>
              </a:solidFill>
              <a:latin typeface="Arial"/>
            </a:endParaRPr>
          </a:p>
          <a:p>
            <a:pPr indent="0">
              <a:lnSpc>
                <a:spcPct val="89000"/>
              </a:lnSpc>
              <a:spcBef>
                <a:spcPts val="7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e are faced with many problems, such as</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 </a:t>
            </a:r>
            <a:r>
              <a:rPr b="0" lang="en-US" sz="1200" spc="-1" strike="noStrike">
                <a:solidFill>
                  <a:srgbClr val="000000"/>
                </a:solidFill>
                <a:latin typeface="Arial"/>
              </a:rPr>
              <a:t>in the first phase of our methodology, “define,” we focus on refining the problem statements and establishing the scope of the improvement project at hand</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remaining phases, “measure-analyze-improve-control,” are often iterative and involve a “peeling of the onion”  -- an evolution through a discovery phase, to understanding, to improvement, and finally to final performance</a:t>
            </a:r>
            <a:endParaRPr b="0" lang="en-US" sz="1200" spc="-1" strike="noStrike">
              <a:solidFill>
                <a:srgbClr val="000000"/>
              </a:solidFill>
              <a:latin typeface="Arial"/>
            </a:endParaRPr>
          </a:p>
          <a:p>
            <a:pPr>
              <a:lnSpc>
                <a:spcPct val="89000"/>
              </a:lnSpc>
              <a:spcBef>
                <a:spcPts val="751"/>
              </a:spcBef>
              <a:buClr>
                <a:srgbClr val="000000"/>
              </a:buClr>
              <a:buFont typeface="Arial"/>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ultimate goal is to be able to characterize performance (the Y’s) in terms of  process factors that are controllable</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103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4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58840" y="693720"/>
            <a:ext cx="4616640" cy="3462480"/>
          </a:xfrm>
          <a:prstGeom prst="rect">
            <a:avLst/>
          </a:prstGeom>
          <a:ln w="0">
            <a:noFill/>
          </a:ln>
        </p:spPr>
      </p:sp>
      <p:sp>
        <p:nvSpPr>
          <p:cNvPr id="1042"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st of the analytical tools we will be using have been around for a long time and are well-demonstrated as being effective. </a:t>
            </a:r>
            <a:endParaRPr b="0" lang="en-US" sz="1200" spc="-1" strike="noStrike">
              <a:solidFill>
                <a:srgbClr val="000000"/>
              </a:solidFill>
              <a:latin typeface="Arial"/>
            </a:endParaRPr>
          </a:p>
          <a:p>
            <a:pPr indent="0">
              <a:lnSpc>
                <a:spcPct val="89000"/>
              </a:lnSpc>
              <a:spcBef>
                <a:spcPts val="7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Ditto for the methodologies that we have selected to merge into this course (Six Sigma, GQ(I)M / GQM, and so 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104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4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58840" y="693720"/>
            <a:ext cx="4616640" cy="3462480"/>
          </a:xfrm>
          <a:prstGeom prst="rect">
            <a:avLst/>
          </a:prstGeom>
          <a:ln w="0">
            <a:noFill/>
          </a:ln>
        </p:spPr>
      </p:sp>
      <p:sp>
        <p:nvSpPr>
          <p:cNvPr id="104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4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58840" y="693720"/>
            <a:ext cx="4616640" cy="3462480"/>
          </a:xfrm>
          <a:prstGeom prst="rect">
            <a:avLst/>
          </a:prstGeom>
          <a:ln w="0">
            <a:noFill/>
          </a:ln>
        </p:spPr>
      </p:sp>
      <p:sp>
        <p:nvSpPr>
          <p:cNvPr id="1050"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Discuss the concept of toll gates with DMAIC and walk through the mental model of steps within the phases.</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Let students know that we will now talk through a set of probing questions for each of the steps above.</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5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5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58840" y="693720"/>
            <a:ext cx="4616640" cy="3462480"/>
          </a:xfrm>
          <a:prstGeom prst="rect">
            <a:avLst/>
          </a:prstGeom>
          <a:ln w="0">
            <a:noFill/>
          </a:ln>
        </p:spPr>
      </p:sp>
      <p:sp>
        <p:nvSpPr>
          <p:cNvPr id="1054"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Explain that these probing questions may be used almost in a checklist fashion to keep the improvement team on track;  Management should also use these as probing questions at toll gate reviews to ascertain compliance to the DMAIC process.</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Let students know that these will be revisited within the context of the three case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5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5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58840" y="693720"/>
            <a:ext cx="4616640" cy="3462480"/>
          </a:xfrm>
          <a:prstGeom prst="rect">
            <a:avLst/>
          </a:prstGeom>
          <a:ln w="0">
            <a:noFill/>
          </a:ln>
        </p:spPr>
      </p:sp>
      <p:sp>
        <p:nvSpPr>
          <p:cNvPr id="1058"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Ask students if any of these probing questions resonate with their experience or current improvement projects.</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Ask students if they are concerned about the quality of their data.</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5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6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Author</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Program/Project</a:t>
            </a:r>
            <a:endParaRPr b="1" lang="en-US" sz="900" spc="-1" strike="noStrike">
              <a:solidFill>
                <a:srgbClr val="000000"/>
              </a:solidFill>
              <a:latin typeface="Arial"/>
            </a:endParaRPr>
          </a:p>
        </p:txBody>
      </p:sp>
      <p:sp>
        <p:nvSpPr>
          <p:cNvPr id="954"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880A553-168C-4A57-A3AB-ACF874391891}"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955" name="PlaceHolder 1"/>
          <p:cNvSpPr>
            <a:spLocks noGrp="1"/>
          </p:cNvSpPr>
          <p:nvPr>
            <p:ph type="sldImg"/>
          </p:nvPr>
        </p:nvSpPr>
        <p:spPr>
          <a:xfrm>
            <a:off x="1158840" y="693720"/>
            <a:ext cx="4616640" cy="3462480"/>
          </a:xfrm>
          <a:prstGeom prst="rect">
            <a:avLst/>
          </a:prstGeom>
          <a:ln w="0">
            <a:noFill/>
          </a:ln>
        </p:spPr>
      </p:sp>
      <p:sp>
        <p:nvSpPr>
          <p:cNvPr id="95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58840" y="693720"/>
            <a:ext cx="4616640" cy="3462480"/>
          </a:xfrm>
          <a:prstGeom prst="rect">
            <a:avLst/>
          </a:prstGeom>
          <a:ln w="0">
            <a:noFill/>
          </a:ln>
        </p:spPr>
      </p:sp>
      <p:sp>
        <p:nvSpPr>
          <p:cNvPr id="1062"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Emphasize that by the end of the Analyze phase, the improvement team should have quantitative models (e.g. process performance models) that explain performance outcomes based on knowledge of controllable process factors.</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Clarify that it can be common during the Analyze phase to redefine the problem statement and scope, or to spawn additional DMAIC teams to handle other problem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6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6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58840" y="693720"/>
            <a:ext cx="4616640" cy="3462480"/>
          </a:xfrm>
          <a:prstGeom prst="rect">
            <a:avLst/>
          </a:prstGeom>
          <a:ln w="0">
            <a:noFill/>
          </a:ln>
        </p:spPr>
      </p:sp>
      <p:sp>
        <p:nvSpPr>
          <p:cNvPr id="1066"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Emphasize the use of CAR and DAR here in terms of CAR root cause during Analyze phase and DAR during the Improve phase.</a:t>
            </a:r>
            <a:endParaRPr b="0" lang="en-US" sz="1200" spc="-1" strike="noStrike">
              <a:solidFill>
                <a:srgbClr val="000000"/>
              </a:solidFill>
              <a:latin typeface="Arial"/>
            </a:endParaRPr>
          </a:p>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Emphasize the there should be measures to ensure negative side effects or sub-optimization is not occurring.</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6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6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58840" y="693720"/>
            <a:ext cx="4616640" cy="3462480"/>
          </a:xfrm>
          <a:prstGeom prst="rect">
            <a:avLst/>
          </a:prstGeom>
          <a:ln w="0">
            <a:noFill/>
          </a:ln>
        </p:spPr>
      </p:sp>
      <p:sp>
        <p:nvSpPr>
          <p:cNvPr id="1070"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Clarify that this process of DMAIC is like a tactical, measurement oriented version of the strategic SEI IDEAL model.  Note some of the similaritie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07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7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58840" y="693720"/>
            <a:ext cx="4616640" cy="3462480"/>
          </a:xfrm>
          <a:prstGeom prst="rect">
            <a:avLst/>
          </a:prstGeom>
          <a:ln w="0">
            <a:noFill/>
          </a:ln>
        </p:spPr>
      </p:sp>
      <p:sp>
        <p:nvSpPr>
          <p:cNvPr id="1074"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550"/>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Arial"/>
              </a:rPr>
              <a:t>Note that this is an example view from the Six Sigma world.   Clarify that not all of these will be taught</a:t>
            </a:r>
            <a:endParaRPr b="0" lang="en-US" sz="1100" spc="-1" strike="noStrike">
              <a:solidFill>
                <a:srgbClr val="000000"/>
              </a:solidFill>
              <a:latin typeface="Arial"/>
            </a:endParaRPr>
          </a:p>
          <a:p>
            <a:pPr indent="0">
              <a:spcBef>
                <a:spcPts val="37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000" spc="-1" strike="noStrike">
              <a:solidFill>
                <a:srgbClr val="000000"/>
              </a:solidFill>
              <a:latin typeface="Arial"/>
            </a:endParaRPr>
          </a:p>
          <a:p>
            <a:pPr indent="0">
              <a:lnSpc>
                <a:spcPct val="89000"/>
              </a:lnSpc>
              <a:spcBef>
                <a:spcPts val="550"/>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Arial"/>
              </a:rPr>
              <a:t>These are a sampling of tools, not an exhaustive list.  Actual tool use will vary from company to company. </a:t>
            </a:r>
            <a:endParaRPr b="0" lang="en-US" sz="1100" spc="-1" strike="noStrike">
              <a:solidFill>
                <a:srgbClr val="000000"/>
              </a:solidFill>
              <a:latin typeface="Arial"/>
            </a:endParaRPr>
          </a:p>
          <a:p>
            <a:pPr indent="0">
              <a:lnSpc>
                <a:spcPct val="89000"/>
              </a:lnSpc>
              <a:spcBef>
                <a:spcPts val="550"/>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Arial"/>
              </a:rPr>
              <a:t>This shows the phases where tools are LIKELY to be useful and/or initiated--but each tool might actually be used/started in a different phase. </a:t>
            </a:r>
            <a:endParaRPr b="0" lang="en-US" sz="1100" spc="-1" strike="noStrike">
              <a:solidFill>
                <a:srgbClr val="000000"/>
              </a:solidFill>
              <a:latin typeface="Arial"/>
            </a:endParaRPr>
          </a:p>
          <a:p>
            <a:pPr indent="0">
              <a:lnSpc>
                <a:spcPct val="89000"/>
              </a:lnSpc>
              <a:spcBef>
                <a:spcPts val="550"/>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Arial"/>
              </a:rPr>
              <a:t>Tools should be selected based on project circumstances.  </a:t>
            </a:r>
            <a:endParaRPr b="0" lang="en-US" sz="1100" spc="-1" strike="noStrike">
              <a:solidFill>
                <a:srgbClr val="000000"/>
              </a:solidFill>
              <a:latin typeface="Arial"/>
            </a:endParaRPr>
          </a:p>
          <a:p>
            <a:pPr indent="0">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p:txBody>
      </p:sp>
      <p:sp>
        <p:nvSpPr>
          <p:cNvPr id="107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7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58840" y="693720"/>
            <a:ext cx="4616640" cy="3462480"/>
          </a:xfrm>
          <a:prstGeom prst="rect">
            <a:avLst/>
          </a:prstGeom>
          <a:ln w="0">
            <a:noFill/>
          </a:ln>
        </p:spPr>
      </p:sp>
      <p:sp>
        <p:nvSpPr>
          <p:cNvPr id="107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8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58840" y="693720"/>
            <a:ext cx="4616640" cy="3462480"/>
          </a:xfrm>
          <a:prstGeom prst="rect">
            <a:avLst/>
          </a:prstGeom>
          <a:ln w="0">
            <a:noFill/>
          </a:ln>
        </p:spPr>
      </p:sp>
      <p:sp>
        <p:nvSpPr>
          <p:cNvPr id="1082"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8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58840" y="693720"/>
            <a:ext cx="4616640" cy="3462480"/>
          </a:xfrm>
          <a:prstGeom prst="rect">
            <a:avLst/>
          </a:prstGeom>
          <a:ln w="0">
            <a:noFill/>
          </a:ln>
        </p:spPr>
      </p:sp>
      <p:sp>
        <p:nvSpPr>
          <p:cNvPr id="108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8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58840" y="693720"/>
            <a:ext cx="4616640" cy="3462480"/>
          </a:xfrm>
          <a:prstGeom prst="rect">
            <a:avLst/>
          </a:prstGeom>
          <a:ln w="0">
            <a:noFill/>
          </a:ln>
        </p:spPr>
      </p:sp>
      <p:sp>
        <p:nvSpPr>
          <p:cNvPr id="109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9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58840" y="693720"/>
            <a:ext cx="4616640" cy="3462480"/>
          </a:xfrm>
          <a:prstGeom prst="rect">
            <a:avLst/>
          </a:prstGeom>
          <a:ln w="0">
            <a:noFill/>
          </a:ln>
        </p:spPr>
      </p:sp>
      <p:sp>
        <p:nvSpPr>
          <p:cNvPr id="109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09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58840" y="693720"/>
            <a:ext cx="4616640" cy="3462480"/>
          </a:xfrm>
          <a:prstGeom prst="rect">
            <a:avLst/>
          </a:prstGeom>
          <a:ln w="0">
            <a:noFill/>
          </a:ln>
        </p:spPr>
      </p:sp>
      <p:sp>
        <p:nvSpPr>
          <p:cNvPr id="109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10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Author</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Program/Project</a:t>
            </a:r>
            <a:endParaRPr b="1" lang="en-US" sz="900" spc="-1" strike="noStrike">
              <a:solidFill>
                <a:srgbClr val="000000"/>
              </a:solidFill>
              <a:latin typeface="Arial"/>
            </a:endParaRPr>
          </a:p>
        </p:txBody>
      </p:sp>
      <p:sp>
        <p:nvSpPr>
          <p:cNvPr id="958"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1E65E08-1F58-4765-A127-E2551FE2E66F}"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959" name="PlaceHolder 1"/>
          <p:cNvSpPr>
            <a:spLocks noGrp="1"/>
          </p:cNvSpPr>
          <p:nvPr>
            <p:ph type="sldImg"/>
          </p:nvPr>
        </p:nvSpPr>
        <p:spPr>
          <a:xfrm>
            <a:off x="1158840" y="693720"/>
            <a:ext cx="4616640" cy="3462480"/>
          </a:xfrm>
          <a:prstGeom prst="rect">
            <a:avLst/>
          </a:prstGeom>
          <a:ln w="0">
            <a:noFill/>
          </a:ln>
        </p:spPr>
      </p:sp>
      <p:sp>
        <p:nvSpPr>
          <p:cNvPr id="960" name="PlaceHolder 2"/>
          <p:cNvSpPr>
            <a:spLocks noGrp="1"/>
          </p:cNvSpPr>
          <p:nvPr>
            <p:ph type="body"/>
          </p:nvPr>
        </p:nvSpPr>
        <p:spPr>
          <a:xfrm>
            <a:off x="925560" y="4389120"/>
            <a:ext cx="5083200" cy="4149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58840" y="693720"/>
            <a:ext cx="4616640" cy="3462480"/>
          </a:xfrm>
          <a:prstGeom prst="rect">
            <a:avLst/>
          </a:prstGeom>
          <a:ln w="0">
            <a:noFill/>
          </a:ln>
        </p:spPr>
      </p:sp>
      <p:sp>
        <p:nvSpPr>
          <p:cNvPr id="1102" name="PlaceHolder 2"/>
          <p:cNvSpPr>
            <a:spLocks noGrp="1"/>
          </p:cNvSpPr>
          <p:nvPr>
            <p:ph type="body"/>
          </p:nvPr>
        </p:nvSpPr>
        <p:spPr>
          <a:xfrm>
            <a:off x="923400" y="4386240"/>
            <a:ext cx="5086440" cy="4152960"/>
          </a:xfrm>
          <a:prstGeom prst="rect">
            <a:avLst/>
          </a:prstGeom>
          <a:noFill/>
          <a:ln w="0">
            <a:noFill/>
          </a:ln>
        </p:spPr>
        <p:txBody>
          <a:bodyPr lIns="92160" rIns="92160" tIns="46080" bIns="46080" anchor="t">
            <a:noAutofit/>
          </a:bodyPr>
          <a:p>
            <a:pPr indent="0">
              <a:lnSpc>
                <a:spcPct val="89000"/>
              </a:lnSpc>
              <a:spcBef>
                <a:spcPts val="7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Ask students to install Minitab and student data files from student CDROM to their hard disk so that they can read and write to the files.</a:t>
            </a:r>
            <a:endParaRPr b="0" lang="en-US" sz="1200" spc="-1" strike="noStrike">
              <a:solidFill>
                <a:srgbClr val="000000"/>
              </a:solidFill>
              <a:latin typeface="Arial"/>
            </a:endParaRPr>
          </a:p>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103"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104"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58840" y="693720"/>
            <a:ext cx="4616640" cy="3462480"/>
          </a:xfrm>
          <a:prstGeom prst="rect">
            <a:avLst/>
          </a:prstGeom>
          <a:ln w="0">
            <a:noFill/>
          </a:ln>
        </p:spPr>
      </p:sp>
      <p:sp>
        <p:nvSpPr>
          <p:cNvPr id="110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10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58840" y="693720"/>
            <a:ext cx="4616640" cy="3462480"/>
          </a:xfrm>
          <a:prstGeom prst="rect">
            <a:avLst/>
          </a:prstGeom>
          <a:ln w="0">
            <a:noFill/>
          </a:ln>
        </p:spPr>
      </p:sp>
      <p:sp>
        <p:nvSpPr>
          <p:cNvPr id="111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11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58840" y="693720"/>
            <a:ext cx="4616640" cy="3462480"/>
          </a:xfrm>
          <a:prstGeom prst="rect">
            <a:avLst/>
          </a:prstGeom>
          <a:ln w="0">
            <a:noFill/>
          </a:ln>
        </p:spPr>
      </p:sp>
      <p:sp>
        <p:nvSpPr>
          <p:cNvPr id="1114"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5"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1116"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8"/>
          <p:cNvSpPr/>
          <p:nvPr/>
        </p:nvSpPr>
        <p:spPr>
          <a:xfrm>
            <a:off x="0" y="8771040"/>
            <a:ext cx="3005280" cy="460440"/>
          </a:xfrm>
          <a:prstGeom prst="rect">
            <a:avLst/>
          </a:prstGeom>
          <a:noFill/>
          <a:ln w="0">
            <a:noFill/>
          </a:ln>
        </p:spPr>
        <p:style>
          <a:lnRef idx="0"/>
          <a:fillRef idx="0"/>
          <a:effectRef idx="0"/>
          <a:fontRef idx="minor"/>
        </p:style>
        <p:txBody>
          <a:bodyPr lIns="88920" rIns="88920" tIns="44640" bIns="44640" anchor="t">
            <a:noAutofit/>
          </a:bodyPr>
          <a:p>
            <a:pPr algn="r">
              <a:spcBef>
                <a:spcPts val="56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900" spc="-1" strike="noStrike">
                <a:solidFill>
                  <a:srgbClr val="000000"/>
                </a:solidFill>
                <a:latin typeface="Arial"/>
              </a:rPr>
              <a:t>© 2007 Carnegie Mellon University</a:t>
            </a:r>
            <a:endParaRPr b="1" lang="en-US" sz="900" spc="-1" strike="noStrike">
              <a:solidFill>
                <a:srgbClr val="000000"/>
              </a:solidFill>
              <a:latin typeface="Arial"/>
            </a:endParaRPr>
          </a:p>
          <a:p>
            <a:pPr algn="ct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000000"/>
                </a:solidFill>
                <a:latin typeface="Arial"/>
              </a:rPr>
              <a:t>  </a:t>
            </a:r>
            <a:endParaRPr b="1" lang="en-US" sz="800" spc="-1" strike="noStrike">
              <a:solidFill>
                <a:srgbClr val="000000"/>
              </a:solidFill>
              <a:latin typeface="Arial"/>
            </a:endParaRPr>
          </a:p>
        </p:txBody>
      </p:sp>
      <p:sp>
        <p:nvSpPr>
          <p:cNvPr id="1118" name="PlaceHolder 1"/>
          <p:cNvSpPr>
            <a:spLocks noGrp="1"/>
          </p:cNvSpPr>
          <p:nvPr>
            <p:ph type="sldImg"/>
          </p:nvPr>
        </p:nvSpPr>
        <p:spPr>
          <a:xfrm>
            <a:off x="1158840" y="693720"/>
            <a:ext cx="4616640" cy="3462480"/>
          </a:xfrm>
          <a:prstGeom prst="rect">
            <a:avLst/>
          </a:prstGeom>
          <a:ln w="0">
            <a:noFill/>
          </a:ln>
        </p:spPr>
      </p:sp>
      <p:sp>
        <p:nvSpPr>
          <p:cNvPr id="1119"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Author</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Program/Project</a:t>
            </a:r>
            <a:endParaRPr b="1" lang="en-US" sz="900" spc="-1" strike="noStrike">
              <a:solidFill>
                <a:srgbClr val="000000"/>
              </a:solidFill>
              <a:latin typeface="Arial"/>
            </a:endParaRPr>
          </a:p>
        </p:txBody>
      </p:sp>
      <p:sp>
        <p:nvSpPr>
          <p:cNvPr id="962"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8578EAF-B03C-49E3-8522-9632C42BC742}"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963" name="PlaceHolder 1"/>
          <p:cNvSpPr>
            <a:spLocks noGrp="1"/>
          </p:cNvSpPr>
          <p:nvPr>
            <p:ph type="sldImg"/>
          </p:nvPr>
        </p:nvSpPr>
        <p:spPr>
          <a:xfrm>
            <a:off x="1158840" y="693720"/>
            <a:ext cx="4616640" cy="3462480"/>
          </a:xfrm>
          <a:prstGeom prst="rect">
            <a:avLst/>
          </a:prstGeom>
          <a:ln w="0">
            <a:noFill/>
          </a:ln>
        </p:spPr>
      </p:sp>
      <p:sp>
        <p:nvSpPr>
          <p:cNvPr id="964"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58840" y="693720"/>
            <a:ext cx="4616640" cy="3462480"/>
          </a:xfrm>
          <a:prstGeom prst="rect">
            <a:avLst/>
          </a:prstGeom>
          <a:ln w="0">
            <a:noFill/>
          </a:ln>
        </p:spPr>
      </p:sp>
      <p:sp>
        <p:nvSpPr>
          <p:cNvPr id="966"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7"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68"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58840" y="693720"/>
            <a:ext cx="4616640" cy="3462480"/>
          </a:xfrm>
          <a:prstGeom prst="rect">
            <a:avLst/>
          </a:prstGeom>
          <a:ln w="0">
            <a:noFill/>
          </a:ln>
        </p:spPr>
      </p:sp>
      <p:sp>
        <p:nvSpPr>
          <p:cNvPr id="970"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1"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72"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24"/>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Author</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Program/Project</a:t>
            </a:r>
            <a:endParaRPr b="1" lang="en-US" sz="900" spc="-1" strike="noStrike">
              <a:solidFill>
                <a:srgbClr val="000000"/>
              </a:solidFill>
              <a:latin typeface="Arial"/>
            </a:endParaRPr>
          </a:p>
        </p:txBody>
      </p:sp>
      <p:sp>
        <p:nvSpPr>
          <p:cNvPr id="974" name="Rectangle 25"/>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76218D6-34E7-4E79-ADCE-305A113088FB}" type="datetime">
              <a:rPr b="0" lang="en-US" sz="1000" spc="-1" strike="noStrike">
                <a:solidFill>
                  <a:srgbClr val="000000"/>
                </a:solidFill>
                <a:latin typeface="Arial"/>
              </a:rPr>
              <a:t>07/30/26</a:t>
            </a:fld>
            <a:endParaRPr b="1" lang="en-US" sz="1000" spc="-1" strike="noStrike">
              <a:solidFill>
                <a:srgbClr val="000000"/>
              </a:solidFill>
              <a:latin typeface="Arial"/>
            </a:endParaRPr>
          </a:p>
        </p:txBody>
      </p:sp>
      <p:sp>
        <p:nvSpPr>
          <p:cNvPr id="975" name="PlaceHolder 1"/>
          <p:cNvSpPr>
            <a:spLocks noGrp="1"/>
          </p:cNvSpPr>
          <p:nvPr>
            <p:ph type="sldImg"/>
          </p:nvPr>
        </p:nvSpPr>
        <p:spPr>
          <a:xfrm>
            <a:off x="1158840" y="693720"/>
            <a:ext cx="4616640" cy="3462480"/>
          </a:xfrm>
          <a:prstGeom prst="rect">
            <a:avLst/>
          </a:prstGeom>
          <a:ln w="0">
            <a:noFill/>
          </a:ln>
        </p:spPr>
      </p:sp>
      <p:sp>
        <p:nvSpPr>
          <p:cNvPr id="976" name="PlaceHolder 2"/>
          <p:cNvSpPr>
            <a:spLocks noGrp="1"/>
          </p:cNvSpPr>
          <p:nvPr>
            <p:ph type="body"/>
          </p:nvPr>
        </p:nvSpPr>
        <p:spPr>
          <a:xfrm>
            <a:off x="925560" y="4389120"/>
            <a:ext cx="5083200" cy="4149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8840" y="693720"/>
            <a:ext cx="4616640" cy="3462480"/>
          </a:xfrm>
          <a:prstGeom prst="rect">
            <a:avLst/>
          </a:prstGeom>
          <a:ln w="0">
            <a:noFill/>
          </a:ln>
        </p:spPr>
      </p:sp>
      <p:sp>
        <p:nvSpPr>
          <p:cNvPr id="978" name="PlaceHolder 2"/>
          <p:cNvSpPr>
            <a:spLocks noGrp="1"/>
          </p:cNvSpPr>
          <p:nvPr>
            <p:ph type="body"/>
          </p:nvPr>
        </p:nvSpPr>
        <p:spPr>
          <a:xfrm>
            <a:off x="923400" y="4386240"/>
            <a:ext cx="5086440" cy="4152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9" name="Header Placeholder 3"/>
          <p:cNvSpPr/>
          <p:nvPr/>
        </p:nvSpPr>
        <p:spPr>
          <a:xfrm>
            <a:off x="573120" y="297000"/>
            <a:ext cx="2703600" cy="466560"/>
          </a:xfrm>
          <a:prstGeom prst="rect">
            <a:avLst/>
          </a:prstGeom>
          <a:noFill/>
          <a:ln w="0">
            <a:noFill/>
          </a:ln>
        </p:spPr>
        <p:style>
          <a:lnRef idx="0"/>
          <a:fillRef idx="0"/>
          <a:effectRef idx="0"/>
          <a:fontRef idx="minor"/>
        </p:style>
        <p:txBody>
          <a:bodyPr lIns="0" rIns="0" tIns="0" bIns="0" anchor="t">
            <a:noAutofit/>
          </a:bodyPr>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Improving Process Performance Using Six Sigma</a:t>
            </a:r>
            <a:endParaRPr b="1" lang="en-US" sz="900" spc="-1" strike="noStrike">
              <a:solidFill>
                <a:srgbClr val="000000"/>
              </a:solidFill>
              <a:latin typeface="Arial"/>
            </a:endParaRPr>
          </a:p>
          <a:p>
            <a:pPr>
              <a:lnSpc>
                <a:spcPct val="90000"/>
              </a:lnSpc>
              <a:spcBef>
                <a:spcPts val="56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900" spc="-1" strike="noStrike">
                <a:solidFill>
                  <a:srgbClr val="000000"/>
                </a:solidFill>
                <a:latin typeface="Arial"/>
              </a:rPr>
              <a:t>Module 1: Introduction</a:t>
            </a:r>
            <a:endParaRPr b="1" lang="en-US" sz="900" spc="-1" strike="noStrike">
              <a:solidFill>
                <a:srgbClr val="000000"/>
              </a:solidFill>
              <a:latin typeface="Arial"/>
            </a:endParaRPr>
          </a:p>
        </p:txBody>
      </p:sp>
      <p:sp>
        <p:nvSpPr>
          <p:cNvPr id="980" name="Date Placeholder 4"/>
          <p:cNvSpPr/>
          <p:nvPr/>
        </p:nvSpPr>
        <p:spPr>
          <a:xfrm>
            <a:off x="3733920" y="297000"/>
            <a:ext cx="2703240" cy="466560"/>
          </a:xfrm>
          <a:prstGeom prst="rect">
            <a:avLst/>
          </a:prstGeom>
          <a:noFill/>
          <a:ln w="0">
            <a:noFill/>
          </a:ln>
        </p:spPr>
        <p:style>
          <a:lnRef idx="0"/>
          <a:fillRef idx="0"/>
          <a:effectRef idx="0"/>
          <a:fontRef idx="minor"/>
        </p:style>
        <p:txBody>
          <a:bodyPr lIns="19080" rIns="19080" tIns="0" bIns="0" anchor="t">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533520" y="1294920"/>
            <a:ext cx="8237520" cy="4953240"/>
          </a:xfrm>
          <a:prstGeom prst="rect">
            <a:avLst/>
          </a:prstGeom>
          <a:noFill/>
          <a:ln w="0">
            <a:noFill/>
          </a:ln>
        </p:spPr>
        <p:txBody>
          <a:bodyPr lIns="0" rIns="0" tIns="0" bIns="0" anchor="ctr">
            <a:noAutofit/>
          </a:bodyPr>
          <a:p>
            <a:pPr indent="0" algn="ctr">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533520" y="129492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2"/>
          <p:cNvSpPr>
            <a:spLocks noGrp="1"/>
          </p:cNvSpPr>
          <p:nvPr>
            <p:ph/>
          </p:nvPr>
        </p:nvSpPr>
        <p:spPr>
          <a:xfrm>
            <a:off x="53352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1848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03800" y="129492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53352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1848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03800" y="3882600"/>
            <a:ext cx="26521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533520"/>
            <a:ext cx="8235720" cy="3886200"/>
          </a:xfrm>
          <a:prstGeom prst="rect">
            <a:avLst/>
          </a:prstGeom>
          <a:noFill/>
          <a:ln w="0">
            <a:noFill/>
          </a:ln>
        </p:spPr>
        <p:txBody>
          <a:bodyPr lIns="0" rIns="0" tIns="0" bIns="0" anchor="ctr">
            <a:no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54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533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533520" y="1294920"/>
            <a:ext cx="4019760" cy="495324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54520" y="388260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533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54520" y="1294920"/>
            <a:ext cx="401976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520" y="3882600"/>
            <a:ext cx="8237520" cy="2362680"/>
          </a:xfrm>
          <a:prstGeom prst="rect">
            <a:avLst/>
          </a:prstGeom>
          <a:noFill/>
          <a:ln w="0">
            <a:noFill/>
          </a:ln>
        </p:spPr>
        <p:txBody>
          <a:bodyPr lIns="0" rIns="0" tIns="0" bIns="0" anchor="t">
            <a:normAutofit/>
          </a:bodyPr>
          <a:p>
            <a:pPr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9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3" name="Rectangle 93"/>
          <p:cNvSpPr/>
          <p:nvPr/>
        </p:nvSpPr>
        <p:spPr>
          <a:xfrm>
            <a:off x="605484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4 Carnegie Mellon University</a:t>
            </a:r>
            <a:endParaRPr b="1" lang="en-US" sz="800" spc="-1" strike="noStrike">
              <a:solidFill>
                <a:srgbClr val="000000"/>
              </a:solidFill>
              <a:latin typeface="Arial"/>
            </a:endParaRPr>
          </a:p>
        </p:txBody>
      </p:sp>
      <p:sp>
        <p:nvSpPr>
          <p:cNvPr id="4" name="Rectangle 94"/>
          <p:cNvSpPr/>
          <p:nvPr/>
        </p:nvSpPr>
        <p:spPr>
          <a:xfrm>
            <a:off x="457200" y="10152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Improving Process Performance Using Six Sigma| Module 1: Introduction – v23</a:t>
            </a:r>
            <a:endParaRPr b="1" lang="en-US" sz="1000" spc="-1" strike="noStrike">
              <a:solidFill>
                <a:srgbClr val="000000"/>
              </a:solidFill>
              <a:latin typeface="Arial"/>
            </a:endParaRPr>
          </a:p>
        </p:txBody>
      </p:sp>
      <p:sp>
        <p:nvSpPr>
          <p:cNvPr id="5" name="Rectangle 95"/>
          <p:cNvSpPr/>
          <p:nvPr/>
        </p:nvSpPr>
        <p:spPr>
          <a:xfrm>
            <a:off x="8040240" y="6477840"/>
            <a:ext cx="128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CACD-826D-4290-8546-2756E08794DE}" type="slidenum">
              <a:rPr b="1" lang="en-US" sz="1800" spc="-1" strike="noStrike">
                <a:solidFill>
                  <a:srgbClr val="000000"/>
                </a:solidFill>
                <a:latin typeface="Arial"/>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06"/>
          <p:cNvGrpSpPr/>
          <p:nvPr/>
        </p:nvGrpSpPr>
        <p:grpSpPr>
          <a:xfrm>
            <a:off x="20520" y="17640"/>
            <a:ext cx="2687760" cy="4039920"/>
            <a:chOff x="20520" y="17640"/>
            <a:chExt cx="2687760" cy="4039920"/>
          </a:xfrm>
        </p:grpSpPr>
        <p:sp>
          <p:nvSpPr>
            <p:cNvPr id="43" name="Freeform 107"/>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4" name="Freeform 108"/>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 name="Freeform 109"/>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 name="Freeform 110"/>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 name="Freeform 111"/>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 name="Freeform 112"/>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 name="Freeform 113"/>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 name="Freeform 114"/>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 name="Freeform 115"/>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 name="Freeform 116"/>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 name="Freeform 117"/>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c4f8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4" name="Line 118"/>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2000" spc="-1" strike="noStrike">
              <a:solidFill>
                <a:srgbClr val="000000"/>
              </a:solidFill>
              <a:latin typeface="Arial"/>
            </a:endParaRPr>
          </a:p>
        </p:txBody>
      </p:sp>
      <p:sp>
        <p:nvSpPr>
          <p:cNvPr id="55" name="Rectangle 119"/>
          <p:cNvSpPr/>
          <p:nvPr/>
        </p:nvSpPr>
        <p:spPr>
          <a:xfrm>
            <a:off x="533520" y="5347800"/>
            <a:ext cx="8153280" cy="662400"/>
          </a:xfrm>
          <a:prstGeom prst="rect">
            <a:avLst/>
          </a:prstGeom>
          <a:noFill/>
          <a:ln w="0">
            <a:noFill/>
          </a:ln>
        </p:spPr>
        <p:style>
          <a:lnRef idx="0"/>
          <a:fillRef idx="0"/>
          <a:effectRef idx="0"/>
          <a:fontRef idx="minor"/>
        </p:style>
        <p:txBody>
          <a:bodyPr lIns="90000" rIns="90000" tIns="46800" bIns="46800" anchor="b">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4 by Carnegie Mellon University</a:t>
            </a:r>
            <a:endParaRPr b="1"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000000"/>
              </a:solidFill>
              <a:latin typeface="Arial"/>
            </a:endParaRPr>
          </a:p>
        </p:txBody>
      </p:sp>
      <p:pic>
        <p:nvPicPr>
          <p:cNvPr id="56" name="Picture 121" descr="SEI_CMU_1Line_Blk2"/>
          <p:cNvPicPr/>
          <p:nvPr/>
        </p:nvPicPr>
        <p:blipFill>
          <a:blip r:embed="rId2"/>
          <a:stretch/>
        </p:blipFill>
        <p:spPr>
          <a:xfrm>
            <a:off x="2666880" y="590400"/>
            <a:ext cx="5523120" cy="330480"/>
          </a:xfrm>
          <a:prstGeom prst="rect">
            <a:avLst/>
          </a:prstGeom>
          <a:ln w="0">
            <a:noFill/>
          </a:ln>
        </p:spPr>
      </p:pic>
      <p:sp>
        <p:nvSpPr>
          <p:cNvPr id="57" name="Text Box 141"/>
          <p:cNvSpPr/>
          <p:nvPr/>
        </p:nvSpPr>
        <p:spPr>
          <a:xfrm>
            <a:off x="3219480" y="2438280"/>
            <a:ext cx="5029200" cy="83952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Institute</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negie Mellon University</a:t>
            </a:r>
            <a:endParaRPr b="1" lang="en-US" sz="1800" spc="-1" strike="noStrike">
              <a:solidFill>
                <a:srgbClr val="000000"/>
              </a:solidFill>
              <a:latin typeface="Arial"/>
            </a:endParaRPr>
          </a:p>
          <a:p>
            <a:pP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tsburgh, PA  15213</a:t>
            </a:r>
            <a:endParaRPr b="1" lang="en-US" sz="1800" spc="-1" strike="noStrike">
              <a:solidFill>
                <a:srgbClr val="000000"/>
              </a:solidFill>
              <a:latin typeface="Arial"/>
            </a:endParaRPr>
          </a:p>
        </p:txBody>
      </p:sp>
      <p:sp>
        <p:nvSpPr>
          <p:cNvPr id="58" name="PlaceHolder 1"/>
          <p:cNvSpPr>
            <a:spLocks noGrp="1"/>
          </p:cNvSpPr>
          <p:nvPr>
            <p:ph type="body"/>
          </p:nvPr>
        </p:nvSpPr>
        <p:spPr>
          <a:xfrm>
            <a:off x="533520" y="1294920"/>
            <a:ext cx="8237520" cy="4953240"/>
          </a:xfrm>
          <a:prstGeom prst="rect">
            <a:avLst/>
          </a:prstGeom>
          <a:noFill/>
          <a:ln w="0">
            <a:noFill/>
          </a:ln>
        </p:spPr>
        <p:txBody>
          <a:bodyPr lIns="0" rIns="0" tIns="0" bIns="0" anchor="t">
            <a:normAutofit/>
          </a:bodyPr>
          <a:p>
            <a:pPr marL="343080" indent="-343080">
              <a:lnSpc>
                <a:spcPct val="95000"/>
              </a:lnSpc>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58960" indent="-168480">
              <a:lnSpc>
                <a:spcPct val="95000"/>
              </a:lnSpc>
              <a:spcAft>
                <a:spcPts val="6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69920">
              <a:lnSpc>
                <a:spcPct val="95000"/>
              </a:lnSpc>
              <a:spcAft>
                <a:spcPts val="624"/>
              </a:spcAft>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69920">
              <a:lnSpc>
                <a:spcPct val="95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8480" y="1218960"/>
            <a:ext cx="5457960" cy="146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roving Process Performance Using Six</a:t>
            </a:r>
            <a:br>
              <a:rPr sz="2700"/>
            </a:br>
            <a:r>
              <a:rPr b="1" lang="en-US" sz="2700" spc="-1" strike="noStrike">
                <a:solidFill>
                  <a:srgbClr val="000000"/>
                </a:solidFill>
                <a:latin typeface="Arial"/>
              </a:rPr>
              <a:t>Sigma</a:t>
            </a:r>
            <a:endParaRPr b="1" lang="en-US" sz="2700" spc="-1" strike="noStrike">
              <a:solidFill>
                <a:srgbClr val="000000"/>
              </a:solidFill>
              <a:latin typeface="Arial"/>
            </a:endParaRPr>
          </a:p>
        </p:txBody>
      </p:sp>
      <p:sp>
        <p:nvSpPr>
          <p:cNvPr id="106" name="PlaceHolder 2"/>
          <p:cNvSpPr>
            <a:spLocks noGrp="1"/>
          </p:cNvSpPr>
          <p:nvPr>
            <p:ph type="subTitle"/>
          </p:nvPr>
        </p:nvSpPr>
        <p:spPr>
          <a:xfrm>
            <a:off x="3228840" y="3466800"/>
            <a:ext cx="5181840" cy="48564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ule 1: Introduction</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a:t>
            </a:r>
            <a:endParaRPr b="1" lang="en-US" sz="2800" spc="-1" strike="noStrike">
              <a:solidFill>
                <a:srgbClr val="000000"/>
              </a:solidFill>
              <a:latin typeface="Arial"/>
            </a:endParaRPr>
          </a:p>
        </p:txBody>
      </p:sp>
      <p:sp>
        <p:nvSpPr>
          <p:cNvPr id="143" name=""/>
          <p:cNvSpPr txBox="1"/>
          <p:nvPr/>
        </p:nvSpPr>
        <p:spPr>
          <a:xfrm>
            <a:off x="1828440" y="1752120"/>
            <a:ext cx="717084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name, organization and job rol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expectations for this course?</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22"/>
          <p:cNvGrpSpPr/>
          <p:nvPr/>
        </p:nvGrpSpPr>
        <p:grpSpPr>
          <a:xfrm>
            <a:off x="533520" y="3352680"/>
            <a:ext cx="1218600" cy="1207800"/>
            <a:chOff x="533520" y="3352680"/>
            <a:chExt cx="1218600" cy="1207800"/>
          </a:xfrm>
        </p:grpSpPr>
        <p:sp>
          <p:nvSpPr>
            <p:cNvPr id="145" name="AutoShape 21"/>
            <p:cNvSpPr/>
            <p:nvPr/>
          </p:nvSpPr>
          <p:spPr>
            <a:xfrm>
              <a:off x="533520" y="335268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6" name="Freeform 26"/>
            <p:cNvSpPr/>
            <p:nvPr/>
          </p:nvSpPr>
          <p:spPr>
            <a:xfrm>
              <a:off x="698400" y="355140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Freeform 27"/>
            <p:cNvSpPr/>
            <p:nvPr/>
          </p:nvSpPr>
          <p:spPr>
            <a:xfrm>
              <a:off x="865800" y="35895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8" name="Freeform 28"/>
            <p:cNvSpPr/>
            <p:nvPr/>
          </p:nvSpPr>
          <p:spPr>
            <a:xfrm>
              <a:off x="1028880" y="41277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9" name="Freeform 29"/>
            <p:cNvSpPr/>
            <p:nvPr/>
          </p:nvSpPr>
          <p:spPr>
            <a:xfrm>
              <a:off x="1073520" y="38239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150" name="Freeform 30"/>
            <p:cNvSpPr/>
            <p:nvPr/>
          </p:nvSpPr>
          <p:spPr>
            <a:xfrm>
              <a:off x="1408320" y="38174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151" name="Freeform 32"/>
            <p:cNvSpPr/>
            <p:nvPr/>
          </p:nvSpPr>
          <p:spPr>
            <a:xfrm>
              <a:off x="1408320" y="37926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152" name="Freeform 34"/>
            <p:cNvSpPr/>
            <p:nvPr/>
          </p:nvSpPr>
          <p:spPr>
            <a:xfrm>
              <a:off x="1073520" y="37591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153" name="Rectangle 35"/>
            <p:cNvSpPr/>
            <p:nvPr/>
          </p:nvSpPr>
          <p:spPr>
            <a:xfrm>
              <a:off x="843480" y="38462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Freeform 38"/>
            <p:cNvSpPr/>
            <p:nvPr/>
          </p:nvSpPr>
          <p:spPr>
            <a:xfrm>
              <a:off x="1408320" y="38016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155" name="Freeform 40"/>
            <p:cNvSpPr/>
            <p:nvPr/>
          </p:nvSpPr>
          <p:spPr>
            <a:xfrm>
              <a:off x="992880" y="377928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6" name="Freeform 41"/>
            <p:cNvSpPr/>
            <p:nvPr/>
          </p:nvSpPr>
          <p:spPr>
            <a:xfrm>
              <a:off x="1155960" y="37814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157" name="Freeform 42"/>
            <p:cNvSpPr/>
            <p:nvPr/>
          </p:nvSpPr>
          <p:spPr>
            <a:xfrm>
              <a:off x="992880" y="386388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8" name="Freeform 43"/>
            <p:cNvSpPr/>
            <p:nvPr/>
          </p:nvSpPr>
          <p:spPr>
            <a:xfrm>
              <a:off x="1093680" y="378576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159" name="Freeform 44"/>
            <p:cNvSpPr/>
            <p:nvPr/>
          </p:nvSpPr>
          <p:spPr>
            <a:xfrm>
              <a:off x="1060200" y="38462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60" name="Freeform 45"/>
            <p:cNvSpPr/>
            <p:nvPr/>
          </p:nvSpPr>
          <p:spPr>
            <a:xfrm>
              <a:off x="1060200" y="38462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61" name="Freeform 46"/>
            <p:cNvSpPr/>
            <p:nvPr/>
          </p:nvSpPr>
          <p:spPr>
            <a:xfrm>
              <a:off x="1071360" y="41500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2" name="Freeform 47"/>
            <p:cNvSpPr/>
            <p:nvPr/>
          </p:nvSpPr>
          <p:spPr>
            <a:xfrm>
              <a:off x="894600" y="36162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163" name="Group 22"/>
          <p:cNvGrpSpPr/>
          <p:nvPr/>
        </p:nvGrpSpPr>
        <p:grpSpPr>
          <a:xfrm>
            <a:off x="609480" y="1295280"/>
            <a:ext cx="1218960" cy="1207800"/>
            <a:chOff x="609480" y="1295280"/>
            <a:chExt cx="1218960" cy="1207800"/>
          </a:xfrm>
        </p:grpSpPr>
        <p:sp>
          <p:nvSpPr>
            <p:cNvPr id="164" name="AutoShape 21"/>
            <p:cNvSpPr/>
            <p:nvPr/>
          </p:nvSpPr>
          <p:spPr>
            <a:xfrm>
              <a:off x="609480" y="1295280"/>
              <a:ext cx="121896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5" name="Freeform 26"/>
            <p:cNvSpPr/>
            <p:nvPr/>
          </p:nvSpPr>
          <p:spPr>
            <a:xfrm>
              <a:off x="774360" y="1494000"/>
              <a:ext cx="837360" cy="787680"/>
            </a:xfrm>
            <a:custGeom>
              <a:avLst/>
              <a:gdLst>
                <a:gd name="textAreaLeft" fmla="*/ 0 w 837360"/>
                <a:gd name="textAreaRight" fmla="*/ 837720 w 83736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6" name="Freeform 27"/>
            <p:cNvSpPr/>
            <p:nvPr/>
          </p:nvSpPr>
          <p:spPr>
            <a:xfrm>
              <a:off x="942120" y="15321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7" name="Freeform 28"/>
            <p:cNvSpPr/>
            <p:nvPr/>
          </p:nvSpPr>
          <p:spPr>
            <a:xfrm>
              <a:off x="1104840" y="20703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68" name="Freeform 29"/>
            <p:cNvSpPr/>
            <p:nvPr/>
          </p:nvSpPr>
          <p:spPr>
            <a:xfrm>
              <a:off x="1149480" y="17665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169" name="Freeform 30"/>
            <p:cNvSpPr/>
            <p:nvPr/>
          </p:nvSpPr>
          <p:spPr>
            <a:xfrm>
              <a:off x="1484640" y="17600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170" name="Freeform 32"/>
            <p:cNvSpPr/>
            <p:nvPr/>
          </p:nvSpPr>
          <p:spPr>
            <a:xfrm>
              <a:off x="1484640" y="17352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171" name="Freeform 34"/>
            <p:cNvSpPr/>
            <p:nvPr/>
          </p:nvSpPr>
          <p:spPr>
            <a:xfrm>
              <a:off x="1149480" y="17017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172" name="Rectangle 35"/>
            <p:cNvSpPr/>
            <p:nvPr/>
          </p:nvSpPr>
          <p:spPr>
            <a:xfrm>
              <a:off x="919800" y="17888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Freeform 38"/>
            <p:cNvSpPr/>
            <p:nvPr/>
          </p:nvSpPr>
          <p:spPr>
            <a:xfrm>
              <a:off x="1484640" y="17442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174" name="Freeform 40"/>
            <p:cNvSpPr/>
            <p:nvPr/>
          </p:nvSpPr>
          <p:spPr>
            <a:xfrm>
              <a:off x="1069200" y="1721880"/>
              <a:ext cx="183240" cy="285480"/>
            </a:xfrm>
            <a:custGeom>
              <a:avLst/>
              <a:gdLst>
                <a:gd name="textAreaLeft" fmla="*/ 0 w 183240"/>
                <a:gd name="textAreaRight" fmla="*/ 183600 w 18324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5" name="Freeform 41"/>
            <p:cNvSpPr/>
            <p:nvPr/>
          </p:nvSpPr>
          <p:spPr>
            <a:xfrm>
              <a:off x="1231920" y="1724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176" name="Freeform 42"/>
            <p:cNvSpPr/>
            <p:nvPr/>
          </p:nvSpPr>
          <p:spPr>
            <a:xfrm>
              <a:off x="1069200" y="1806480"/>
              <a:ext cx="67320" cy="200880"/>
            </a:xfrm>
            <a:custGeom>
              <a:avLst/>
              <a:gdLst>
                <a:gd name="textAreaLeft" fmla="*/ 0 w 67320"/>
                <a:gd name="textAreaRight" fmla="*/ 67680 w 6732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Freeform 43"/>
            <p:cNvSpPr/>
            <p:nvPr/>
          </p:nvSpPr>
          <p:spPr>
            <a:xfrm>
              <a:off x="1169640" y="1728360"/>
              <a:ext cx="64800" cy="60120"/>
            </a:xfrm>
            <a:custGeom>
              <a:avLst/>
              <a:gdLst>
                <a:gd name="textAreaLeft" fmla="*/ 0 w 64800"/>
                <a:gd name="textAreaRight" fmla="*/ 65160 w 6480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178" name="Freeform 44"/>
            <p:cNvSpPr/>
            <p:nvPr/>
          </p:nvSpPr>
          <p:spPr>
            <a:xfrm>
              <a:off x="1136520" y="1788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79" name="Freeform 45"/>
            <p:cNvSpPr/>
            <p:nvPr/>
          </p:nvSpPr>
          <p:spPr>
            <a:xfrm>
              <a:off x="1136520" y="1788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180" name="Freeform 46"/>
            <p:cNvSpPr/>
            <p:nvPr/>
          </p:nvSpPr>
          <p:spPr>
            <a:xfrm>
              <a:off x="1147320" y="20926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81" name="Freeform 47"/>
            <p:cNvSpPr/>
            <p:nvPr/>
          </p:nvSpPr>
          <p:spPr>
            <a:xfrm>
              <a:off x="970920" y="15588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a:t>
            </a:r>
            <a:endParaRPr b="1" lang="en-US" sz="2800" spc="-1" strike="noStrike">
              <a:solidFill>
                <a:srgbClr val="000000"/>
              </a:solidFill>
              <a:latin typeface="Arial"/>
            </a:endParaRPr>
          </a:p>
        </p:txBody>
      </p:sp>
      <p:grpSp>
        <p:nvGrpSpPr>
          <p:cNvPr id="183" name="Group 215"/>
          <p:cNvGrpSpPr/>
          <p:nvPr/>
        </p:nvGrpSpPr>
        <p:grpSpPr>
          <a:xfrm>
            <a:off x="762120" y="1415160"/>
            <a:ext cx="7027560" cy="4021200"/>
            <a:chOff x="762120" y="1415160"/>
            <a:chExt cx="7027560" cy="4021200"/>
          </a:xfrm>
        </p:grpSpPr>
        <p:pic>
          <p:nvPicPr>
            <p:cNvPr id="184" name="Picture 7" descr="MCj02909140000[1]"/>
            <p:cNvPicPr/>
            <p:nvPr/>
          </p:nvPicPr>
          <p:blipFill>
            <a:blip r:embed="rId1"/>
            <a:stretch/>
          </p:blipFill>
          <p:spPr>
            <a:xfrm>
              <a:off x="4742280" y="1829520"/>
              <a:ext cx="1270440" cy="1423440"/>
            </a:xfrm>
            <a:prstGeom prst="rect">
              <a:avLst/>
            </a:prstGeom>
            <a:ln w="0">
              <a:noFill/>
            </a:ln>
          </p:spPr>
        </p:pic>
        <p:pic>
          <p:nvPicPr>
            <p:cNvPr id="185" name="Picture 8" descr="MCj02909580000[1]"/>
            <p:cNvPicPr/>
            <p:nvPr/>
          </p:nvPicPr>
          <p:blipFill>
            <a:blip r:embed="rId2"/>
            <a:stretch/>
          </p:blipFill>
          <p:spPr>
            <a:xfrm>
              <a:off x="6432480" y="1959840"/>
              <a:ext cx="1340280" cy="1281960"/>
            </a:xfrm>
            <a:prstGeom prst="rect">
              <a:avLst/>
            </a:prstGeom>
            <a:ln w="0">
              <a:noFill/>
            </a:ln>
          </p:spPr>
        </p:pic>
        <p:pic>
          <p:nvPicPr>
            <p:cNvPr id="186" name="Picture 11" descr="j0346421"/>
            <p:cNvPicPr/>
            <p:nvPr/>
          </p:nvPicPr>
          <p:blipFill>
            <a:blip r:embed="rId3"/>
            <a:stretch/>
          </p:blipFill>
          <p:spPr>
            <a:xfrm flipH="1" rot="21112200">
              <a:off x="1177920" y="3984480"/>
              <a:ext cx="1181880" cy="1346040"/>
            </a:xfrm>
            <a:prstGeom prst="rect">
              <a:avLst/>
            </a:prstGeom>
            <a:ln w="0">
              <a:noFill/>
            </a:ln>
          </p:spPr>
        </p:pic>
        <p:pic>
          <p:nvPicPr>
            <p:cNvPr id="187" name="Picture 15" descr="MCj02402070000[1]"/>
            <p:cNvPicPr/>
            <p:nvPr/>
          </p:nvPicPr>
          <p:blipFill>
            <a:blip r:embed="rId4"/>
            <a:stretch/>
          </p:blipFill>
          <p:spPr>
            <a:xfrm>
              <a:off x="6401520" y="3962520"/>
              <a:ext cx="1388160" cy="1299240"/>
            </a:xfrm>
            <a:prstGeom prst="rect">
              <a:avLst/>
            </a:prstGeom>
            <a:ln w="0">
              <a:noFill/>
            </a:ln>
          </p:spPr>
        </p:pic>
        <p:grpSp>
          <p:nvGrpSpPr>
            <p:cNvPr id="188" name="Group 111"/>
            <p:cNvGrpSpPr/>
            <p:nvPr/>
          </p:nvGrpSpPr>
          <p:grpSpPr>
            <a:xfrm>
              <a:off x="2687760" y="1942200"/>
              <a:ext cx="1799280" cy="1488240"/>
              <a:chOff x="2687760" y="1942200"/>
              <a:chExt cx="1799280" cy="1488240"/>
            </a:xfrm>
          </p:grpSpPr>
          <p:pic>
            <p:nvPicPr>
              <p:cNvPr id="189" name="Picture 110" descr="j0300047"/>
              <p:cNvPicPr/>
              <p:nvPr/>
            </p:nvPicPr>
            <p:blipFill>
              <a:blip r:embed="rId5"/>
              <a:stretch/>
            </p:blipFill>
            <p:spPr>
              <a:xfrm rot="20271000">
                <a:off x="2828160" y="2137680"/>
                <a:ext cx="1231920" cy="987480"/>
              </a:xfrm>
              <a:prstGeom prst="rect">
                <a:avLst/>
              </a:prstGeom>
              <a:ln w="0">
                <a:noFill/>
              </a:ln>
            </p:spPr>
          </p:pic>
          <p:grpSp>
            <p:nvGrpSpPr>
              <p:cNvPr id="190" name="Group 73"/>
              <p:cNvGrpSpPr/>
              <p:nvPr/>
            </p:nvGrpSpPr>
            <p:grpSpPr>
              <a:xfrm>
                <a:off x="3454920" y="2532960"/>
                <a:ext cx="1032120" cy="897480"/>
                <a:chOff x="3454920" y="2532960"/>
                <a:chExt cx="1032120" cy="897480"/>
              </a:xfrm>
            </p:grpSpPr>
            <p:sp>
              <p:nvSpPr>
                <p:cNvPr id="191" name="Freeform 20"/>
                <p:cNvSpPr/>
                <p:nvPr/>
              </p:nvSpPr>
              <p:spPr>
                <a:xfrm rot="622800">
                  <a:off x="3480480" y="2815560"/>
                  <a:ext cx="817920" cy="360360"/>
                </a:xfrm>
                <a:custGeom>
                  <a:avLst/>
                  <a:gdLst>
                    <a:gd name="textAreaLeft" fmla="*/ 0 w 817920"/>
                    <a:gd name="textAreaRight" fmla="*/ 818280 w 817920"/>
                    <a:gd name="textAreaTop" fmla="*/ 0 h 360360"/>
                    <a:gd name="textAreaBottom" fmla="*/ 360720 h 360360"/>
                  </a:gdLst>
                  <a:ahLst/>
                  <a:rect l="textAreaLeft" t="textAreaTop" r="textAreaRight" b="textAreaBottom"/>
                  <a:pathLst>
                    <a:path w="2068" h="889">
                      <a:moveTo>
                        <a:pt x="2066" y="0"/>
                      </a:moveTo>
                      <a:lnTo>
                        <a:pt x="2066" y="2"/>
                      </a:lnTo>
                      <a:lnTo>
                        <a:pt x="2066" y="6"/>
                      </a:lnTo>
                      <a:lnTo>
                        <a:pt x="2066" y="13"/>
                      </a:lnTo>
                      <a:lnTo>
                        <a:pt x="2066" y="19"/>
                      </a:lnTo>
                      <a:lnTo>
                        <a:pt x="2066" y="28"/>
                      </a:lnTo>
                      <a:lnTo>
                        <a:pt x="2066" y="34"/>
                      </a:lnTo>
                      <a:lnTo>
                        <a:pt x="2066" y="40"/>
                      </a:lnTo>
                      <a:lnTo>
                        <a:pt x="2066" y="45"/>
                      </a:lnTo>
                      <a:lnTo>
                        <a:pt x="2068" y="51"/>
                      </a:lnTo>
                      <a:lnTo>
                        <a:pt x="2066" y="59"/>
                      </a:lnTo>
                      <a:lnTo>
                        <a:pt x="2066" y="64"/>
                      </a:lnTo>
                      <a:lnTo>
                        <a:pt x="2066" y="70"/>
                      </a:lnTo>
                      <a:lnTo>
                        <a:pt x="2066" y="80"/>
                      </a:lnTo>
                      <a:lnTo>
                        <a:pt x="2064" y="85"/>
                      </a:lnTo>
                      <a:lnTo>
                        <a:pt x="2064" y="95"/>
                      </a:lnTo>
                      <a:lnTo>
                        <a:pt x="2064" y="102"/>
                      </a:lnTo>
                      <a:lnTo>
                        <a:pt x="2064" y="112"/>
                      </a:lnTo>
                      <a:lnTo>
                        <a:pt x="2064" y="118"/>
                      </a:lnTo>
                      <a:lnTo>
                        <a:pt x="2062" y="127"/>
                      </a:lnTo>
                      <a:lnTo>
                        <a:pt x="2062" y="137"/>
                      </a:lnTo>
                      <a:lnTo>
                        <a:pt x="2061" y="146"/>
                      </a:lnTo>
                      <a:lnTo>
                        <a:pt x="2059" y="156"/>
                      </a:lnTo>
                      <a:lnTo>
                        <a:pt x="2059" y="165"/>
                      </a:lnTo>
                      <a:lnTo>
                        <a:pt x="2057" y="175"/>
                      </a:lnTo>
                      <a:lnTo>
                        <a:pt x="2057" y="184"/>
                      </a:lnTo>
                      <a:lnTo>
                        <a:pt x="2055" y="194"/>
                      </a:lnTo>
                      <a:lnTo>
                        <a:pt x="2053" y="203"/>
                      </a:lnTo>
                      <a:lnTo>
                        <a:pt x="2049" y="215"/>
                      </a:lnTo>
                      <a:lnTo>
                        <a:pt x="2047" y="226"/>
                      </a:lnTo>
                      <a:lnTo>
                        <a:pt x="2045" y="235"/>
                      </a:lnTo>
                      <a:lnTo>
                        <a:pt x="2043" y="245"/>
                      </a:lnTo>
                      <a:lnTo>
                        <a:pt x="2040" y="256"/>
                      </a:lnTo>
                      <a:lnTo>
                        <a:pt x="2038" y="268"/>
                      </a:lnTo>
                      <a:lnTo>
                        <a:pt x="2034" y="277"/>
                      </a:lnTo>
                      <a:lnTo>
                        <a:pt x="2030" y="291"/>
                      </a:lnTo>
                      <a:lnTo>
                        <a:pt x="2028" y="300"/>
                      </a:lnTo>
                      <a:lnTo>
                        <a:pt x="2024" y="311"/>
                      </a:lnTo>
                      <a:lnTo>
                        <a:pt x="2021" y="323"/>
                      </a:lnTo>
                      <a:lnTo>
                        <a:pt x="2017" y="334"/>
                      </a:lnTo>
                      <a:lnTo>
                        <a:pt x="2011" y="344"/>
                      </a:lnTo>
                      <a:lnTo>
                        <a:pt x="2009" y="357"/>
                      </a:lnTo>
                      <a:lnTo>
                        <a:pt x="2003" y="367"/>
                      </a:lnTo>
                      <a:lnTo>
                        <a:pt x="1998" y="378"/>
                      </a:lnTo>
                      <a:lnTo>
                        <a:pt x="1992" y="387"/>
                      </a:lnTo>
                      <a:lnTo>
                        <a:pt x="1988" y="399"/>
                      </a:lnTo>
                      <a:lnTo>
                        <a:pt x="1981" y="410"/>
                      </a:lnTo>
                      <a:lnTo>
                        <a:pt x="1975" y="422"/>
                      </a:lnTo>
                      <a:lnTo>
                        <a:pt x="1969" y="431"/>
                      </a:lnTo>
                      <a:lnTo>
                        <a:pt x="1964" y="443"/>
                      </a:lnTo>
                      <a:lnTo>
                        <a:pt x="1956" y="452"/>
                      </a:lnTo>
                      <a:lnTo>
                        <a:pt x="1950" y="463"/>
                      </a:lnTo>
                      <a:lnTo>
                        <a:pt x="1943" y="473"/>
                      </a:lnTo>
                      <a:lnTo>
                        <a:pt x="1935" y="484"/>
                      </a:lnTo>
                      <a:lnTo>
                        <a:pt x="1926" y="494"/>
                      </a:lnTo>
                      <a:lnTo>
                        <a:pt x="1918" y="503"/>
                      </a:lnTo>
                      <a:lnTo>
                        <a:pt x="1910" y="515"/>
                      </a:lnTo>
                      <a:lnTo>
                        <a:pt x="1903" y="524"/>
                      </a:lnTo>
                      <a:lnTo>
                        <a:pt x="1893" y="534"/>
                      </a:lnTo>
                      <a:lnTo>
                        <a:pt x="1884" y="543"/>
                      </a:lnTo>
                      <a:lnTo>
                        <a:pt x="1874" y="553"/>
                      </a:lnTo>
                      <a:lnTo>
                        <a:pt x="1865" y="562"/>
                      </a:lnTo>
                      <a:lnTo>
                        <a:pt x="1855" y="570"/>
                      </a:lnTo>
                      <a:lnTo>
                        <a:pt x="1846" y="579"/>
                      </a:lnTo>
                      <a:lnTo>
                        <a:pt x="1836" y="589"/>
                      </a:lnTo>
                      <a:lnTo>
                        <a:pt x="1827" y="598"/>
                      </a:lnTo>
                      <a:lnTo>
                        <a:pt x="1815" y="606"/>
                      </a:lnTo>
                      <a:lnTo>
                        <a:pt x="1806" y="615"/>
                      </a:lnTo>
                      <a:lnTo>
                        <a:pt x="1794" y="623"/>
                      </a:lnTo>
                      <a:lnTo>
                        <a:pt x="1783" y="633"/>
                      </a:lnTo>
                      <a:lnTo>
                        <a:pt x="1774" y="640"/>
                      </a:lnTo>
                      <a:lnTo>
                        <a:pt x="1762" y="650"/>
                      </a:lnTo>
                      <a:lnTo>
                        <a:pt x="1753" y="657"/>
                      </a:lnTo>
                      <a:lnTo>
                        <a:pt x="1741" y="667"/>
                      </a:lnTo>
                      <a:lnTo>
                        <a:pt x="1730" y="674"/>
                      </a:lnTo>
                      <a:lnTo>
                        <a:pt x="1718" y="682"/>
                      </a:lnTo>
                      <a:lnTo>
                        <a:pt x="1707" y="690"/>
                      </a:lnTo>
                      <a:lnTo>
                        <a:pt x="1696" y="697"/>
                      </a:lnTo>
                      <a:lnTo>
                        <a:pt x="1684" y="705"/>
                      </a:lnTo>
                      <a:lnTo>
                        <a:pt x="1673" y="712"/>
                      </a:lnTo>
                      <a:lnTo>
                        <a:pt x="1660" y="720"/>
                      </a:lnTo>
                      <a:lnTo>
                        <a:pt x="1648" y="728"/>
                      </a:lnTo>
                      <a:lnTo>
                        <a:pt x="1637" y="735"/>
                      </a:lnTo>
                      <a:lnTo>
                        <a:pt x="1623" y="743"/>
                      </a:lnTo>
                      <a:lnTo>
                        <a:pt x="1610" y="749"/>
                      </a:lnTo>
                      <a:lnTo>
                        <a:pt x="1599" y="756"/>
                      </a:lnTo>
                      <a:lnTo>
                        <a:pt x="1587" y="762"/>
                      </a:lnTo>
                      <a:lnTo>
                        <a:pt x="1574" y="769"/>
                      </a:lnTo>
                      <a:lnTo>
                        <a:pt x="1561" y="775"/>
                      </a:lnTo>
                      <a:lnTo>
                        <a:pt x="1547" y="783"/>
                      </a:lnTo>
                      <a:lnTo>
                        <a:pt x="1534" y="788"/>
                      </a:lnTo>
                      <a:lnTo>
                        <a:pt x="1521" y="792"/>
                      </a:lnTo>
                      <a:lnTo>
                        <a:pt x="1506" y="798"/>
                      </a:lnTo>
                      <a:lnTo>
                        <a:pt x="1494" y="806"/>
                      </a:lnTo>
                      <a:lnTo>
                        <a:pt x="1479" y="809"/>
                      </a:lnTo>
                      <a:lnTo>
                        <a:pt x="1466" y="815"/>
                      </a:lnTo>
                      <a:lnTo>
                        <a:pt x="1450" y="821"/>
                      </a:lnTo>
                      <a:lnTo>
                        <a:pt x="1437" y="826"/>
                      </a:lnTo>
                      <a:lnTo>
                        <a:pt x="1422" y="830"/>
                      </a:lnTo>
                      <a:lnTo>
                        <a:pt x="1409" y="834"/>
                      </a:lnTo>
                      <a:lnTo>
                        <a:pt x="1393" y="838"/>
                      </a:lnTo>
                      <a:lnTo>
                        <a:pt x="1380" y="844"/>
                      </a:lnTo>
                      <a:lnTo>
                        <a:pt x="1363" y="847"/>
                      </a:lnTo>
                      <a:lnTo>
                        <a:pt x="1350" y="851"/>
                      </a:lnTo>
                      <a:lnTo>
                        <a:pt x="1335" y="855"/>
                      </a:lnTo>
                      <a:lnTo>
                        <a:pt x="1319" y="859"/>
                      </a:lnTo>
                      <a:lnTo>
                        <a:pt x="1304" y="863"/>
                      </a:lnTo>
                      <a:lnTo>
                        <a:pt x="1289" y="864"/>
                      </a:lnTo>
                      <a:lnTo>
                        <a:pt x="1272" y="868"/>
                      </a:lnTo>
                      <a:lnTo>
                        <a:pt x="1259" y="872"/>
                      </a:lnTo>
                      <a:lnTo>
                        <a:pt x="1241" y="874"/>
                      </a:lnTo>
                      <a:lnTo>
                        <a:pt x="1226" y="876"/>
                      </a:lnTo>
                      <a:lnTo>
                        <a:pt x="1211" y="878"/>
                      </a:lnTo>
                      <a:lnTo>
                        <a:pt x="1194" y="882"/>
                      </a:lnTo>
                      <a:lnTo>
                        <a:pt x="1177" y="882"/>
                      </a:lnTo>
                      <a:lnTo>
                        <a:pt x="1162" y="883"/>
                      </a:lnTo>
                      <a:lnTo>
                        <a:pt x="1144" y="883"/>
                      </a:lnTo>
                      <a:lnTo>
                        <a:pt x="1127" y="885"/>
                      </a:lnTo>
                      <a:lnTo>
                        <a:pt x="1110" y="885"/>
                      </a:lnTo>
                      <a:lnTo>
                        <a:pt x="1095" y="887"/>
                      </a:lnTo>
                      <a:lnTo>
                        <a:pt x="1078" y="887"/>
                      </a:lnTo>
                      <a:lnTo>
                        <a:pt x="1061" y="889"/>
                      </a:lnTo>
                      <a:lnTo>
                        <a:pt x="1044" y="887"/>
                      </a:lnTo>
                      <a:lnTo>
                        <a:pt x="1025" y="887"/>
                      </a:lnTo>
                      <a:lnTo>
                        <a:pt x="1008" y="887"/>
                      </a:lnTo>
                      <a:lnTo>
                        <a:pt x="991" y="887"/>
                      </a:lnTo>
                      <a:lnTo>
                        <a:pt x="973" y="885"/>
                      </a:lnTo>
                      <a:lnTo>
                        <a:pt x="954" y="885"/>
                      </a:lnTo>
                      <a:lnTo>
                        <a:pt x="937" y="883"/>
                      </a:lnTo>
                      <a:lnTo>
                        <a:pt x="920" y="883"/>
                      </a:lnTo>
                      <a:lnTo>
                        <a:pt x="901" y="882"/>
                      </a:lnTo>
                      <a:lnTo>
                        <a:pt x="882" y="878"/>
                      </a:lnTo>
                      <a:lnTo>
                        <a:pt x="865" y="876"/>
                      </a:lnTo>
                      <a:lnTo>
                        <a:pt x="846" y="874"/>
                      </a:lnTo>
                      <a:lnTo>
                        <a:pt x="829" y="872"/>
                      </a:lnTo>
                      <a:lnTo>
                        <a:pt x="812" y="868"/>
                      </a:lnTo>
                      <a:lnTo>
                        <a:pt x="793" y="866"/>
                      </a:lnTo>
                      <a:lnTo>
                        <a:pt x="776" y="864"/>
                      </a:lnTo>
                      <a:lnTo>
                        <a:pt x="757" y="859"/>
                      </a:lnTo>
                      <a:lnTo>
                        <a:pt x="738" y="857"/>
                      </a:lnTo>
                      <a:lnTo>
                        <a:pt x="721" y="853"/>
                      </a:lnTo>
                      <a:lnTo>
                        <a:pt x="702" y="849"/>
                      </a:lnTo>
                      <a:lnTo>
                        <a:pt x="685" y="845"/>
                      </a:lnTo>
                      <a:lnTo>
                        <a:pt x="666" y="840"/>
                      </a:lnTo>
                      <a:lnTo>
                        <a:pt x="648" y="836"/>
                      </a:lnTo>
                      <a:lnTo>
                        <a:pt x="631" y="832"/>
                      </a:lnTo>
                      <a:lnTo>
                        <a:pt x="614" y="826"/>
                      </a:lnTo>
                      <a:lnTo>
                        <a:pt x="597" y="823"/>
                      </a:lnTo>
                      <a:lnTo>
                        <a:pt x="578" y="817"/>
                      </a:lnTo>
                      <a:lnTo>
                        <a:pt x="561" y="813"/>
                      </a:lnTo>
                      <a:lnTo>
                        <a:pt x="546" y="807"/>
                      </a:lnTo>
                      <a:lnTo>
                        <a:pt x="529" y="802"/>
                      </a:lnTo>
                      <a:lnTo>
                        <a:pt x="512" y="796"/>
                      </a:lnTo>
                      <a:lnTo>
                        <a:pt x="495" y="792"/>
                      </a:lnTo>
                      <a:lnTo>
                        <a:pt x="479" y="787"/>
                      </a:lnTo>
                      <a:lnTo>
                        <a:pt x="462" y="779"/>
                      </a:lnTo>
                      <a:lnTo>
                        <a:pt x="445" y="773"/>
                      </a:lnTo>
                      <a:lnTo>
                        <a:pt x="430" y="766"/>
                      </a:lnTo>
                      <a:lnTo>
                        <a:pt x="415" y="760"/>
                      </a:lnTo>
                      <a:lnTo>
                        <a:pt x="398" y="752"/>
                      </a:lnTo>
                      <a:lnTo>
                        <a:pt x="382" y="747"/>
                      </a:lnTo>
                      <a:lnTo>
                        <a:pt x="369" y="741"/>
                      </a:lnTo>
                      <a:lnTo>
                        <a:pt x="352" y="733"/>
                      </a:lnTo>
                      <a:lnTo>
                        <a:pt x="339" y="726"/>
                      </a:lnTo>
                      <a:lnTo>
                        <a:pt x="323" y="718"/>
                      </a:lnTo>
                      <a:lnTo>
                        <a:pt x="310" y="712"/>
                      </a:lnTo>
                      <a:lnTo>
                        <a:pt x="295" y="703"/>
                      </a:lnTo>
                      <a:lnTo>
                        <a:pt x="284" y="695"/>
                      </a:lnTo>
                      <a:lnTo>
                        <a:pt x="270" y="688"/>
                      </a:lnTo>
                      <a:lnTo>
                        <a:pt x="257" y="680"/>
                      </a:lnTo>
                      <a:lnTo>
                        <a:pt x="244" y="672"/>
                      </a:lnTo>
                      <a:lnTo>
                        <a:pt x="230" y="665"/>
                      </a:lnTo>
                      <a:lnTo>
                        <a:pt x="219" y="655"/>
                      </a:lnTo>
                      <a:lnTo>
                        <a:pt x="208" y="648"/>
                      </a:lnTo>
                      <a:lnTo>
                        <a:pt x="196" y="638"/>
                      </a:lnTo>
                      <a:lnTo>
                        <a:pt x="187" y="631"/>
                      </a:lnTo>
                      <a:lnTo>
                        <a:pt x="175" y="621"/>
                      </a:lnTo>
                      <a:lnTo>
                        <a:pt x="166" y="614"/>
                      </a:lnTo>
                      <a:lnTo>
                        <a:pt x="154" y="604"/>
                      </a:lnTo>
                      <a:lnTo>
                        <a:pt x="145" y="595"/>
                      </a:lnTo>
                      <a:lnTo>
                        <a:pt x="137" y="585"/>
                      </a:lnTo>
                      <a:lnTo>
                        <a:pt x="130" y="577"/>
                      </a:lnTo>
                      <a:lnTo>
                        <a:pt x="120" y="568"/>
                      </a:lnTo>
                      <a:lnTo>
                        <a:pt x="113" y="558"/>
                      </a:lnTo>
                      <a:lnTo>
                        <a:pt x="107" y="549"/>
                      </a:lnTo>
                      <a:lnTo>
                        <a:pt x="101" y="539"/>
                      </a:lnTo>
                      <a:lnTo>
                        <a:pt x="94" y="530"/>
                      </a:lnTo>
                      <a:lnTo>
                        <a:pt x="86" y="519"/>
                      </a:lnTo>
                      <a:lnTo>
                        <a:pt x="80" y="509"/>
                      </a:lnTo>
                      <a:lnTo>
                        <a:pt x="75" y="500"/>
                      </a:lnTo>
                      <a:lnTo>
                        <a:pt x="69" y="488"/>
                      </a:lnTo>
                      <a:lnTo>
                        <a:pt x="65" y="479"/>
                      </a:lnTo>
                      <a:lnTo>
                        <a:pt x="59" y="467"/>
                      </a:lnTo>
                      <a:lnTo>
                        <a:pt x="55" y="458"/>
                      </a:lnTo>
                      <a:lnTo>
                        <a:pt x="50" y="446"/>
                      </a:lnTo>
                      <a:lnTo>
                        <a:pt x="46" y="435"/>
                      </a:lnTo>
                      <a:lnTo>
                        <a:pt x="42" y="424"/>
                      </a:lnTo>
                      <a:lnTo>
                        <a:pt x="38" y="414"/>
                      </a:lnTo>
                      <a:lnTo>
                        <a:pt x="35" y="403"/>
                      </a:lnTo>
                      <a:lnTo>
                        <a:pt x="31" y="391"/>
                      </a:lnTo>
                      <a:lnTo>
                        <a:pt x="29" y="380"/>
                      </a:lnTo>
                      <a:lnTo>
                        <a:pt x="27" y="368"/>
                      </a:lnTo>
                      <a:lnTo>
                        <a:pt x="23" y="357"/>
                      </a:lnTo>
                      <a:lnTo>
                        <a:pt x="19" y="346"/>
                      </a:lnTo>
                      <a:lnTo>
                        <a:pt x="17" y="332"/>
                      </a:lnTo>
                      <a:lnTo>
                        <a:pt x="16" y="323"/>
                      </a:lnTo>
                      <a:lnTo>
                        <a:pt x="14" y="311"/>
                      </a:lnTo>
                      <a:lnTo>
                        <a:pt x="12" y="300"/>
                      </a:lnTo>
                      <a:lnTo>
                        <a:pt x="10" y="289"/>
                      </a:lnTo>
                      <a:lnTo>
                        <a:pt x="10" y="277"/>
                      </a:lnTo>
                      <a:lnTo>
                        <a:pt x="8" y="266"/>
                      </a:lnTo>
                      <a:lnTo>
                        <a:pt x="6" y="256"/>
                      </a:lnTo>
                      <a:lnTo>
                        <a:pt x="6" y="245"/>
                      </a:lnTo>
                      <a:lnTo>
                        <a:pt x="6" y="234"/>
                      </a:lnTo>
                      <a:lnTo>
                        <a:pt x="4" y="222"/>
                      </a:lnTo>
                      <a:lnTo>
                        <a:pt x="2" y="213"/>
                      </a:lnTo>
                      <a:lnTo>
                        <a:pt x="2" y="201"/>
                      </a:lnTo>
                      <a:lnTo>
                        <a:pt x="2" y="192"/>
                      </a:lnTo>
                      <a:lnTo>
                        <a:pt x="2" y="182"/>
                      </a:lnTo>
                      <a:lnTo>
                        <a:pt x="0" y="171"/>
                      </a:lnTo>
                      <a:lnTo>
                        <a:pt x="0" y="161"/>
                      </a:lnTo>
                      <a:lnTo>
                        <a:pt x="0" y="152"/>
                      </a:lnTo>
                      <a:lnTo>
                        <a:pt x="0" y="142"/>
                      </a:lnTo>
                      <a:lnTo>
                        <a:pt x="0" y="133"/>
                      </a:lnTo>
                      <a:lnTo>
                        <a:pt x="0" y="123"/>
                      </a:lnTo>
                      <a:lnTo>
                        <a:pt x="0" y="116"/>
                      </a:lnTo>
                      <a:lnTo>
                        <a:pt x="0" y="106"/>
                      </a:lnTo>
                      <a:lnTo>
                        <a:pt x="0" y="97"/>
                      </a:lnTo>
                      <a:lnTo>
                        <a:pt x="0" y="89"/>
                      </a:lnTo>
                      <a:lnTo>
                        <a:pt x="2" y="82"/>
                      </a:lnTo>
                      <a:lnTo>
                        <a:pt x="2" y="74"/>
                      </a:lnTo>
                      <a:lnTo>
                        <a:pt x="2" y="66"/>
                      </a:lnTo>
                      <a:lnTo>
                        <a:pt x="2" y="61"/>
                      </a:lnTo>
                      <a:lnTo>
                        <a:pt x="4" y="53"/>
                      </a:lnTo>
                      <a:lnTo>
                        <a:pt x="4" y="47"/>
                      </a:lnTo>
                      <a:lnTo>
                        <a:pt x="4" y="40"/>
                      </a:lnTo>
                      <a:lnTo>
                        <a:pt x="6" y="34"/>
                      </a:lnTo>
                      <a:lnTo>
                        <a:pt x="6" y="30"/>
                      </a:lnTo>
                      <a:lnTo>
                        <a:pt x="6" y="21"/>
                      </a:lnTo>
                      <a:lnTo>
                        <a:pt x="8" y="13"/>
                      </a:lnTo>
                      <a:lnTo>
                        <a:pt x="8" y="6"/>
                      </a:lnTo>
                      <a:lnTo>
                        <a:pt x="10" y="2"/>
                      </a:lnTo>
                      <a:lnTo>
                        <a:pt x="10" y="0"/>
                      </a:lnTo>
                      <a:lnTo>
                        <a:pt x="206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2" name="Freeform 21"/>
                <p:cNvSpPr/>
                <p:nvPr/>
              </p:nvSpPr>
              <p:spPr>
                <a:xfrm rot="622800">
                  <a:off x="3515760" y="2602440"/>
                  <a:ext cx="813960" cy="430200"/>
                </a:xfrm>
                <a:custGeom>
                  <a:avLst/>
                  <a:gdLst>
                    <a:gd name="textAreaLeft" fmla="*/ 0 w 813960"/>
                    <a:gd name="textAreaRight" fmla="*/ 814320 w 813960"/>
                    <a:gd name="textAreaTop" fmla="*/ 0 h 430200"/>
                    <a:gd name="textAreaBottom" fmla="*/ 430560 h 430200"/>
                  </a:gdLst>
                  <a:ahLst/>
                  <a:rect l="textAreaLeft" t="textAreaTop" r="textAreaRight" b="textAreaBottom"/>
                  <a:pathLst>
                    <a:path w="2056" h="1062">
                      <a:moveTo>
                        <a:pt x="1030" y="1062"/>
                      </a:moveTo>
                      <a:lnTo>
                        <a:pt x="1003" y="1060"/>
                      </a:lnTo>
                      <a:lnTo>
                        <a:pt x="977" y="1060"/>
                      </a:lnTo>
                      <a:lnTo>
                        <a:pt x="948" y="1060"/>
                      </a:lnTo>
                      <a:lnTo>
                        <a:pt x="924" y="1058"/>
                      </a:lnTo>
                      <a:lnTo>
                        <a:pt x="897" y="1056"/>
                      </a:lnTo>
                      <a:lnTo>
                        <a:pt x="872" y="1054"/>
                      </a:lnTo>
                      <a:lnTo>
                        <a:pt x="846" y="1053"/>
                      </a:lnTo>
                      <a:lnTo>
                        <a:pt x="821" y="1051"/>
                      </a:lnTo>
                      <a:lnTo>
                        <a:pt x="796" y="1047"/>
                      </a:lnTo>
                      <a:lnTo>
                        <a:pt x="770" y="1043"/>
                      </a:lnTo>
                      <a:lnTo>
                        <a:pt x="747" y="1041"/>
                      </a:lnTo>
                      <a:lnTo>
                        <a:pt x="722" y="1037"/>
                      </a:lnTo>
                      <a:lnTo>
                        <a:pt x="697" y="1032"/>
                      </a:lnTo>
                      <a:lnTo>
                        <a:pt x="675" y="1028"/>
                      </a:lnTo>
                      <a:lnTo>
                        <a:pt x="650" y="1024"/>
                      </a:lnTo>
                      <a:lnTo>
                        <a:pt x="627" y="1018"/>
                      </a:lnTo>
                      <a:lnTo>
                        <a:pt x="604" y="1013"/>
                      </a:lnTo>
                      <a:lnTo>
                        <a:pt x="581" y="1007"/>
                      </a:lnTo>
                      <a:lnTo>
                        <a:pt x="559" y="1001"/>
                      </a:lnTo>
                      <a:lnTo>
                        <a:pt x="538" y="996"/>
                      </a:lnTo>
                      <a:lnTo>
                        <a:pt x="515" y="990"/>
                      </a:lnTo>
                      <a:lnTo>
                        <a:pt x="494" y="984"/>
                      </a:lnTo>
                      <a:lnTo>
                        <a:pt x="473" y="977"/>
                      </a:lnTo>
                      <a:lnTo>
                        <a:pt x="454" y="971"/>
                      </a:lnTo>
                      <a:lnTo>
                        <a:pt x="433" y="961"/>
                      </a:lnTo>
                      <a:lnTo>
                        <a:pt x="412" y="956"/>
                      </a:lnTo>
                      <a:lnTo>
                        <a:pt x="393" y="948"/>
                      </a:lnTo>
                      <a:lnTo>
                        <a:pt x="374" y="940"/>
                      </a:lnTo>
                      <a:lnTo>
                        <a:pt x="355" y="931"/>
                      </a:lnTo>
                      <a:lnTo>
                        <a:pt x="336" y="923"/>
                      </a:lnTo>
                      <a:lnTo>
                        <a:pt x="319" y="914"/>
                      </a:lnTo>
                      <a:lnTo>
                        <a:pt x="302" y="906"/>
                      </a:lnTo>
                      <a:lnTo>
                        <a:pt x="283" y="897"/>
                      </a:lnTo>
                      <a:lnTo>
                        <a:pt x="266" y="887"/>
                      </a:lnTo>
                      <a:lnTo>
                        <a:pt x="251" y="878"/>
                      </a:lnTo>
                      <a:lnTo>
                        <a:pt x="236" y="868"/>
                      </a:lnTo>
                      <a:lnTo>
                        <a:pt x="218" y="857"/>
                      </a:lnTo>
                      <a:lnTo>
                        <a:pt x="203" y="847"/>
                      </a:lnTo>
                      <a:lnTo>
                        <a:pt x="188" y="838"/>
                      </a:lnTo>
                      <a:lnTo>
                        <a:pt x="175" y="828"/>
                      </a:lnTo>
                      <a:lnTo>
                        <a:pt x="160" y="817"/>
                      </a:lnTo>
                      <a:lnTo>
                        <a:pt x="148" y="806"/>
                      </a:lnTo>
                      <a:lnTo>
                        <a:pt x="135" y="794"/>
                      </a:lnTo>
                      <a:lnTo>
                        <a:pt x="123" y="783"/>
                      </a:lnTo>
                      <a:lnTo>
                        <a:pt x="110" y="771"/>
                      </a:lnTo>
                      <a:lnTo>
                        <a:pt x="101" y="760"/>
                      </a:lnTo>
                      <a:lnTo>
                        <a:pt x="91" y="749"/>
                      </a:lnTo>
                      <a:lnTo>
                        <a:pt x="82" y="737"/>
                      </a:lnTo>
                      <a:lnTo>
                        <a:pt x="70" y="726"/>
                      </a:lnTo>
                      <a:lnTo>
                        <a:pt x="63" y="712"/>
                      </a:lnTo>
                      <a:lnTo>
                        <a:pt x="53" y="699"/>
                      </a:lnTo>
                      <a:lnTo>
                        <a:pt x="45" y="688"/>
                      </a:lnTo>
                      <a:lnTo>
                        <a:pt x="38" y="676"/>
                      </a:lnTo>
                      <a:lnTo>
                        <a:pt x="30" y="663"/>
                      </a:lnTo>
                      <a:lnTo>
                        <a:pt x="25" y="650"/>
                      </a:lnTo>
                      <a:lnTo>
                        <a:pt x="21" y="638"/>
                      </a:lnTo>
                      <a:lnTo>
                        <a:pt x="15" y="625"/>
                      </a:lnTo>
                      <a:lnTo>
                        <a:pt x="11" y="612"/>
                      </a:lnTo>
                      <a:lnTo>
                        <a:pt x="7" y="598"/>
                      </a:lnTo>
                      <a:lnTo>
                        <a:pt x="6" y="585"/>
                      </a:lnTo>
                      <a:lnTo>
                        <a:pt x="2" y="572"/>
                      </a:lnTo>
                      <a:lnTo>
                        <a:pt x="0" y="559"/>
                      </a:lnTo>
                      <a:lnTo>
                        <a:pt x="0" y="545"/>
                      </a:lnTo>
                      <a:lnTo>
                        <a:pt x="0" y="534"/>
                      </a:lnTo>
                      <a:lnTo>
                        <a:pt x="0" y="519"/>
                      </a:lnTo>
                      <a:lnTo>
                        <a:pt x="0" y="505"/>
                      </a:lnTo>
                      <a:lnTo>
                        <a:pt x="2" y="490"/>
                      </a:lnTo>
                      <a:lnTo>
                        <a:pt x="6" y="477"/>
                      </a:lnTo>
                      <a:lnTo>
                        <a:pt x="7" y="463"/>
                      </a:lnTo>
                      <a:lnTo>
                        <a:pt x="11" y="450"/>
                      </a:lnTo>
                      <a:lnTo>
                        <a:pt x="15" y="437"/>
                      </a:lnTo>
                      <a:lnTo>
                        <a:pt x="21" y="424"/>
                      </a:lnTo>
                      <a:lnTo>
                        <a:pt x="25" y="410"/>
                      </a:lnTo>
                      <a:lnTo>
                        <a:pt x="30" y="397"/>
                      </a:lnTo>
                      <a:lnTo>
                        <a:pt x="38" y="386"/>
                      </a:lnTo>
                      <a:lnTo>
                        <a:pt x="45" y="372"/>
                      </a:lnTo>
                      <a:lnTo>
                        <a:pt x="53" y="359"/>
                      </a:lnTo>
                      <a:lnTo>
                        <a:pt x="63" y="348"/>
                      </a:lnTo>
                      <a:lnTo>
                        <a:pt x="70" y="336"/>
                      </a:lnTo>
                      <a:lnTo>
                        <a:pt x="82" y="325"/>
                      </a:lnTo>
                      <a:lnTo>
                        <a:pt x="91" y="311"/>
                      </a:lnTo>
                      <a:lnTo>
                        <a:pt x="101" y="300"/>
                      </a:lnTo>
                      <a:lnTo>
                        <a:pt x="110" y="287"/>
                      </a:lnTo>
                      <a:lnTo>
                        <a:pt x="123" y="277"/>
                      </a:lnTo>
                      <a:lnTo>
                        <a:pt x="135" y="264"/>
                      </a:lnTo>
                      <a:lnTo>
                        <a:pt x="148" y="254"/>
                      </a:lnTo>
                      <a:lnTo>
                        <a:pt x="160" y="243"/>
                      </a:lnTo>
                      <a:lnTo>
                        <a:pt x="175" y="234"/>
                      </a:lnTo>
                      <a:lnTo>
                        <a:pt x="188" y="222"/>
                      </a:lnTo>
                      <a:lnTo>
                        <a:pt x="203" y="211"/>
                      </a:lnTo>
                      <a:lnTo>
                        <a:pt x="218" y="201"/>
                      </a:lnTo>
                      <a:lnTo>
                        <a:pt x="236" y="192"/>
                      </a:lnTo>
                      <a:lnTo>
                        <a:pt x="251" y="182"/>
                      </a:lnTo>
                      <a:lnTo>
                        <a:pt x="266" y="173"/>
                      </a:lnTo>
                      <a:lnTo>
                        <a:pt x="283" y="163"/>
                      </a:lnTo>
                      <a:lnTo>
                        <a:pt x="302" y="156"/>
                      </a:lnTo>
                      <a:lnTo>
                        <a:pt x="319" y="146"/>
                      </a:lnTo>
                      <a:lnTo>
                        <a:pt x="336" y="137"/>
                      </a:lnTo>
                      <a:lnTo>
                        <a:pt x="355" y="127"/>
                      </a:lnTo>
                      <a:lnTo>
                        <a:pt x="374" y="121"/>
                      </a:lnTo>
                      <a:lnTo>
                        <a:pt x="393" y="112"/>
                      </a:lnTo>
                      <a:lnTo>
                        <a:pt x="412" y="104"/>
                      </a:lnTo>
                      <a:lnTo>
                        <a:pt x="433" y="97"/>
                      </a:lnTo>
                      <a:lnTo>
                        <a:pt x="454" y="89"/>
                      </a:lnTo>
                      <a:lnTo>
                        <a:pt x="473" y="82"/>
                      </a:lnTo>
                      <a:lnTo>
                        <a:pt x="494" y="76"/>
                      </a:lnTo>
                      <a:lnTo>
                        <a:pt x="515" y="68"/>
                      </a:lnTo>
                      <a:lnTo>
                        <a:pt x="538" y="63"/>
                      </a:lnTo>
                      <a:lnTo>
                        <a:pt x="559" y="57"/>
                      </a:lnTo>
                      <a:lnTo>
                        <a:pt x="581" y="51"/>
                      </a:lnTo>
                      <a:lnTo>
                        <a:pt x="604" y="45"/>
                      </a:lnTo>
                      <a:lnTo>
                        <a:pt x="627" y="42"/>
                      </a:lnTo>
                      <a:lnTo>
                        <a:pt x="650" y="34"/>
                      </a:lnTo>
                      <a:lnTo>
                        <a:pt x="675" y="30"/>
                      </a:lnTo>
                      <a:lnTo>
                        <a:pt x="697" y="25"/>
                      </a:lnTo>
                      <a:lnTo>
                        <a:pt x="722" y="23"/>
                      </a:lnTo>
                      <a:lnTo>
                        <a:pt x="747" y="19"/>
                      </a:lnTo>
                      <a:lnTo>
                        <a:pt x="770" y="15"/>
                      </a:lnTo>
                      <a:lnTo>
                        <a:pt x="796" y="13"/>
                      </a:lnTo>
                      <a:lnTo>
                        <a:pt x="821" y="11"/>
                      </a:lnTo>
                      <a:lnTo>
                        <a:pt x="846" y="7"/>
                      </a:lnTo>
                      <a:lnTo>
                        <a:pt x="872" y="6"/>
                      </a:lnTo>
                      <a:lnTo>
                        <a:pt x="897" y="4"/>
                      </a:lnTo>
                      <a:lnTo>
                        <a:pt x="924" y="2"/>
                      </a:lnTo>
                      <a:lnTo>
                        <a:pt x="948" y="0"/>
                      </a:lnTo>
                      <a:lnTo>
                        <a:pt x="977" y="0"/>
                      </a:lnTo>
                      <a:lnTo>
                        <a:pt x="1003" y="0"/>
                      </a:lnTo>
                      <a:lnTo>
                        <a:pt x="1030" y="0"/>
                      </a:lnTo>
                      <a:lnTo>
                        <a:pt x="1057" y="0"/>
                      </a:lnTo>
                      <a:lnTo>
                        <a:pt x="1081" y="0"/>
                      </a:lnTo>
                      <a:lnTo>
                        <a:pt x="1108" y="0"/>
                      </a:lnTo>
                      <a:lnTo>
                        <a:pt x="1134" y="2"/>
                      </a:lnTo>
                      <a:lnTo>
                        <a:pt x="1161" y="4"/>
                      </a:lnTo>
                      <a:lnTo>
                        <a:pt x="1186" y="6"/>
                      </a:lnTo>
                      <a:lnTo>
                        <a:pt x="1210" y="7"/>
                      </a:lnTo>
                      <a:lnTo>
                        <a:pt x="1237" y="11"/>
                      </a:lnTo>
                      <a:lnTo>
                        <a:pt x="1260" y="13"/>
                      </a:lnTo>
                      <a:lnTo>
                        <a:pt x="1285" y="15"/>
                      </a:lnTo>
                      <a:lnTo>
                        <a:pt x="1309" y="19"/>
                      </a:lnTo>
                      <a:lnTo>
                        <a:pt x="1334" y="23"/>
                      </a:lnTo>
                      <a:lnTo>
                        <a:pt x="1357" y="25"/>
                      </a:lnTo>
                      <a:lnTo>
                        <a:pt x="1382" y="30"/>
                      </a:lnTo>
                      <a:lnTo>
                        <a:pt x="1404" y="34"/>
                      </a:lnTo>
                      <a:lnTo>
                        <a:pt x="1429" y="42"/>
                      </a:lnTo>
                      <a:lnTo>
                        <a:pt x="1452" y="45"/>
                      </a:lnTo>
                      <a:lnTo>
                        <a:pt x="1475" y="51"/>
                      </a:lnTo>
                      <a:lnTo>
                        <a:pt x="1496" y="57"/>
                      </a:lnTo>
                      <a:lnTo>
                        <a:pt x="1518" y="63"/>
                      </a:lnTo>
                      <a:lnTo>
                        <a:pt x="1539" y="68"/>
                      </a:lnTo>
                      <a:lnTo>
                        <a:pt x="1562" y="76"/>
                      </a:lnTo>
                      <a:lnTo>
                        <a:pt x="1583" y="82"/>
                      </a:lnTo>
                      <a:lnTo>
                        <a:pt x="1604" y="89"/>
                      </a:lnTo>
                      <a:lnTo>
                        <a:pt x="1623" y="97"/>
                      </a:lnTo>
                      <a:lnTo>
                        <a:pt x="1644" y="104"/>
                      </a:lnTo>
                      <a:lnTo>
                        <a:pt x="1663" y="112"/>
                      </a:lnTo>
                      <a:lnTo>
                        <a:pt x="1682" y="121"/>
                      </a:lnTo>
                      <a:lnTo>
                        <a:pt x="1701" y="127"/>
                      </a:lnTo>
                      <a:lnTo>
                        <a:pt x="1720" y="137"/>
                      </a:lnTo>
                      <a:lnTo>
                        <a:pt x="1737" y="146"/>
                      </a:lnTo>
                      <a:lnTo>
                        <a:pt x="1756" y="156"/>
                      </a:lnTo>
                      <a:lnTo>
                        <a:pt x="1771" y="163"/>
                      </a:lnTo>
                      <a:lnTo>
                        <a:pt x="1788" y="173"/>
                      </a:lnTo>
                      <a:lnTo>
                        <a:pt x="1805" y="182"/>
                      </a:lnTo>
                      <a:lnTo>
                        <a:pt x="1821" y="192"/>
                      </a:lnTo>
                      <a:lnTo>
                        <a:pt x="1836" y="201"/>
                      </a:lnTo>
                      <a:lnTo>
                        <a:pt x="1851" y="211"/>
                      </a:lnTo>
                      <a:lnTo>
                        <a:pt x="1866" y="222"/>
                      </a:lnTo>
                      <a:lnTo>
                        <a:pt x="1881" y="234"/>
                      </a:lnTo>
                      <a:lnTo>
                        <a:pt x="1893" y="243"/>
                      </a:lnTo>
                      <a:lnTo>
                        <a:pt x="1906" y="254"/>
                      </a:lnTo>
                      <a:lnTo>
                        <a:pt x="1919" y="264"/>
                      </a:lnTo>
                      <a:lnTo>
                        <a:pt x="1931" y="277"/>
                      </a:lnTo>
                      <a:lnTo>
                        <a:pt x="1942" y="287"/>
                      </a:lnTo>
                      <a:lnTo>
                        <a:pt x="1954" y="300"/>
                      </a:lnTo>
                      <a:lnTo>
                        <a:pt x="1963" y="311"/>
                      </a:lnTo>
                      <a:lnTo>
                        <a:pt x="1976" y="325"/>
                      </a:lnTo>
                      <a:lnTo>
                        <a:pt x="1984" y="336"/>
                      </a:lnTo>
                      <a:lnTo>
                        <a:pt x="1992" y="348"/>
                      </a:lnTo>
                      <a:lnTo>
                        <a:pt x="2001" y="359"/>
                      </a:lnTo>
                      <a:lnTo>
                        <a:pt x="2009" y="372"/>
                      </a:lnTo>
                      <a:lnTo>
                        <a:pt x="2016" y="386"/>
                      </a:lnTo>
                      <a:lnTo>
                        <a:pt x="2022" y="397"/>
                      </a:lnTo>
                      <a:lnTo>
                        <a:pt x="2028" y="410"/>
                      </a:lnTo>
                      <a:lnTo>
                        <a:pt x="2035" y="424"/>
                      </a:lnTo>
                      <a:lnTo>
                        <a:pt x="2039" y="437"/>
                      </a:lnTo>
                      <a:lnTo>
                        <a:pt x="2045" y="450"/>
                      </a:lnTo>
                      <a:lnTo>
                        <a:pt x="2047" y="463"/>
                      </a:lnTo>
                      <a:lnTo>
                        <a:pt x="2051" y="477"/>
                      </a:lnTo>
                      <a:lnTo>
                        <a:pt x="2052" y="490"/>
                      </a:lnTo>
                      <a:lnTo>
                        <a:pt x="2054" y="505"/>
                      </a:lnTo>
                      <a:lnTo>
                        <a:pt x="2056" y="519"/>
                      </a:lnTo>
                      <a:lnTo>
                        <a:pt x="2056" y="534"/>
                      </a:lnTo>
                      <a:lnTo>
                        <a:pt x="2056" y="545"/>
                      </a:lnTo>
                      <a:lnTo>
                        <a:pt x="2054" y="559"/>
                      </a:lnTo>
                      <a:lnTo>
                        <a:pt x="2052" y="572"/>
                      </a:lnTo>
                      <a:lnTo>
                        <a:pt x="2051" y="585"/>
                      </a:lnTo>
                      <a:lnTo>
                        <a:pt x="2047" y="598"/>
                      </a:lnTo>
                      <a:lnTo>
                        <a:pt x="2045" y="612"/>
                      </a:lnTo>
                      <a:lnTo>
                        <a:pt x="2039" y="625"/>
                      </a:lnTo>
                      <a:lnTo>
                        <a:pt x="2035" y="638"/>
                      </a:lnTo>
                      <a:lnTo>
                        <a:pt x="2028" y="650"/>
                      </a:lnTo>
                      <a:lnTo>
                        <a:pt x="2022" y="663"/>
                      </a:lnTo>
                      <a:lnTo>
                        <a:pt x="2016" y="676"/>
                      </a:lnTo>
                      <a:lnTo>
                        <a:pt x="2009" y="688"/>
                      </a:lnTo>
                      <a:lnTo>
                        <a:pt x="2001" y="699"/>
                      </a:lnTo>
                      <a:lnTo>
                        <a:pt x="1992" y="712"/>
                      </a:lnTo>
                      <a:lnTo>
                        <a:pt x="1984" y="726"/>
                      </a:lnTo>
                      <a:lnTo>
                        <a:pt x="1976" y="737"/>
                      </a:lnTo>
                      <a:lnTo>
                        <a:pt x="1963" y="749"/>
                      </a:lnTo>
                      <a:lnTo>
                        <a:pt x="1954" y="760"/>
                      </a:lnTo>
                      <a:lnTo>
                        <a:pt x="1942" y="771"/>
                      </a:lnTo>
                      <a:lnTo>
                        <a:pt x="1931" y="783"/>
                      </a:lnTo>
                      <a:lnTo>
                        <a:pt x="1919" y="794"/>
                      </a:lnTo>
                      <a:lnTo>
                        <a:pt x="1906" y="806"/>
                      </a:lnTo>
                      <a:lnTo>
                        <a:pt x="1893" y="817"/>
                      </a:lnTo>
                      <a:lnTo>
                        <a:pt x="1881" y="828"/>
                      </a:lnTo>
                      <a:lnTo>
                        <a:pt x="1866" y="838"/>
                      </a:lnTo>
                      <a:lnTo>
                        <a:pt x="1851" y="847"/>
                      </a:lnTo>
                      <a:lnTo>
                        <a:pt x="1836" y="857"/>
                      </a:lnTo>
                      <a:lnTo>
                        <a:pt x="1821" y="868"/>
                      </a:lnTo>
                      <a:lnTo>
                        <a:pt x="1805" y="878"/>
                      </a:lnTo>
                      <a:lnTo>
                        <a:pt x="1788" y="887"/>
                      </a:lnTo>
                      <a:lnTo>
                        <a:pt x="1771" y="897"/>
                      </a:lnTo>
                      <a:lnTo>
                        <a:pt x="1756" y="906"/>
                      </a:lnTo>
                      <a:lnTo>
                        <a:pt x="1737" y="914"/>
                      </a:lnTo>
                      <a:lnTo>
                        <a:pt x="1720" y="923"/>
                      </a:lnTo>
                      <a:lnTo>
                        <a:pt x="1701" y="931"/>
                      </a:lnTo>
                      <a:lnTo>
                        <a:pt x="1682" y="940"/>
                      </a:lnTo>
                      <a:lnTo>
                        <a:pt x="1663" y="948"/>
                      </a:lnTo>
                      <a:lnTo>
                        <a:pt x="1644" y="956"/>
                      </a:lnTo>
                      <a:lnTo>
                        <a:pt x="1623" y="961"/>
                      </a:lnTo>
                      <a:lnTo>
                        <a:pt x="1604" y="971"/>
                      </a:lnTo>
                      <a:lnTo>
                        <a:pt x="1583" y="977"/>
                      </a:lnTo>
                      <a:lnTo>
                        <a:pt x="1562" y="984"/>
                      </a:lnTo>
                      <a:lnTo>
                        <a:pt x="1539" y="990"/>
                      </a:lnTo>
                      <a:lnTo>
                        <a:pt x="1518" y="996"/>
                      </a:lnTo>
                      <a:lnTo>
                        <a:pt x="1496" y="1001"/>
                      </a:lnTo>
                      <a:lnTo>
                        <a:pt x="1475" y="1007"/>
                      </a:lnTo>
                      <a:lnTo>
                        <a:pt x="1452" y="1013"/>
                      </a:lnTo>
                      <a:lnTo>
                        <a:pt x="1429" y="1018"/>
                      </a:lnTo>
                      <a:lnTo>
                        <a:pt x="1404" y="1024"/>
                      </a:lnTo>
                      <a:lnTo>
                        <a:pt x="1382" y="1028"/>
                      </a:lnTo>
                      <a:lnTo>
                        <a:pt x="1357" y="1032"/>
                      </a:lnTo>
                      <a:lnTo>
                        <a:pt x="1334" y="1037"/>
                      </a:lnTo>
                      <a:lnTo>
                        <a:pt x="1309" y="1041"/>
                      </a:lnTo>
                      <a:lnTo>
                        <a:pt x="1285" y="1043"/>
                      </a:lnTo>
                      <a:lnTo>
                        <a:pt x="1260" y="1047"/>
                      </a:lnTo>
                      <a:lnTo>
                        <a:pt x="1237" y="1051"/>
                      </a:lnTo>
                      <a:lnTo>
                        <a:pt x="1210" y="1053"/>
                      </a:lnTo>
                      <a:lnTo>
                        <a:pt x="1186" y="1054"/>
                      </a:lnTo>
                      <a:lnTo>
                        <a:pt x="1161" y="1056"/>
                      </a:lnTo>
                      <a:lnTo>
                        <a:pt x="1134" y="1058"/>
                      </a:lnTo>
                      <a:lnTo>
                        <a:pt x="1108" y="1060"/>
                      </a:lnTo>
                      <a:lnTo>
                        <a:pt x="1081" y="1060"/>
                      </a:lnTo>
                      <a:lnTo>
                        <a:pt x="1057" y="1060"/>
                      </a:lnTo>
                      <a:lnTo>
                        <a:pt x="1030" y="1062"/>
                      </a:lnTo>
                      <a:close/>
                    </a:path>
                  </a:pathLst>
                </a:custGeom>
                <a:solidFill>
                  <a:srgbClr val="f79e9e"/>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3" name="Freeform 22"/>
                <p:cNvSpPr/>
                <p:nvPr/>
              </p:nvSpPr>
              <p:spPr>
                <a:xfrm rot="622800">
                  <a:off x="3818880" y="2776680"/>
                  <a:ext cx="213480" cy="55080"/>
                </a:xfrm>
                <a:custGeom>
                  <a:avLst/>
                  <a:gdLst>
                    <a:gd name="textAreaLeft" fmla="*/ 0 w 213480"/>
                    <a:gd name="textAreaRight" fmla="*/ 213840 w 213480"/>
                    <a:gd name="textAreaTop" fmla="*/ 0 h 55080"/>
                    <a:gd name="textAreaBottom" fmla="*/ 55440 h 55080"/>
                  </a:gdLst>
                  <a:ahLst/>
                  <a:rect l="textAreaLeft" t="textAreaTop" r="textAreaRight" b="textAreaBottom"/>
                  <a:pathLst>
                    <a:path w="542" h="137">
                      <a:moveTo>
                        <a:pt x="272" y="137"/>
                      </a:moveTo>
                      <a:lnTo>
                        <a:pt x="264" y="137"/>
                      </a:lnTo>
                      <a:lnTo>
                        <a:pt x="257" y="137"/>
                      </a:lnTo>
                      <a:lnTo>
                        <a:pt x="251" y="137"/>
                      </a:lnTo>
                      <a:lnTo>
                        <a:pt x="243" y="137"/>
                      </a:lnTo>
                      <a:lnTo>
                        <a:pt x="236" y="135"/>
                      </a:lnTo>
                      <a:lnTo>
                        <a:pt x="228" y="135"/>
                      </a:lnTo>
                      <a:lnTo>
                        <a:pt x="223" y="135"/>
                      </a:lnTo>
                      <a:lnTo>
                        <a:pt x="217" y="135"/>
                      </a:lnTo>
                      <a:lnTo>
                        <a:pt x="209" y="135"/>
                      </a:lnTo>
                      <a:lnTo>
                        <a:pt x="204" y="135"/>
                      </a:lnTo>
                      <a:lnTo>
                        <a:pt x="196" y="133"/>
                      </a:lnTo>
                      <a:lnTo>
                        <a:pt x="190" y="133"/>
                      </a:lnTo>
                      <a:lnTo>
                        <a:pt x="185" y="133"/>
                      </a:lnTo>
                      <a:lnTo>
                        <a:pt x="177" y="133"/>
                      </a:lnTo>
                      <a:lnTo>
                        <a:pt x="171" y="131"/>
                      </a:lnTo>
                      <a:lnTo>
                        <a:pt x="166" y="131"/>
                      </a:lnTo>
                      <a:lnTo>
                        <a:pt x="160" y="130"/>
                      </a:lnTo>
                      <a:lnTo>
                        <a:pt x="152" y="130"/>
                      </a:lnTo>
                      <a:lnTo>
                        <a:pt x="147" y="128"/>
                      </a:lnTo>
                      <a:lnTo>
                        <a:pt x="141" y="128"/>
                      </a:lnTo>
                      <a:lnTo>
                        <a:pt x="129" y="126"/>
                      </a:lnTo>
                      <a:lnTo>
                        <a:pt x="120" y="126"/>
                      </a:lnTo>
                      <a:lnTo>
                        <a:pt x="109" y="122"/>
                      </a:lnTo>
                      <a:lnTo>
                        <a:pt x="97" y="120"/>
                      </a:lnTo>
                      <a:lnTo>
                        <a:pt x="88" y="118"/>
                      </a:lnTo>
                      <a:lnTo>
                        <a:pt x="80" y="116"/>
                      </a:lnTo>
                      <a:lnTo>
                        <a:pt x="70" y="114"/>
                      </a:lnTo>
                      <a:lnTo>
                        <a:pt x="61" y="111"/>
                      </a:lnTo>
                      <a:lnTo>
                        <a:pt x="53" y="109"/>
                      </a:lnTo>
                      <a:lnTo>
                        <a:pt x="46" y="107"/>
                      </a:lnTo>
                      <a:lnTo>
                        <a:pt x="38" y="103"/>
                      </a:lnTo>
                      <a:lnTo>
                        <a:pt x="31" y="99"/>
                      </a:lnTo>
                      <a:lnTo>
                        <a:pt x="25" y="97"/>
                      </a:lnTo>
                      <a:lnTo>
                        <a:pt x="21" y="95"/>
                      </a:lnTo>
                      <a:lnTo>
                        <a:pt x="12" y="88"/>
                      </a:lnTo>
                      <a:lnTo>
                        <a:pt x="6" y="82"/>
                      </a:lnTo>
                      <a:lnTo>
                        <a:pt x="2" y="76"/>
                      </a:lnTo>
                      <a:lnTo>
                        <a:pt x="0" y="69"/>
                      </a:lnTo>
                      <a:lnTo>
                        <a:pt x="2" y="61"/>
                      </a:lnTo>
                      <a:lnTo>
                        <a:pt x="6" y="53"/>
                      </a:lnTo>
                      <a:lnTo>
                        <a:pt x="12" y="48"/>
                      </a:lnTo>
                      <a:lnTo>
                        <a:pt x="21" y="42"/>
                      </a:lnTo>
                      <a:lnTo>
                        <a:pt x="25" y="38"/>
                      </a:lnTo>
                      <a:lnTo>
                        <a:pt x="31" y="34"/>
                      </a:lnTo>
                      <a:lnTo>
                        <a:pt x="38" y="33"/>
                      </a:lnTo>
                      <a:lnTo>
                        <a:pt x="46" y="31"/>
                      </a:lnTo>
                      <a:lnTo>
                        <a:pt x="53" y="27"/>
                      </a:lnTo>
                      <a:lnTo>
                        <a:pt x="61" y="25"/>
                      </a:lnTo>
                      <a:lnTo>
                        <a:pt x="70" y="23"/>
                      </a:lnTo>
                      <a:lnTo>
                        <a:pt x="80" y="21"/>
                      </a:lnTo>
                      <a:lnTo>
                        <a:pt x="88" y="17"/>
                      </a:lnTo>
                      <a:lnTo>
                        <a:pt x="97" y="15"/>
                      </a:lnTo>
                      <a:lnTo>
                        <a:pt x="109" y="14"/>
                      </a:lnTo>
                      <a:lnTo>
                        <a:pt x="120" y="12"/>
                      </a:lnTo>
                      <a:lnTo>
                        <a:pt x="129" y="8"/>
                      </a:lnTo>
                      <a:lnTo>
                        <a:pt x="141" y="8"/>
                      </a:lnTo>
                      <a:lnTo>
                        <a:pt x="147" y="6"/>
                      </a:lnTo>
                      <a:lnTo>
                        <a:pt x="152" y="6"/>
                      </a:lnTo>
                      <a:lnTo>
                        <a:pt x="160" y="6"/>
                      </a:lnTo>
                      <a:lnTo>
                        <a:pt x="166" y="6"/>
                      </a:lnTo>
                      <a:lnTo>
                        <a:pt x="171" y="4"/>
                      </a:lnTo>
                      <a:lnTo>
                        <a:pt x="177" y="4"/>
                      </a:lnTo>
                      <a:lnTo>
                        <a:pt x="185" y="2"/>
                      </a:lnTo>
                      <a:lnTo>
                        <a:pt x="190" y="2"/>
                      </a:lnTo>
                      <a:lnTo>
                        <a:pt x="196" y="2"/>
                      </a:lnTo>
                      <a:lnTo>
                        <a:pt x="204" y="2"/>
                      </a:lnTo>
                      <a:lnTo>
                        <a:pt x="209" y="2"/>
                      </a:lnTo>
                      <a:lnTo>
                        <a:pt x="217" y="2"/>
                      </a:lnTo>
                      <a:lnTo>
                        <a:pt x="223" y="0"/>
                      </a:lnTo>
                      <a:lnTo>
                        <a:pt x="228" y="0"/>
                      </a:lnTo>
                      <a:lnTo>
                        <a:pt x="236" y="0"/>
                      </a:lnTo>
                      <a:lnTo>
                        <a:pt x="243" y="0"/>
                      </a:lnTo>
                      <a:lnTo>
                        <a:pt x="251" y="0"/>
                      </a:lnTo>
                      <a:lnTo>
                        <a:pt x="257" y="0"/>
                      </a:lnTo>
                      <a:lnTo>
                        <a:pt x="264" y="0"/>
                      </a:lnTo>
                      <a:lnTo>
                        <a:pt x="272" y="0"/>
                      </a:lnTo>
                      <a:lnTo>
                        <a:pt x="280" y="0"/>
                      </a:lnTo>
                      <a:lnTo>
                        <a:pt x="285" y="0"/>
                      </a:lnTo>
                      <a:lnTo>
                        <a:pt x="291" y="0"/>
                      </a:lnTo>
                      <a:lnTo>
                        <a:pt x="299" y="0"/>
                      </a:lnTo>
                      <a:lnTo>
                        <a:pt x="304" y="0"/>
                      </a:lnTo>
                      <a:lnTo>
                        <a:pt x="312" y="0"/>
                      </a:lnTo>
                      <a:lnTo>
                        <a:pt x="319" y="0"/>
                      </a:lnTo>
                      <a:lnTo>
                        <a:pt x="327" y="2"/>
                      </a:lnTo>
                      <a:lnTo>
                        <a:pt x="333" y="2"/>
                      </a:lnTo>
                      <a:lnTo>
                        <a:pt x="338" y="2"/>
                      </a:lnTo>
                      <a:lnTo>
                        <a:pt x="346" y="2"/>
                      </a:lnTo>
                      <a:lnTo>
                        <a:pt x="352" y="2"/>
                      </a:lnTo>
                      <a:lnTo>
                        <a:pt x="357" y="2"/>
                      </a:lnTo>
                      <a:lnTo>
                        <a:pt x="365" y="4"/>
                      </a:lnTo>
                      <a:lnTo>
                        <a:pt x="371" y="4"/>
                      </a:lnTo>
                      <a:lnTo>
                        <a:pt x="376" y="6"/>
                      </a:lnTo>
                      <a:lnTo>
                        <a:pt x="388" y="6"/>
                      </a:lnTo>
                      <a:lnTo>
                        <a:pt x="399" y="8"/>
                      </a:lnTo>
                      <a:lnTo>
                        <a:pt x="405" y="8"/>
                      </a:lnTo>
                      <a:lnTo>
                        <a:pt x="411" y="8"/>
                      </a:lnTo>
                      <a:lnTo>
                        <a:pt x="416" y="10"/>
                      </a:lnTo>
                      <a:lnTo>
                        <a:pt x="422" y="12"/>
                      </a:lnTo>
                      <a:lnTo>
                        <a:pt x="432" y="14"/>
                      </a:lnTo>
                      <a:lnTo>
                        <a:pt x="443" y="15"/>
                      </a:lnTo>
                      <a:lnTo>
                        <a:pt x="452" y="17"/>
                      </a:lnTo>
                      <a:lnTo>
                        <a:pt x="462" y="21"/>
                      </a:lnTo>
                      <a:lnTo>
                        <a:pt x="471" y="23"/>
                      </a:lnTo>
                      <a:lnTo>
                        <a:pt x="479" y="25"/>
                      </a:lnTo>
                      <a:lnTo>
                        <a:pt x="487" y="27"/>
                      </a:lnTo>
                      <a:lnTo>
                        <a:pt x="494" y="31"/>
                      </a:lnTo>
                      <a:lnTo>
                        <a:pt x="502" y="33"/>
                      </a:lnTo>
                      <a:lnTo>
                        <a:pt x="508" y="34"/>
                      </a:lnTo>
                      <a:lnTo>
                        <a:pt x="513" y="38"/>
                      </a:lnTo>
                      <a:lnTo>
                        <a:pt x="521" y="42"/>
                      </a:lnTo>
                      <a:lnTo>
                        <a:pt x="529" y="48"/>
                      </a:lnTo>
                      <a:lnTo>
                        <a:pt x="536" y="53"/>
                      </a:lnTo>
                      <a:lnTo>
                        <a:pt x="540" y="61"/>
                      </a:lnTo>
                      <a:lnTo>
                        <a:pt x="542" y="69"/>
                      </a:lnTo>
                      <a:lnTo>
                        <a:pt x="540" y="76"/>
                      </a:lnTo>
                      <a:lnTo>
                        <a:pt x="536" y="82"/>
                      </a:lnTo>
                      <a:lnTo>
                        <a:pt x="529" y="88"/>
                      </a:lnTo>
                      <a:lnTo>
                        <a:pt x="521" y="95"/>
                      </a:lnTo>
                      <a:lnTo>
                        <a:pt x="513" y="97"/>
                      </a:lnTo>
                      <a:lnTo>
                        <a:pt x="508" y="99"/>
                      </a:lnTo>
                      <a:lnTo>
                        <a:pt x="502" y="103"/>
                      </a:lnTo>
                      <a:lnTo>
                        <a:pt x="494" y="107"/>
                      </a:lnTo>
                      <a:lnTo>
                        <a:pt x="487" y="109"/>
                      </a:lnTo>
                      <a:lnTo>
                        <a:pt x="479" y="111"/>
                      </a:lnTo>
                      <a:lnTo>
                        <a:pt x="471" y="114"/>
                      </a:lnTo>
                      <a:lnTo>
                        <a:pt x="462" y="116"/>
                      </a:lnTo>
                      <a:lnTo>
                        <a:pt x="452" y="118"/>
                      </a:lnTo>
                      <a:lnTo>
                        <a:pt x="443" y="120"/>
                      </a:lnTo>
                      <a:lnTo>
                        <a:pt x="432" y="122"/>
                      </a:lnTo>
                      <a:lnTo>
                        <a:pt x="422" y="126"/>
                      </a:lnTo>
                      <a:lnTo>
                        <a:pt x="416" y="126"/>
                      </a:lnTo>
                      <a:lnTo>
                        <a:pt x="411" y="126"/>
                      </a:lnTo>
                      <a:lnTo>
                        <a:pt x="405" y="128"/>
                      </a:lnTo>
                      <a:lnTo>
                        <a:pt x="399" y="128"/>
                      </a:lnTo>
                      <a:lnTo>
                        <a:pt x="388" y="130"/>
                      </a:lnTo>
                      <a:lnTo>
                        <a:pt x="376" y="131"/>
                      </a:lnTo>
                      <a:lnTo>
                        <a:pt x="371" y="131"/>
                      </a:lnTo>
                      <a:lnTo>
                        <a:pt x="365" y="133"/>
                      </a:lnTo>
                      <a:lnTo>
                        <a:pt x="357" y="133"/>
                      </a:lnTo>
                      <a:lnTo>
                        <a:pt x="352" y="133"/>
                      </a:lnTo>
                      <a:lnTo>
                        <a:pt x="346" y="133"/>
                      </a:lnTo>
                      <a:lnTo>
                        <a:pt x="338" y="135"/>
                      </a:lnTo>
                      <a:lnTo>
                        <a:pt x="333" y="135"/>
                      </a:lnTo>
                      <a:lnTo>
                        <a:pt x="327" y="135"/>
                      </a:lnTo>
                      <a:lnTo>
                        <a:pt x="319" y="135"/>
                      </a:lnTo>
                      <a:lnTo>
                        <a:pt x="312" y="135"/>
                      </a:lnTo>
                      <a:lnTo>
                        <a:pt x="304" y="135"/>
                      </a:lnTo>
                      <a:lnTo>
                        <a:pt x="299" y="137"/>
                      </a:lnTo>
                      <a:lnTo>
                        <a:pt x="291" y="137"/>
                      </a:lnTo>
                      <a:lnTo>
                        <a:pt x="285" y="137"/>
                      </a:lnTo>
                      <a:lnTo>
                        <a:pt x="280" y="137"/>
                      </a:lnTo>
                      <a:lnTo>
                        <a:pt x="272" y="137"/>
                      </a:lnTo>
                      <a:close/>
                    </a:path>
                  </a:pathLst>
                </a:custGeom>
                <a:solidFill>
                  <a:srgbClr val="f2cc99"/>
                </a:solidFill>
                <a:ln w="0">
                  <a:noFill/>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sp>
              <p:nvSpPr>
                <p:cNvPr id="194" name="Freeform 23"/>
                <p:cNvSpPr/>
                <p:nvPr/>
              </p:nvSpPr>
              <p:spPr>
                <a:xfrm rot="622800">
                  <a:off x="3543120" y="2614320"/>
                  <a:ext cx="751320" cy="401760"/>
                </a:xfrm>
                <a:custGeom>
                  <a:avLst/>
                  <a:gdLst>
                    <a:gd name="textAreaLeft" fmla="*/ 0 w 751320"/>
                    <a:gd name="textAreaRight" fmla="*/ 751680 w 751320"/>
                    <a:gd name="textAreaTop" fmla="*/ 0 h 401760"/>
                    <a:gd name="textAreaBottom" fmla="*/ 402120 h 401760"/>
                  </a:gdLst>
                  <a:ahLst/>
                  <a:rect l="textAreaLeft" t="textAreaTop" r="textAreaRight" b="textAreaBottom"/>
                  <a:pathLst>
                    <a:path w="1901" h="992">
                      <a:moveTo>
                        <a:pt x="1106" y="21"/>
                      </a:moveTo>
                      <a:lnTo>
                        <a:pt x="1110" y="21"/>
                      </a:lnTo>
                      <a:lnTo>
                        <a:pt x="1116" y="21"/>
                      </a:lnTo>
                      <a:lnTo>
                        <a:pt x="1124" y="23"/>
                      </a:lnTo>
                      <a:lnTo>
                        <a:pt x="1131" y="23"/>
                      </a:lnTo>
                      <a:lnTo>
                        <a:pt x="1143" y="25"/>
                      </a:lnTo>
                      <a:lnTo>
                        <a:pt x="1146" y="27"/>
                      </a:lnTo>
                      <a:lnTo>
                        <a:pt x="1154" y="27"/>
                      </a:lnTo>
                      <a:lnTo>
                        <a:pt x="1162" y="29"/>
                      </a:lnTo>
                      <a:lnTo>
                        <a:pt x="1167" y="31"/>
                      </a:lnTo>
                      <a:lnTo>
                        <a:pt x="1175" y="31"/>
                      </a:lnTo>
                      <a:lnTo>
                        <a:pt x="1183" y="32"/>
                      </a:lnTo>
                      <a:lnTo>
                        <a:pt x="1190" y="34"/>
                      </a:lnTo>
                      <a:lnTo>
                        <a:pt x="1200" y="36"/>
                      </a:lnTo>
                      <a:lnTo>
                        <a:pt x="1205" y="36"/>
                      </a:lnTo>
                      <a:lnTo>
                        <a:pt x="1215" y="38"/>
                      </a:lnTo>
                      <a:lnTo>
                        <a:pt x="1224" y="40"/>
                      </a:lnTo>
                      <a:lnTo>
                        <a:pt x="1234" y="44"/>
                      </a:lnTo>
                      <a:lnTo>
                        <a:pt x="1243" y="44"/>
                      </a:lnTo>
                      <a:lnTo>
                        <a:pt x="1253" y="46"/>
                      </a:lnTo>
                      <a:lnTo>
                        <a:pt x="1262" y="48"/>
                      </a:lnTo>
                      <a:lnTo>
                        <a:pt x="1274" y="50"/>
                      </a:lnTo>
                      <a:lnTo>
                        <a:pt x="1283" y="53"/>
                      </a:lnTo>
                      <a:lnTo>
                        <a:pt x="1295" y="55"/>
                      </a:lnTo>
                      <a:lnTo>
                        <a:pt x="1304" y="57"/>
                      </a:lnTo>
                      <a:lnTo>
                        <a:pt x="1316" y="61"/>
                      </a:lnTo>
                      <a:lnTo>
                        <a:pt x="1325" y="61"/>
                      </a:lnTo>
                      <a:lnTo>
                        <a:pt x="1336" y="63"/>
                      </a:lnTo>
                      <a:lnTo>
                        <a:pt x="1348" y="65"/>
                      </a:lnTo>
                      <a:lnTo>
                        <a:pt x="1359" y="69"/>
                      </a:lnTo>
                      <a:lnTo>
                        <a:pt x="1371" y="70"/>
                      </a:lnTo>
                      <a:lnTo>
                        <a:pt x="1382" y="72"/>
                      </a:lnTo>
                      <a:lnTo>
                        <a:pt x="1392" y="76"/>
                      </a:lnTo>
                      <a:lnTo>
                        <a:pt x="1403" y="80"/>
                      </a:lnTo>
                      <a:lnTo>
                        <a:pt x="1414" y="82"/>
                      </a:lnTo>
                      <a:lnTo>
                        <a:pt x="1424" y="84"/>
                      </a:lnTo>
                      <a:lnTo>
                        <a:pt x="1435" y="86"/>
                      </a:lnTo>
                      <a:lnTo>
                        <a:pt x="1447" y="89"/>
                      </a:lnTo>
                      <a:lnTo>
                        <a:pt x="1458" y="91"/>
                      </a:lnTo>
                      <a:lnTo>
                        <a:pt x="1469" y="95"/>
                      </a:lnTo>
                      <a:lnTo>
                        <a:pt x="1479" y="99"/>
                      </a:lnTo>
                      <a:lnTo>
                        <a:pt x="1490" y="101"/>
                      </a:lnTo>
                      <a:lnTo>
                        <a:pt x="1502" y="103"/>
                      </a:lnTo>
                      <a:lnTo>
                        <a:pt x="1511" y="107"/>
                      </a:lnTo>
                      <a:lnTo>
                        <a:pt x="1523" y="110"/>
                      </a:lnTo>
                      <a:lnTo>
                        <a:pt x="1532" y="112"/>
                      </a:lnTo>
                      <a:lnTo>
                        <a:pt x="1542" y="116"/>
                      </a:lnTo>
                      <a:lnTo>
                        <a:pt x="1551" y="120"/>
                      </a:lnTo>
                      <a:lnTo>
                        <a:pt x="1561" y="122"/>
                      </a:lnTo>
                      <a:lnTo>
                        <a:pt x="1572" y="126"/>
                      </a:lnTo>
                      <a:lnTo>
                        <a:pt x="1580" y="129"/>
                      </a:lnTo>
                      <a:lnTo>
                        <a:pt x="1589" y="131"/>
                      </a:lnTo>
                      <a:lnTo>
                        <a:pt x="1599" y="135"/>
                      </a:lnTo>
                      <a:lnTo>
                        <a:pt x="1608" y="139"/>
                      </a:lnTo>
                      <a:lnTo>
                        <a:pt x="1616" y="141"/>
                      </a:lnTo>
                      <a:lnTo>
                        <a:pt x="1623" y="145"/>
                      </a:lnTo>
                      <a:lnTo>
                        <a:pt x="1631" y="148"/>
                      </a:lnTo>
                      <a:lnTo>
                        <a:pt x="1639" y="152"/>
                      </a:lnTo>
                      <a:lnTo>
                        <a:pt x="1646" y="154"/>
                      </a:lnTo>
                      <a:lnTo>
                        <a:pt x="1652" y="158"/>
                      </a:lnTo>
                      <a:lnTo>
                        <a:pt x="1658" y="160"/>
                      </a:lnTo>
                      <a:lnTo>
                        <a:pt x="1665" y="164"/>
                      </a:lnTo>
                      <a:lnTo>
                        <a:pt x="1673" y="167"/>
                      </a:lnTo>
                      <a:lnTo>
                        <a:pt x="1679" y="169"/>
                      </a:lnTo>
                      <a:lnTo>
                        <a:pt x="1684" y="173"/>
                      </a:lnTo>
                      <a:lnTo>
                        <a:pt x="1692" y="177"/>
                      </a:lnTo>
                      <a:lnTo>
                        <a:pt x="1698" y="179"/>
                      </a:lnTo>
                      <a:lnTo>
                        <a:pt x="1703" y="183"/>
                      </a:lnTo>
                      <a:lnTo>
                        <a:pt x="1709" y="186"/>
                      </a:lnTo>
                      <a:lnTo>
                        <a:pt x="1715" y="190"/>
                      </a:lnTo>
                      <a:lnTo>
                        <a:pt x="1726" y="196"/>
                      </a:lnTo>
                      <a:lnTo>
                        <a:pt x="1737" y="203"/>
                      </a:lnTo>
                      <a:lnTo>
                        <a:pt x="1747" y="211"/>
                      </a:lnTo>
                      <a:lnTo>
                        <a:pt x="1756" y="217"/>
                      </a:lnTo>
                      <a:lnTo>
                        <a:pt x="1766" y="224"/>
                      </a:lnTo>
                      <a:lnTo>
                        <a:pt x="1775" y="232"/>
                      </a:lnTo>
                      <a:lnTo>
                        <a:pt x="1783" y="238"/>
                      </a:lnTo>
                      <a:lnTo>
                        <a:pt x="1793" y="245"/>
                      </a:lnTo>
                      <a:lnTo>
                        <a:pt x="1800" y="253"/>
                      </a:lnTo>
                      <a:lnTo>
                        <a:pt x="1808" y="260"/>
                      </a:lnTo>
                      <a:lnTo>
                        <a:pt x="1815" y="268"/>
                      </a:lnTo>
                      <a:lnTo>
                        <a:pt x="1821" y="276"/>
                      </a:lnTo>
                      <a:lnTo>
                        <a:pt x="1827" y="281"/>
                      </a:lnTo>
                      <a:lnTo>
                        <a:pt x="1832" y="291"/>
                      </a:lnTo>
                      <a:lnTo>
                        <a:pt x="1836" y="298"/>
                      </a:lnTo>
                      <a:lnTo>
                        <a:pt x="1842" y="306"/>
                      </a:lnTo>
                      <a:lnTo>
                        <a:pt x="1846" y="314"/>
                      </a:lnTo>
                      <a:lnTo>
                        <a:pt x="1851" y="321"/>
                      </a:lnTo>
                      <a:lnTo>
                        <a:pt x="1855" y="329"/>
                      </a:lnTo>
                      <a:lnTo>
                        <a:pt x="1857" y="338"/>
                      </a:lnTo>
                      <a:lnTo>
                        <a:pt x="1859" y="346"/>
                      </a:lnTo>
                      <a:lnTo>
                        <a:pt x="1863" y="354"/>
                      </a:lnTo>
                      <a:lnTo>
                        <a:pt x="1865" y="361"/>
                      </a:lnTo>
                      <a:lnTo>
                        <a:pt x="1867" y="371"/>
                      </a:lnTo>
                      <a:lnTo>
                        <a:pt x="1867" y="376"/>
                      </a:lnTo>
                      <a:lnTo>
                        <a:pt x="1869" y="386"/>
                      </a:lnTo>
                      <a:lnTo>
                        <a:pt x="1869" y="393"/>
                      </a:lnTo>
                      <a:lnTo>
                        <a:pt x="1869" y="403"/>
                      </a:lnTo>
                      <a:lnTo>
                        <a:pt x="1869" y="409"/>
                      </a:lnTo>
                      <a:lnTo>
                        <a:pt x="1870" y="412"/>
                      </a:lnTo>
                      <a:lnTo>
                        <a:pt x="1872" y="420"/>
                      </a:lnTo>
                      <a:lnTo>
                        <a:pt x="1872" y="426"/>
                      </a:lnTo>
                      <a:lnTo>
                        <a:pt x="1872" y="431"/>
                      </a:lnTo>
                      <a:lnTo>
                        <a:pt x="1874" y="437"/>
                      </a:lnTo>
                      <a:lnTo>
                        <a:pt x="1874" y="443"/>
                      </a:lnTo>
                      <a:lnTo>
                        <a:pt x="1876" y="450"/>
                      </a:lnTo>
                      <a:lnTo>
                        <a:pt x="1876" y="458"/>
                      </a:lnTo>
                      <a:lnTo>
                        <a:pt x="1876" y="466"/>
                      </a:lnTo>
                      <a:lnTo>
                        <a:pt x="1878" y="473"/>
                      </a:lnTo>
                      <a:lnTo>
                        <a:pt x="1878" y="481"/>
                      </a:lnTo>
                      <a:lnTo>
                        <a:pt x="1878" y="487"/>
                      </a:lnTo>
                      <a:lnTo>
                        <a:pt x="1880" y="496"/>
                      </a:lnTo>
                      <a:lnTo>
                        <a:pt x="1882" y="504"/>
                      </a:lnTo>
                      <a:lnTo>
                        <a:pt x="1882" y="511"/>
                      </a:lnTo>
                      <a:lnTo>
                        <a:pt x="1882" y="519"/>
                      </a:lnTo>
                      <a:lnTo>
                        <a:pt x="1884" y="527"/>
                      </a:lnTo>
                      <a:lnTo>
                        <a:pt x="1884" y="534"/>
                      </a:lnTo>
                      <a:lnTo>
                        <a:pt x="1886" y="544"/>
                      </a:lnTo>
                      <a:lnTo>
                        <a:pt x="1886" y="551"/>
                      </a:lnTo>
                      <a:lnTo>
                        <a:pt x="1886" y="561"/>
                      </a:lnTo>
                      <a:lnTo>
                        <a:pt x="1888" y="568"/>
                      </a:lnTo>
                      <a:lnTo>
                        <a:pt x="1888" y="578"/>
                      </a:lnTo>
                      <a:lnTo>
                        <a:pt x="1888" y="585"/>
                      </a:lnTo>
                      <a:lnTo>
                        <a:pt x="1891" y="593"/>
                      </a:lnTo>
                      <a:lnTo>
                        <a:pt x="1891" y="603"/>
                      </a:lnTo>
                      <a:lnTo>
                        <a:pt x="1893" y="612"/>
                      </a:lnTo>
                      <a:lnTo>
                        <a:pt x="1893" y="620"/>
                      </a:lnTo>
                      <a:lnTo>
                        <a:pt x="1893" y="627"/>
                      </a:lnTo>
                      <a:lnTo>
                        <a:pt x="1893" y="637"/>
                      </a:lnTo>
                      <a:lnTo>
                        <a:pt x="1895" y="644"/>
                      </a:lnTo>
                      <a:lnTo>
                        <a:pt x="1895" y="652"/>
                      </a:lnTo>
                      <a:lnTo>
                        <a:pt x="1895" y="661"/>
                      </a:lnTo>
                      <a:lnTo>
                        <a:pt x="1897" y="669"/>
                      </a:lnTo>
                      <a:lnTo>
                        <a:pt x="1897" y="679"/>
                      </a:lnTo>
                      <a:lnTo>
                        <a:pt x="1897" y="686"/>
                      </a:lnTo>
                      <a:lnTo>
                        <a:pt x="1897" y="694"/>
                      </a:lnTo>
                      <a:lnTo>
                        <a:pt x="1897" y="701"/>
                      </a:lnTo>
                      <a:lnTo>
                        <a:pt x="1899" y="709"/>
                      </a:lnTo>
                      <a:lnTo>
                        <a:pt x="1899" y="715"/>
                      </a:lnTo>
                      <a:lnTo>
                        <a:pt x="1901" y="724"/>
                      </a:lnTo>
                      <a:lnTo>
                        <a:pt x="1901" y="730"/>
                      </a:lnTo>
                      <a:lnTo>
                        <a:pt x="1901" y="739"/>
                      </a:lnTo>
                      <a:lnTo>
                        <a:pt x="1901" y="745"/>
                      </a:lnTo>
                      <a:lnTo>
                        <a:pt x="1901" y="751"/>
                      </a:lnTo>
                      <a:lnTo>
                        <a:pt x="1901" y="758"/>
                      </a:lnTo>
                      <a:lnTo>
                        <a:pt x="1901" y="764"/>
                      </a:lnTo>
                      <a:lnTo>
                        <a:pt x="1901" y="770"/>
                      </a:lnTo>
                      <a:lnTo>
                        <a:pt x="1901" y="775"/>
                      </a:lnTo>
                      <a:lnTo>
                        <a:pt x="1901" y="781"/>
                      </a:lnTo>
                      <a:lnTo>
                        <a:pt x="1901" y="787"/>
                      </a:lnTo>
                      <a:lnTo>
                        <a:pt x="1899" y="796"/>
                      </a:lnTo>
                      <a:lnTo>
                        <a:pt x="1899" y="806"/>
                      </a:lnTo>
                      <a:lnTo>
                        <a:pt x="1897" y="813"/>
                      </a:lnTo>
                      <a:lnTo>
                        <a:pt x="1897" y="821"/>
                      </a:lnTo>
                      <a:lnTo>
                        <a:pt x="1891" y="831"/>
                      </a:lnTo>
                      <a:lnTo>
                        <a:pt x="1884" y="834"/>
                      </a:lnTo>
                      <a:lnTo>
                        <a:pt x="1874" y="836"/>
                      </a:lnTo>
                      <a:lnTo>
                        <a:pt x="1865" y="836"/>
                      </a:lnTo>
                      <a:lnTo>
                        <a:pt x="1857" y="834"/>
                      </a:lnTo>
                      <a:lnTo>
                        <a:pt x="1850" y="832"/>
                      </a:lnTo>
                      <a:lnTo>
                        <a:pt x="1844" y="831"/>
                      </a:lnTo>
                      <a:lnTo>
                        <a:pt x="1836" y="827"/>
                      </a:lnTo>
                      <a:lnTo>
                        <a:pt x="1829" y="825"/>
                      </a:lnTo>
                      <a:lnTo>
                        <a:pt x="1821" y="821"/>
                      </a:lnTo>
                      <a:lnTo>
                        <a:pt x="1813" y="817"/>
                      </a:lnTo>
                      <a:lnTo>
                        <a:pt x="1806" y="815"/>
                      </a:lnTo>
                      <a:lnTo>
                        <a:pt x="1796" y="813"/>
                      </a:lnTo>
                      <a:lnTo>
                        <a:pt x="1789" y="810"/>
                      </a:lnTo>
                      <a:lnTo>
                        <a:pt x="1779" y="806"/>
                      </a:lnTo>
                      <a:lnTo>
                        <a:pt x="1772" y="804"/>
                      </a:lnTo>
                      <a:lnTo>
                        <a:pt x="1764" y="800"/>
                      </a:lnTo>
                      <a:lnTo>
                        <a:pt x="1756" y="798"/>
                      </a:lnTo>
                      <a:lnTo>
                        <a:pt x="1749" y="796"/>
                      </a:lnTo>
                      <a:lnTo>
                        <a:pt x="1741" y="796"/>
                      </a:lnTo>
                      <a:lnTo>
                        <a:pt x="1732" y="794"/>
                      </a:lnTo>
                      <a:lnTo>
                        <a:pt x="1724" y="794"/>
                      </a:lnTo>
                      <a:lnTo>
                        <a:pt x="1717" y="794"/>
                      </a:lnTo>
                      <a:lnTo>
                        <a:pt x="1711" y="798"/>
                      </a:lnTo>
                      <a:lnTo>
                        <a:pt x="1703" y="800"/>
                      </a:lnTo>
                      <a:lnTo>
                        <a:pt x="1698" y="804"/>
                      </a:lnTo>
                      <a:lnTo>
                        <a:pt x="1692" y="808"/>
                      </a:lnTo>
                      <a:lnTo>
                        <a:pt x="1686" y="815"/>
                      </a:lnTo>
                      <a:lnTo>
                        <a:pt x="1679" y="819"/>
                      </a:lnTo>
                      <a:lnTo>
                        <a:pt x="1673" y="825"/>
                      </a:lnTo>
                      <a:lnTo>
                        <a:pt x="1665" y="831"/>
                      </a:lnTo>
                      <a:lnTo>
                        <a:pt x="1658" y="836"/>
                      </a:lnTo>
                      <a:lnTo>
                        <a:pt x="1650" y="840"/>
                      </a:lnTo>
                      <a:lnTo>
                        <a:pt x="1644" y="844"/>
                      </a:lnTo>
                      <a:lnTo>
                        <a:pt x="1637" y="850"/>
                      </a:lnTo>
                      <a:lnTo>
                        <a:pt x="1629" y="853"/>
                      </a:lnTo>
                      <a:lnTo>
                        <a:pt x="1620" y="857"/>
                      </a:lnTo>
                      <a:lnTo>
                        <a:pt x="1610" y="861"/>
                      </a:lnTo>
                      <a:lnTo>
                        <a:pt x="1603" y="865"/>
                      </a:lnTo>
                      <a:lnTo>
                        <a:pt x="1593" y="870"/>
                      </a:lnTo>
                      <a:lnTo>
                        <a:pt x="1584" y="872"/>
                      </a:lnTo>
                      <a:lnTo>
                        <a:pt x="1574" y="878"/>
                      </a:lnTo>
                      <a:lnTo>
                        <a:pt x="1565" y="880"/>
                      </a:lnTo>
                      <a:lnTo>
                        <a:pt x="1557" y="886"/>
                      </a:lnTo>
                      <a:lnTo>
                        <a:pt x="1545" y="888"/>
                      </a:lnTo>
                      <a:lnTo>
                        <a:pt x="1536" y="889"/>
                      </a:lnTo>
                      <a:lnTo>
                        <a:pt x="1525" y="891"/>
                      </a:lnTo>
                      <a:lnTo>
                        <a:pt x="1515" y="895"/>
                      </a:lnTo>
                      <a:lnTo>
                        <a:pt x="1506" y="897"/>
                      </a:lnTo>
                      <a:lnTo>
                        <a:pt x="1496" y="901"/>
                      </a:lnTo>
                      <a:lnTo>
                        <a:pt x="1485" y="903"/>
                      </a:lnTo>
                      <a:lnTo>
                        <a:pt x="1475" y="907"/>
                      </a:lnTo>
                      <a:lnTo>
                        <a:pt x="1464" y="907"/>
                      </a:lnTo>
                      <a:lnTo>
                        <a:pt x="1454" y="908"/>
                      </a:lnTo>
                      <a:lnTo>
                        <a:pt x="1443" y="910"/>
                      </a:lnTo>
                      <a:lnTo>
                        <a:pt x="1433" y="914"/>
                      </a:lnTo>
                      <a:lnTo>
                        <a:pt x="1422" y="914"/>
                      </a:lnTo>
                      <a:lnTo>
                        <a:pt x="1412" y="916"/>
                      </a:lnTo>
                      <a:lnTo>
                        <a:pt x="1403" y="918"/>
                      </a:lnTo>
                      <a:lnTo>
                        <a:pt x="1393" y="920"/>
                      </a:lnTo>
                      <a:lnTo>
                        <a:pt x="1382" y="920"/>
                      </a:lnTo>
                      <a:lnTo>
                        <a:pt x="1371" y="924"/>
                      </a:lnTo>
                      <a:lnTo>
                        <a:pt x="1361" y="924"/>
                      </a:lnTo>
                      <a:lnTo>
                        <a:pt x="1352" y="926"/>
                      </a:lnTo>
                      <a:lnTo>
                        <a:pt x="1340" y="926"/>
                      </a:lnTo>
                      <a:lnTo>
                        <a:pt x="1329" y="927"/>
                      </a:lnTo>
                      <a:lnTo>
                        <a:pt x="1319" y="929"/>
                      </a:lnTo>
                      <a:lnTo>
                        <a:pt x="1310" y="931"/>
                      </a:lnTo>
                      <a:lnTo>
                        <a:pt x="1298" y="933"/>
                      </a:lnTo>
                      <a:lnTo>
                        <a:pt x="1289" y="935"/>
                      </a:lnTo>
                      <a:lnTo>
                        <a:pt x="1278" y="935"/>
                      </a:lnTo>
                      <a:lnTo>
                        <a:pt x="1268" y="937"/>
                      </a:lnTo>
                      <a:lnTo>
                        <a:pt x="1257" y="939"/>
                      </a:lnTo>
                      <a:lnTo>
                        <a:pt x="1247" y="941"/>
                      </a:lnTo>
                      <a:lnTo>
                        <a:pt x="1236" y="943"/>
                      </a:lnTo>
                      <a:lnTo>
                        <a:pt x="1226" y="945"/>
                      </a:lnTo>
                      <a:lnTo>
                        <a:pt x="1221" y="945"/>
                      </a:lnTo>
                      <a:lnTo>
                        <a:pt x="1215" y="945"/>
                      </a:lnTo>
                      <a:lnTo>
                        <a:pt x="1209" y="946"/>
                      </a:lnTo>
                      <a:lnTo>
                        <a:pt x="1203" y="946"/>
                      </a:lnTo>
                      <a:lnTo>
                        <a:pt x="1192" y="948"/>
                      </a:lnTo>
                      <a:lnTo>
                        <a:pt x="1181" y="950"/>
                      </a:lnTo>
                      <a:lnTo>
                        <a:pt x="1175" y="950"/>
                      </a:lnTo>
                      <a:lnTo>
                        <a:pt x="1169" y="952"/>
                      </a:lnTo>
                      <a:lnTo>
                        <a:pt x="1163" y="952"/>
                      </a:lnTo>
                      <a:lnTo>
                        <a:pt x="1158" y="954"/>
                      </a:lnTo>
                      <a:lnTo>
                        <a:pt x="1152" y="954"/>
                      </a:lnTo>
                      <a:lnTo>
                        <a:pt x="1146" y="954"/>
                      </a:lnTo>
                      <a:lnTo>
                        <a:pt x="1139" y="956"/>
                      </a:lnTo>
                      <a:lnTo>
                        <a:pt x="1135" y="958"/>
                      </a:lnTo>
                      <a:lnTo>
                        <a:pt x="1127" y="958"/>
                      </a:lnTo>
                      <a:lnTo>
                        <a:pt x="1122" y="958"/>
                      </a:lnTo>
                      <a:lnTo>
                        <a:pt x="1116" y="960"/>
                      </a:lnTo>
                      <a:lnTo>
                        <a:pt x="1108" y="962"/>
                      </a:lnTo>
                      <a:lnTo>
                        <a:pt x="1103" y="962"/>
                      </a:lnTo>
                      <a:lnTo>
                        <a:pt x="1097" y="964"/>
                      </a:lnTo>
                      <a:lnTo>
                        <a:pt x="1089" y="964"/>
                      </a:lnTo>
                      <a:lnTo>
                        <a:pt x="1084" y="965"/>
                      </a:lnTo>
                      <a:lnTo>
                        <a:pt x="1076" y="965"/>
                      </a:lnTo>
                      <a:lnTo>
                        <a:pt x="1070" y="967"/>
                      </a:lnTo>
                      <a:lnTo>
                        <a:pt x="1063" y="967"/>
                      </a:lnTo>
                      <a:lnTo>
                        <a:pt x="1057" y="971"/>
                      </a:lnTo>
                      <a:lnTo>
                        <a:pt x="1049" y="971"/>
                      </a:lnTo>
                      <a:lnTo>
                        <a:pt x="1044" y="973"/>
                      </a:lnTo>
                      <a:lnTo>
                        <a:pt x="1036" y="975"/>
                      </a:lnTo>
                      <a:lnTo>
                        <a:pt x="1030" y="977"/>
                      </a:lnTo>
                      <a:lnTo>
                        <a:pt x="1021" y="977"/>
                      </a:lnTo>
                      <a:lnTo>
                        <a:pt x="1013" y="979"/>
                      </a:lnTo>
                      <a:lnTo>
                        <a:pt x="1006" y="979"/>
                      </a:lnTo>
                      <a:lnTo>
                        <a:pt x="1000" y="981"/>
                      </a:lnTo>
                      <a:lnTo>
                        <a:pt x="991" y="981"/>
                      </a:lnTo>
                      <a:lnTo>
                        <a:pt x="983" y="983"/>
                      </a:lnTo>
                      <a:lnTo>
                        <a:pt x="975" y="983"/>
                      </a:lnTo>
                      <a:lnTo>
                        <a:pt x="968" y="984"/>
                      </a:lnTo>
                      <a:lnTo>
                        <a:pt x="960" y="984"/>
                      </a:lnTo>
                      <a:lnTo>
                        <a:pt x="953" y="986"/>
                      </a:lnTo>
                      <a:lnTo>
                        <a:pt x="945" y="986"/>
                      </a:lnTo>
                      <a:lnTo>
                        <a:pt x="937" y="986"/>
                      </a:lnTo>
                      <a:lnTo>
                        <a:pt x="928" y="986"/>
                      </a:lnTo>
                      <a:lnTo>
                        <a:pt x="920" y="988"/>
                      </a:lnTo>
                      <a:lnTo>
                        <a:pt x="913" y="990"/>
                      </a:lnTo>
                      <a:lnTo>
                        <a:pt x="905" y="990"/>
                      </a:lnTo>
                      <a:lnTo>
                        <a:pt x="897" y="990"/>
                      </a:lnTo>
                      <a:lnTo>
                        <a:pt x="888" y="990"/>
                      </a:lnTo>
                      <a:lnTo>
                        <a:pt x="880" y="990"/>
                      </a:lnTo>
                      <a:lnTo>
                        <a:pt x="873" y="990"/>
                      </a:lnTo>
                      <a:lnTo>
                        <a:pt x="863" y="990"/>
                      </a:lnTo>
                      <a:lnTo>
                        <a:pt x="856" y="990"/>
                      </a:lnTo>
                      <a:lnTo>
                        <a:pt x="848" y="990"/>
                      </a:lnTo>
                      <a:lnTo>
                        <a:pt x="840" y="992"/>
                      </a:lnTo>
                      <a:lnTo>
                        <a:pt x="833" y="990"/>
                      </a:lnTo>
                      <a:lnTo>
                        <a:pt x="825" y="990"/>
                      </a:lnTo>
                      <a:lnTo>
                        <a:pt x="816" y="990"/>
                      </a:lnTo>
                      <a:lnTo>
                        <a:pt x="808" y="990"/>
                      </a:lnTo>
                      <a:lnTo>
                        <a:pt x="801" y="990"/>
                      </a:lnTo>
                      <a:lnTo>
                        <a:pt x="793" y="990"/>
                      </a:lnTo>
                      <a:lnTo>
                        <a:pt x="785" y="990"/>
                      </a:lnTo>
                      <a:lnTo>
                        <a:pt x="778" y="990"/>
                      </a:lnTo>
                      <a:lnTo>
                        <a:pt x="770" y="990"/>
                      </a:lnTo>
                      <a:lnTo>
                        <a:pt x="762" y="988"/>
                      </a:lnTo>
                      <a:lnTo>
                        <a:pt x="755" y="986"/>
                      </a:lnTo>
                      <a:lnTo>
                        <a:pt x="747" y="986"/>
                      </a:lnTo>
                      <a:lnTo>
                        <a:pt x="740" y="986"/>
                      </a:lnTo>
                      <a:lnTo>
                        <a:pt x="732" y="986"/>
                      </a:lnTo>
                      <a:lnTo>
                        <a:pt x="724" y="984"/>
                      </a:lnTo>
                      <a:lnTo>
                        <a:pt x="719" y="984"/>
                      </a:lnTo>
                      <a:lnTo>
                        <a:pt x="711" y="984"/>
                      </a:lnTo>
                      <a:lnTo>
                        <a:pt x="704" y="983"/>
                      </a:lnTo>
                      <a:lnTo>
                        <a:pt x="698" y="983"/>
                      </a:lnTo>
                      <a:lnTo>
                        <a:pt x="690" y="983"/>
                      </a:lnTo>
                      <a:lnTo>
                        <a:pt x="685" y="981"/>
                      </a:lnTo>
                      <a:lnTo>
                        <a:pt x="679" y="981"/>
                      </a:lnTo>
                      <a:lnTo>
                        <a:pt x="671" y="979"/>
                      </a:lnTo>
                      <a:lnTo>
                        <a:pt x="666" y="979"/>
                      </a:lnTo>
                      <a:lnTo>
                        <a:pt x="660" y="977"/>
                      </a:lnTo>
                      <a:lnTo>
                        <a:pt x="652" y="977"/>
                      </a:lnTo>
                      <a:lnTo>
                        <a:pt x="647" y="975"/>
                      </a:lnTo>
                      <a:lnTo>
                        <a:pt x="641" y="975"/>
                      </a:lnTo>
                      <a:lnTo>
                        <a:pt x="629" y="973"/>
                      </a:lnTo>
                      <a:lnTo>
                        <a:pt x="620" y="971"/>
                      </a:lnTo>
                      <a:lnTo>
                        <a:pt x="610" y="969"/>
                      </a:lnTo>
                      <a:lnTo>
                        <a:pt x="603" y="967"/>
                      </a:lnTo>
                      <a:lnTo>
                        <a:pt x="593" y="965"/>
                      </a:lnTo>
                      <a:lnTo>
                        <a:pt x="588" y="964"/>
                      </a:lnTo>
                      <a:lnTo>
                        <a:pt x="580" y="962"/>
                      </a:lnTo>
                      <a:lnTo>
                        <a:pt x="572" y="958"/>
                      </a:lnTo>
                      <a:lnTo>
                        <a:pt x="567" y="956"/>
                      </a:lnTo>
                      <a:lnTo>
                        <a:pt x="559" y="954"/>
                      </a:lnTo>
                      <a:lnTo>
                        <a:pt x="553" y="950"/>
                      </a:lnTo>
                      <a:lnTo>
                        <a:pt x="548" y="948"/>
                      </a:lnTo>
                      <a:lnTo>
                        <a:pt x="542" y="946"/>
                      </a:lnTo>
                      <a:lnTo>
                        <a:pt x="536" y="945"/>
                      </a:lnTo>
                      <a:lnTo>
                        <a:pt x="531" y="941"/>
                      </a:lnTo>
                      <a:lnTo>
                        <a:pt x="523" y="939"/>
                      </a:lnTo>
                      <a:lnTo>
                        <a:pt x="519" y="935"/>
                      </a:lnTo>
                      <a:lnTo>
                        <a:pt x="514" y="933"/>
                      </a:lnTo>
                      <a:lnTo>
                        <a:pt x="502" y="927"/>
                      </a:lnTo>
                      <a:lnTo>
                        <a:pt x="491" y="922"/>
                      </a:lnTo>
                      <a:lnTo>
                        <a:pt x="485" y="918"/>
                      </a:lnTo>
                      <a:lnTo>
                        <a:pt x="479" y="914"/>
                      </a:lnTo>
                      <a:lnTo>
                        <a:pt x="474" y="910"/>
                      </a:lnTo>
                      <a:lnTo>
                        <a:pt x="468" y="908"/>
                      </a:lnTo>
                      <a:lnTo>
                        <a:pt x="462" y="905"/>
                      </a:lnTo>
                      <a:lnTo>
                        <a:pt x="455" y="901"/>
                      </a:lnTo>
                      <a:lnTo>
                        <a:pt x="449" y="899"/>
                      </a:lnTo>
                      <a:lnTo>
                        <a:pt x="443" y="895"/>
                      </a:lnTo>
                      <a:lnTo>
                        <a:pt x="436" y="891"/>
                      </a:lnTo>
                      <a:lnTo>
                        <a:pt x="428" y="888"/>
                      </a:lnTo>
                      <a:lnTo>
                        <a:pt x="420" y="884"/>
                      </a:lnTo>
                      <a:lnTo>
                        <a:pt x="415" y="880"/>
                      </a:lnTo>
                      <a:lnTo>
                        <a:pt x="405" y="876"/>
                      </a:lnTo>
                      <a:lnTo>
                        <a:pt x="398" y="872"/>
                      </a:lnTo>
                      <a:lnTo>
                        <a:pt x="390" y="869"/>
                      </a:lnTo>
                      <a:lnTo>
                        <a:pt x="382" y="865"/>
                      </a:lnTo>
                      <a:lnTo>
                        <a:pt x="373" y="859"/>
                      </a:lnTo>
                      <a:lnTo>
                        <a:pt x="363" y="855"/>
                      </a:lnTo>
                      <a:lnTo>
                        <a:pt x="356" y="851"/>
                      </a:lnTo>
                      <a:lnTo>
                        <a:pt x="346" y="846"/>
                      </a:lnTo>
                      <a:lnTo>
                        <a:pt x="337" y="842"/>
                      </a:lnTo>
                      <a:lnTo>
                        <a:pt x="329" y="838"/>
                      </a:lnTo>
                      <a:lnTo>
                        <a:pt x="322" y="834"/>
                      </a:lnTo>
                      <a:lnTo>
                        <a:pt x="314" y="831"/>
                      </a:lnTo>
                      <a:lnTo>
                        <a:pt x="304" y="827"/>
                      </a:lnTo>
                      <a:lnTo>
                        <a:pt x="297" y="823"/>
                      </a:lnTo>
                      <a:lnTo>
                        <a:pt x="289" y="817"/>
                      </a:lnTo>
                      <a:lnTo>
                        <a:pt x="282" y="815"/>
                      </a:lnTo>
                      <a:lnTo>
                        <a:pt x="274" y="812"/>
                      </a:lnTo>
                      <a:lnTo>
                        <a:pt x="266" y="808"/>
                      </a:lnTo>
                      <a:lnTo>
                        <a:pt x="261" y="804"/>
                      </a:lnTo>
                      <a:lnTo>
                        <a:pt x="255" y="802"/>
                      </a:lnTo>
                      <a:lnTo>
                        <a:pt x="247" y="796"/>
                      </a:lnTo>
                      <a:lnTo>
                        <a:pt x="242" y="794"/>
                      </a:lnTo>
                      <a:lnTo>
                        <a:pt x="234" y="789"/>
                      </a:lnTo>
                      <a:lnTo>
                        <a:pt x="228" y="787"/>
                      </a:lnTo>
                      <a:lnTo>
                        <a:pt x="223" y="783"/>
                      </a:lnTo>
                      <a:lnTo>
                        <a:pt x="217" y="779"/>
                      </a:lnTo>
                      <a:lnTo>
                        <a:pt x="211" y="777"/>
                      </a:lnTo>
                      <a:lnTo>
                        <a:pt x="208" y="774"/>
                      </a:lnTo>
                      <a:lnTo>
                        <a:pt x="196" y="768"/>
                      </a:lnTo>
                      <a:lnTo>
                        <a:pt x="189" y="760"/>
                      </a:lnTo>
                      <a:lnTo>
                        <a:pt x="181" y="755"/>
                      </a:lnTo>
                      <a:lnTo>
                        <a:pt x="173" y="749"/>
                      </a:lnTo>
                      <a:lnTo>
                        <a:pt x="164" y="741"/>
                      </a:lnTo>
                      <a:lnTo>
                        <a:pt x="156" y="736"/>
                      </a:lnTo>
                      <a:lnTo>
                        <a:pt x="151" y="732"/>
                      </a:lnTo>
                      <a:lnTo>
                        <a:pt x="145" y="728"/>
                      </a:lnTo>
                      <a:lnTo>
                        <a:pt x="139" y="722"/>
                      </a:lnTo>
                      <a:lnTo>
                        <a:pt x="133" y="718"/>
                      </a:lnTo>
                      <a:lnTo>
                        <a:pt x="126" y="713"/>
                      </a:lnTo>
                      <a:lnTo>
                        <a:pt x="120" y="709"/>
                      </a:lnTo>
                      <a:lnTo>
                        <a:pt x="113" y="703"/>
                      </a:lnTo>
                      <a:lnTo>
                        <a:pt x="105" y="698"/>
                      </a:lnTo>
                      <a:lnTo>
                        <a:pt x="97" y="692"/>
                      </a:lnTo>
                      <a:lnTo>
                        <a:pt x="92" y="684"/>
                      </a:lnTo>
                      <a:lnTo>
                        <a:pt x="84" y="679"/>
                      </a:lnTo>
                      <a:lnTo>
                        <a:pt x="78" y="673"/>
                      </a:lnTo>
                      <a:lnTo>
                        <a:pt x="71" y="665"/>
                      </a:lnTo>
                      <a:lnTo>
                        <a:pt x="63" y="658"/>
                      </a:lnTo>
                      <a:lnTo>
                        <a:pt x="57" y="652"/>
                      </a:lnTo>
                      <a:lnTo>
                        <a:pt x="50" y="644"/>
                      </a:lnTo>
                      <a:lnTo>
                        <a:pt x="44" y="635"/>
                      </a:lnTo>
                      <a:lnTo>
                        <a:pt x="38" y="627"/>
                      </a:lnTo>
                      <a:lnTo>
                        <a:pt x="31" y="620"/>
                      </a:lnTo>
                      <a:lnTo>
                        <a:pt x="27" y="610"/>
                      </a:lnTo>
                      <a:lnTo>
                        <a:pt x="21" y="601"/>
                      </a:lnTo>
                      <a:lnTo>
                        <a:pt x="18" y="591"/>
                      </a:lnTo>
                      <a:lnTo>
                        <a:pt x="14" y="582"/>
                      </a:lnTo>
                      <a:lnTo>
                        <a:pt x="10" y="572"/>
                      </a:lnTo>
                      <a:lnTo>
                        <a:pt x="8" y="561"/>
                      </a:lnTo>
                      <a:lnTo>
                        <a:pt x="6" y="549"/>
                      </a:lnTo>
                      <a:lnTo>
                        <a:pt x="2" y="540"/>
                      </a:lnTo>
                      <a:lnTo>
                        <a:pt x="2" y="528"/>
                      </a:lnTo>
                      <a:lnTo>
                        <a:pt x="2" y="523"/>
                      </a:lnTo>
                      <a:lnTo>
                        <a:pt x="0" y="515"/>
                      </a:lnTo>
                      <a:lnTo>
                        <a:pt x="0" y="509"/>
                      </a:lnTo>
                      <a:lnTo>
                        <a:pt x="0" y="504"/>
                      </a:lnTo>
                      <a:lnTo>
                        <a:pt x="0" y="498"/>
                      </a:lnTo>
                      <a:lnTo>
                        <a:pt x="0" y="492"/>
                      </a:lnTo>
                      <a:lnTo>
                        <a:pt x="0" y="487"/>
                      </a:lnTo>
                      <a:lnTo>
                        <a:pt x="2" y="481"/>
                      </a:lnTo>
                      <a:lnTo>
                        <a:pt x="2" y="469"/>
                      </a:lnTo>
                      <a:lnTo>
                        <a:pt x="6" y="458"/>
                      </a:lnTo>
                      <a:lnTo>
                        <a:pt x="8" y="447"/>
                      </a:lnTo>
                      <a:lnTo>
                        <a:pt x="10" y="437"/>
                      </a:lnTo>
                      <a:lnTo>
                        <a:pt x="12" y="426"/>
                      </a:lnTo>
                      <a:lnTo>
                        <a:pt x="16" y="414"/>
                      </a:lnTo>
                      <a:lnTo>
                        <a:pt x="19" y="405"/>
                      </a:lnTo>
                      <a:lnTo>
                        <a:pt x="21" y="395"/>
                      </a:lnTo>
                      <a:lnTo>
                        <a:pt x="25" y="386"/>
                      </a:lnTo>
                      <a:lnTo>
                        <a:pt x="31" y="376"/>
                      </a:lnTo>
                      <a:lnTo>
                        <a:pt x="35" y="367"/>
                      </a:lnTo>
                      <a:lnTo>
                        <a:pt x="40" y="359"/>
                      </a:lnTo>
                      <a:lnTo>
                        <a:pt x="44" y="350"/>
                      </a:lnTo>
                      <a:lnTo>
                        <a:pt x="48" y="342"/>
                      </a:lnTo>
                      <a:lnTo>
                        <a:pt x="54" y="333"/>
                      </a:lnTo>
                      <a:lnTo>
                        <a:pt x="57" y="325"/>
                      </a:lnTo>
                      <a:lnTo>
                        <a:pt x="63" y="317"/>
                      </a:lnTo>
                      <a:lnTo>
                        <a:pt x="69" y="310"/>
                      </a:lnTo>
                      <a:lnTo>
                        <a:pt x="73" y="304"/>
                      </a:lnTo>
                      <a:lnTo>
                        <a:pt x="78" y="298"/>
                      </a:lnTo>
                      <a:lnTo>
                        <a:pt x="84" y="293"/>
                      </a:lnTo>
                      <a:lnTo>
                        <a:pt x="88" y="287"/>
                      </a:lnTo>
                      <a:lnTo>
                        <a:pt x="94" y="281"/>
                      </a:lnTo>
                      <a:lnTo>
                        <a:pt x="99" y="278"/>
                      </a:lnTo>
                      <a:lnTo>
                        <a:pt x="109" y="270"/>
                      </a:lnTo>
                      <a:lnTo>
                        <a:pt x="118" y="264"/>
                      </a:lnTo>
                      <a:lnTo>
                        <a:pt x="126" y="259"/>
                      </a:lnTo>
                      <a:lnTo>
                        <a:pt x="135" y="255"/>
                      </a:lnTo>
                      <a:lnTo>
                        <a:pt x="145" y="251"/>
                      </a:lnTo>
                      <a:lnTo>
                        <a:pt x="154" y="249"/>
                      </a:lnTo>
                      <a:lnTo>
                        <a:pt x="164" y="245"/>
                      </a:lnTo>
                      <a:lnTo>
                        <a:pt x="175" y="243"/>
                      </a:lnTo>
                      <a:lnTo>
                        <a:pt x="187" y="241"/>
                      </a:lnTo>
                      <a:lnTo>
                        <a:pt x="198" y="240"/>
                      </a:lnTo>
                      <a:lnTo>
                        <a:pt x="208" y="236"/>
                      </a:lnTo>
                      <a:lnTo>
                        <a:pt x="219" y="232"/>
                      </a:lnTo>
                      <a:lnTo>
                        <a:pt x="228" y="228"/>
                      </a:lnTo>
                      <a:lnTo>
                        <a:pt x="238" y="224"/>
                      </a:lnTo>
                      <a:lnTo>
                        <a:pt x="247" y="221"/>
                      </a:lnTo>
                      <a:lnTo>
                        <a:pt x="257" y="215"/>
                      </a:lnTo>
                      <a:lnTo>
                        <a:pt x="265" y="207"/>
                      </a:lnTo>
                      <a:lnTo>
                        <a:pt x="274" y="202"/>
                      </a:lnTo>
                      <a:lnTo>
                        <a:pt x="280" y="192"/>
                      </a:lnTo>
                      <a:lnTo>
                        <a:pt x="289" y="184"/>
                      </a:lnTo>
                      <a:lnTo>
                        <a:pt x="295" y="175"/>
                      </a:lnTo>
                      <a:lnTo>
                        <a:pt x="304" y="167"/>
                      </a:lnTo>
                      <a:lnTo>
                        <a:pt x="314" y="160"/>
                      </a:lnTo>
                      <a:lnTo>
                        <a:pt x="322" y="152"/>
                      </a:lnTo>
                      <a:lnTo>
                        <a:pt x="331" y="143"/>
                      </a:lnTo>
                      <a:lnTo>
                        <a:pt x="341" y="137"/>
                      </a:lnTo>
                      <a:lnTo>
                        <a:pt x="350" y="127"/>
                      </a:lnTo>
                      <a:lnTo>
                        <a:pt x="360" y="120"/>
                      </a:lnTo>
                      <a:lnTo>
                        <a:pt x="369" y="112"/>
                      </a:lnTo>
                      <a:lnTo>
                        <a:pt x="379" y="105"/>
                      </a:lnTo>
                      <a:lnTo>
                        <a:pt x="388" y="99"/>
                      </a:lnTo>
                      <a:lnTo>
                        <a:pt x="398" y="91"/>
                      </a:lnTo>
                      <a:lnTo>
                        <a:pt x="407" y="86"/>
                      </a:lnTo>
                      <a:lnTo>
                        <a:pt x="417" y="80"/>
                      </a:lnTo>
                      <a:lnTo>
                        <a:pt x="424" y="74"/>
                      </a:lnTo>
                      <a:lnTo>
                        <a:pt x="436" y="69"/>
                      </a:lnTo>
                      <a:lnTo>
                        <a:pt x="441" y="65"/>
                      </a:lnTo>
                      <a:lnTo>
                        <a:pt x="447" y="63"/>
                      </a:lnTo>
                      <a:lnTo>
                        <a:pt x="453" y="61"/>
                      </a:lnTo>
                      <a:lnTo>
                        <a:pt x="460" y="59"/>
                      </a:lnTo>
                      <a:lnTo>
                        <a:pt x="466" y="55"/>
                      </a:lnTo>
                      <a:lnTo>
                        <a:pt x="472" y="53"/>
                      </a:lnTo>
                      <a:lnTo>
                        <a:pt x="479" y="51"/>
                      </a:lnTo>
                      <a:lnTo>
                        <a:pt x="487" y="50"/>
                      </a:lnTo>
                      <a:lnTo>
                        <a:pt x="493" y="48"/>
                      </a:lnTo>
                      <a:lnTo>
                        <a:pt x="502" y="48"/>
                      </a:lnTo>
                      <a:lnTo>
                        <a:pt x="510" y="46"/>
                      </a:lnTo>
                      <a:lnTo>
                        <a:pt x="517" y="44"/>
                      </a:lnTo>
                      <a:lnTo>
                        <a:pt x="523" y="42"/>
                      </a:lnTo>
                      <a:lnTo>
                        <a:pt x="533" y="40"/>
                      </a:lnTo>
                      <a:lnTo>
                        <a:pt x="540" y="38"/>
                      </a:lnTo>
                      <a:lnTo>
                        <a:pt x="550" y="38"/>
                      </a:lnTo>
                      <a:lnTo>
                        <a:pt x="557" y="36"/>
                      </a:lnTo>
                      <a:lnTo>
                        <a:pt x="565" y="34"/>
                      </a:lnTo>
                      <a:lnTo>
                        <a:pt x="574" y="32"/>
                      </a:lnTo>
                      <a:lnTo>
                        <a:pt x="584" y="31"/>
                      </a:lnTo>
                      <a:lnTo>
                        <a:pt x="593" y="29"/>
                      </a:lnTo>
                      <a:lnTo>
                        <a:pt x="601" y="29"/>
                      </a:lnTo>
                      <a:lnTo>
                        <a:pt x="610" y="27"/>
                      </a:lnTo>
                      <a:lnTo>
                        <a:pt x="620" y="27"/>
                      </a:lnTo>
                      <a:lnTo>
                        <a:pt x="629" y="25"/>
                      </a:lnTo>
                      <a:lnTo>
                        <a:pt x="639" y="23"/>
                      </a:lnTo>
                      <a:lnTo>
                        <a:pt x="648" y="21"/>
                      </a:lnTo>
                      <a:lnTo>
                        <a:pt x="660" y="21"/>
                      </a:lnTo>
                      <a:lnTo>
                        <a:pt x="667" y="19"/>
                      </a:lnTo>
                      <a:lnTo>
                        <a:pt x="677" y="17"/>
                      </a:lnTo>
                      <a:lnTo>
                        <a:pt x="685" y="17"/>
                      </a:lnTo>
                      <a:lnTo>
                        <a:pt x="694" y="15"/>
                      </a:lnTo>
                      <a:lnTo>
                        <a:pt x="702" y="13"/>
                      </a:lnTo>
                      <a:lnTo>
                        <a:pt x="709" y="13"/>
                      </a:lnTo>
                      <a:lnTo>
                        <a:pt x="717" y="12"/>
                      </a:lnTo>
                      <a:lnTo>
                        <a:pt x="726" y="12"/>
                      </a:lnTo>
                      <a:lnTo>
                        <a:pt x="732" y="10"/>
                      </a:lnTo>
                      <a:lnTo>
                        <a:pt x="738" y="8"/>
                      </a:lnTo>
                      <a:lnTo>
                        <a:pt x="745" y="8"/>
                      </a:lnTo>
                      <a:lnTo>
                        <a:pt x="751" y="8"/>
                      </a:lnTo>
                      <a:lnTo>
                        <a:pt x="759" y="6"/>
                      </a:lnTo>
                      <a:lnTo>
                        <a:pt x="764" y="6"/>
                      </a:lnTo>
                      <a:lnTo>
                        <a:pt x="770" y="4"/>
                      </a:lnTo>
                      <a:lnTo>
                        <a:pt x="778" y="4"/>
                      </a:lnTo>
                      <a:lnTo>
                        <a:pt x="787" y="2"/>
                      </a:lnTo>
                      <a:lnTo>
                        <a:pt x="797" y="0"/>
                      </a:lnTo>
                      <a:lnTo>
                        <a:pt x="806" y="0"/>
                      </a:lnTo>
                      <a:lnTo>
                        <a:pt x="818" y="0"/>
                      </a:lnTo>
                      <a:lnTo>
                        <a:pt x="825" y="0"/>
                      </a:lnTo>
                      <a:lnTo>
                        <a:pt x="835" y="0"/>
                      </a:lnTo>
                      <a:lnTo>
                        <a:pt x="842" y="0"/>
                      </a:lnTo>
                      <a:lnTo>
                        <a:pt x="852" y="2"/>
                      </a:lnTo>
                      <a:lnTo>
                        <a:pt x="859" y="2"/>
                      </a:lnTo>
                      <a:lnTo>
                        <a:pt x="869" y="4"/>
                      </a:lnTo>
                      <a:lnTo>
                        <a:pt x="878" y="8"/>
                      </a:lnTo>
                      <a:lnTo>
                        <a:pt x="888" y="12"/>
                      </a:lnTo>
                      <a:lnTo>
                        <a:pt x="897" y="15"/>
                      </a:lnTo>
                      <a:lnTo>
                        <a:pt x="909" y="21"/>
                      </a:lnTo>
                      <a:lnTo>
                        <a:pt x="918" y="27"/>
                      </a:lnTo>
                      <a:lnTo>
                        <a:pt x="928" y="34"/>
                      </a:lnTo>
                      <a:lnTo>
                        <a:pt x="937" y="38"/>
                      </a:lnTo>
                      <a:lnTo>
                        <a:pt x="945" y="44"/>
                      </a:lnTo>
                      <a:lnTo>
                        <a:pt x="953" y="50"/>
                      </a:lnTo>
                      <a:lnTo>
                        <a:pt x="960" y="55"/>
                      </a:lnTo>
                      <a:lnTo>
                        <a:pt x="966" y="57"/>
                      </a:lnTo>
                      <a:lnTo>
                        <a:pt x="970" y="61"/>
                      </a:lnTo>
                      <a:lnTo>
                        <a:pt x="972" y="63"/>
                      </a:lnTo>
                      <a:lnTo>
                        <a:pt x="973" y="65"/>
                      </a:lnTo>
                      <a:lnTo>
                        <a:pt x="985" y="251"/>
                      </a:lnTo>
                      <a:lnTo>
                        <a:pt x="985" y="253"/>
                      </a:lnTo>
                      <a:lnTo>
                        <a:pt x="983" y="260"/>
                      </a:lnTo>
                      <a:lnTo>
                        <a:pt x="977" y="268"/>
                      </a:lnTo>
                      <a:lnTo>
                        <a:pt x="972" y="279"/>
                      </a:lnTo>
                      <a:lnTo>
                        <a:pt x="966" y="283"/>
                      </a:lnTo>
                      <a:lnTo>
                        <a:pt x="962" y="289"/>
                      </a:lnTo>
                      <a:lnTo>
                        <a:pt x="954" y="293"/>
                      </a:lnTo>
                      <a:lnTo>
                        <a:pt x="949" y="298"/>
                      </a:lnTo>
                      <a:lnTo>
                        <a:pt x="939" y="300"/>
                      </a:lnTo>
                      <a:lnTo>
                        <a:pt x="930" y="304"/>
                      </a:lnTo>
                      <a:lnTo>
                        <a:pt x="926" y="306"/>
                      </a:lnTo>
                      <a:lnTo>
                        <a:pt x="920" y="306"/>
                      </a:lnTo>
                      <a:lnTo>
                        <a:pt x="915" y="306"/>
                      </a:lnTo>
                      <a:lnTo>
                        <a:pt x="909" y="308"/>
                      </a:lnTo>
                      <a:lnTo>
                        <a:pt x="901" y="306"/>
                      </a:lnTo>
                      <a:lnTo>
                        <a:pt x="896" y="306"/>
                      </a:lnTo>
                      <a:lnTo>
                        <a:pt x="890" y="306"/>
                      </a:lnTo>
                      <a:lnTo>
                        <a:pt x="886" y="306"/>
                      </a:lnTo>
                      <a:lnTo>
                        <a:pt x="878" y="306"/>
                      </a:lnTo>
                      <a:lnTo>
                        <a:pt x="873" y="306"/>
                      </a:lnTo>
                      <a:lnTo>
                        <a:pt x="863" y="306"/>
                      </a:lnTo>
                      <a:lnTo>
                        <a:pt x="854" y="308"/>
                      </a:lnTo>
                      <a:lnTo>
                        <a:pt x="848" y="308"/>
                      </a:lnTo>
                      <a:lnTo>
                        <a:pt x="842" y="310"/>
                      </a:lnTo>
                      <a:lnTo>
                        <a:pt x="835" y="312"/>
                      </a:lnTo>
                      <a:lnTo>
                        <a:pt x="827" y="316"/>
                      </a:lnTo>
                      <a:lnTo>
                        <a:pt x="821" y="316"/>
                      </a:lnTo>
                      <a:lnTo>
                        <a:pt x="814" y="317"/>
                      </a:lnTo>
                      <a:lnTo>
                        <a:pt x="808" y="317"/>
                      </a:lnTo>
                      <a:lnTo>
                        <a:pt x="802" y="319"/>
                      </a:lnTo>
                      <a:lnTo>
                        <a:pt x="793" y="321"/>
                      </a:lnTo>
                      <a:lnTo>
                        <a:pt x="785" y="325"/>
                      </a:lnTo>
                      <a:lnTo>
                        <a:pt x="774" y="327"/>
                      </a:lnTo>
                      <a:lnTo>
                        <a:pt x="764" y="329"/>
                      </a:lnTo>
                      <a:lnTo>
                        <a:pt x="753" y="331"/>
                      </a:lnTo>
                      <a:lnTo>
                        <a:pt x="742" y="333"/>
                      </a:lnTo>
                      <a:lnTo>
                        <a:pt x="732" y="335"/>
                      </a:lnTo>
                      <a:lnTo>
                        <a:pt x="723" y="336"/>
                      </a:lnTo>
                      <a:lnTo>
                        <a:pt x="713" y="338"/>
                      </a:lnTo>
                      <a:lnTo>
                        <a:pt x="704" y="340"/>
                      </a:lnTo>
                      <a:lnTo>
                        <a:pt x="694" y="342"/>
                      </a:lnTo>
                      <a:lnTo>
                        <a:pt x="686" y="344"/>
                      </a:lnTo>
                      <a:lnTo>
                        <a:pt x="677" y="344"/>
                      </a:lnTo>
                      <a:lnTo>
                        <a:pt x="669" y="346"/>
                      </a:lnTo>
                      <a:lnTo>
                        <a:pt x="662" y="346"/>
                      </a:lnTo>
                      <a:lnTo>
                        <a:pt x="656" y="348"/>
                      </a:lnTo>
                      <a:lnTo>
                        <a:pt x="650" y="350"/>
                      </a:lnTo>
                      <a:lnTo>
                        <a:pt x="643" y="352"/>
                      </a:lnTo>
                      <a:lnTo>
                        <a:pt x="637" y="354"/>
                      </a:lnTo>
                      <a:lnTo>
                        <a:pt x="633" y="355"/>
                      </a:lnTo>
                      <a:lnTo>
                        <a:pt x="622" y="357"/>
                      </a:lnTo>
                      <a:lnTo>
                        <a:pt x="614" y="359"/>
                      </a:lnTo>
                      <a:lnTo>
                        <a:pt x="609" y="361"/>
                      </a:lnTo>
                      <a:lnTo>
                        <a:pt x="605" y="365"/>
                      </a:lnTo>
                      <a:lnTo>
                        <a:pt x="603" y="371"/>
                      </a:lnTo>
                      <a:lnTo>
                        <a:pt x="609" y="380"/>
                      </a:lnTo>
                      <a:lnTo>
                        <a:pt x="614" y="386"/>
                      </a:lnTo>
                      <a:lnTo>
                        <a:pt x="612" y="390"/>
                      </a:lnTo>
                      <a:lnTo>
                        <a:pt x="607" y="393"/>
                      </a:lnTo>
                      <a:lnTo>
                        <a:pt x="601" y="401"/>
                      </a:lnTo>
                      <a:lnTo>
                        <a:pt x="597" y="403"/>
                      </a:lnTo>
                      <a:lnTo>
                        <a:pt x="595" y="409"/>
                      </a:lnTo>
                      <a:lnTo>
                        <a:pt x="593" y="412"/>
                      </a:lnTo>
                      <a:lnTo>
                        <a:pt x="593" y="420"/>
                      </a:lnTo>
                      <a:lnTo>
                        <a:pt x="593" y="428"/>
                      </a:lnTo>
                      <a:lnTo>
                        <a:pt x="597" y="439"/>
                      </a:lnTo>
                      <a:lnTo>
                        <a:pt x="597" y="443"/>
                      </a:lnTo>
                      <a:lnTo>
                        <a:pt x="601" y="449"/>
                      </a:lnTo>
                      <a:lnTo>
                        <a:pt x="605" y="456"/>
                      </a:lnTo>
                      <a:lnTo>
                        <a:pt x="609" y="462"/>
                      </a:lnTo>
                      <a:lnTo>
                        <a:pt x="612" y="469"/>
                      </a:lnTo>
                      <a:lnTo>
                        <a:pt x="614" y="477"/>
                      </a:lnTo>
                      <a:lnTo>
                        <a:pt x="616" y="485"/>
                      </a:lnTo>
                      <a:lnTo>
                        <a:pt x="618" y="492"/>
                      </a:lnTo>
                      <a:lnTo>
                        <a:pt x="620" y="498"/>
                      </a:lnTo>
                      <a:lnTo>
                        <a:pt x="622" y="506"/>
                      </a:lnTo>
                      <a:lnTo>
                        <a:pt x="622" y="513"/>
                      </a:lnTo>
                      <a:lnTo>
                        <a:pt x="622" y="523"/>
                      </a:lnTo>
                      <a:lnTo>
                        <a:pt x="622" y="528"/>
                      </a:lnTo>
                      <a:lnTo>
                        <a:pt x="620" y="536"/>
                      </a:lnTo>
                      <a:lnTo>
                        <a:pt x="618" y="544"/>
                      </a:lnTo>
                      <a:lnTo>
                        <a:pt x="618" y="551"/>
                      </a:lnTo>
                      <a:lnTo>
                        <a:pt x="616" y="557"/>
                      </a:lnTo>
                      <a:lnTo>
                        <a:pt x="616" y="565"/>
                      </a:lnTo>
                      <a:lnTo>
                        <a:pt x="614" y="570"/>
                      </a:lnTo>
                      <a:lnTo>
                        <a:pt x="614" y="578"/>
                      </a:lnTo>
                      <a:lnTo>
                        <a:pt x="612" y="584"/>
                      </a:lnTo>
                      <a:lnTo>
                        <a:pt x="609" y="589"/>
                      </a:lnTo>
                      <a:lnTo>
                        <a:pt x="607" y="595"/>
                      </a:lnTo>
                      <a:lnTo>
                        <a:pt x="607" y="601"/>
                      </a:lnTo>
                      <a:lnTo>
                        <a:pt x="603" y="610"/>
                      </a:lnTo>
                      <a:lnTo>
                        <a:pt x="603" y="622"/>
                      </a:lnTo>
                      <a:lnTo>
                        <a:pt x="601" y="629"/>
                      </a:lnTo>
                      <a:lnTo>
                        <a:pt x="603" y="635"/>
                      </a:lnTo>
                      <a:lnTo>
                        <a:pt x="605" y="639"/>
                      </a:lnTo>
                      <a:lnTo>
                        <a:pt x="609" y="644"/>
                      </a:lnTo>
                      <a:lnTo>
                        <a:pt x="614" y="644"/>
                      </a:lnTo>
                      <a:lnTo>
                        <a:pt x="624" y="642"/>
                      </a:lnTo>
                      <a:lnTo>
                        <a:pt x="628" y="641"/>
                      </a:lnTo>
                      <a:lnTo>
                        <a:pt x="633" y="639"/>
                      </a:lnTo>
                      <a:lnTo>
                        <a:pt x="639" y="637"/>
                      </a:lnTo>
                      <a:lnTo>
                        <a:pt x="645" y="637"/>
                      </a:lnTo>
                      <a:lnTo>
                        <a:pt x="650" y="633"/>
                      </a:lnTo>
                      <a:lnTo>
                        <a:pt x="656" y="631"/>
                      </a:lnTo>
                      <a:lnTo>
                        <a:pt x="664" y="627"/>
                      </a:lnTo>
                      <a:lnTo>
                        <a:pt x="671" y="625"/>
                      </a:lnTo>
                      <a:lnTo>
                        <a:pt x="679" y="623"/>
                      </a:lnTo>
                      <a:lnTo>
                        <a:pt x="686" y="620"/>
                      </a:lnTo>
                      <a:lnTo>
                        <a:pt x="694" y="616"/>
                      </a:lnTo>
                      <a:lnTo>
                        <a:pt x="702" y="614"/>
                      </a:lnTo>
                      <a:lnTo>
                        <a:pt x="709" y="610"/>
                      </a:lnTo>
                      <a:lnTo>
                        <a:pt x="719" y="606"/>
                      </a:lnTo>
                      <a:lnTo>
                        <a:pt x="726" y="603"/>
                      </a:lnTo>
                      <a:lnTo>
                        <a:pt x="734" y="599"/>
                      </a:lnTo>
                      <a:lnTo>
                        <a:pt x="742" y="595"/>
                      </a:lnTo>
                      <a:lnTo>
                        <a:pt x="749" y="591"/>
                      </a:lnTo>
                      <a:lnTo>
                        <a:pt x="757" y="587"/>
                      </a:lnTo>
                      <a:lnTo>
                        <a:pt x="766" y="584"/>
                      </a:lnTo>
                      <a:lnTo>
                        <a:pt x="774" y="582"/>
                      </a:lnTo>
                      <a:lnTo>
                        <a:pt x="780" y="578"/>
                      </a:lnTo>
                      <a:lnTo>
                        <a:pt x="787" y="574"/>
                      </a:lnTo>
                      <a:lnTo>
                        <a:pt x="795" y="572"/>
                      </a:lnTo>
                      <a:lnTo>
                        <a:pt x="802" y="570"/>
                      </a:lnTo>
                      <a:lnTo>
                        <a:pt x="808" y="568"/>
                      </a:lnTo>
                      <a:lnTo>
                        <a:pt x="814" y="565"/>
                      </a:lnTo>
                      <a:lnTo>
                        <a:pt x="821" y="565"/>
                      </a:lnTo>
                      <a:lnTo>
                        <a:pt x="831" y="561"/>
                      </a:lnTo>
                      <a:lnTo>
                        <a:pt x="840" y="561"/>
                      </a:lnTo>
                      <a:lnTo>
                        <a:pt x="848" y="559"/>
                      </a:lnTo>
                      <a:lnTo>
                        <a:pt x="856" y="561"/>
                      </a:lnTo>
                      <a:lnTo>
                        <a:pt x="861" y="561"/>
                      </a:lnTo>
                      <a:lnTo>
                        <a:pt x="867" y="565"/>
                      </a:lnTo>
                      <a:lnTo>
                        <a:pt x="873" y="568"/>
                      </a:lnTo>
                      <a:lnTo>
                        <a:pt x="878" y="572"/>
                      </a:lnTo>
                      <a:lnTo>
                        <a:pt x="886" y="578"/>
                      </a:lnTo>
                      <a:lnTo>
                        <a:pt x="896" y="584"/>
                      </a:lnTo>
                      <a:lnTo>
                        <a:pt x="901" y="587"/>
                      </a:lnTo>
                      <a:lnTo>
                        <a:pt x="907" y="589"/>
                      </a:lnTo>
                      <a:lnTo>
                        <a:pt x="915" y="591"/>
                      </a:lnTo>
                      <a:lnTo>
                        <a:pt x="924" y="593"/>
                      </a:lnTo>
                      <a:lnTo>
                        <a:pt x="932" y="593"/>
                      </a:lnTo>
                      <a:lnTo>
                        <a:pt x="941" y="593"/>
                      </a:lnTo>
                      <a:lnTo>
                        <a:pt x="947" y="591"/>
                      </a:lnTo>
                      <a:lnTo>
                        <a:pt x="953" y="591"/>
                      </a:lnTo>
                      <a:lnTo>
                        <a:pt x="958" y="589"/>
                      </a:lnTo>
                      <a:lnTo>
                        <a:pt x="964" y="589"/>
                      </a:lnTo>
                      <a:lnTo>
                        <a:pt x="972" y="587"/>
                      </a:lnTo>
                      <a:lnTo>
                        <a:pt x="977" y="587"/>
                      </a:lnTo>
                      <a:lnTo>
                        <a:pt x="983" y="585"/>
                      </a:lnTo>
                      <a:lnTo>
                        <a:pt x="991" y="585"/>
                      </a:lnTo>
                      <a:lnTo>
                        <a:pt x="996" y="584"/>
                      </a:lnTo>
                      <a:lnTo>
                        <a:pt x="1004" y="584"/>
                      </a:lnTo>
                      <a:lnTo>
                        <a:pt x="1011" y="582"/>
                      </a:lnTo>
                      <a:lnTo>
                        <a:pt x="1019" y="582"/>
                      </a:lnTo>
                      <a:lnTo>
                        <a:pt x="1025" y="580"/>
                      </a:lnTo>
                      <a:lnTo>
                        <a:pt x="1032" y="578"/>
                      </a:lnTo>
                      <a:lnTo>
                        <a:pt x="1040" y="578"/>
                      </a:lnTo>
                      <a:lnTo>
                        <a:pt x="1048" y="576"/>
                      </a:lnTo>
                      <a:lnTo>
                        <a:pt x="1053" y="574"/>
                      </a:lnTo>
                      <a:lnTo>
                        <a:pt x="1061" y="574"/>
                      </a:lnTo>
                      <a:lnTo>
                        <a:pt x="1068" y="574"/>
                      </a:lnTo>
                      <a:lnTo>
                        <a:pt x="1076" y="574"/>
                      </a:lnTo>
                      <a:lnTo>
                        <a:pt x="1082" y="572"/>
                      </a:lnTo>
                      <a:lnTo>
                        <a:pt x="1089" y="572"/>
                      </a:lnTo>
                      <a:lnTo>
                        <a:pt x="1097" y="572"/>
                      </a:lnTo>
                      <a:lnTo>
                        <a:pt x="1105" y="574"/>
                      </a:lnTo>
                      <a:lnTo>
                        <a:pt x="1110" y="574"/>
                      </a:lnTo>
                      <a:lnTo>
                        <a:pt x="1116" y="574"/>
                      </a:lnTo>
                      <a:lnTo>
                        <a:pt x="1124" y="576"/>
                      </a:lnTo>
                      <a:lnTo>
                        <a:pt x="1129" y="578"/>
                      </a:lnTo>
                      <a:lnTo>
                        <a:pt x="1139" y="580"/>
                      </a:lnTo>
                      <a:lnTo>
                        <a:pt x="1150" y="582"/>
                      </a:lnTo>
                      <a:lnTo>
                        <a:pt x="1162" y="582"/>
                      </a:lnTo>
                      <a:lnTo>
                        <a:pt x="1171" y="582"/>
                      </a:lnTo>
                      <a:lnTo>
                        <a:pt x="1181" y="580"/>
                      </a:lnTo>
                      <a:lnTo>
                        <a:pt x="1190" y="578"/>
                      </a:lnTo>
                      <a:lnTo>
                        <a:pt x="1200" y="578"/>
                      </a:lnTo>
                      <a:lnTo>
                        <a:pt x="1209" y="576"/>
                      </a:lnTo>
                      <a:lnTo>
                        <a:pt x="1215" y="572"/>
                      </a:lnTo>
                      <a:lnTo>
                        <a:pt x="1222" y="570"/>
                      </a:lnTo>
                      <a:lnTo>
                        <a:pt x="1230" y="568"/>
                      </a:lnTo>
                      <a:lnTo>
                        <a:pt x="1238" y="568"/>
                      </a:lnTo>
                      <a:lnTo>
                        <a:pt x="1243" y="565"/>
                      </a:lnTo>
                      <a:lnTo>
                        <a:pt x="1251" y="565"/>
                      </a:lnTo>
                      <a:lnTo>
                        <a:pt x="1257" y="565"/>
                      </a:lnTo>
                      <a:lnTo>
                        <a:pt x="1262" y="565"/>
                      </a:lnTo>
                      <a:lnTo>
                        <a:pt x="1272" y="566"/>
                      </a:lnTo>
                      <a:lnTo>
                        <a:pt x="1283" y="570"/>
                      </a:lnTo>
                      <a:lnTo>
                        <a:pt x="1287" y="572"/>
                      </a:lnTo>
                      <a:lnTo>
                        <a:pt x="1293" y="576"/>
                      </a:lnTo>
                      <a:lnTo>
                        <a:pt x="1298" y="578"/>
                      </a:lnTo>
                      <a:lnTo>
                        <a:pt x="1306" y="582"/>
                      </a:lnTo>
                      <a:lnTo>
                        <a:pt x="1312" y="582"/>
                      </a:lnTo>
                      <a:lnTo>
                        <a:pt x="1319" y="584"/>
                      </a:lnTo>
                      <a:lnTo>
                        <a:pt x="1327" y="585"/>
                      </a:lnTo>
                      <a:lnTo>
                        <a:pt x="1336" y="587"/>
                      </a:lnTo>
                      <a:lnTo>
                        <a:pt x="1346" y="585"/>
                      </a:lnTo>
                      <a:lnTo>
                        <a:pt x="1355" y="584"/>
                      </a:lnTo>
                      <a:lnTo>
                        <a:pt x="1363" y="582"/>
                      </a:lnTo>
                      <a:lnTo>
                        <a:pt x="1369" y="582"/>
                      </a:lnTo>
                      <a:lnTo>
                        <a:pt x="1374" y="580"/>
                      </a:lnTo>
                      <a:lnTo>
                        <a:pt x="1384" y="578"/>
                      </a:lnTo>
                      <a:lnTo>
                        <a:pt x="1390" y="574"/>
                      </a:lnTo>
                      <a:lnTo>
                        <a:pt x="1393" y="572"/>
                      </a:lnTo>
                      <a:lnTo>
                        <a:pt x="1397" y="570"/>
                      </a:lnTo>
                      <a:lnTo>
                        <a:pt x="1401" y="570"/>
                      </a:lnTo>
                      <a:lnTo>
                        <a:pt x="1401" y="566"/>
                      </a:lnTo>
                      <a:lnTo>
                        <a:pt x="1399" y="565"/>
                      </a:lnTo>
                      <a:lnTo>
                        <a:pt x="1392" y="561"/>
                      </a:lnTo>
                      <a:lnTo>
                        <a:pt x="1384" y="561"/>
                      </a:lnTo>
                      <a:lnTo>
                        <a:pt x="1374" y="559"/>
                      </a:lnTo>
                      <a:lnTo>
                        <a:pt x="1365" y="557"/>
                      </a:lnTo>
                      <a:lnTo>
                        <a:pt x="1355" y="553"/>
                      </a:lnTo>
                      <a:lnTo>
                        <a:pt x="1348" y="551"/>
                      </a:lnTo>
                      <a:lnTo>
                        <a:pt x="1342" y="549"/>
                      </a:lnTo>
                      <a:lnTo>
                        <a:pt x="1338" y="546"/>
                      </a:lnTo>
                      <a:lnTo>
                        <a:pt x="1338" y="540"/>
                      </a:lnTo>
                      <a:lnTo>
                        <a:pt x="1346" y="534"/>
                      </a:lnTo>
                      <a:lnTo>
                        <a:pt x="1352" y="532"/>
                      </a:lnTo>
                      <a:lnTo>
                        <a:pt x="1357" y="528"/>
                      </a:lnTo>
                      <a:lnTo>
                        <a:pt x="1367" y="525"/>
                      </a:lnTo>
                      <a:lnTo>
                        <a:pt x="1376" y="523"/>
                      </a:lnTo>
                      <a:lnTo>
                        <a:pt x="1386" y="517"/>
                      </a:lnTo>
                      <a:lnTo>
                        <a:pt x="1395" y="513"/>
                      </a:lnTo>
                      <a:lnTo>
                        <a:pt x="1403" y="511"/>
                      </a:lnTo>
                      <a:lnTo>
                        <a:pt x="1411" y="508"/>
                      </a:lnTo>
                      <a:lnTo>
                        <a:pt x="1416" y="506"/>
                      </a:lnTo>
                      <a:lnTo>
                        <a:pt x="1422" y="504"/>
                      </a:lnTo>
                      <a:lnTo>
                        <a:pt x="1424" y="502"/>
                      </a:lnTo>
                      <a:lnTo>
                        <a:pt x="1430" y="502"/>
                      </a:lnTo>
                      <a:lnTo>
                        <a:pt x="1433" y="496"/>
                      </a:lnTo>
                      <a:lnTo>
                        <a:pt x="1430" y="494"/>
                      </a:lnTo>
                      <a:lnTo>
                        <a:pt x="1422" y="492"/>
                      </a:lnTo>
                      <a:lnTo>
                        <a:pt x="1416" y="490"/>
                      </a:lnTo>
                      <a:lnTo>
                        <a:pt x="1409" y="487"/>
                      </a:lnTo>
                      <a:lnTo>
                        <a:pt x="1401" y="485"/>
                      </a:lnTo>
                      <a:lnTo>
                        <a:pt x="1392" y="479"/>
                      </a:lnTo>
                      <a:lnTo>
                        <a:pt x="1382" y="473"/>
                      </a:lnTo>
                      <a:lnTo>
                        <a:pt x="1373" y="466"/>
                      </a:lnTo>
                      <a:lnTo>
                        <a:pt x="1365" y="456"/>
                      </a:lnTo>
                      <a:lnTo>
                        <a:pt x="1357" y="447"/>
                      </a:lnTo>
                      <a:lnTo>
                        <a:pt x="1352" y="439"/>
                      </a:lnTo>
                      <a:lnTo>
                        <a:pt x="1344" y="431"/>
                      </a:lnTo>
                      <a:lnTo>
                        <a:pt x="1340" y="428"/>
                      </a:lnTo>
                      <a:lnTo>
                        <a:pt x="1333" y="422"/>
                      </a:lnTo>
                      <a:lnTo>
                        <a:pt x="1327" y="422"/>
                      </a:lnTo>
                      <a:lnTo>
                        <a:pt x="1319" y="420"/>
                      </a:lnTo>
                      <a:lnTo>
                        <a:pt x="1316" y="420"/>
                      </a:lnTo>
                      <a:lnTo>
                        <a:pt x="1308" y="418"/>
                      </a:lnTo>
                      <a:lnTo>
                        <a:pt x="1300" y="412"/>
                      </a:lnTo>
                      <a:lnTo>
                        <a:pt x="1295" y="409"/>
                      </a:lnTo>
                      <a:lnTo>
                        <a:pt x="1287" y="405"/>
                      </a:lnTo>
                      <a:lnTo>
                        <a:pt x="1281" y="403"/>
                      </a:lnTo>
                      <a:lnTo>
                        <a:pt x="1276" y="399"/>
                      </a:lnTo>
                      <a:lnTo>
                        <a:pt x="1270" y="395"/>
                      </a:lnTo>
                      <a:lnTo>
                        <a:pt x="1262" y="393"/>
                      </a:lnTo>
                      <a:lnTo>
                        <a:pt x="1257" y="390"/>
                      </a:lnTo>
                      <a:lnTo>
                        <a:pt x="1251" y="386"/>
                      </a:lnTo>
                      <a:lnTo>
                        <a:pt x="1241" y="384"/>
                      </a:lnTo>
                      <a:lnTo>
                        <a:pt x="1234" y="380"/>
                      </a:lnTo>
                      <a:lnTo>
                        <a:pt x="1226" y="376"/>
                      </a:lnTo>
                      <a:lnTo>
                        <a:pt x="1219" y="374"/>
                      </a:lnTo>
                      <a:lnTo>
                        <a:pt x="1209" y="371"/>
                      </a:lnTo>
                      <a:lnTo>
                        <a:pt x="1200" y="369"/>
                      </a:lnTo>
                      <a:lnTo>
                        <a:pt x="1190" y="365"/>
                      </a:lnTo>
                      <a:lnTo>
                        <a:pt x="1179" y="363"/>
                      </a:lnTo>
                      <a:lnTo>
                        <a:pt x="1173" y="361"/>
                      </a:lnTo>
                      <a:lnTo>
                        <a:pt x="1165" y="361"/>
                      </a:lnTo>
                      <a:lnTo>
                        <a:pt x="1160" y="357"/>
                      </a:lnTo>
                      <a:lnTo>
                        <a:pt x="1154" y="357"/>
                      </a:lnTo>
                      <a:lnTo>
                        <a:pt x="1143" y="354"/>
                      </a:lnTo>
                      <a:lnTo>
                        <a:pt x="1133" y="352"/>
                      </a:lnTo>
                      <a:lnTo>
                        <a:pt x="1124" y="348"/>
                      </a:lnTo>
                      <a:lnTo>
                        <a:pt x="1114" y="346"/>
                      </a:lnTo>
                      <a:lnTo>
                        <a:pt x="1105" y="344"/>
                      </a:lnTo>
                      <a:lnTo>
                        <a:pt x="1097" y="342"/>
                      </a:lnTo>
                      <a:lnTo>
                        <a:pt x="1089" y="338"/>
                      </a:lnTo>
                      <a:lnTo>
                        <a:pt x="1082" y="336"/>
                      </a:lnTo>
                      <a:lnTo>
                        <a:pt x="1076" y="335"/>
                      </a:lnTo>
                      <a:lnTo>
                        <a:pt x="1072" y="333"/>
                      </a:lnTo>
                      <a:lnTo>
                        <a:pt x="1067" y="329"/>
                      </a:lnTo>
                      <a:lnTo>
                        <a:pt x="1063" y="329"/>
                      </a:lnTo>
                      <a:lnTo>
                        <a:pt x="1106" y="21"/>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5" name="Freeform 24"/>
                <p:cNvSpPr/>
                <p:nvPr/>
              </p:nvSpPr>
              <p:spPr>
                <a:xfrm rot="622800">
                  <a:off x="3903480" y="2626920"/>
                  <a:ext cx="180000" cy="122040"/>
                </a:xfrm>
                <a:custGeom>
                  <a:avLst/>
                  <a:gdLst>
                    <a:gd name="textAreaLeft" fmla="*/ 0 w 180000"/>
                    <a:gd name="textAreaRight" fmla="*/ 180360 w 180000"/>
                    <a:gd name="textAreaTop" fmla="*/ 0 h 122040"/>
                    <a:gd name="textAreaBottom" fmla="*/ 122400 h 122040"/>
                  </a:gdLst>
                  <a:ahLst/>
                  <a:rect l="textAreaLeft" t="textAreaTop" r="textAreaRight" b="textAreaBottom"/>
                  <a:pathLst>
                    <a:path w="454" h="302">
                      <a:moveTo>
                        <a:pt x="254" y="19"/>
                      </a:moveTo>
                      <a:lnTo>
                        <a:pt x="0" y="0"/>
                      </a:lnTo>
                      <a:lnTo>
                        <a:pt x="0" y="84"/>
                      </a:lnTo>
                      <a:lnTo>
                        <a:pt x="133" y="249"/>
                      </a:lnTo>
                      <a:lnTo>
                        <a:pt x="253" y="302"/>
                      </a:lnTo>
                      <a:lnTo>
                        <a:pt x="454" y="141"/>
                      </a:lnTo>
                      <a:lnTo>
                        <a:pt x="254" y="19"/>
                      </a:lnTo>
                      <a:close/>
                    </a:path>
                  </a:pathLst>
                </a:custGeom>
                <a:solidFill>
                  <a:srgbClr val="ebd4b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6" name="Freeform 25"/>
                <p:cNvSpPr/>
                <p:nvPr/>
              </p:nvSpPr>
              <p:spPr>
                <a:xfrm rot="622800">
                  <a:off x="3887640" y="2626200"/>
                  <a:ext cx="205560" cy="122040"/>
                </a:xfrm>
                <a:custGeom>
                  <a:avLst/>
                  <a:gdLst>
                    <a:gd name="textAreaLeft" fmla="*/ 0 w 205560"/>
                    <a:gd name="textAreaRight" fmla="*/ 205920 w 205560"/>
                    <a:gd name="textAreaTop" fmla="*/ 0 h 122040"/>
                    <a:gd name="textAreaBottom" fmla="*/ 122400 h 122040"/>
                  </a:gdLst>
                  <a:ahLst/>
                  <a:rect l="textAreaLeft" t="textAreaTop" r="textAreaRight" b="textAreaBottom"/>
                  <a:pathLst>
                    <a:path w="519" h="302">
                      <a:moveTo>
                        <a:pt x="40" y="0"/>
                      </a:moveTo>
                      <a:lnTo>
                        <a:pt x="146" y="23"/>
                      </a:lnTo>
                      <a:lnTo>
                        <a:pt x="285" y="19"/>
                      </a:lnTo>
                      <a:lnTo>
                        <a:pt x="513" y="106"/>
                      </a:lnTo>
                      <a:lnTo>
                        <a:pt x="519" y="186"/>
                      </a:lnTo>
                      <a:lnTo>
                        <a:pt x="412" y="262"/>
                      </a:lnTo>
                      <a:lnTo>
                        <a:pt x="293" y="302"/>
                      </a:lnTo>
                      <a:lnTo>
                        <a:pt x="141" y="262"/>
                      </a:lnTo>
                      <a:lnTo>
                        <a:pt x="49" y="186"/>
                      </a:lnTo>
                      <a:lnTo>
                        <a:pt x="0" y="59"/>
                      </a:lnTo>
                      <a:lnTo>
                        <a:pt x="40" y="0"/>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7" name="Freeform 26"/>
                <p:cNvSpPr/>
                <p:nvPr/>
              </p:nvSpPr>
              <p:spPr>
                <a:xfrm rot="622800">
                  <a:off x="3561480" y="2599200"/>
                  <a:ext cx="469080" cy="215280"/>
                </a:xfrm>
                <a:custGeom>
                  <a:avLst/>
                  <a:gdLst>
                    <a:gd name="textAreaLeft" fmla="*/ 0 w 469080"/>
                    <a:gd name="textAreaRight" fmla="*/ 469440 w 469080"/>
                    <a:gd name="textAreaTop" fmla="*/ 0 h 215280"/>
                    <a:gd name="textAreaBottom" fmla="*/ 215640 h 215280"/>
                  </a:gdLst>
                  <a:ahLst/>
                  <a:rect l="textAreaLeft" t="textAreaTop" r="textAreaRight" b="textAreaBottom"/>
                  <a:pathLst>
                    <a:path w="1186" h="532">
                      <a:moveTo>
                        <a:pt x="0" y="481"/>
                      </a:moveTo>
                      <a:lnTo>
                        <a:pt x="2" y="479"/>
                      </a:lnTo>
                      <a:lnTo>
                        <a:pt x="8" y="477"/>
                      </a:lnTo>
                      <a:lnTo>
                        <a:pt x="10" y="475"/>
                      </a:lnTo>
                      <a:lnTo>
                        <a:pt x="16" y="473"/>
                      </a:lnTo>
                      <a:lnTo>
                        <a:pt x="21" y="473"/>
                      </a:lnTo>
                      <a:lnTo>
                        <a:pt x="27" y="471"/>
                      </a:lnTo>
                      <a:lnTo>
                        <a:pt x="35" y="469"/>
                      </a:lnTo>
                      <a:lnTo>
                        <a:pt x="40" y="468"/>
                      </a:lnTo>
                      <a:lnTo>
                        <a:pt x="48" y="464"/>
                      </a:lnTo>
                      <a:lnTo>
                        <a:pt x="57" y="462"/>
                      </a:lnTo>
                      <a:lnTo>
                        <a:pt x="65" y="458"/>
                      </a:lnTo>
                      <a:lnTo>
                        <a:pt x="74" y="456"/>
                      </a:lnTo>
                      <a:lnTo>
                        <a:pt x="84" y="452"/>
                      </a:lnTo>
                      <a:lnTo>
                        <a:pt x="95" y="450"/>
                      </a:lnTo>
                      <a:lnTo>
                        <a:pt x="105" y="447"/>
                      </a:lnTo>
                      <a:lnTo>
                        <a:pt x="114" y="441"/>
                      </a:lnTo>
                      <a:lnTo>
                        <a:pt x="124" y="437"/>
                      </a:lnTo>
                      <a:lnTo>
                        <a:pt x="137" y="435"/>
                      </a:lnTo>
                      <a:lnTo>
                        <a:pt x="147" y="429"/>
                      </a:lnTo>
                      <a:lnTo>
                        <a:pt x="158" y="426"/>
                      </a:lnTo>
                      <a:lnTo>
                        <a:pt x="164" y="422"/>
                      </a:lnTo>
                      <a:lnTo>
                        <a:pt x="169" y="420"/>
                      </a:lnTo>
                      <a:lnTo>
                        <a:pt x="175" y="418"/>
                      </a:lnTo>
                      <a:lnTo>
                        <a:pt x="181" y="416"/>
                      </a:lnTo>
                      <a:lnTo>
                        <a:pt x="192" y="410"/>
                      </a:lnTo>
                      <a:lnTo>
                        <a:pt x="204" y="407"/>
                      </a:lnTo>
                      <a:lnTo>
                        <a:pt x="215" y="401"/>
                      </a:lnTo>
                      <a:lnTo>
                        <a:pt x="226" y="395"/>
                      </a:lnTo>
                      <a:lnTo>
                        <a:pt x="236" y="390"/>
                      </a:lnTo>
                      <a:lnTo>
                        <a:pt x="247" y="384"/>
                      </a:lnTo>
                      <a:lnTo>
                        <a:pt x="259" y="378"/>
                      </a:lnTo>
                      <a:lnTo>
                        <a:pt x="268" y="372"/>
                      </a:lnTo>
                      <a:lnTo>
                        <a:pt x="278" y="365"/>
                      </a:lnTo>
                      <a:lnTo>
                        <a:pt x="287" y="359"/>
                      </a:lnTo>
                      <a:lnTo>
                        <a:pt x="295" y="352"/>
                      </a:lnTo>
                      <a:lnTo>
                        <a:pt x="302" y="346"/>
                      </a:lnTo>
                      <a:lnTo>
                        <a:pt x="310" y="338"/>
                      </a:lnTo>
                      <a:lnTo>
                        <a:pt x="320" y="331"/>
                      </a:lnTo>
                      <a:lnTo>
                        <a:pt x="327" y="323"/>
                      </a:lnTo>
                      <a:lnTo>
                        <a:pt x="337" y="317"/>
                      </a:lnTo>
                      <a:lnTo>
                        <a:pt x="344" y="308"/>
                      </a:lnTo>
                      <a:lnTo>
                        <a:pt x="354" y="300"/>
                      </a:lnTo>
                      <a:lnTo>
                        <a:pt x="359" y="295"/>
                      </a:lnTo>
                      <a:lnTo>
                        <a:pt x="369" y="287"/>
                      </a:lnTo>
                      <a:lnTo>
                        <a:pt x="377" y="277"/>
                      </a:lnTo>
                      <a:lnTo>
                        <a:pt x="384" y="270"/>
                      </a:lnTo>
                      <a:lnTo>
                        <a:pt x="394" y="262"/>
                      </a:lnTo>
                      <a:lnTo>
                        <a:pt x="403" y="257"/>
                      </a:lnTo>
                      <a:lnTo>
                        <a:pt x="413" y="247"/>
                      </a:lnTo>
                      <a:lnTo>
                        <a:pt x="420" y="239"/>
                      </a:lnTo>
                      <a:lnTo>
                        <a:pt x="430" y="232"/>
                      </a:lnTo>
                      <a:lnTo>
                        <a:pt x="441" y="224"/>
                      </a:lnTo>
                      <a:lnTo>
                        <a:pt x="451" y="215"/>
                      </a:lnTo>
                      <a:lnTo>
                        <a:pt x="462" y="209"/>
                      </a:lnTo>
                      <a:lnTo>
                        <a:pt x="468" y="203"/>
                      </a:lnTo>
                      <a:lnTo>
                        <a:pt x="472" y="200"/>
                      </a:lnTo>
                      <a:lnTo>
                        <a:pt x="479" y="196"/>
                      </a:lnTo>
                      <a:lnTo>
                        <a:pt x="485" y="192"/>
                      </a:lnTo>
                      <a:lnTo>
                        <a:pt x="491" y="188"/>
                      </a:lnTo>
                      <a:lnTo>
                        <a:pt x="496" y="184"/>
                      </a:lnTo>
                      <a:lnTo>
                        <a:pt x="502" y="181"/>
                      </a:lnTo>
                      <a:lnTo>
                        <a:pt x="510" y="177"/>
                      </a:lnTo>
                      <a:lnTo>
                        <a:pt x="515" y="173"/>
                      </a:lnTo>
                      <a:lnTo>
                        <a:pt x="523" y="169"/>
                      </a:lnTo>
                      <a:lnTo>
                        <a:pt x="531" y="165"/>
                      </a:lnTo>
                      <a:lnTo>
                        <a:pt x="538" y="162"/>
                      </a:lnTo>
                      <a:lnTo>
                        <a:pt x="544" y="158"/>
                      </a:lnTo>
                      <a:lnTo>
                        <a:pt x="551" y="154"/>
                      </a:lnTo>
                      <a:lnTo>
                        <a:pt x="559" y="150"/>
                      </a:lnTo>
                      <a:lnTo>
                        <a:pt x="567" y="146"/>
                      </a:lnTo>
                      <a:lnTo>
                        <a:pt x="574" y="144"/>
                      </a:lnTo>
                      <a:lnTo>
                        <a:pt x="584" y="141"/>
                      </a:lnTo>
                      <a:lnTo>
                        <a:pt x="591" y="137"/>
                      </a:lnTo>
                      <a:lnTo>
                        <a:pt x="601" y="135"/>
                      </a:lnTo>
                      <a:lnTo>
                        <a:pt x="610" y="129"/>
                      </a:lnTo>
                      <a:lnTo>
                        <a:pt x="618" y="125"/>
                      </a:lnTo>
                      <a:lnTo>
                        <a:pt x="626" y="122"/>
                      </a:lnTo>
                      <a:lnTo>
                        <a:pt x="635" y="118"/>
                      </a:lnTo>
                      <a:lnTo>
                        <a:pt x="645" y="114"/>
                      </a:lnTo>
                      <a:lnTo>
                        <a:pt x="654" y="110"/>
                      </a:lnTo>
                      <a:lnTo>
                        <a:pt x="664" y="108"/>
                      </a:lnTo>
                      <a:lnTo>
                        <a:pt x="675" y="105"/>
                      </a:lnTo>
                      <a:lnTo>
                        <a:pt x="684" y="101"/>
                      </a:lnTo>
                      <a:lnTo>
                        <a:pt x="694" y="99"/>
                      </a:lnTo>
                      <a:lnTo>
                        <a:pt x="705" y="95"/>
                      </a:lnTo>
                      <a:lnTo>
                        <a:pt x="715" y="91"/>
                      </a:lnTo>
                      <a:lnTo>
                        <a:pt x="724" y="89"/>
                      </a:lnTo>
                      <a:lnTo>
                        <a:pt x="736" y="86"/>
                      </a:lnTo>
                      <a:lnTo>
                        <a:pt x="745" y="82"/>
                      </a:lnTo>
                      <a:lnTo>
                        <a:pt x="757" y="80"/>
                      </a:lnTo>
                      <a:lnTo>
                        <a:pt x="766" y="76"/>
                      </a:lnTo>
                      <a:lnTo>
                        <a:pt x="778" y="72"/>
                      </a:lnTo>
                      <a:lnTo>
                        <a:pt x="787" y="70"/>
                      </a:lnTo>
                      <a:lnTo>
                        <a:pt x="799" y="67"/>
                      </a:lnTo>
                      <a:lnTo>
                        <a:pt x="808" y="63"/>
                      </a:lnTo>
                      <a:lnTo>
                        <a:pt x="819" y="61"/>
                      </a:lnTo>
                      <a:lnTo>
                        <a:pt x="829" y="59"/>
                      </a:lnTo>
                      <a:lnTo>
                        <a:pt x="840" y="55"/>
                      </a:lnTo>
                      <a:lnTo>
                        <a:pt x="850" y="53"/>
                      </a:lnTo>
                      <a:lnTo>
                        <a:pt x="861" y="49"/>
                      </a:lnTo>
                      <a:lnTo>
                        <a:pt x="871" y="48"/>
                      </a:lnTo>
                      <a:lnTo>
                        <a:pt x="880" y="46"/>
                      </a:lnTo>
                      <a:lnTo>
                        <a:pt x="890" y="42"/>
                      </a:lnTo>
                      <a:lnTo>
                        <a:pt x="901" y="40"/>
                      </a:lnTo>
                      <a:lnTo>
                        <a:pt x="913" y="38"/>
                      </a:lnTo>
                      <a:lnTo>
                        <a:pt x="922" y="36"/>
                      </a:lnTo>
                      <a:lnTo>
                        <a:pt x="932" y="34"/>
                      </a:lnTo>
                      <a:lnTo>
                        <a:pt x="941" y="32"/>
                      </a:lnTo>
                      <a:lnTo>
                        <a:pt x="951" y="29"/>
                      </a:lnTo>
                      <a:lnTo>
                        <a:pt x="960" y="27"/>
                      </a:lnTo>
                      <a:lnTo>
                        <a:pt x="968" y="25"/>
                      </a:lnTo>
                      <a:lnTo>
                        <a:pt x="975" y="25"/>
                      </a:lnTo>
                      <a:lnTo>
                        <a:pt x="985" y="23"/>
                      </a:lnTo>
                      <a:lnTo>
                        <a:pt x="994" y="21"/>
                      </a:lnTo>
                      <a:lnTo>
                        <a:pt x="1002" y="17"/>
                      </a:lnTo>
                      <a:lnTo>
                        <a:pt x="1009" y="17"/>
                      </a:lnTo>
                      <a:lnTo>
                        <a:pt x="1017" y="15"/>
                      </a:lnTo>
                      <a:lnTo>
                        <a:pt x="1025" y="13"/>
                      </a:lnTo>
                      <a:lnTo>
                        <a:pt x="1030" y="11"/>
                      </a:lnTo>
                      <a:lnTo>
                        <a:pt x="1038" y="11"/>
                      </a:lnTo>
                      <a:lnTo>
                        <a:pt x="1046" y="10"/>
                      </a:lnTo>
                      <a:lnTo>
                        <a:pt x="1051" y="10"/>
                      </a:lnTo>
                      <a:lnTo>
                        <a:pt x="1063" y="6"/>
                      </a:lnTo>
                      <a:lnTo>
                        <a:pt x="1074" y="4"/>
                      </a:lnTo>
                      <a:lnTo>
                        <a:pt x="1082" y="2"/>
                      </a:lnTo>
                      <a:lnTo>
                        <a:pt x="1089" y="2"/>
                      </a:lnTo>
                      <a:lnTo>
                        <a:pt x="1095" y="0"/>
                      </a:lnTo>
                      <a:lnTo>
                        <a:pt x="1101" y="0"/>
                      </a:lnTo>
                      <a:lnTo>
                        <a:pt x="1103" y="0"/>
                      </a:lnTo>
                      <a:lnTo>
                        <a:pt x="1104" y="0"/>
                      </a:lnTo>
                      <a:lnTo>
                        <a:pt x="1186" y="19"/>
                      </a:lnTo>
                      <a:lnTo>
                        <a:pt x="1184" y="19"/>
                      </a:lnTo>
                      <a:lnTo>
                        <a:pt x="1181" y="19"/>
                      </a:lnTo>
                      <a:lnTo>
                        <a:pt x="1175" y="19"/>
                      </a:lnTo>
                      <a:lnTo>
                        <a:pt x="1169" y="21"/>
                      </a:lnTo>
                      <a:lnTo>
                        <a:pt x="1160" y="23"/>
                      </a:lnTo>
                      <a:lnTo>
                        <a:pt x="1152" y="25"/>
                      </a:lnTo>
                      <a:lnTo>
                        <a:pt x="1144" y="25"/>
                      </a:lnTo>
                      <a:lnTo>
                        <a:pt x="1139" y="27"/>
                      </a:lnTo>
                      <a:lnTo>
                        <a:pt x="1133" y="29"/>
                      </a:lnTo>
                      <a:lnTo>
                        <a:pt x="1127" y="30"/>
                      </a:lnTo>
                      <a:lnTo>
                        <a:pt x="1118" y="30"/>
                      </a:lnTo>
                      <a:lnTo>
                        <a:pt x="1112" y="32"/>
                      </a:lnTo>
                      <a:lnTo>
                        <a:pt x="1103" y="34"/>
                      </a:lnTo>
                      <a:lnTo>
                        <a:pt x="1095" y="36"/>
                      </a:lnTo>
                      <a:lnTo>
                        <a:pt x="1087" y="36"/>
                      </a:lnTo>
                      <a:lnTo>
                        <a:pt x="1078" y="40"/>
                      </a:lnTo>
                      <a:lnTo>
                        <a:pt x="1070" y="40"/>
                      </a:lnTo>
                      <a:lnTo>
                        <a:pt x="1061" y="44"/>
                      </a:lnTo>
                      <a:lnTo>
                        <a:pt x="1051" y="44"/>
                      </a:lnTo>
                      <a:lnTo>
                        <a:pt x="1042" y="46"/>
                      </a:lnTo>
                      <a:lnTo>
                        <a:pt x="1032" y="49"/>
                      </a:lnTo>
                      <a:lnTo>
                        <a:pt x="1023" y="51"/>
                      </a:lnTo>
                      <a:lnTo>
                        <a:pt x="1013" y="53"/>
                      </a:lnTo>
                      <a:lnTo>
                        <a:pt x="1002" y="55"/>
                      </a:lnTo>
                      <a:lnTo>
                        <a:pt x="992" y="59"/>
                      </a:lnTo>
                      <a:lnTo>
                        <a:pt x="983" y="63"/>
                      </a:lnTo>
                      <a:lnTo>
                        <a:pt x="971" y="65"/>
                      </a:lnTo>
                      <a:lnTo>
                        <a:pt x="960" y="67"/>
                      </a:lnTo>
                      <a:lnTo>
                        <a:pt x="947" y="68"/>
                      </a:lnTo>
                      <a:lnTo>
                        <a:pt x="937" y="72"/>
                      </a:lnTo>
                      <a:lnTo>
                        <a:pt x="926" y="74"/>
                      </a:lnTo>
                      <a:lnTo>
                        <a:pt x="914" y="78"/>
                      </a:lnTo>
                      <a:lnTo>
                        <a:pt x="903" y="82"/>
                      </a:lnTo>
                      <a:lnTo>
                        <a:pt x="892" y="84"/>
                      </a:lnTo>
                      <a:lnTo>
                        <a:pt x="878" y="87"/>
                      </a:lnTo>
                      <a:lnTo>
                        <a:pt x="869" y="89"/>
                      </a:lnTo>
                      <a:lnTo>
                        <a:pt x="856" y="93"/>
                      </a:lnTo>
                      <a:lnTo>
                        <a:pt x="844" y="97"/>
                      </a:lnTo>
                      <a:lnTo>
                        <a:pt x="833" y="99"/>
                      </a:lnTo>
                      <a:lnTo>
                        <a:pt x="821" y="103"/>
                      </a:lnTo>
                      <a:lnTo>
                        <a:pt x="810" y="106"/>
                      </a:lnTo>
                      <a:lnTo>
                        <a:pt x="800" y="110"/>
                      </a:lnTo>
                      <a:lnTo>
                        <a:pt x="787" y="112"/>
                      </a:lnTo>
                      <a:lnTo>
                        <a:pt x="776" y="116"/>
                      </a:lnTo>
                      <a:lnTo>
                        <a:pt x="764" y="120"/>
                      </a:lnTo>
                      <a:lnTo>
                        <a:pt x="753" y="122"/>
                      </a:lnTo>
                      <a:lnTo>
                        <a:pt x="741" y="125"/>
                      </a:lnTo>
                      <a:lnTo>
                        <a:pt x="730" y="129"/>
                      </a:lnTo>
                      <a:lnTo>
                        <a:pt x="719" y="133"/>
                      </a:lnTo>
                      <a:lnTo>
                        <a:pt x="709" y="137"/>
                      </a:lnTo>
                      <a:lnTo>
                        <a:pt x="698" y="141"/>
                      </a:lnTo>
                      <a:lnTo>
                        <a:pt x="688" y="144"/>
                      </a:lnTo>
                      <a:lnTo>
                        <a:pt x="677" y="148"/>
                      </a:lnTo>
                      <a:lnTo>
                        <a:pt x="667" y="152"/>
                      </a:lnTo>
                      <a:lnTo>
                        <a:pt x="658" y="156"/>
                      </a:lnTo>
                      <a:lnTo>
                        <a:pt x="648" y="160"/>
                      </a:lnTo>
                      <a:lnTo>
                        <a:pt x="639" y="163"/>
                      </a:lnTo>
                      <a:lnTo>
                        <a:pt x="629" y="167"/>
                      </a:lnTo>
                      <a:lnTo>
                        <a:pt x="620" y="171"/>
                      </a:lnTo>
                      <a:lnTo>
                        <a:pt x="610" y="175"/>
                      </a:lnTo>
                      <a:lnTo>
                        <a:pt x="601" y="181"/>
                      </a:lnTo>
                      <a:lnTo>
                        <a:pt x="593" y="184"/>
                      </a:lnTo>
                      <a:lnTo>
                        <a:pt x="584" y="186"/>
                      </a:lnTo>
                      <a:lnTo>
                        <a:pt x="576" y="192"/>
                      </a:lnTo>
                      <a:lnTo>
                        <a:pt x="569" y="196"/>
                      </a:lnTo>
                      <a:lnTo>
                        <a:pt x="563" y="200"/>
                      </a:lnTo>
                      <a:lnTo>
                        <a:pt x="555" y="203"/>
                      </a:lnTo>
                      <a:lnTo>
                        <a:pt x="548" y="207"/>
                      </a:lnTo>
                      <a:lnTo>
                        <a:pt x="540" y="211"/>
                      </a:lnTo>
                      <a:lnTo>
                        <a:pt x="534" y="215"/>
                      </a:lnTo>
                      <a:lnTo>
                        <a:pt x="527" y="219"/>
                      </a:lnTo>
                      <a:lnTo>
                        <a:pt x="521" y="222"/>
                      </a:lnTo>
                      <a:lnTo>
                        <a:pt x="515" y="228"/>
                      </a:lnTo>
                      <a:lnTo>
                        <a:pt x="510" y="232"/>
                      </a:lnTo>
                      <a:lnTo>
                        <a:pt x="502" y="236"/>
                      </a:lnTo>
                      <a:lnTo>
                        <a:pt x="496" y="239"/>
                      </a:lnTo>
                      <a:lnTo>
                        <a:pt x="491" y="243"/>
                      </a:lnTo>
                      <a:lnTo>
                        <a:pt x="487" y="249"/>
                      </a:lnTo>
                      <a:lnTo>
                        <a:pt x="475" y="257"/>
                      </a:lnTo>
                      <a:lnTo>
                        <a:pt x="466" y="264"/>
                      </a:lnTo>
                      <a:lnTo>
                        <a:pt x="455" y="272"/>
                      </a:lnTo>
                      <a:lnTo>
                        <a:pt x="445" y="281"/>
                      </a:lnTo>
                      <a:lnTo>
                        <a:pt x="437" y="289"/>
                      </a:lnTo>
                      <a:lnTo>
                        <a:pt x="430" y="298"/>
                      </a:lnTo>
                      <a:lnTo>
                        <a:pt x="420" y="306"/>
                      </a:lnTo>
                      <a:lnTo>
                        <a:pt x="413" y="314"/>
                      </a:lnTo>
                      <a:lnTo>
                        <a:pt x="403" y="321"/>
                      </a:lnTo>
                      <a:lnTo>
                        <a:pt x="396" y="329"/>
                      </a:lnTo>
                      <a:lnTo>
                        <a:pt x="388" y="336"/>
                      </a:lnTo>
                      <a:lnTo>
                        <a:pt x="380" y="344"/>
                      </a:lnTo>
                      <a:lnTo>
                        <a:pt x="373" y="352"/>
                      </a:lnTo>
                      <a:lnTo>
                        <a:pt x="365" y="361"/>
                      </a:lnTo>
                      <a:lnTo>
                        <a:pt x="358" y="367"/>
                      </a:lnTo>
                      <a:lnTo>
                        <a:pt x="348" y="374"/>
                      </a:lnTo>
                      <a:lnTo>
                        <a:pt x="340" y="382"/>
                      </a:lnTo>
                      <a:lnTo>
                        <a:pt x="333" y="390"/>
                      </a:lnTo>
                      <a:lnTo>
                        <a:pt x="323" y="395"/>
                      </a:lnTo>
                      <a:lnTo>
                        <a:pt x="316" y="403"/>
                      </a:lnTo>
                      <a:lnTo>
                        <a:pt x="306" y="410"/>
                      </a:lnTo>
                      <a:lnTo>
                        <a:pt x="297" y="418"/>
                      </a:lnTo>
                      <a:lnTo>
                        <a:pt x="283" y="422"/>
                      </a:lnTo>
                      <a:lnTo>
                        <a:pt x="274" y="429"/>
                      </a:lnTo>
                      <a:lnTo>
                        <a:pt x="263" y="435"/>
                      </a:lnTo>
                      <a:lnTo>
                        <a:pt x="251" y="441"/>
                      </a:lnTo>
                      <a:lnTo>
                        <a:pt x="245" y="445"/>
                      </a:lnTo>
                      <a:lnTo>
                        <a:pt x="240" y="447"/>
                      </a:lnTo>
                      <a:lnTo>
                        <a:pt x="232" y="448"/>
                      </a:lnTo>
                      <a:lnTo>
                        <a:pt x="226" y="452"/>
                      </a:lnTo>
                      <a:lnTo>
                        <a:pt x="221" y="454"/>
                      </a:lnTo>
                      <a:lnTo>
                        <a:pt x="215" y="458"/>
                      </a:lnTo>
                      <a:lnTo>
                        <a:pt x="209" y="462"/>
                      </a:lnTo>
                      <a:lnTo>
                        <a:pt x="204" y="464"/>
                      </a:lnTo>
                      <a:lnTo>
                        <a:pt x="198" y="466"/>
                      </a:lnTo>
                      <a:lnTo>
                        <a:pt x="190" y="468"/>
                      </a:lnTo>
                      <a:lnTo>
                        <a:pt x="185" y="471"/>
                      </a:lnTo>
                      <a:lnTo>
                        <a:pt x="179" y="473"/>
                      </a:lnTo>
                      <a:lnTo>
                        <a:pt x="171" y="475"/>
                      </a:lnTo>
                      <a:lnTo>
                        <a:pt x="166" y="479"/>
                      </a:lnTo>
                      <a:lnTo>
                        <a:pt x="160" y="481"/>
                      </a:lnTo>
                      <a:lnTo>
                        <a:pt x="154" y="485"/>
                      </a:lnTo>
                      <a:lnTo>
                        <a:pt x="149" y="485"/>
                      </a:lnTo>
                      <a:lnTo>
                        <a:pt x="141" y="487"/>
                      </a:lnTo>
                      <a:lnTo>
                        <a:pt x="137" y="490"/>
                      </a:lnTo>
                      <a:lnTo>
                        <a:pt x="131" y="492"/>
                      </a:lnTo>
                      <a:lnTo>
                        <a:pt x="120" y="496"/>
                      </a:lnTo>
                      <a:lnTo>
                        <a:pt x="109" y="502"/>
                      </a:lnTo>
                      <a:lnTo>
                        <a:pt x="97" y="504"/>
                      </a:lnTo>
                      <a:lnTo>
                        <a:pt x="86" y="507"/>
                      </a:lnTo>
                      <a:lnTo>
                        <a:pt x="76" y="511"/>
                      </a:lnTo>
                      <a:lnTo>
                        <a:pt x="67" y="513"/>
                      </a:lnTo>
                      <a:lnTo>
                        <a:pt x="57" y="515"/>
                      </a:lnTo>
                      <a:lnTo>
                        <a:pt x="48" y="519"/>
                      </a:lnTo>
                      <a:lnTo>
                        <a:pt x="40" y="521"/>
                      </a:lnTo>
                      <a:lnTo>
                        <a:pt x="35" y="525"/>
                      </a:lnTo>
                      <a:lnTo>
                        <a:pt x="27" y="525"/>
                      </a:lnTo>
                      <a:lnTo>
                        <a:pt x="21" y="526"/>
                      </a:lnTo>
                      <a:lnTo>
                        <a:pt x="16" y="528"/>
                      </a:lnTo>
                      <a:lnTo>
                        <a:pt x="12" y="530"/>
                      </a:lnTo>
                      <a:lnTo>
                        <a:pt x="6" y="532"/>
                      </a:lnTo>
                      <a:lnTo>
                        <a:pt x="4" y="532"/>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8" name="Freeform 27"/>
                <p:cNvSpPr/>
                <p:nvPr/>
              </p:nvSpPr>
              <p:spPr>
                <a:xfrm rot="622800">
                  <a:off x="3590640" y="2784240"/>
                  <a:ext cx="191880" cy="98640"/>
                </a:xfrm>
                <a:custGeom>
                  <a:avLst/>
                  <a:gdLst>
                    <a:gd name="textAreaLeft" fmla="*/ 0 w 191880"/>
                    <a:gd name="textAreaRight" fmla="*/ 192240 w 191880"/>
                    <a:gd name="textAreaTop" fmla="*/ 0 h 98640"/>
                    <a:gd name="textAreaBottom" fmla="*/ 99000 h 98640"/>
                  </a:gdLst>
                  <a:ahLst/>
                  <a:rect l="textAreaLeft" t="textAreaTop" r="textAreaRight" b="textAreaBottom"/>
                  <a:pathLst>
                    <a:path w="487" h="243">
                      <a:moveTo>
                        <a:pt x="0" y="195"/>
                      </a:moveTo>
                      <a:lnTo>
                        <a:pt x="2" y="195"/>
                      </a:lnTo>
                      <a:lnTo>
                        <a:pt x="6" y="195"/>
                      </a:lnTo>
                      <a:lnTo>
                        <a:pt x="12" y="195"/>
                      </a:lnTo>
                      <a:lnTo>
                        <a:pt x="23" y="195"/>
                      </a:lnTo>
                      <a:lnTo>
                        <a:pt x="27" y="195"/>
                      </a:lnTo>
                      <a:lnTo>
                        <a:pt x="32" y="195"/>
                      </a:lnTo>
                      <a:lnTo>
                        <a:pt x="40" y="194"/>
                      </a:lnTo>
                      <a:lnTo>
                        <a:pt x="48" y="194"/>
                      </a:lnTo>
                      <a:lnTo>
                        <a:pt x="53" y="192"/>
                      </a:lnTo>
                      <a:lnTo>
                        <a:pt x="63" y="192"/>
                      </a:lnTo>
                      <a:lnTo>
                        <a:pt x="72" y="192"/>
                      </a:lnTo>
                      <a:lnTo>
                        <a:pt x="82" y="192"/>
                      </a:lnTo>
                      <a:lnTo>
                        <a:pt x="89" y="190"/>
                      </a:lnTo>
                      <a:lnTo>
                        <a:pt x="99" y="190"/>
                      </a:lnTo>
                      <a:lnTo>
                        <a:pt x="110" y="188"/>
                      </a:lnTo>
                      <a:lnTo>
                        <a:pt x="122" y="186"/>
                      </a:lnTo>
                      <a:lnTo>
                        <a:pt x="131" y="184"/>
                      </a:lnTo>
                      <a:lnTo>
                        <a:pt x="143" y="182"/>
                      </a:lnTo>
                      <a:lnTo>
                        <a:pt x="152" y="180"/>
                      </a:lnTo>
                      <a:lnTo>
                        <a:pt x="164" y="178"/>
                      </a:lnTo>
                      <a:lnTo>
                        <a:pt x="175" y="176"/>
                      </a:lnTo>
                      <a:lnTo>
                        <a:pt x="186" y="173"/>
                      </a:lnTo>
                      <a:lnTo>
                        <a:pt x="192" y="171"/>
                      </a:lnTo>
                      <a:lnTo>
                        <a:pt x="198" y="169"/>
                      </a:lnTo>
                      <a:lnTo>
                        <a:pt x="203" y="169"/>
                      </a:lnTo>
                      <a:lnTo>
                        <a:pt x="209" y="167"/>
                      </a:lnTo>
                      <a:lnTo>
                        <a:pt x="221" y="163"/>
                      </a:lnTo>
                      <a:lnTo>
                        <a:pt x="232" y="159"/>
                      </a:lnTo>
                      <a:lnTo>
                        <a:pt x="238" y="157"/>
                      </a:lnTo>
                      <a:lnTo>
                        <a:pt x="243" y="156"/>
                      </a:lnTo>
                      <a:lnTo>
                        <a:pt x="249" y="152"/>
                      </a:lnTo>
                      <a:lnTo>
                        <a:pt x="257" y="152"/>
                      </a:lnTo>
                      <a:lnTo>
                        <a:pt x="266" y="146"/>
                      </a:lnTo>
                      <a:lnTo>
                        <a:pt x="278" y="140"/>
                      </a:lnTo>
                      <a:lnTo>
                        <a:pt x="287" y="135"/>
                      </a:lnTo>
                      <a:lnTo>
                        <a:pt x="299" y="131"/>
                      </a:lnTo>
                      <a:lnTo>
                        <a:pt x="310" y="123"/>
                      </a:lnTo>
                      <a:lnTo>
                        <a:pt x="321" y="118"/>
                      </a:lnTo>
                      <a:lnTo>
                        <a:pt x="331" y="112"/>
                      </a:lnTo>
                      <a:lnTo>
                        <a:pt x="342" y="106"/>
                      </a:lnTo>
                      <a:lnTo>
                        <a:pt x="352" y="100"/>
                      </a:lnTo>
                      <a:lnTo>
                        <a:pt x="361" y="93"/>
                      </a:lnTo>
                      <a:lnTo>
                        <a:pt x="371" y="87"/>
                      </a:lnTo>
                      <a:lnTo>
                        <a:pt x="382" y="81"/>
                      </a:lnTo>
                      <a:lnTo>
                        <a:pt x="390" y="74"/>
                      </a:lnTo>
                      <a:lnTo>
                        <a:pt x="399" y="68"/>
                      </a:lnTo>
                      <a:lnTo>
                        <a:pt x="409" y="61"/>
                      </a:lnTo>
                      <a:lnTo>
                        <a:pt x="416" y="57"/>
                      </a:lnTo>
                      <a:lnTo>
                        <a:pt x="424" y="49"/>
                      </a:lnTo>
                      <a:lnTo>
                        <a:pt x="432" y="43"/>
                      </a:lnTo>
                      <a:lnTo>
                        <a:pt x="437" y="38"/>
                      </a:lnTo>
                      <a:lnTo>
                        <a:pt x="445" y="32"/>
                      </a:lnTo>
                      <a:lnTo>
                        <a:pt x="451" y="28"/>
                      </a:lnTo>
                      <a:lnTo>
                        <a:pt x="456" y="23"/>
                      </a:lnTo>
                      <a:lnTo>
                        <a:pt x="462" y="19"/>
                      </a:lnTo>
                      <a:lnTo>
                        <a:pt x="468" y="15"/>
                      </a:lnTo>
                      <a:lnTo>
                        <a:pt x="475" y="7"/>
                      </a:lnTo>
                      <a:lnTo>
                        <a:pt x="481" y="4"/>
                      </a:lnTo>
                      <a:lnTo>
                        <a:pt x="485" y="0"/>
                      </a:lnTo>
                      <a:lnTo>
                        <a:pt x="487" y="0"/>
                      </a:lnTo>
                      <a:lnTo>
                        <a:pt x="473" y="59"/>
                      </a:lnTo>
                      <a:lnTo>
                        <a:pt x="471" y="59"/>
                      </a:lnTo>
                      <a:lnTo>
                        <a:pt x="468" y="62"/>
                      </a:lnTo>
                      <a:lnTo>
                        <a:pt x="464" y="68"/>
                      </a:lnTo>
                      <a:lnTo>
                        <a:pt x="456" y="76"/>
                      </a:lnTo>
                      <a:lnTo>
                        <a:pt x="447" y="83"/>
                      </a:lnTo>
                      <a:lnTo>
                        <a:pt x="437" y="93"/>
                      </a:lnTo>
                      <a:lnTo>
                        <a:pt x="430" y="99"/>
                      </a:lnTo>
                      <a:lnTo>
                        <a:pt x="424" y="104"/>
                      </a:lnTo>
                      <a:lnTo>
                        <a:pt x="418" y="110"/>
                      </a:lnTo>
                      <a:lnTo>
                        <a:pt x="411" y="116"/>
                      </a:lnTo>
                      <a:lnTo>
                        <a:pt x="403" y="121"/>
                      </a:lnTo>
                      <a:lnTo>
                        <a:pt x="395" y="129"/>
                      </a:lnTo>
                      <a:lnTo>
                        <a:pt x="388" y="135"/>
                      </a:lnTo>
                      <a:lnTo>
                        <a:pt x="380" y="140"/>
                      </a:lnTo>
                      <a:lnTo>
                        <a:pt x="371" y="146"/>
                      </a:lnTo>
                      <a:lnTo>
                        <a:pt x="363" y="152"/>
                      </a:lnTo>
                      <a:lnTo>
                        <a:pt x="354" y="159"/>
                      </a:lnTo>
                      <a:lnTo>
                        <a:pt x="346" y="165"/>
                      </a:lnTo>
                      <a:lnTo>
                        <a:pt x="337" y="171"/>
                      </a:lnTo>
                      <a:lnTo>
                        <a:pt x="327" y="176"/>
                      </a:lnTo>
                      <a:lnTo>
                        <a:pt x="318" y="180"/>
                      </a:lnTo>
                      <a:lnTo>
                        <a:pt x="308" y="188"/>
                      </a:lnTo>
                      <a:lnTo>
                        <a:pt x="297" y="192"/>
                      </a:lnTo>
                      <a:lnTo>
                        <a:pt x="287" y="197"/>
                      </a:lnTo>
                      <a:lnTo>
                        <a:pt x="278" y="201"/>
                      </a:lnTo>
                      <a:lnTo>
                        <a:pt x="268" y="207"/>
                      </a:lnTo>
                      <a:lnTo>
                        <a:pt x="257" y="211"/>
                      </a:lnTo>
                      <a:lnTo>
                        <a:pt x="247" y="214"/>
                      </a:lnTo>
                      <a:lnTo>
                        <a:pt x="236" y="218"/>
                      </a:lnTo>
                      <a:lnTo>
                        <a:pt x="226" y="222"/>
                      </a:lnTo>
                      <a:lnTo>
                        <a:pt x="217" y="224"/>
                      </a:lnTo>
                      <a:lnTo>
                        <a:pt x="205" y="226"/>
                      </a:lnTo>
                      <a:lnTo>
                        <a:pt x="194" y="228"/>
                      </a:lnTo>
                      <a:lnTo>
                        <a:pt x="184" y="232"/>
                      </a:lnTo>
                      <a:lnTo>
                        <a:pt x="175" y="233"/>
                      </a:lnTo>
                      <a:lnTo>
                        <a:pt x="165" y="235"/>
                      </a:lnTo>
                      <a:lnTo>
                        <a:pt x="156" y="235"/>
                      </a:lnTo>
                      <a:lnTo>
                        <a:pt x="146" y="237"/>
                      </a:lnTo>
                      <a:lnTo>
                        <a:pt x="137" y="237"/>
                      </a:lnTo>
                      <a:lnTo>
                        <a:pt x="127" y="241"/>
                      </a:lnTo>
                      <a:lnTo>
                        <a:pt x="120" y="241"/>
                      </a:lnTo>
                      <a:lnTo>
                        <a:pt x="112" y="243"/>
                      </a:lnTo>
                      <a:lnTo>
                        <a:pt x="103" y="243"/>
                      </a:lnTo>
                      <a:lnTo>
                        <a:pt x="95" y="243"/>
                      </a:lnTo>
                      <a:lnTo>
                        <a:pt x="88" y="243"/>
                      </a:lnTo>
                      <a:lnTo>
                        <a:pt x="82" y="243"/>
                      </a:lnTo>
                      <a:lnTo>
                        <a:pt x="74" y="243"/>
                      </a:lnTo>
                      <a:lnTo>
                        <a:pt x="69" y="243"/>
                      </a:lnTo>
                      <a:lnTo>
                        <a:pt x="63" y="243"/>
                      </a:lnTo>
                      <a:lnTo>
                        <a:pt x="59" y="243"/>
                      </a:lnTo>
                      <a:lnTo>
                        <a:pt x="50" y="243"/>
                      </a:lnTo>
                      <a:lnTo>
                        <a:pt x="44" y="243"/>
                      </a:lnTo>
                      <a:lnTo>
                        <a:pt x="40" y="243"/>
                      </a:lnTo>
                      <a:lnTo>
                        <a:pt x="38" y="243"/>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99" name="Freeform 28"/>
                <p:cNvSpPr/>
                <p:nvPr/>
              </p:nvSpPr>
              <p:spPr>
                <a:xfrm rot="622800">
                  <a:off x="3980520" y="2684880"/>
                  <a:ext cx="200880" cy="97920"/>
                </a:xfrm>
                <a:custGeom>
                  <a:avLst/>
                  <a:gdLst>
                    <a:gd name="textAreaLeft" fmla="*/ 0 w 200880"/>
                    <a:gd name="textAreaRight" fmla="*/ 201240 w 200880"/>
                    <a:gd name="textAreaTop" fmla="*/ 0 h 97920"/>
                    <a:gd name="textAreaBottom" fmla="*/ 98280 h 97920"/>
                  </a:gdLst>
                  <a:ahLst/>
                  <a:rect l="textAreaLeft" t="textAreaTop" r="textAreaRight" b="textAreaBottom"/>
                  <a:pathLst>
                    <a:path w="507" h="241">
                      <a:moveTo>
                        <a:pt x="0" y="195"/>
                      </a:moveTo>
                      <a:lnTo>
                        <a:pt x="2" y="195"/>
                      </a:lnTo>
                      <a:lnTo>
                        <a:pt x="5" y="195"/>
                      </a:lnTo>
                      <a:lnTo>
                        <a:pt x="13" y="195"/>
                      </a:lnTo>
                      <a:lnTo>
                        <a:pt x="23" y="197"/>
                      </a:lnTo>
                      <a:lnTo>
                        <a:pt x="28" y="197"/>
                      </a:lnTo>
                      <a:lnTo>
                        <a:pt x="34" y="197"/>
                      </a:lnTo>
                      <a:lnTo>
                        <a:pt x="42" y="197"/>
                      </a:lnTo>
                      <a:lnTo>
                        <a:pt x="47" y="197"/>
                      </a:lnTo>
                      <a:lnTo>
                        <a:pt x="55" y="197"/>
                      </a:lnTo>
                      <a:lnTo>
                        <a:pt x="64" y="197"/>
                      </a:lnTo>
                      <a:lnTo>
                        <a:pt x="72" y="197"/>
                      </a:lnTo>
                      <a:lnTo>
                        <a:pt x="81" y="197"/>
                      </a:lnTo>
                      <a:lnTo>
                        <a:pt x="91" y="195"/>
                      </a:lnTo>
                      <a:lnTo>
                        <a:pt x="100" y="195"/>
                      </a:lnTo>
                      <a:lnTo>
                        <a:pt x="110" y="193"/>
                      </a:lnTo>
                      <a:lnTo>
                        <a:pt x="120" y="193"/>
                      </a:lnTo>
                      <a:lnTo>
                        <a:pt x="129" y="192"/>
                      </a:lnTo>
                      <a:lnTo>
                        <a:pt x="139" y="192"/>
                      </a:lnTo>
                      <a:lnTo>
                        <a:pt x="150" y="188"/>
                      </a:lnTo>
                      <a:lnTo>
                        <a:pt x="159" y="188"/>
                      </a:lnTo>
                      <a:lnTo>
                        <a:pt x="169" y="184"/>
                      </a:lnTo>
                      <a:lnTo>
                        <a:pt x="180" y="182"/>
                      </a:lnTo>
                      <a:lnTo>
                        <a:pt x="190" y="178"/>
                      </a:lnTo>
                      <a:lnTo>
                        <a:pt x="203" y="176"/>
                      </a:lnTo>
                      <a:lnTo>
                        <a:pt x="213" y="173"/>
                      </a:lnTo>
                      <a:lnTo>
                        <a:pt x="222" y="169"/>
                      </a:lnTo>
                      <a:lnTo>
                        <a:pt x="234" y="165"/>
                      </a:lnTo>
                      <a:lnTo>
                        <a:pt x="243" y="163"/>
                      </a:lnTo>
                      <a:lnTo>
                        <a:pt x="253" y="157"/>
                      </a:lnTo>
                      <a:lnTo>
                        <a:pt x="262" y="152"/>
                      </a:lnTo>
                      <a:lnTo>
                        <a:pt x="272" y="146"/>
                      </a:lnTo>
                      <a:lnTo>
                        <a:pt x="281" y="140"/>
                      </a:lnTo>
                      <a:lnTo>
                        <a:pt x="289" y="135"/>
                      </a:lnTo>
                      <a:lnTo>
                        <a:pt x="298" y="127"/>
                      </a:lnTo>
                      <a:lnTo>
                        <a:pt x="308" y="121"/>
                      </a:lnTo>
                      <a:lnTo>
                        <a:pt x="315" y="116"/>
                      </a:lnTo>
                      <a:lnTo>
                        <a:pt x="323" y="108"/>
                      </a:lnTo>
                      <a:lnTo>
                        <a:pt x="330" y="102"/>
                      </a:lnTo>
                      <a:lnTo>
                        <a:pt x="338" y="97"/>
                      </a:lnTo>
                      <a:lnTo>
                        <a:pt x="346" y="89"/>
                      </a:lnTo>
                      <a:lnTo>
                        <a:pt x="351" y="81"/>
                      </a:lnTo>
                      <a:lnTo>
                        <a:pt x="359" y="76"/>
                      </a:lnTo>
                      <a:lnTo>
                        <a:pt x="367" y="70"/>
                      </a:lnTo>
                      <a:lnTo>
                        <a:pt x="374" y="62"/>
                      </a:lnTo>
                      <a:lnTo>
                        <a:pt x="378" y="55"/>
                      </a:lnTo>
                      <a:lnTo>
                        <a:pt x="384" y="49"/>
                      </a:lnTo>
                      <a:lnTo>
                        <a:pt x="389" y="43"/>
                      </a:lnTo>
                      <a:lnTo>
                        <a:pt x="395" y="38"/>
                      </a:lnTo>
                      <a:lnTo>
                        <a:pt x="403" y="26"/>
                      </a:lnTo>
                      <a:lnTo>
                        <a:pt x="410" y="17"/>
                      </a:lnTo>
                      <a:lnTo>
                        <a:pt x="416" y="9"/>
                      </a:lnTo>
                      <a:lnTo>
                        <a:pt x="420" y="3"/>
                      </a:lnTo>
                      <a:lnTo>
                        <a:pt x="422" y="0"/>
                      </a:lnTo>
                      <a:lnTo>
                        <a:pt x="424" y="0"/>
                      </a:lnTo>
                      <a:lnTo>
                        <a:pt x="507" y="22"/>
                      </a:lnTo>
                      <a:lnTo>
                        <a:pt x="505" y="22"/>
                      </a:lnTo>
                      <a:lnTo>
                        <a:pt x="502" y="26"/>
                      </a:lnTo>
                      <a:lnTo>
                        <a:pt x="496" y="32"/>
                      </a:lnTo>
                      <a:lnTo>
                        <a:pt x="486" y="41"/>
                      </a:lnTo>
                      <a:lnTo>
                        <a:pt x="481" y="45"/>
                      </a:lnTo>
                      <a:lnTo>
                        <a:pt x="473" y="51"/>
                      </a:lnTo>
                      <a:lnTo>
                        <a:pt x="467" y="57"/>
                      </a:lnTo>
                      <a:lnTo>
                        <a:pt x="462" y="64"/>
                      </a:lnTo>
                      <a:lnTo>
                        <a:pt x="454" y="70"/>
                      </a:lnTo>
                      <a:lnTo>
                        <a:pt x="446" y="76"/>
                      </a:lnTo>
                      <a:lnTo>
                        <a:pt x="439" y="83"/>
                      </a:lnTo>
                      <a:lnTo>
                        <a:pt x="431" y="91"/>
                      </a:lnTo>
                      <a:lnTo>
                        <a:pt x="422" y="98"/>
                      </a:lnTo>
                      <a:lnTo>
                        <a:pt x="412" y="106"/>
                      </a:lnTo>
                      <a:lnTo>
                        <a:pt x="403" y="112"/>
                      </a:lnTo>
                      <a:lnTo>
                        <a:pt x="393" y="121"/>
                      </a:lnTo>
                      <a:lnTo>
                        <a:pt x="384" y="127"/>
                      </a:lnTo>
                      <a:lnTo>
                        <a:pt x="374" y="136"/>
                      </a:lnTo>
                      <a:lnTo>
                        <a:pt x="363" y="144"/>
                      </a:lnTo>
                      <a:lnTo>
                        <a:pt x="353" y="152"/>
                      </a:lnTo>
                      <a:lnTo>
                        <a:pt x="342" y="157"/>
                      </a:lnTo>
                      <a:lnTo>
                        <a:pt x="330" y="165"/>
                      </a:lnTo>
                      <a:lnTo>
                        <a:pt x="319" y="171"/>
                      </a:lnTo>
                      <a:lnTo>
                        <a:pt x="310" y="178"/>
                      </a:lnTo>
                      <a:lnTo>
                        <a:pt x="298" y="184"/>
                      </a:lnTo>
                      <a:lnTo>
                        <a:pt x="287" y="192"/>
                      </a:lnTo>
                      <a:lnTo>
                        <a:pt x="275" y="195"/>
                      </a:lnTo>
                      <a:lnTo>
                        <a:pt x="264" y="203"/>
                      </a:lnTo>
                      <a:lnTo>
                        <a:pt x="258" y="203"/>
                      </a:lnTo>
                      <a:lnTo>
                        <a:pt x="253" y="207"/>
                      </a:lnTo>
                      <a:lnTo>
                        <a:pt x="247" y="207"/>
                      </a:lnTo>
                      <a:lnTo>
                        <a:pt x="241" y="211"/>
                      </a:lnTo>
                      <a:lnTo>
                        <a:pt x="235" y="212"/>
                      </a:lnTo>
                      <a:lnTo>
                        <a:pt x="228" y="214"/>
                      </a:lnTo>
                      <a:lnTo>
                        <a:pt x="224" y="216"/>
                      </a:lnTo>
                      <a:lnTo>
                        <a:pt x="218" y="220"/>
                      </a:lnTo>
                      <a:lnTo>
                        <a:pt x="207" y="222"/>
                      </a:lnTo>
                      <a:lnTo>
                        <a:pt x="196" y="224"/>
                      </a:lnTo>
                      <a:lnTo>
                        <a:pt x="184" y="228"/>
                      </a:lnTo>
                      <a:lnTo>
                        <a:pt x="175" y="231"/>
                      </a:lnTo>
                      <a:lnTo>
                        <a:pt x="163" y="231"/>
                      </a:lnTo>
                      <a:lnTo>
                        <a:pt x="152" y="233"/>
                      </a:lnTo>
                      <a:lnTo>
                        <a:pt x="142" y="235"/>
                      </a:lnTo>
                      <a:lnTo>
                        <a:pt x="133" y="237"/>
                      </a:lnTo>
                      <a:lnTo>
                        <a:pt x="123" y="239"/>
                      </a:lnTo>
                      <a:lnTo>
                        <a:pt x="114" y="239"/>
                      </a:lnTo>
                      <a:lnTo>
                        <a:pt x="104" y="241"/>
                      </a:lnTo>
                      <a:lnTo>
                        <a:pt x="99" y="241"/>
                      </a:lnTo>
                      <a:lnTo>
                        <a:pt x="89" y="241"/>
                      </a:lnTo>
                      <a:lnTo>
                        <a:pt x="81" y="241"/>
                      </a:lnTo>
                      <a:lnTo>
                        <a:pt x="72" y="241"/>
                      </a:lnTo>
                      <a:lnTo>
                        <a:pt x="66" y="241"/>
                      </a:lnTo>
                      <a:lnTo>
                        <a:pt x="59" y="241"/>
                      </a:lnTo>
                      <a:lnTo>
                        <a:pt x="53" y="241"/>
                      </a:lnTo>
                      <a:lnTo>
                        <a:pt x="47" y="241"/>
                      </a:lnTo>
                      <a:lnTo>
                        <a:pt x="43" y="241"/>
                      </a:lnTo>
                      <a:lnTo>
                        <a:pt x="34" y="239"/>
                      </a:lnTo>
                      <a:lnTo>
                        <a:pt x="28" y="239"/>
                      </a:lnTo>
                      <a:lnTo>
                        <a:pt x="24" y="239"/>
                      </a:lnTo>
                      <a:lnTo>
                        <a:pt x="23" y="239"/>
                      </a:lnTo>
                      <a:lnTo>
                        <a:pt x="0" y="224"/>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0" name="Freeform 29"/>
                <p:cNvSpPr/>
                <p:nvPr/>
              </p:nvSpPr>
              <p:spPr>
                <a:xfrm rot="622800">
                  <a:off x="3711960" y="2835000"/>
                  <a:ext cx="306720" cy="158760"/>
                </a:xfrm>
                <a:custGeom>
                  <a:avLst/>
                  <a:gdLst>
                    <a:gd name="textAreaLeft" fmla="*/ 0 w 306720"/>
                    <a:gd name="textAreaRight" fmla="*/ 307080 w 306720"/>
                    <a:gd name="textAreaTop" fmla="*/ 0 h 158760"/>
                    <a:gd name="textAreaBottom" fmla="*/ 158760 h 158760"/>
                  </a:gdLst>
                  <a:ahLst/>
                  <a:rect l="textAreaLeft" t="textAreaTop" r="textAreaRight" b="textAreaBottom"/>
                  <a:pathLst>
                    <a:path w="775" h="391">
                      <a:moveTo>
                        <a:pt x="0" y="359"/>
                      </a:moveTo>
                      <a:lnTo>
                        <a:pt x="1" y="359"/>
                      </a:lnTo>
                      <a:lnTo>
                        <a:pt x="9" y="355"/>
                      </a:lnTo>
                      <a:lnTo>
                        <a:pt x="15" y="353"/>
                      </a:lnTo>
                      <a:lnTo>
                        <a:pt x="22" y="351"/>
                      </a:lnTo>
                      <a:lnTo>
                        <a:pt x="28" y="349"/>
                      </a:lnTo>
                      <a:lnTo>
                        <a:pt x="38" y="347"/>
                      </a:lnTo>
                      <a:lnTo>
                        <a:pt x="47" y="343"/>
                      </a:lnTo>
                      <a:lnTo>
                        <a:pt x="58" y="340"/>
                      </a:lnTo>
                      <a:lnTo>
                        <a:pt x="64" y="338"/>
                      </a:lnTo>
                      <a:lnTo>
                        <a:pt x="70" y="336"/>
                      </a:lnTo>
                      <a:lnTo>
                        <a:pt x="76" y="334"/>
                      </a:lnTo>
                      <a:lnTo>
                        <a:pt x="83" y="334"/>
                      </a:lnTo>
                      <a:lnTo>
                        <a:pt x="89" y="330"/>
                      </a:lnTo>
                      <a:lnTo>
                        <a:pt x="95" y="330"/>
                      </a:lnTo>
                      <a:lnTo>
                        <a:pt x="102" y="326"/>
                      </a:lnTo>
                      <a:lnTo>
                        <a:pt x="110" y="324"/>
                      </a:lnTo>
                      <a:lnTo>
                        <a:pt x="115" y="323"/>
                      </a:lnTo>
                      <a:lnTo>
                        <a:pt x="123" y="321"/>
                      </a:lnTo>
                      <a:lnTo>
                        <a:pt x="131" y="317"/>
                      </a:lnTo>
                      <a:lnTo>
                        <a:pt x="140" y="317"/>
                      </a:lnTo>
                      <a:lnTo>
                        <a:pt x="146" y="313"/>
                      </a:lnTo>
                      <a:lnTo>
                        <a:pt x="155" y="311"/>
                      </a:lnTo>
                      <a:lnTo>
                        <a:pt x="161" y="307"/>
                      </a:lnTo>
                      <a:lnTo>
                        <a:pt x="171" y="305"/>
                      </a:lnTo>
                      <a:lnTo>
                        <a:pt x="178" y="304"/>
                      </a:lnTo>
                      <a:lnTo>
                        <a:pt x="186" y="300"/>
                      </a:lnTo>
                      <a:lnTo>
                        <a:pt x="193" y="296"/>
                      </a:lnTo>
                      <a:lnTo>
                        <a:pt x="203" y="294"/>
                      </a:lnTo>
                      <a:lnTo>
                        <a:pt x="212" y="290"/>
                      </a:lnTo>
                      <a:lnTo>
                        <a:pt x="220" y="288"/>
                      </a:lnTo>
                      <a:lnTo>
                        <a:pt x="228" y="285"/>
                      </a:lnTo>
                      <a:lnTo>
                        <a:pt x="237" y="281"/>
                      </a:lnTo>
                      <a:lnTo>
                        <a:pt x="247" y="279"/>
                      </a:lnTo>
                      <a:lnTo>
                        <a:pt x="254" y="275"/>
                      </a:lnTo>
                      <a:lnTo>
                        <a:pt x="264" y="271"/>
                      </a:lnTo>
                      <a:lnTo>
                        <a:pt x="273" y="269"/>
                      </a:lnTo>
                      <a:lnTo>
                        <a:pt x="281" y="266"/>
                      </a:lnTo>
                      <a:lnTo>
                        <a:pt x="290" y="262"/>
                      </a:lnTo>
                      <a:lnTo>
                        <a:pt x="298" y="260"/>
                      </a:lnTo>
                      <a:lnTo>
                        <a:pt x="307" y="256"/>
                      </a:lnTo>
                      <a:lnTo>
                        <a:pt x="317" y="252"/>
                      </a:lnTo>
                      <a:lnTo>
                        <a:pt x="326" y="248"/>
                      </a:lnTo>
                      <a:lnTo>
                        <a:pt x="334" y="247"/>
                      </a:lnTo>
                      <a:lnTo>
                        <a:pt x="344" y="243"/>
                      </a:lnTo>
                      <a:lnTo>
                        <a:pt x="351" y="239"/>
                      </a:lnTo>
                      <a:lnTo>
                        <a:pt x="361" y="233"/>
                      </a:lnTo>
                      <a:lnTo>
                        <a:pt x="368" y="231"/>
                      </a:lnTo>
                      <a:lnTo>
                        <a:pt x="378" y="228"/>
                      </a:lnTo>
                      <a:lnTo>
                        <a:pt x="387" y="224"/>
                      </a:lnTo>
                      <a:lnTo>
                        <a:pt x="395" y="220"/>
                      </a:lnTo>
                      <a:lnTo>
                        <a:pt x="404" y="216"/>
                      </a:lnTo>
                      <a:lnTo>
                        <a:pt x="414" y="212"/>
                      </a:lnTo>
                      <a:lnTo>
                        <a:pt x="421" y="209"/>
                      </a:lnTo>
                      <a:lnTo>
                        <a:pt x="429" y="205"/>
                      </a:lnTo>
                      <a:lnTo>
                        <a:pt x="437" y="199"/>
                      </a:lnTo>
                      <a:lnTo>
                        <a:pt x="444" y="195"/>
                      </a:lnTo>
                      <a:lnTo>
                        <a:pt x="452" y="191"/>
                      </a:lnTo>
                      <a:lnTo>
                        <a:pt x="461" y="188"/>
                      </a:lnTo>
                      <a:lnTo>
                        <a:pt x="469" y="184"/>
                      </a:lnTo>
                      <a:lnTo>
                        <a:pt x="477" y="180"/>
                      </a:lnTo>
                      <a:lnTo>
                        <a:pt x="482" y="174"/>
                      </a:lnTo>
                      <a:lnTo>
                        <a:pt x="490" y="172"/>
                      </a:lnTo>
                      <a:lnTo>
                        <a:pt x="497" y="167"/>
                      </a:lnTo>
                      <a:lnTo>
                        <a:pt x="505" y="163"/>
                      </a:lnTo>
                      <a:lnTo>
                        <a:pt x="511" y="159"/>
                      </a:lnTo>
                      <a:lnTo>
                        <a:pt x="518" y="155"/>
                      </a:lnTo>
                      <a:lnTo>
                        <a:pt x="526" y="150"/>
                      </a:lnTo>
                      <a:lnTo>
                        <a:pt x="534" y="148"/>
                      </a:lnTo>
                      <a:lnTo>
                        <a:pt x="539" y="142"/>
                      </a:lnTo>
                      <a:lnTo>
                        <a:pt x="547" y="138"/>
                      </a:lnTo>
                      <a:lnTo>
                        <a:pt x="553" y="134"/>
                      </a:lnTo>
                      <a:lnTo>
                        <a:pt x="558" y="131"/>
                      </a:lnTo>
                      <a:lnTo>
                        <a:pt x="564" y="125"/>
                      </a:lnTo>
                      <a:lnTo>
                        <a:pt x="572" y="121"/>
                      </a:lnTo>
                      <a:lnTo>
                        <a:pt x="577" y="117"/>
                      </a:lnTo>
                      <a:lnTo>
                        <a:pt x="583" y="114"/>
                      </a:lnTo>
                      <a:lnTo>
                        <a:pt x="594" y="106"/>
                      </a:lnTo>
                      <a:lnTo>
                        <a:pt x="606" y="98"/>
                      </a:lnTo>
                      <a:lnTo>
                        <a:pt x="615" y="91"/>
                      </a:lnTo>
                      <a:lnTo>
                        <a:pt x="629" y="83"/>
                      </a:lnTo>
                      <a:lnTo>
                        <a:pt x="636" y="76"/>
                      </a:lnTo>
                      <a:lnTo>
                        <a:pt x="644" y="68"/>
                      </a:lnTo>
                      <a:lnTo>
                        <a:pt x="653" y="62"/>
                      </a:lnTo>
                      <a:lnTo>
                        <a:pt x="661" y="57"/>
                      </a:lnTo>
                      <a:lnTo>
                        <a:pt x="668" y="51"/>
                      </a:lnTo>
                      <a:lnTo>
                        <a:pt x="674" y="43"/>
                      </a:lnTo>
                      <a:lnTo>
                        <a:pt x="680" y="39"/>
                      </a:lnTo>
                      <a:lnTo>
                        <a:pt x="687" y="36"/>
                      </a:lnTo>
                      <a:lnTo>
                        <a:pt x="697" y="26"/>
                      </a:lnTo>
                      <a:lnTo>
                        <a:pt x="703" y="20"/>
                      </a:lnTo>
                      <a:lnTo>
                        <a:pt x="707" y="17"/>
                      </a:lnTo>
                      <a:lnTo>
                        <a:pt x="708" y="17"/>
                      </a:lnTo>
                      <a:lnTo>
                        <a:pt x="775" y="0"/>
                      </a:lnTo>
                      <a:lnTo>
                        <a:pt x="773" y="1"/>
                      </a:lnTo>
                      <a:lnTo>
                        <a:pt x="767" y="7"/>
                      </a:lnTo>
                      <a:lnTo>
                        <a:pt x="758" y="15"/>
                      </a:lnTo>
                      <a:lnTo>
                        <a:pt x="748" y="24"/>
                      </a:lnTo>
                      <a:lnTo>
                        <a:pt x="743" y="30"/>
                      </a:lnTo>
                      <a:lnTo>
                        <a:pt x="735" y="36"/>
                      </a:lnTo>
                      <a:lnTo>
                        <a:pt x="726" y="43"/>
                      </a:lnTo>
                      <a:lnTo>
                        <a:pt x="718" y="53"/>
                      </a:lnTo>
                      <a:lnTo>
                        <a:pt x="708" y="60"/>
                      </a:lnTo>
                      <a:lnTo>
                        <a:pt x="699" y="70"/>
                      </a:lnTo>
                      <a:lnTo>
                        <a:pt x="689" y="79"/>
                      </a:lnTo>
                      <a:lnTo>
                        <a:pt x="680" y="89"/>
                      </a:lnTo>
                      <a:lnTo>
                        <a:pt x="674" y="93"/>
                      </a:lnTo>
                      <a:lnTo>
                        <a:pt x="668" y="98"/>
                      </a:lnTo>
                      <a:lnTo>
                        <a:pt x="663" y="102"/>
                      </a:lnTo>
                      <a:lnTo>
                        <a:pt x="657" y="108"/>
                      </a:lnTo>
                      <a:lnTo>
                        <a:pt x="651" y="112"/>
                      </a:lnTo>
                      <a:lnTo>
                        <a:pt x="644" y="117"/>
                      </a:lnTo>
                      <a:lnTo>
                        <a:pt x="638" y="121"/>
                      </a:lnTo>
                      <a:lnTo>
                        <a:pt x="632" y="127"/>
                      </a:lnTo>
                      <a:lnTo>
                        <a:pt x="625" y="131"/>
                      </a:lnTo>
                      <a:lnTo>
                        <a:pt x="619" y="136"/>
                      </a:lnTo>
                      <a:lnTo>
                        <a:pt x="613" y="142"/>
                      </a:lnTo>
                      <a:lnTo>
                        <a:pt x="606" y="148"/>
                      </a:lnTo>
                      <a:lnTo>
                        <a:pt x="600" y="153"/>
                      </a:lnTo>
                      <a:lnTo>
                        <a:pt x="592" y="157"/>
                      </a:lnTo>
                      <a:lnTo>
                        <a:pt x="585" y="163"/>
                      </a:lnTo>
                      <a:lnTo>
                        <a:pt x="579" y="169"/>
                      </a:lnTo>
                      <a:lnTo>
                        <a:pt x="572" y="174"/>
                      </a:lnTo>
                      <a:lnTo>
                        <a:pt x="564" y="180"/>
                      </a:lnTo>
                      <a:lnTo>
                        <a:pt x="556" y="184"/>
                      </a:lnTo>
                      <a:lnTo>
                        <a:pt x="549" y="190"/>
                      </a:lnTo>
                      <a:lnTo>
                        <a:pt x="541" y="193"/>
                      </a:lnTo>
                      <a:lnTo>
                        <a:pt x="534" y="201"/>
                      </a:lnTo>
                      <a:lnTo>
                        <a:pt x="526" y="205"/>
                      </a:lnTo>
                      <a:lnTo>
                        <a:pt x="518" y="210"/>
                      </a:lnTo>
                      <a:lnTo>
                        <a:pt x="511" y="214"/>
                      </a:lnTo>
                      <a:lnTo>
                        <a:pt x="503" y="220"/>
                      </a:lnTo>
                      <a:lnTo>
                        <a:pt x="496" y="224"/>
                      </a:lnTo>
                      <a:lnTo>
                        <a:pt x="488" y="229"/>
                      </a:lnTo>
                      <a:lnTo>
                        <a:pt x="478" y="233"/>
                      </a:lnTo>
                      <a:lnTo>
                        <a:pt x="471" y="239"/>
                      </a:lnTo>
                      <a:lnTo>
                        <a:pt x="463" y="245"/>
                      </a:lnTo>
                      <a:lnTo>
                        <a:pt x="458" y="250"/>
                      </a:lnTo>
                      <a:lnTo>
                        <a:pt x="448" y="252"/>
                      </a:lnTo>
                      <a:lnTo>
                        <a:pt x="439" y="258"/>
                      </a:lnTo>
                      <a:lnTo>
                        <a:pt x="431" y="262"/>
                      </a:lnTo>
                      <a:lnTo>
                        <a:pt x="421" y="266"/>
                      </a:lnTo>
                      <a:lnTo>
                        <a:pt x="414" y="269"/>
                      </a:lnTo>
                      <a:lnTo>
                        <a:pt x="404" y="275"/>
                      </a:lnTo>
                      <a:lnTo>
                        <a:pt x="397" y="279"/>
                      </a:lnTo>
                      <a:lnTo>
                        <a:pt x="387" y="283"/>
                      </a:lnTo>
                      <a:lnTo>
                        <a:pt x="378" y="286"/>
                      </a:lnTo>
                      <a:lnTo>
                        <a:pt x="370" y="290"/>
                      </a:lnTo>
                      <a:lnTo>
                        <a:pt x="361" y="294"/>
                      </a:lnTo>
                      <a:lnTo>
                        <a:pt x="355" y="298"/>
                      </a:lnTo>
                      <a:lnTo>
                        <a:pt x="345" y="300"/>
                      </a:lnTo>
                      <a:lnTo>
                        <a:pt x="336" y="304"/>
                      </a:lnTo>
                      <a:lnTo>
                        <a:pt x="328" y="307"/>
                      </a:lnTo>
                      <a:lnTo>
                        <a:pt x="321" y="311"/>
                      </a:lnTo>
                      <a:lnTo>
                        <a:pt x="311" y="313"/>
                      </a:lnTo>
                      <a:lnTo>
                        <a:pt x="304" y="317"/>
                      </a:lnTo>
                      <a:lnTo>
                        <a:pt x="294" y="321"/>
                      </a:lnTo>
                      <a:lnTo>
                        <a:pt x="286" y="323"/>
                      </a:lnTo>
                      <a:lnTo>
                        <a:pt x="279" y="326"/>
                      </a:lnTo>
                      <a:lnTo>
                        <a:pt x="271" y="330"/>
                      </a:lnTo>
                      <a:lnTo>
                        <a:pt x="262" y="332"/>
                      </a:lnTo>
                      <a:lnTo>
                        <a:pt x="254" y="336"/>
                      </a:lnTo>
                      <a:lnTo>
                        <a:pt x="247" y="338"/>
                      </a:lnTo>
                      <a:lnTo>
                        <a:pt x="239" y="340"/>
                      </a:lnTo>
                      <a:lnTo>
                        <a:pt x="231" y="342"/>
                      </a:lnTo>
                      <a:lnTo>
                        <a:pt x="224" y="345"/>
                      </a:lnTo>
                      <a:lnTo>
                        <a:pt x="216" y="347"/>
                      </a:lnTo>
                      <a:lnTo>
                        <a:pt x="209" y="351"/>
                      </a:lnTo>
                      <a:lnTo>
                        <a:pt x="203" y="353"/>
                      </a:lnTo>
                      <a:lnTo>
                        <a:pt x="197" y="355"/>
                      </a:lnTo>
                      <a:lnTo>
                        <a:pt x="190" y="357"/>
                      </a:lnTo>
                      <a:lnTo>
                        <a:pt x="182" y="359"/>
                      </a:lnTo>
                      <a:lnTo>
                        <a:pt x="176" y="361"/>
                      </a:lnTo>
                      <a:lnTo>
                        <a:pt x="169" y="362"/>
                      </a:lnTo>
                      <a:lnTo>
                        <a:pt x="163" y="364"/>
                      </a:lnTo>
                      <a:lnTo>
                        <a:pt x="157" y="366"/>
                      </a:lnTo>
                      <a:lnTo>
                        <a:pt x="150" y="368"/>
                      </a:lnTo>
                      <a:lnTo>
                        <a:pt x="146" y="370"/>
                      </a:lnTo>
                      <a:lnTo>
                        <a:pt x="133" y="372"/>
                      </a:lnTo>
                      <a:lnTo>
                        <a:pt x="123" y="376"/>
                      </a:lnTo>
                      <a:lnTo>
                        <a:pt x="114" y="378"/>
                      </a:lnTo>
                      <a:lnTo>
                        <a:pt x="106" y="381"/>
                      </a:lnTo>
                      <a:lnTo>
                        <a:pt x="96" y="381"/>
                      </a:lnTo>
                      <a:lnTo>
                        <a:pt x="91" y="383"/>
                      </a:lnTo>
                      <a:lnTo>
                        <a:pt x="83" y="385"/>
                      </a:lnTo>
                      <a:lnTo>
                        <a:pt x="79" y="387"/>
                      </a:lnTo>
                      <a:lnTo>
                        <a:pt x="74" y="389"/>
                      </a:lnTo>
                      <a:lnTo>
                        <a:pt x="72" y="391"/>
                      </a:lnTo>
                      <a:lnTo>
                        <a:pt x="0"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1" name="Freeform 30"/>
                <p:cNvSpPr/>
                <p:nvPr/>
              </p:nvSpPr>
              <p:spPr>
                <a:xfrm rot="622800">
                  <a:off x="3879360" y="2864880"/>
                  <a:ext cx="385920" cy="181440"/>
                </a:xfrm>
                <a:custGeom>
                  <a:avLst/>
                  <a:gdLst>
                    <a:gd name="textAreaLeft" fmla="*/ 0 w 385920"/>
                    <a:gd name="textAreaRight" fmla="*/ 386280 w 385920"/>
                    <a:gd name="textAreaTop" fmla="*/ 0 h 181440"/>
                    <a:gd name="textAreaBottom" fmla="*/ 181800 h 181440"/>
                  </a:gdLst>
                  <a:ahLst/>
                  <a:rect l="textAreaLeft" t="textAreaTop" r="textAreaRight" b="textAreaBottom"/>
                  <a:pathLst>
                    <a:path w="977" h="448">
                      <a:moveTo>
                        <a:pt x="0" y="448"/>
                      </a:moveTo>
                      <a:lnTo>
                        <a:pt x="0" y="448"/>
                      </a:lnTo>
                      <a:lnTo>
                        <a:pt x="2" y="446"/>
                      </a:lnTo>
                      <a:lnTo>
                        <a:pt x="6" y="444"/>
                      </a:lnTo>
                      <a:lnTo>
                        <a:pt x="11" y="442"/>
                      </a:lnTo>
                      <a:lnTo>
                        <a:pt x="19" y="440"/>
                      </a:lnTo>
                      <a:lnTo>
                        <a:pt x="28" y="439"/>
                      </a:lnTo>
                      <a:lnTo>
                        <a:pt x="34" y="437"/>
                      </a:lnTo>
                      <a:lnTo>
                        <a:pt x="38" y="435"/>
                      </a:lnTo>
                      <a:lnTo>
                        <a:pt x="45" y="433"/>
                      </a:lnTo>
                      <a:lnTo>
                        <a:pt x="51" y="433"/>
                      </a:lnTo>
                      <a:lnTo>
                        <a:pt x="57" y="429"/>
                      </a:lnTo>
                      <a:lnTo>
                        <a:pt x="63" y="427"/>
                      </a:lnTo>
                      <a:lnTo>
                        <a:pt x="68" y="425"/>
                      </a:lnTo>
                      <a:lnTo>
                        <a:pt x="76" y="423"/>
                      </a:lnTo>
                      <a:lnTo>
                        <a:pt x="83" y="420"/>
                      </a:lnTo>
                      <a:lnTo>
                        <a:pt x="91" y="418"/>
                      </a:lnTo>
                      <a:lnTo>
                        <a:pt x="99" y="416"/>
                      </a:lnTo>
                      <a:lnTo>
                        <a:pt x="106" y="414"/>
                      </a:lnTo>
                      <a:lnTo>
                        <a:pt x="114" y="410"/>
                      </a:lnTo>
                      <a:lnTo>
                        <a:pt x="123" y="408"/>
                      </a:lnTo>
                      <a:lnTo>
                        <a:pt x="131" y="404"/>
                      </a:lnTo>
                      <a:lnTo>
                        <a:pt x="140" y="402"/>
                      </a:lnTo>
                      <a:lnTo>
                        <a:pt x="150" y="401"/>
                      </a:lnTo>
                      <a:lnTo>
                        <a:pt x="159" y="399"/>
                      </a:lnTo>
                      <a:lnTo>
                        <a:pt x="169" y="395"/>
                      </a:lnTo>
                      <a:lnTo>
                        <a:pt x="178" y="393"/>
                      </a:lnTo>
                      <a:lnTo>
                        <a:pt x="186" y="389"/>
                      </a:lnTo>
                      <a:lnTo>
                        <a:pt x="196" y="385"/>
                      </a:lnTo>
                      <a:lnTo>
                        <a:pt x="205" y="382"/>
                      </a:lnTo>
                      <a:lnTo>
                        <a:pt x="215" y="380"/>
                      </a:lnTo>
                      <a:lnTo>
                        <a:pt x="224" y="376"/>
                      </a:lnTo>
                      <a:lnTo>
                        <a:pt x="235" y="372"/>
                      </a:lnTo>
                      <a:lnTo>
                        <a:pt x="245" y="370"/>
                      </a:lnTo>
                      <a:lnTo>
                        <a:pt x="254" y="366"/>
                      </a:lnTo>
                      <a:lnTo>
                        <a:pt x="264" y="363"/>
                      </a:lnTo>
                      <a:lnTo>
                        <a:pt x="275" y="359"/>
                      </a:lnTo>
                      <a:lnTo>
                        <a:pt x="285" y="355"/>
                      </a:lnTo>
                      <a:lnTo>
                        <a:pt x="294" y="353"/>
                      </a:lnTo>
                      <a:lnTo>
                        <a:pt x="304" y="349"/>
                      </a:lnTo>
                      <a:lnTo>
                        <a:pt x="315" y="345"/>
                      </a:lnTo>
                      <a:lnTo>
                        <a:pt x="325" y="344"/>
                      </a:lnTo>
                      <a:lnTo>
                        <a:pt x="336" y="340"/>
                      </a:lnTo>
                      <a:lnTo>
                        <a:pt x="346" y="336"/>
                      </a:lnTo>
                      <a:lnTo>
                        <a:pt x="355" y="332"/>
                      </a:lnTo>
                      <a:lnTo>
                        <a:pt x="365" y="328"/>
                      </a:lnTo>
                      <a:lnTo>
                        <a:pt x="376" y="325"/>
                      </a:lnTo>
                      <a:lnTo>
                        <a:pt x="386" y="321"/>
                      </a:lnTo>
                      <a:lnTo>
                        <a:pt x="395" y="317"/>
                      </a:lnTo>
                      <a:lnTo>
                        <a:pt x="405" y="315"/>
                      </a:lnTo>
                      <a:lnTo>
                        <a:pt x="414" y="311"/>
                      </a:lnTo>
                      <a:lnTo>
                        <a:pt x="424" y="307"/>
                      </a:lnTo>
                      <a:lnTo>
                        <a:pt x="433" y="304"/>
                      </a:lnTo>
                      <a:lnTo>
                        <a:pt x="441" y="300"/>
                      </a:lnTo>
                      <a:lnTo>
                        <a:pt x="450" y="296"/>
                      </a:lnTo>
                      <a:lnTo>
                        <a:pt x="458" y="292"/>
                      </a:lnTo>
                      <a:lnTo>
                        <a:pt x="467" y="290"/>
                      </a:lnTo>
                      <a:lnTo>
                        <a:pt x="475" y="287"/>
                      </a:lnTo>
                      <a:lnTo>
                        <a:pt x="484" y="283"/>
                      </a:lnTo>
                      <a:lnTo>
                        <a:pt x="490" y="279"/>
                      </a:lnTo>
                      <a:lnTo>
                        <a:pt x="498" y="277"/>
                      </a:lnTo>
                      <a:lnTo>
                        <a:pt x="505" y="273"/>
                      </a:lnTo>
                      <a:lnTo>
                        <a:pt x="513" y="269"/>
                      </a:lnTo>
                      <a:lnTo>
                        <a:pt x="519" y="268"/>
                      </a:lnTo>
                      <a:lnTo>
                        <a:pt x="524" y="264"/>
                      </a:lnTo>
                      <a:lnTo>
                        <a:pt x="532" y="260"/>
                      </a:lnTo>
                      <a:lnTo>
                        <a:pt x="540" y="258"/>
                      </a:lnTo>
                      <a:lnTo>
                        <a:pt x="543" y="254"/>
                      </a:lnTo>
                      <a:lnTo>
                        <a:pt x="551" y="250"/>
                      </a:lnTo>
                      <a:lnTo>
                        <a:pt x="557" y="249"/>
                      </a:lnTo>
                      <a:lnTo>
                        <a:pt x="562" y="245"/>
                      </a:lnTo>
                      <a:lnTo>
                        <a:pt x="572" y="239"/>
                      </a:lnTo>
                      <a:lnTo>
                        <a:pt x="585" y="233"/>
                      </a:lnTo>
                      <a:lnTo>
                        <a:pt x="593" y="228"/>
                      </a:lnTo>
                      <a:lnTo>
                        <a:pt x="602" y="222"/>
                      </a:lnTo>
                      <a:lnTo>
                        <a:pt x="612" y="216"/>
                      </a:lnTo>
                      <a:lnTo>
                        <a:pt x="619" y="211"/>
                      </a:lnTo>
                      <a:lnTo>
                        <a:pt x="627" y="205"/>
                      </a:lnTo>
                      <a:lnTo>
                        <a:pt x="635" y="201"/>
                      </a:lnTo>
                      <a:lnTo>
                        <a:pt x="640" y="195"/>
                      </a:lnTo>
                      <a:lnTo>
                        <a:pt x="648" y="190"/>
                      </a:lnTo>
                      <a:lnTo>
                        <a:pt x="654" y="184"/>
                      </a:lnTo>
                      <a:lnTo>
                        <a:pt x="659" y="180"/>
                      </a:lnTo>
                      <a:lnTo>
                        <a:pt x="665" y="174"/>
                      </a:lnTo>
                      <a:lnTo>
                        <a:pt x="671" y="171"/>
                      </a:lnTo>
                      <a:lnTo>
                        <a:pt x="682" y="161"/>
                      </a:lnTo>
                      <a:lnTo>
                        <a:pt x="692" y="152"/>
                      </a:lnTo>
                      <a:lnTo>
                        <a:pt x="703" y="142"/>
                      </a:lnTo>
                      <a:lnTo>
                        <a:pt x="714" y="133"/>
                      </a:lnTo>
                      <a:lnTo>
                        <a:pt x="720" y="129"/>
                      </a:lnTo>
                      <a:lnTo>
                        <a:pt x="726" y="123"/>
                      </a:lnTo>
                      <a:lnTo>
                        <a:pt x="732" y="119"/>
                      </a:lnTo>
                      <a:lnTo>
                        <a:pt x="739" y="116"/>
                      </a:lnTo>
                      <a:lnTo>
                        <a:pt x="747" y="110"/>
                      </a:lnTo>
                      <a:lnTo>
                        <a:pt x="752" y="106"/>
                      </a:lnTo>
                      <a:lnTo>
                        <a:pt x="760" y="100"/>
                      </a:lnTo>
                      <a:lnTo>
                        <a:pt x="768" y="97"/>
                      </a:lnTo>
                      <a:lnTo>
                        <a:pt x="775" y="91"/>
                      </a:lnTo>
                      <a:lnTo>
                        <a:pt x="783" y="87"/>
                      </a:lnTo>
                      <a:lnTo>
                        <a:pt x="790" y="81"/>
                      </a:lnTo>
                      <a:lnTo>
                        <a:pt x="800" y="78"/>
                      </a:lnTo>
                      <a:lnTo>
                        <a:pt x="808" y="72"/>
                      </a:lnTo>
                      <a:lnTo>
                        <a:pt x="815" y="68"/>
                      </a:lnTo>
                      <a:lnTo>
                        <a:pt x="825" y="64"/>
                      </a:lnTo>
                      <a:lnTo>
                        <a:pt x="834" y="60"/>
                      </a:lnTo>
                      <a:lnTo>
                        <a:pt x="842" y="55"/>
                      </a:lnTo>
                      <a:lnTo>
                        <a:pt x="851" y="51"/>
                      </a:lnTo>
                      <a:lnTo>
                        <a:pt x="859" y="47"/>
                      </a:lnTo>
                      <a:lnTo>
                        <a:pt x="868" y="45"/>
                      </a:lnTo>
                      <a:lnTo>
                        <a:pt x="876" y="40"/>
                      </a:lnTo>
                      <a:lnTo>
                        <a:pt x="884" y="36"/>
                      </a:lnTo>
                      <a:lnTo>
                        <a:pt x="893" y="32"/>
                      </a:lnTo>
                      <a:lnTo>
                        <a:pt x="901" y="28"/>
                      </a:lnTo>
                      <a:lnTo>
                        <a:pt x="908" y="26"/>
                      </a:lnTo>
                      <a:lnTo>
                        <a:pt x="916" y="22"/>
                      </a:lnTo>
                      <a:lnTo>
                        <a:pt x="923" y="19"/>
                      </a:lnTo>
                      <a:lnTo>
                        <a:pt x="931" y="17"/>
                      </a:lnTo>
                      <a:lnTo>
                        <a:pt x="937" y="15"/>
                      </a:lnTo>
                      <a:lnTo>
                        <a:pt x="944" y="11"/>
                      </a:lnTo>
                      <a:lnTo>
                        <a:pt x="950" y="9"/>
                      </a:lnTo>
                      <a:lnTo>
                        <a:pt x="956" y="7"/>
                      </a:lnTo>
                      <a:lnTo>
                        <a:pt x="967" y="2"/>
                      </a:lnTo>
                      <a:lnTo>
                        <a:pt x="977" y="0"/>
                      </a:lnTo>
                      <a:lnTo>
                        <a:pt x="977" y="28"/>
                      </a:lnTo>
                      <a:lnTo>
                        <a:pt x="975" y="28"/>
                      </a:lnTo>
                      <a:lnTo>
                        <a:pt x="969" y="30"/>
                      </a:lnTo>
                      <a:lnTo>
                        <a:pt x="963" y="34"/>
                      </a:lnTo>
                      <a:lnTo>
                        <a:pt x="954" y="38"/>
                      </a:lnTo>
                      <a:lnTo>
                        <a:pt x="948" y="40"/>
                      </a:lnTo>
                      <a:lnTo>
                        <a:pt x="941" y="43"/>
                      </a:lnTo>
                      <a:lnTo>
                        <a:pt x="935" y="47"/>
                      </a:lnTo>
                      <a:lnTo>
                        <a:pt x="929" y="51"/>
                      </a:lnTo>
                      <a:lnTo>
                        <a:pt x="922" y="55"/>
                      </a:lnTo>
                      <a:lnTo>
                        <a:pt x="914" y="59"/>
                      </a:lnTo>
                      <a:lnTo>
                        <a:pt x="906" y="62"/>
                      </a:lnTo>
                      <a:lnTo>
                        <a:pt x="899" y="68"/>
                      </a:lnTo>
                      <a:lnTo>
                        <a:pt x="889" y="72"/>
                      </a:lnTo>
                      <a:lnTo>
                        <a:pt x="882" y="76"/>
                      </a:lnTo>
                      <a:lnTo>
                        <a:pt x="872" y="81"/>
                      </a:lnTo>
                      <a:lnTo>
                        <a:pt x="865" y="85"/>
                      </a:lnTo>
                      <a:lnTo>
                        <a:pt x="855" y="91"/>
                      </a:lnTo>
                      <a:lnTo>
                        <a:pt x="846" y="97"/>
                      </a:lnTo>
                      <a:lnTo>
                        <a:pt x="836" y="100"/>
                      </a:lnTo>
                      <a:lnTo>
                        <a:pt x="828" y="108"/>
                      </a:lnTo>
                      <a:lnTo>
                        <a:pt x="819" y="112"/>
                      </a:lnTo>
                      <a:lnTo>
                        <a:pt x="809" y="117"/>
                      </a:lnTo>
                      <a:lnTo>
                        <a:pt x="800" y="123"/>
                      </a:lnTo>
                      <a:lnTo>
                        <a:pt x="792" y="129"/>
                      </a:lnTo>
                      <a:lnTo>
                        <a:pt x="783" y="135"/>
                      </a:lnTo>
                      <a:lnTo>
                        <a:pt x="773" y="140"/>
                      </a:lnTo>
                      <a:lnTo>
                        <a:pt x="766" y="146"/>
                      </a:lnTo>
                      <a:lnTo>
                        <a:pt x="758" y="152"/>
                      </a:lnTo>
                      <a:lnTo>
                        <a:pt x="749" y="157"/>
                      </a:lnTo>
                      <a:lnTo>
                        <a:pt x="741" y="163"/>
                      </a:lnTo>
                      <a:lnTo>
                        <a:pt x="732" y="167"/>
                      </a:lnTo>
                      <a:lnTo>
                        <a:pt x="726" y="174"/>
                      </a:lnTo>
                      <a:lnTo>
                        <a:pt x="718" y="178"/>
                      </a:lnTo>
                      <a:lnTo>
                        <a:pt x="711" y="184"/>
                      </a:lnTo>
                      <a:lnTo>
                        <a:pt x="705" y="188"/>
                      </a:lnTo>
                      <a:lnTo>
                        <a:pt x="699" y="195"/>
                      </a:lnTo>
                      <a:lnTo>
                        <a:pt x="692" y="199"/>
                      </a:lnTo>
                      <a:lnTo>
                        <a:pt x="684" y="205"/>
                      </a:lnTo>
                      <a:lnTo>
                        <a:pt x="678" y="211"/>
                      </a:lnTo>
                      <a:lnTo>
                        <a:pt x="671" y="216"/>
                      </a:lnTo>
                      <a:lnTo>
                        <a:pt x="663" y="220"/>
                      </a:lnTo>
                      <a:lnTo>
                        <a:pt x="657" y="226"/>
                      </a:lnTo>
                      <a:lnTo>
                        <a:pt x="652" y="231"/>
                      </a:lnTo>
                      <a:lnTo>
                        <a:pt x="644" y="237"/>
                      </a:lnTo>
                      <a:lnTo>
                        <a:pt x="636" y="241"/>
                      </a:lnTo>
                      <a:lnTo>
                        <a:pt x="629" y="247"/>
                      </a:lnTo>
                      <a:lnTo>
                        <a:pt x="621" y="252"/>
                      </a:lnTo>
                      <a:lnTo>
                        <a:pt x="614" y="258"/>
                      </a:lnTo>
                      <a:lnTo>
                        <a:pt x="606" y="262"/>
                      </a:lnTo>
                      <a:lnTo>
                        <a:pt x="597" y="268"/>
                      </a:lnTo>
                      <a:lnTo>
                        <a:pt x="589" y="271"/>
                      </a:lnTo>
                      <a:lnTo>
                        <a:pt x="579" y="279"/>
                      </a:lnTo>
                      <a:lnTo>
                        <a:pt x="570" y="283"/>
                      </a:lnTo>
                      <a:lnTo>
                        <a:pt x="560" y="288"/>
                      </a:lnTo>
                      <a:lnTo>
                        <a:pt x="549" y="292"/>
                      </a:lnTo>
                      <a:lnTo>
                        <a:pt x="540" y="298"/>
                      </a:lnTo>
                      <a:lnTo>
                        <a:pt x="534" y="300"/>
                      </a:lnTo>
                      <a:lnTo>
                        <a:pt x="528" y="304"/>
                      </a:lnTo>
                      <a:lnTo>
                        <a:pt x="522" y="306"/>
                      </a:lnTo>
                      <a:lnTo>
                        <a:pt x="517" y="309"/>
                      </a:lnTo>
                      <a:lnTo>
                        <a:pt x="511" y="311"/>
                      </a:lnTo>
                      <a:lnTo>
                        <a:pt x="505" y="315"/>
                      </a:lnTo>
                      <a:lnTo>
                        <a:pt x="500" y="317"/>
                      </a:lnTo>
                      <a:lnTo>
                        <a:pt x="494" y="321"/>
                      </a:lnTo>
                      <a:lnTo>
                        <a:pt x="486" y="323"/>
                      </a:lnTo>
                      <a:lnTo>
                        <a:pt x="479" y="325"/>
                      </a:lnTo>
                      <a:lnTo>
                        <a:pt x="471" y="326"/>
                      </a:lnTo>
                      <a:lnTo>
                        <a:pt x="465" y="330"/>
                      </a:lnTo>
                      <a:lnTo>
                        <a:pt x="456" y="332"/>
                      </a:lnTo>
                      <a:lnTo>
                        <a:pt x="450" y="336"/>
                      </a:lnTo>
                      <a:lnTo>
                        <a:pt x="443" y="338"/>
                      </a:lnTo>
                      <a:lnTo>
                        <a:pt x="435" y="342"/>
                      </a:lnTo>
                      <a:lnTo>
                        <a:pt x="427" y="344"/>
                      </a:lnTo>
                      <a:lnTo>
                        <a:pt x="420" y="345"/>
                      </a:lnTo>
                      <a:lnTo>
                        <a:pt x="412" y="347"/>
                      </a:lnTo>
                      <a:lnTo>
                        <a:pt x="405" y="351"/>
                      </a:lnTo>
                      <a:lnTo>
                        <a:pt x="397" y="353"/>
                      </a:lnTo>
                      <a:lnTo>
                        <a:pt x="389" y="355"/>
                      </a:lnTo>
                      <a:lnTo>
                        <a:pt x="382" y="357"/>
                      </a:lnTo>
                      <a:lnTo>
                        <a:pt x="376" y="361"/>
                      </a:lnTo>
                      <a:lnTo>
                        <a:pt x="367" y="363"/>
                      </a:lnTo>
                      <a:lnTo>
                        <a:pt x="359" y="364"/>
                      </a:lnTo>
                      <a:lnTo>
                        <a:pt x="351" y="366"/>
                      </a:lnTo>
                      <a:lnTo>
                        <a:pt x="344" y="370"/>
                      </a:lnTo>
                      <a:lnTo>
                        <a:pt x="334" y="372"/>
                      </a:lnTo>
                      <a:lnTo>
                        <a:pt x="329" y="374"/>
                      </a:lnTo>
                      <a:lnTo>
                        <a:pt x="319" y="376"/>
                      </a:lnTo>
                      <a:lnTo>
                        <a:pt x="313" y="380"/>
                      </a:lnTo>
                      <a:lnTo>
                        <a:pt x="304" y="382"/>
                      </a:lnTo>
                      <a:lnTo>
                        <a:pt x="296" y="383"/>
                      </a:lnTo>
                      <a:lnTo>
                        <a:pt x="291" y="385"/>
                      </a:lnTo>
                      <a:lnTo>
                        <a:pt x="283" y="389"/>
                      </a:lnTo>
                      <a:lnTo>
                        <a:pt x="275" y="389"/>
                      </a:lnTo>
                      <a:lnTo>
                        <a:pt x="268" y="391"/>
                      </a:lnTo>
                      <a:lnTo>
                        <a:pt x="260" y="393"/>
                      </a:lnTo>
                      <a:lnTo>
                        <a:pt x="254" y="397"/>
                      </a:lnTo>
                      <a:lnTo>
                        <a:pt x="247" y="399"/>
                      </a:lnTo>
                      <a:lnTo>
                        <a:pt x="239" y="401"/>
                      </a:lnTo>
                      <a:lnTo>
                        <a:pt x="232" y="401"/>
                      </a:lnTo>
                      <a:lnTo>
                        <a:pt x="226" y="402"/>
                      </a:lnTo>
                      <a:lnTo>
                        <a:pt x="218" y="404"/>
                      </a:lnTo>
                      <a:lnTo>
                        <a:pt x="213" y="406"/>
                      </a:lnTo>
                      <a:lnTo>
                        <a:pt x="207" y="408"/>
                      </a:lnTo>
                      <a:lnTo>
                        <a:pt x="201" y="410"/>
                      </a:lnTo>
                      <a:lnTo>
                        <a:pt x="196" y="412"/>
                      </a:lnTo>
                      <a:lnTo>
                        <a:pt x="188" y="412"/>
                      </a:lnTo>
                      <a:lnTo>
                        <a:pt x="182" y="414"/>
                      </a:lnTo>
                      <a:lnTo>
                        <a:pt x="178" y="416"/>
                      </a:lnTo>
                      <a:lnTo>
                        <a:pt x="167" y="420"/>
                      </a:lnTo>
                      <a:lnTo>
                        <a:pt x="159" y="421"/>
                      </a:lnTo>
                      <a:lnTo>
                        <a:pt x="150" y="423"/>
                      </a:lnTo>
                      <a:lnTo>
                        <a:pt x="142" y="425"/>
                      </a:lnTo>
                      <a:lnTo>
                        <a:pt x="135" y="427"/>
                      </a:lnTo>
                      <a:lnTo>
                        <a:pt x="131" y="429"/>
                      </a:lnTo>
                      <a:lnTo>
                        <a:pt x="123" y="431"/>
                      </a:lnTo>
                      <a:lnTo>
                        <a:pt x="121" y="433"/>
                      </a:lnTo>
                      <a:lnTo>
                        <a:pt x="120" y="433"/>
                      </a:lnTo>
                      <a:lnTo>
                        <a:pt x="116" y="433"/>
                      </a:lnTo>
                      <a:lnTo>
                        <a:pt x="112" y="435"/>
                      </a:lnTo>
                      <a:lnTo>
                        <a:pt x="106" y="437"/>
                      </a:lnTo>
                      <a:lnTo>
                        <a:pt x="97" y="439"/>
                      </a:lnTo>
                      <a:lnTo>
                        <a:pt x="89" y="440"/>
                      </a:lnTo>
                      <a:lnTo>
                        <a:pt x="80" y="442"/>
                      </a:lnTo>
                      <a:lnTo>
                        <a:pt x="70" y="446"/>
                      </a:lnTo>
                      <a:lnTo>
                        <a:pt x="64" y="446"/>
                      </a:lnTo>
                      <a:lnTo>
                        <a:pt x="57" y="446"/>
                      </a:lnTo>
                      <a:lnTo>
                        <a:pt x="51" y="446"/>
                      </a:lnTo>
                      <a:lnTo>
                        <a:pt x="45" y="448"/>
                      </a:lnTo>
                      <a:lnTo>
                        <a:pt x="38" y="448"/>
                      </a:lnTo>
                      <a:lnTo>
                        <a:pt x="34" y="448"/>
                      </a:lnTo>
                      <a:lnTo>
                        <a:pt x="26" y="448"/>
                      </a:lnTo>
                      <a:lnTo>
                        <a:pt x="23" y="448"/>
                      </a:lnTo>
                      <a:lnTo>
                        <a:pt x="11" y="448"/>
                      </a:lnTo>
                      <a:lnTo>
                        <a:pt x="6" y="448"/>
                      </a:lnTo>
                      <a:lnTo>
                        <a:pt x="0"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2" name="Freeform 31"/>
                <p:cNvSpPr/>
                <p:nvPr/>
              </p:nvSpPr>
              <p:spPr>
                <a:xfrm rot="622800">
                  <a:off x="4090320" y="2738880"/>
                  <a:ext cx="158760" cy="115920"/>
                </a:xfrm>
                <a:custGeom>
                  <a:avLst/>
                  <a:gdLst>
                    <a:gd name="textAreaLeft" fmla="*/ 0 w 158760"/>
                    <a:gd name="textAreaRight" fmla="*/ 158760 w 158760"/>
                    <a:gd name="textAreaTop" fmla="*/ 0 h 115920"/>
                    <a:gd name="textAreaBottom" fmla="*/ 116280 h 115920"/>
                  </a:gdLst>
                  <a:ahLst/>
                  <a:rect l="textAreaLeft" t="textAreaTop" r="textAreaRight" b="textAreaBottom"/>
                  <a:pathLst>
                    <a:path w="403" h="287">
                      <a:moveTo>
                        <a:pt x="0" y="260"/>
                      </a:moveTo>
                      <a:lnTo>
                        <a:pt x="0" y="258"/>
                      </a:lnTo>
                      <a:lnTo>
                        <a:pt x="4" y="256"/>
                      </a:lnTo>
                      <a:lnTo>
                        <a:pt x="8" y="253"/>
                      </a:lnTo>
                      <a:lnTo>
                        <a:pt x="15" y="247"/>
                      </a:lnTo>
                      <a:lnTo>
                        <a:pt x="21" y="239"/>
                      </a:lnTo>
                      <a:lnTo>
                        <a:pt x="28" y="234"/>
                      </a:lnTo>
                      <a:lnTo>
                        <a:pt x="34" y="228"/>
                      </a:lnTo>
                      <a:lnTo>
                        <a:pt x="38" y="224"/>
                      </a:lnTo>
                      <a:lnTo>
                        <a:pt x="46" y="218"/>
                      </a:lnTo>
                      <a:lnTo>
                        <a:pt x="51" y="216"/>
                      </a:lnTo>
                      <a:lnTo>
                        <a:pt x="57" y="211"/>
                      </a:lnTo>
                      <a:lnTo>
                        <a:pt x="63" y="207"/>
                      </a:lnTo>
                      <a:lnTo>
                        <a:pt x="68" y="201"/>
                      </a:lnTo>
                      <a:lnTo>
                        <a:pt x="74" y="197"/>
                      </a:lnTo>
                      <a:lnTo>
                        <a:pt x="82" y="194"/>
                      </a:lnTo>
                      <a:lnTo>
                        <a:pt x="87" y="188"/>
                      </a:lnTo>
                      <a:lnTo>
                        <a:pt x="95" y="184"/>
                      </a:lnTo>
                      <a:lnTo>
                        <a:pt x="103" y="180"/>
                      </a:lnTo>
                      <a:lnTo>
                        <a:pt x="108" y="175"/>
                      </a:lnTo>
                      <a:lnTo>
                        <a:pt x="114" y="171"/>
                      </a:lnTo>
                      <a:lnTo>
                        <a:pt x="122" y="167"/>
                      </a:lnTo>
                      <a:lnTo>
                        <a:pt x="129" y="163"/>
                      </a:lnTo>
                      <a:lnTo>
                        <a:pt x="137" y="159"/>
                      </a:lnTo>
                      <a:lnTo>
                        <a:pt x="144" y="158"/>
                      </a:lnTo>
                      <a:lnTo>
                        <a:pt x="150" y="154"/>
                      </a:lnTo>
                      <a:lnTo>
                        <a:pt x="160" y="152"/>
                      </a:lnTo>
                      <a:lnTo>
                        <a:pt x="165" y="148"/>
                      </a:lnTo>
                      <a:lnTo>
                        <a:pt x="171" y="146"/>
                      </a:lnTo>
                      <a:lnTo>
                        <a:pt x="179" y="142"/>
                      </a:lnTo>
                      <a:lnTo>
                        <a:pt x="184" y="140"/>
                      </a:lnTo>
                      <a:lnTo>
                        <a:pt x="190" y="139"/>
                      </a:lnTo>
                      <a:lnTo>
                        <a:pt x="198" y="139"/>
                      </a:lnTo>
                      <a:lnTo>
                        <a:pt x="203" y="137"/>
                      </a:lnTo>
                      <a:lnTo>
                        <a:pt x="209" y="137"/>
                      </a:lnTo>
                      <a:lnTo>
                        <a:pt x="215" y="135"/>
                      </a:lnTo>
                      <a:lnTo>
                        <a:pt x="222" y="133"/>
                      </a:lnTo>
                      <a:lnTo>
                        <a:pt x="226" y="133"/>
                      </a:lnTo>
                      <a:lnTo>
                        <a:pt x="234" y="133"/>
                      </a:lnTo>
                      <a:lnTo>
                        <a:pt x="243" y="131"/>
                      </a:lnTo>
                      <a:lnTo>
                        <a:pt x="255" y="131"/>
                      </a:lnTo>
                      <a:lnTo>
                        <a:pt x="264" y="129"/>
                      </a:lnTo>
                      <a:lnTo>
                        <a:pt x="274" y="129"/>
                      </a:lnTo>
                      <a:lnTo>
                        <a:pt x="283" y="125"/>
                      </a:lnTo>
                      <a:lnTo>
                        <a:pt x="293" y="125"/>
                      </a:lnTo>
                      <a:lnTo>
                        <a:pt x="300" y="121"/>
                      </a:lnTo>
                      <a:lnTo>
                        <a:pt x="308" y="120"/>
                      </a:lnTo>
                      <a:lnTo>
                        <a:pt x="314" y="116"/>
                      </a:lnTo>
                      <a:lnTo>
                        <a:pt x="321" y="112"/>
                      </a:lnTo>
                      <a:lnTo>
                        <a:pt x="325" y="104"/>
                      </a:lnTo>
                      <a:lnTo>
                        <a:pt x="331" y="97"/>
                      </a:lnTo>
                      <a:lnTo>
                        <a:pt x="334" y="87"/>
                      </a:lnTo>
                      <a:lnTo>
                        <a:pt x="338" y="80"/>
                      </a:lnTo>
                      <a:lnTo>
                        <a:pt x="342" y="70"/>
                      </a:lnTo>
                      <a:lnTo>
                        <a:pt x="346" y="61"/>
                      </a:lnTo>
                      <a:lnTo>
                        <a:pt x="348" y="51"/>
                      </a:lnTo>
                      <a:lnTo>
                        <a:pt x="350" y="44"/>
                      </a:lnTo>
                      <a:lnTo>
                        <a:pt x="352" y="34"/>
                      </a:lnTo>
                      <a:lnTo>
                        <a:pt x="352" y="26"/>
                      </a:lnTo>
                      <a:lnTo>
                        <a:pt x="353" y="17"/>
                      </a:lnTo>
                      <a:lnTo>
                        <a:pt x="355" y="11"/>
                      </a:lnTo>
                      <a:lnTo>
                        <a:pt x="355" y="6"/>
                      </a:lnTo>
                      <a:lnTo>
                        <a:pt x="357" y="2"/>
                      </a:lnTo>
                      <a:lnTo>
                        <a:pt x="357" y="0"/>
                      </a:lnTo>
                      <a:lnTo>
                        <a:pt x="403" y="25"/>
                      </a:lnTo>
                      <a:lnTo>
                        <a:pt x="401" y="25"/>
                      </a:lnTo>
                      <a:lnTo>
                        <a:pt x="401" y="26"/>
                      </a:lnTo>
                      <a:lnTo>
                        <a:pt x="399" y="30"/>
                      </a:lnTo>
                      <a:lnTo>
                        <a:pt x="399" y="38"/>
                      </a:lnTo>
                      <a:lnTo>
                        <a:pt x="397" y="45"/>
                      </a:lnTo>
                      <a:lnTo>
                        <a:pt x="395" y="55"/>
                      </a:lnTo>
                      <a:lnTo>
                        <a:pt x="393" y="64"/>
                      </a:lnTo>
                      <a:lnTo>
                        <a:pt x="391" y="74"/>
                      </a:lnTo>
                      <a:lnTo>
                        <a:pt x="388" y="83"/>
                      </a:lnTo>
                      <a:lnTo>
                        <a:pt x="384" y="95"/>
                      </a:lnTo>
                      <a:lnTo>
                        <a:pt x="378" y="104"/>
                      </a:lnTo>
                      <a:lnTo>
                        <a:pt x="374" y="116"/>
                      </a:lnTo>
                      <a:lnTo>
                        <a:pt x="369" y="125"/>
                      </a:lnTo>
                      <a:lnTo>
                        <a:pt x="363" y="137"/>
                      </a:lnTo>
                      <a:lnTo>
                        <a:pt x="355" y="144"/>
                      </a:lnTo>
                      <a:lnTo>
                        <a:pt x="350" y="152"/>
                      </a:lnTo>
                      <a:lnTo>
                        <a:pt x="340" y="158"/>
                      </a:lnTo>
                      <a:lnTo>
                        <a:pt x="331" y="161"/>
                      </a:lnTo>
                      <a:lnTo>
                        <a:pt x="321" y="165"/>
                      </a:lnTo>
                      <a:lnTo>
                        <a:pt x="312" y="167"/>
                      </a:lnTo>
                      <a:lnTo>
                        <a:pt x="300" y="169"/>
                      </a:lnTo>
                      <a:lnTo>
                        <a:pt x="291" y="169"/>
                      </a:lnTo>
                      <a:lnTo>
                        <a:pt x="283" y="169"/>
                      </a:lnTo>
                      <a:lnTo>
                        <a:pt x="279" y="169"/>
                      </a:lnTo>
                      <a:lnTo>
                        <a:pt x="272" y="169"/>
                      </a:lnTo>
                      <a:lnTo>
                        <a:pt x="266" y="171"/>
                      </a:lnTo>
                      <a:lnTo>
                        <a:pt x="260" y="171"/>
                      </a:lnTo>
                      <a:lnTo>
                        <a:pt x="253" y="171"/>
                      </a:lnTo>
                      <a:lnTo>
                        <a:pt x="247" y="171"/>
                      </a:lnTo>
                      <a:lnTo>
                        <a:pt x="241" y="171"/>
                      </a:lnTo>
                      <a:lnTo>
                        <a:pt x="234" y="171"/>
                      </a:lnTo>
                      <a:lnTo>
                        <a:pt x="228" y="171"/>
                      </a:lnTo>
                      <a:lnTo>
                        <a:pt x="222" y="171"/>
                      </a:lnTo>
                      <a:lnTo>
                        <a:pt x="215" y="171"/>
                      </a:lnTo>
                      <a:lnTo>
                        <a:pt x="207" y="171"/>
                      </a:lnTo>
                      <a:lnTo>
                        <a:pt x="201" y="173"/>
                      </a:lnTo>
                      <a:lnTo>
                        <a:pt x="196" y="175"/>
                      </a:lnTo>
                      <a:lnTo>
                        <a:pt x="188" y="177"/>
                      </a:lnTo>
                      <a:lnTo>
                        <a:pt x="180" y="177"/>
                      </a:lnTo>
                      <a:lnTo>
                        <a:pt x="175" y="178"/>
                      </a:lnTo>
                      <a:lnTo>
                        <a:pt x="169" y="180"/>
                      </a:lnTo>
                      <a:lnTo>
                        <a:pt x="161" y="184"/>
                      </a:lnTo>
                      <a:lnTo>
                        <a:pt x="156" y="184"/>
                      </a:lnTo>
                      <a:lnTo>
                        <a:pt x="148" y="188"/>
                      </a:lnTo>
                      <a:lnTo>
                        <a:pt x="142" y="190"/>
                      </a:lnTo>
                      <a:lnTo>
                        <a:pt x="137" y="194"/>
                      </a:lnTo>
                      <a:lnTo>
                        <a:pt x="129" y="197"/>
                      </a:lnTo>
                      <a:lnTo>
                        <a:pt x="123" y="199"/>
                      </a:lnTo>
                      <a:lnTo>
                        <a:pt x="116" y="205"/>
                      </a:lnTo>
                      <a:lnTo>
                        <a:pt x="112" y="209"/>
                      </a:lnTo>
                      <a:lnTo>
                        <a:pt x="104" y="213"/>
                      </a:lnTo>
                      <a:lnTo>
                        <a:pt x="99" y="216"/>
                      </a:lnTo>
                      <a:lnTo>
                        <a:pt x="93" y="220"/>
                      </a:lnTo>
                      <a:lnTo>
                        <a:pt x="87" y="226"/>
                      </a:lnTo>
                      <a:lnTo>
                        <a:pt x="76" y="234"/>
                      </a:lnTo>
                      <a:lnTo>
                        <a:pt x="66" y="243"/>
                      </a:lnTo>
                      <a:lnTo>
                        <a:pt x="57" y="251"/>
                      </a:lnTo>
                      <a:lnTo>
                        <a:pt x="49" y="258"/>
                      </a:lnTo>
                      <a:lnTo>
                        <a:pt x="42" y="264"/>
                      </a:lnTo>
                      <a:lnTo>
                        <a:pt x="36" y="272"/>
                      </a:lnTo>
                      <a:lnTo>
                        <a:pt x="30" y="277"/>
                      </a:lnTo>
                      <a:lnTo>
                        <a:pt x="27" y="281"/>
                      </a:lnTo>
                      <a:lnTo>
                        <a:pt x="25" y="283"/>
                      </a:lnTo>
                      <a:lnTo>
                        <a:pt x="25" y="287"/>
                      </a:lnTo>
                      <a:lnTo>
                        <a:pt x="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3" name="Freeform 32"/>
                <p:cNvSpPr/>
                <p:nvPr/>
              </p:nvSpPr>
              <p:spPr>
                <a:xfrm rot="622800">
                  <a:off x="3920760" y="3105360"/>
                  <a:ext cx="536400" cy="278640"/>
                </a:xfrm>
                <a:custGeom>
                  <a:avLst/>
                  <a:gdLst>
                    <a:gd name="textAreaLeft" fmla="*/ 0 w 536400"/>
                    <a:gd name="textAreaRight" fmla="*/ 536760 w 536400"/>
                    <a:gd name="textAreaTop" fmla="*/ 0 h 278640"/>
                    <a:gd name="textAreaBottom" fmla="*/ 278640 h 278640"/>
                  </a:gdLst>
                  <a:ahLst/>
                  <a:rect l="textAreaLeft" t="textAreaTop" r="textAreaRight" b="textAreaBottom"/>
                  <a:pathLst>
                    <a:path w="1357" h="688">
                      <a:moveTo>
                        <a:pt x="0" y="205"/>
                      </a:moveTo>
                      <a:lnTo>
                        <a:pt x="0" y="207"/>
                      </a:lnTo>
                      <a:lnTo>
                        <a:pt x="0" y="215"/>
                      </a:lnTo>
                      <a:lnTo>
                        <a:pt x="0" y="218"/>
                      </a:lnTo>
                      <a:lnTo>
                        <a:pt x="0" y="224"/>
                      </a:lnTo>
                      <a:lnTo>
                        <a:pt x="2" y="230"/>
                      </a:lnTo>
                      <a:lnTo>
                        <a:pt x="4" y="239"/>
                      </a:lnTo>
                      <a:lnTo>
                        <a:pt x="4" y="247"/>
                      </a:lnTo>
                      <a:lnTo>
                        <a:pt x="5" y="256"/>
                      </a:lnTo>
                      <a:lnTo>
                        <a:pt x="7" y="266"/>
                      </a:lnTo>
                      <a:lnTo>
                        <a:pt x="11" y="277"/>
                      </a:lnTo>
                      <a:lnTo>
                        <a:pt x="11" y="283"/>
                      </a:lnTo>
                      <a:lnTo>
                        <a:pt x="13" y="287"/>
                      </a:lnTo>
                      <a:lnTo>
                        <a:pt x="15" y="294"/>
                      </a:lnTo>
                      <a:lnTo>
                        <a:pt x="17" y="300"/>
                      </a:lnTo>
                      <a:lnTo>
                        <a:pt x="17" y="306"/>
                      </a:lnTo>
                      <a:lnTo>
                        <a:pt x="19" y="313"/>
                      </a:lnTo>
                      <a:lnTo>
                        <a:pt x="23" y="319"/>
                      </a:lnTo>
                      <a:lnTo>
                        <a:pt x="24" y="325"/>
                      </a:lnTo>
                      <a:lnTo>
                        <a:pt x="26" y="332"/>
                      </a:lnTo>
                      <a:lnTo>
                        <a:pt x="28" y="338"/>
                      </a:lnTo>
                      <a:lnTo>
                        <a:pt x="30" y="346"/>
                      </a:lnTo>
                      <a:lnTo>
                        <a:pt x="34" y="351"/>
                      </a:lnTo>
                      <a:lnTo>
                        <a:pt x="36" y="357"/>
                      </a:lnTo>
                      <a:lnTo>
                        <a:pt x="38" y="365"/>
                      </a:lnTo>
                      <a:lnTo>
                        <a:pt x="42" y="370"/>
                      </a:lnTo>
                      <a:lnTo>
                        <a:pt x="44" y="378"/>
                      </a:lnTo>
                      <a:lnTo>
                        <a:pt x="45" y="384"/>
                      </a:lnTo>
                      <a:lnTo>
                        <a:pt x="49" y="389"/>
                      </a:lnTo>
                      <a:lnTo>
                        <a:pt x="53" y="397"/>
                      </a:lnTo>
                      <a:lnTo>
                        <a:pt x="57" y="405"/>
                      </a:lnTo>
                      <a:lnTo>
                        <a:pt x="61" y="412"/>
                      </a:lnTo>
                      <a:lnTo>
                        <a:pt x="63" y="418"/>
                      </a:lnTo>
                      <a:lnTo>
                        <a:pt x="66" y="425"/>
                      </a:lnTo>
                      <a:lnTo>
                        <a:pt x="72" y="433"/>
                      </a:lnTo>
                      <a:lnTo>
                        <a:pt x="76" y="439"/>
                      </a:lnTo>
                      <a:lnTo>
                        <a:pt x="80" y="444"/>
                      </a:lnTo>
                      <a:lnTo>
                        <a:pt x="83" y="452"/>
                      </a:lnTo>
                      <a:lnTo>
                        <a:pt x="89" y="458"/>
                      </a:lnTo>
                      <a:lnTo>
                        <a:pt x="93" y="463"/>
                      </a:lnTo>
                      <a:lnTo>
                        <a:pt x="99" y="471"/>
                      </a:lnTo>
                      <a:lnTo>
                        <a:pt x="102" y="477"/>
                      </a:lnTo>
                      <a:lnTo>
                        <a:pt x="110" y="484"/>
                      </a:lnTo>
                      <a:lnTo>
                        <a:pt x="114" y="490"/>
                      </a:lnTo>
                      <a:lnTo>
                        <a:pt x="120" y="496"/>
                      </a:lnTo>
                      <a:lnTo>
                        <a:pt x="125" y="501"/>
                      </a:lnTo>
                      <a:lnTo>
                        <a:pt x="131" y="509"/>
                      </a:lnTo>
                      <a:lnTo>
                        <a:pt x="139" y="515"/>
                      </a:lnTo>
                      <a:lnTo>
                        <a:pt x="144" y="520"/>
                      </a:lnTo>
                      <a:lnTo>
                        <a:pt x="150" y="526"/>
                      </a:lnTo>
                      <a:lnTo>
                        <a:pt x="158" y="532"/>
                      </a:lnTo>
                      <a:lnTo>
                        <a:pt x="165" y="536"/>
                      </a:lnTo>
                      <a:lnTo>
                        <a:pt x="171" y="541"/>
                      </a:lnTo>
                      <a:lnTo>
                        <a:pt x="178" y="545"/>
                      </a:lnTo>
                      <a:lnTo>
                        <a:pt x="186" y="551"/>
                      </a:lnTo>
                      <a:lnTo>
                        <a:pt x="192" y="555"/>
                      </a:lnTo>
                      <a:lnTo>
                        <a:pt x="199" y="560"/>
                      </a:lnTo>
                      <a:lnTo>
                        <a:pt x="207" y="566"/>
                      </a:lnTo>
                      <a:lnTo>
                        <a:pt x="215" y="572"/>
                      </a:lnTo>
                      <a:lnTo>
                        <a:pt x="220" y="576"/>
                      </a:lnTo>
                      <a:lnTo>
                        <a:pt x="228" y="579"/>
                      </a:lnTo>
                      <a:lnTo>
                        <a:pt x="235" y="583"/>
                      </a:lnTo>
                      <a:lnTo>
                        <a:pt x="245" y="589"/>
                      </a:lnTo>
                      <a:lnTo>
                        <a:pt x="253" y="593"/>
                      </a:lnTo>
                      <a:lnTo>
                        <a:pt x="260" y="596"/>
                      </a:lnTo>
                      <a:lnTo>
                        <a:pt x="268" y="602"/>
                      </a:lnTo>
                      <a:lnTo>
                        <a:pt x="275" y="606"/>
                      </a:lnTo>
                      <a:lnTo>
                        <a:pt x="283" y="610"/>
                      </a:lnTo>
                      <a:lnTo>
                        <a:pt x="292" y="614"/>
                      </a:lnTo>
                      <a:lnTo>
                        <a:pt x="300" y="617"/>
                      </a:lnTo>
                      <a:lnTo>
                        <a:pt x="308" y="621"/>
                      </a:lnTo>
                      <a:lnTo>
                        <a:pt x="315" y="625"/>
                      </a:lnTo>
                      <a:lnTo>
                        <a:pt x="325" y="629"/>
                      </a:lnTo>
                      <a:lnTo>
                        <a:pt x="332" y="633"/>
                      </a:lnTo>
                      <a:lnTo>
                        <a:pt x="342" y="636"/>
                      </a:lnTo>
                      <a:lnTo>
                        <a:pt x="349" y="638"/>
                      </a:lnTo>
                      <a:lnTo>
                        <a:pt x="359" y="642"/>
                      </a:lnTo>
                      <a:lnTo>
                        <a:pt x="367" y="646"/>
                      </a:lnTo>
                      <a:lnTo>
                        <a:pt x="376" y="648"/>
                      </a:lnTo>
                      <a:lnTo>
                        <a:pt x="386" y="652"/>
                      </a:lnTo>
                      <a:lnTo>
                        <a:pt x="395" y="655"/>
                      </a:lnTo>
                      <a:lnTo>
                        <a:pt x="405" y="657"/>
                      </a:lnTo>
                      <a:lnTo>
                        <a:pt x="414" y="661"/>
                      </a:lnTo>
                      <a:lnTo>
                        <a:pt x="422" y="661"/>
                      </a:lnTo>
                      <a:lnTo>
                        <a:pt x="431" y="665"/>
                      </a:lnTo>
                      <a:lnTo>
                        <a:pt x="441" y="667"/>
                      </a:lnTo>
                      <a:lnTo>
                        <a:pt x="450" y="669"/>
                      </a:lnTo>
                      <a:lnTo>
                        <a:pt x="460" y="671"/>
                      </a:lnTo>
                      <a:lnTo>
                        <a:pt x="469" y="672"/>
                      </a:lnTo>
                      <a:lnTo>
                        <a:pt x="479" y="674"/>
                      </a:lnTo>
                      <a:lnTo>
                        <a:pt x="488" y="676"/>
                      </a:lnTo>
                      <a:lnTo>
                        <a:pt x="498" y="678"/>
                      </a:lnTo>
                      <a:lnTo>
                        <a:pt x="507" y="680"/>
                      </a:lnTo>
                      <a:lnTo>
                        <a:pt x="517" y="680"/>
                      </a:lnTo>
                      <a:lnTo>
                        <a:pt x="526" y="684"/>
                      </a:lnTo>
                      <a:lnTo>
                        <a:pt x="536" y="684"/>
                      </a:lnTo>
                      <a:lnTo>
                        <a:pt x="547" y="686"/>
                      </a:lnTo>
                      <a:lnTo>
                        <a:pt x="557" y="686"/>
                      </a:lnTo>
                      <a:lnTo>
                        <a:pt x="568" y="688"/>
                      </a:lnTo>
                      <a:lnTo>
                        <a:pt x="578" y="688"/>
                      </a:lnTo>
                      <a:lnTo>
                        <a:pt x="587" y="688"/>
                      </a:lnTo>
                      <a:lnTo>
                        <a:pt x="597" y="688"/>
                      </a:lnTo>
                      <a:lnTo>
                        <a:pt x="608" y="688"/>
                      </a:lnTo>
                      <a:lnTo>
                        <a:pt x="619" y="688"/>
                      </a:lnTo>
                      <a:lnTo>
                        <a:pt x="629" y="688"/>
                      </a:lnTo>
                      <a:lnTo>
                        <a:pt x="640" y="688"/>
                      </a:lnTo>
                      <a:lnTo>
                        <a:pt x="652" y="688"/>
                      </a:lnTo>
                      <a:lnTo>
                        <a:pt x="661" y="688"/>
                      </a:lnTo>
                      <a:lnTo>
                        <a:pt x="673" y="686"/>
                      </a:lnTo>
                      <a:lnTo>
                        <a:pt x="682" y="686"/>
                      </a:lnTo>
                      <a:lnTo>
                        <a:pt x="695" y="686"/>
                      </a:lnTo>
                      <a:lnTo>
                        <a:pt x="705" y="684"/>
                      </a:lnTo>
                      <a:lnTo>
                        <a:pt x="716" y="684"/>
                      </a:lnTo>
                      <a:lnTo>
                        <a:pt x="728" y="682"/>
                      </a:lnTo>
                      <a:lnTo>
                        <a:pt x="739" y="680"/>
                      </a:lnTo>
                      <a:lnTo>
                        <a:pt x="749" y="678"/>
                      </a:lnTo>
                      <a:lnTo>
                        <a:pt x="762" y="676"/>
                      </a:lnTo>
                      <a:lnTo>
                        <a:pt x="771" y="674"/>
                      </a:lnTo>
                      <a:lnTo>
                        <a:pt x="783" y="672"/>
                      </a:lnTo>
                      <a:lnTo>
                        <a:pt x="794" y="669"/>
                      </a:lnTo>
                      <a:lnTo>
                        <a:pt x="806" y="667"/>
                      </a:lnTo>
                      <a:lnTo>
                        <a:pt x="815" y="665"/>
                      </a:lnTo>
                      <a:lnTo>
                        <a:pt x="828" y="663"/>
                      </a:lnTo>
                      <a:lnTo>
                        <a:pt x="840" y="659"/>
                      </a:lnTo>
                      <a:lnTo>
                        <a:pt x="851" y="657"/>
                      </a:lnTo>
                      <a:lnTo>
                        <a:pt x="863" y="653"/>
                      </a:lnTo>
                      <a:lnTo>
                        <a:pt x="874" y="650"/>
                      </a:lnTo>
                      <a:lnTo>
                        <a:pt x="885" y="646"/>
                      </a:lnTo>
                      <a:lnTo>
                        <a:pt x="897" y="642"/>
                      </a:lnTo>
                      <a:lnTo>
                        <a:pt x="908" y="640"/>
                      </a:lnTo>
                      <a:lnTo>
                        <a:pt x="920" y="636"/>
                      </a:lnTo>
                      <a:lnTo>
                        <a:pt x="931" y="631"/>
                      </a:lnTo>
                      <a:lnTo>
                        <a:pt x="942" y="629"/>
                      </a:lnTo>
                      <a:lnTo>
                        <a:pt x="954" y="623"/>
                      </a:lnTo>
                      <a:lnTo>
                        <a:pt x="965" y="619"/>
                      </a:lnTo>
                      <a:lnTo>
                        <a:pt x="975" y="614"/>
                      </a:lnTo>
                      <a:lnTo>
                        <a:pt x="988" y="612"/>
                      </a:lnTo>
                      <a:lnTo>
                        <a:pt x="998" y="606"/>
                      </a:lnTo>
                      <a:lnTo>
                        <a:pt x="1009" y="602"/>
                      </a:lnTo>
                      <a:lnTo>
                        <a:pt x="1020" y="596"/>
                      </a:lnTo>
                      <a:lnTo>
                        <a:pt x="1030" y="593"/>
                      </a:lnTo>
                      <a:lnTo>
                        <a:pt x="1041" y="587"/>
                      </a:lnTo>
                      <a:lnTo>
                        <a:pt x="1053" y="583"/>
                      </a:lnTo>
                      <a:lnTo>
                        <a:pt x="1062" y="577"/>
                      </a:lnTo>
                      <a:lnTo>
                        <a:pt x="1074" y="572"/>
                      </a:lnTo>
                      <a:lnTo>
                        <a:pt x="1083" y="566"/>
                      </a:lnTo>
                      <a:lnTo>
                        <a:pt x="1094" y="562"/>
                      </a:lnTo>
                      <a:lnTo>
                        <a:pt x="1104" y="557"/>
                      </a:lnTo>
                      <a:lnTo>
                        <a:pt x="1113" y="551"/>
                      </a:lnTo>
                      <a:lnTo>
                        <a:pt x="1123" y="545"/>
                      </a:lnTo>
                      <a:lnTo>
                        <a:pt x="1132" y="539"/>
                      </a:lnTo>
                      <a:lnTo>
                        <a:pt x="1142" y="534"/>
                      </a:lnTo>
                      <a:lnTo>
                        <a:pt x="1151" y="528"/>
                      </a:lnTo>
                      <a:lnTo>
                        <a:pt x="1161" y="520"/>
                      </a:lnTo>
                      <a:lnTo>
                        <a:pt x="1170" y="517"/>
                      </a:lnTo>
                      <a:lnTo>
                        <a:pt x="1178" y="509"/>
                      </a:lnTo>
                      <a:lnTo>
                        <a:pt x="1188" y="503"/>
                      </a:lnTo>
                      <a:lnTo>
                        <a:pt x="1195" y="498"/>
                      </a:lnTo>
                      <a:lnTo>
                        <a:pt x="1205" y="492"/>
                      </a:lnTo>
                      <a:lnTo>
                        <a:pt x="1212" y="486"/>
                      </a:lnTo>
                      <a:lnTo>
                        <a:pt x="1220" y="479"/>
                      </a:lnTo>
                      <a:lnTo>
                        <a:pt x="1228" y="473"/>
                      </a:lnTo>
                      <a:lnTo>
                        <a:pt x="1237" y="467"/>
                      </a:lnTo>
                      <a:lnTo>
                        <a:pt x="1243" y="460"/>
                      </a:lnTo>
                      <a:lnTo>
                        <a:pt x="1250" y="454"/>
                      </a:lnTo>
                      <a:lnTo>
                        <a:pt x="1256" y="446"/>
                      </a:lnTo>
                      <a:lnTo>
                        <a:pt x="1264" y="441"/>
                      </a:lnTo>
                      <a:lnTo>
                        <a:pt x="1269" y="433"/>
                      </a:lnTo>
                      <a:lnTo>
                        <a:pt x="1275" y="425"/>
                      </a:lnTo>
                      <a:lnTo>
                        <a:pt x="1283" y="420"/>
                      </a:lnTo>
                      <a:lnTo>
                        <a:pt x="1288" y="414"/>
                      </a:lnTo>
                      <a:lnTo>
                        <a:pt x="1292" y="406"/>
                      </a:lnTo>
                      <a:lnTo>
                        <a:pt x="1298" y="399"/>
                      </a:lnTo>
                      <a:lnTo>
                        <a:pt x="1304" y="393"/>
                      </a:lnTo>
                      <a:lnTo>
                        <a:pt x="1307" y="387"/>
                      </a:lnTo>
                      <a:lnTo>
                        <a:pt x="1313" y="380"/>
                      </a:lnTo>
                      <a:lnTo>
                        <a:pt x="1317" y="374"/>
                      </a:lnTo>
                      <a:lnTo>
                        <a:pt x="1321" y="367"/>
                      </a:lnTo>
                      <a:lnTo>
                        <a:pt x="1324" y="361"/>
                      </a:lnTo>
                      <a:lnTo>
                        <a:pt x="1326" y="351"/>
                      </a:lnTo>
                      <a:lnTo>
                        <a:pt x="1330" y="346"/>
                      </a:lnTo>
                      <a:lnTo>
                        <a:pt x="1332" y="338"/>
                      </a:lnTo>
                      <a:lnTo>
                        <a:pt x="1334" y="330"/>
                      </a:lnTo>
                      <a:lnTo>
                        <a:pt x="1336" y="323"/>
                      </a:lnTo>
                      <a:lnTo>
                        <a:pt x="1340" y="315"/>
                      </a:lnTo>
                      <a:lnTo>
                        <a:pt x="1342" y="308"/>
                      </a:lnTo>
                      <a:lnTo>
                        <a:pt x="1343" y="302"/>
                      </a:lnTo>
                      <a:lnTo>
                        <a:pt x="1345" y="292"/>
                      </a:lnTo>
                      <a:lnTo>
                        <a:pt x="1347" y="285"/>
                      </a:lnTo>
                      <a:lnTo>
                        <a:pt x="1349" y="277"/>
                      </a:lnTo>
                      <a:lnTo>
                        <a:pt x="1351" y="272"/>
                      </a:lnTo>
                      <a:lnTo>
                        <a:pt x="1351" y="262"/>
                      </a:lnTo>
                      <a:lnTo>
                        <a:pt x="1353" y="254"/>
                      </a:lnTo>
                      <a:lnTo>
                        <a:pt x="1353" y="247"/>
                      </a:lnTo>
                      <a:lnTo>
                        <a:pt x="1355" y="239"/>
                      </a:lnTo>
                      <a:lnTo>
                        <a:pt x="1355" y="232"/>
                      </a:lnTo>
                      <a:lnTo>
                        <a:pt x="1355" y="224"/>
                      </a:lnTo>
                      <a:lnTo>
                        <a:pt x="1355" y="216"/>
                      </a:lnTo>
                      <a:lnTo>
                        <a:pt x="1355" y="209"/>
                      </a:lnTo>
                      <a:lnTo>
                        <a:pt x="1355" y="201"/>
                      </a:lnTo>
                      <a:lnTo>
                        <a:pt x="1355" y="194"/>
                      </a:lnTo>
                      <a:lnTo>
                        <a:pt x="1355" y="186"/>
                      </a:lnTo>
                      <a:lnTo>
                        <a:pt x="1357" y="180"/>
                      </a:lnTo>
                      <a:lnTo>
                        <a:pt x="1355" y="173"/>
                      </a:lnTo>
                      <a:lnTo>
                        <a:pt x="1355" y="165"/>
                      </a:lnTo>
                      <a:lnTo>
                        <a:pt x="1355" y="157"/>
                      </a:lnTo>
                      <a:lnTo>
                        <a:pt x="1355" y="152"/>
                      </a:lnTo>
                      <a:lnTo>
                        <a:pt x="1353" y="144"/>
                      </a:lnTo>
                      <a:lnTo>
                        <a:pt x="1353" y="137"/>
                      </a:lnTo>
                      <a:lnTo>
                        <a:pt x="1353" y="131"/>
                      </a:lnTo>
                      <a:lnTo>
                        <a:pt x="1353" y="123"/>
                      </a:lnTo>
                      <a:lnTo>
                        <a:pt x="1351" y="116"/>
                      </a:lnTo>
                      <a:lnTo>
                        <a:pt x="1351" y="110"/>
                      </a:lnTo>
                      <a:lnTo>
                        <a:pt x="1349" y="104"/>
                      </a:lnTo>
                      <a:lnTo>
                        <a:pt x="1349" y="97"/>
                      </a:lnTo>
                      <a:lnTo>
                        <a:pt x="1349" y="91"/>
                      </a:lnTo>
                      <a:lnTo>
                        <a:pt x="1347" y="85"/>
                      </a:lnTo>
                      <a:lnTo>
                        <a:pt x="1345" y="78"/>
                      </a:lnTo>
                      <a:lnTo>
                        <a:pt x="1345" y="74"/>
                      </a:lnTo>
                      <a:lnTo>
                        <a:pt x="1343" y="61"/>
                      </a:lnTo>
                      <a:lnTo>
                        <a:pt x="1342" y="51"/>
                      </a:lnTo>
                      <a:lnTo>
                        <a:pt x="1340" y="42"/>
                      </a:lnTo>
                      <a:lnTo>
                        <a:pt x="1340" y="34"/>
                      </a:lnTo>
                      <a:lnTo>
                        <a:pt x="1336" y="24"/>
                      </a:lnTo>
                      <a:lnTo>
                        <a:pt x="1334" y="19"/>
                      </a:lnTo>
                      <a:lnTo>
                        <a:pt x="1332" y="11"/>
                      </a:lnTo>
                      <a:lnTo>
                        <a:pt x="1332" y="7"/>
                      </a:lnTo>
                      <a:lnTo>
                        <a:pt x="1330" y="2"/>
                      </a:lnTo>
                      <a:lnTo>
                        <a:pt x="1330" y="0"/>
                      </a:lnTo>
                      <a:lnTo>
                        <a:pt x="0" y="205"/>
                      </a:lnTo>
                      <a:close/>
                    </a:path>
                  </a:pathLst>
                </a:custGeom>
                <a:solidFill>
                  <a:srgbClr val="8c5e2b"/>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4" name="Freeform 33"/>
                <p:cNvSpPr/>
                <p:nvPr/>
              </p:nvSpPr>
              <p:spPr>
                <a:xfrm rot="622800">
                  <a:off x="3936600" y="3002040"/>
                  <a:ext cx="528480" cy="290160"/>
                </a:xfrm>
                <a:custGeom>
                  <a:avLst/>
                  <a:gdLst>
                    <a:gd name="textAreaLeft" fmla="*/ 0 w 528480"/>
                    <a:gd name="textAreaRight" fmla="*/ 528840 w 528480"/>
                    <a:gd name="textAreaTop" fmla="*/ 0 h 290160"/>
                    <a:gd name="textAreaBottom" fmla="*/ 290520 h 290160"/>
                  </a:gdLst>
                  <a:ahLst/>
                  <a:rect l="textAreaLeft" t="textAreaTop" r="textAreaRight" b="textAreaBottom"/>
                  <a:pathLst>
                    <a:path w="1336" h="717">
                      <a:moveTo>
                        <a:pt x="722" y="701"/>
                      </a:moveTo>
                      <a:lnTo>
                        <a:pt x="737" y="700"/>
                      </a:lnTo>
                      <a:lnTo>
                        <a:pt x="754" y="696"/>
                      </a:lnTo>
                      <a:lnTo>
                        <a:pt x="772" y="692"/>
                      </a:lnTo>
                      <a:lnTo>
                        <a:pt x="789" y="690"/>
                      </a:lnTo>
                      <a:lnTo>
                        <a:pt x="804" y="684"/>
                      </a:lnTo>
                      <a:lnTo>
                        <a:pt x="821" y="681"/>
                      </a:lnTo>
                      <a:lnTo>
                        <a:pt x="836" y="677"/>
                      </a:lnTo>
                      <a:lnTo>
                        <a:pt x="853" y="673"/>
                      </a:lnTo>
                      <a:lnTo>
                        <a:pt x="869" y="669"/>
                      </a:lnTo>
                      <a:lnTo>
                        <a:pt x="884" y="663"/>
                      </a:lnTo>
                      <a:lnTo>
                        <a:pt x="901" y="660"/>
                      </a:lnTo>
                      <a:lnTo>
                        <a:pt x="916" y="654"/>
                      </a:lnTo>
                      <a:lnTo>
                        <a:pt x="931" y="650"/>
                      </a:lnTo>
                      <a:lnTo>
                        <a:pt x="946" y="644"/>
                      </a:lnTo>
                      <a:lnTo>
                        <a:pt x="960" y="639"/>
                      </a:lnTo>
                      <a:lnTo>
                        <a:pt x="975" y="635"/>
                      </a:lnTo>
                      <a:lnTo>
                        <a:pt x="988" y="627"/>
                      </a:lnTo>
                      <a:lnTo>
                        <a:pt x="1003" y="622"/>
                      </a:lnTo>
                      <a:lnTo>
                        <a:pt x="1017" y="616"/>
                      </a:lnTo>
                      <a:lnTo>
                        <a:pt x="1030" y="610"/>
                      </a:lnTo>
                      <a:lnTo>
                        <a:pt x="1043" y="605"/>
                      </a:lnTo>
                      <a:lnTo>
                        <a:pt x="1057" y="597"/>
                      </a:lnTo>
                      <a:lnTo>
                        <a:pt x="1070" y="591"/>
                      </a:lnTo>
                      <a:lnTo>
                        <a:pt x="1083" y="586"/>
                      </a:lnTo>
                      <a:lnTo>
                        <a:pt x="1095" y="578"/>
                      </a:lnTo>
                      <a:lnTo>
                        <a:pt x="1108" y="570"/>
                      </a:lnTo>
                      <a:lnTo>
                        <a:pt x="1119" y="563"/>
                      </a:lnTo>
                      <a:lnTo>
                        <a:pt x="1131" y="557"/>
                      </a:lnTo>
                      <a:lnTo>
                        <a:pt x="1140" y="549"/>
                      </a:lnTo>
                      <a:lnTo>
                        <a:pt x="1154" y="542"/>
                      </a:lnTo>
                      <a:lnTo>
                        <a:pt x="1165" y="534"/>
                      </a:lnTo>
                      <a:lnTo>
                        <a:pt x="1176" y="529"/>
                      </a:lnTo>
                      <a:lnTo>
                        <a:pt x="1186" y="521"/>
                      </a:lnTo>
                      <a:lnTo>
                        <a:pt x="1195" y="513"/>
                      </a:lnTo>
                      <a:lnTo>
                        <a:pt x="1205" y="504"/>
                      </a:lnTo>
                      <a:lnTo>
                        <a:pt x="1214" y="496"/>
                      </a:lnTo>
                      <a:lnTo>
                        <a:pt x="1222" y="489"/>
                      </a:lnTo>
                      <a:lnTo>
                        <a:pt x="1232" y="481"/>
                      </a:lnTo>
                      <a:lnTo>
                        <a:pt x="1241" y="473"/>
                      </a:lnTo>
                      <a:lnTo>
                        <a:pt x="1249" y="466"/>
                      </a:lnTo>
                      <a:lnTo>
                        <a:pt x="1256" y="456"/>
                      </a:lnTo>
                      <a:lnTo>
                        <a:pt x="1264" y="449"/>
                      </a:lnTo>
                      <a:lnTo>
                        <a:pt x="1270" y="439"/>
                      </a:lnTo>
                      <a:lnTo>
                        <a:pt x="1277" y="432"/>
                      </a:lnTo>
                      <a:lnTo>
                        <a:pt x="1283" y="422"/>
                      </a:lnTo>
                      <a:lnTo>
                        <a:pt x="1290" y="414"/>
                      </a:lnTo>
                      <a:lnTo>
                        <a:pt x="1296" y="405"/>
                      </a:lnTo>
                      <a:lnTo>
                        <a:pt x="1302" y="397"/>
                      </a:lnTo>
                      <a:lnTo>
                        <a:pt x="1306" y="388"/>
                      </a:lnTo>
                      <a:lnTo>
                        <a:pt x="1309" y="380"/>
                      </a:lnTo>
                      <a:lnTo>
                        <a:pt x="1315" y="371"/>
                      </a:lnTo>
                      <a:lnTo>
                        <a:pt x="1319" y="361"/>
                      </a:lnTo>
                      <a:lnTo>
                        <a:pt x="1321" y="352"/>
                      </a:lnTo>
                      <a:lnTo>
                        <a:pt x="1325" y="344"/>
                      </a:lnTo>
                      <a:lnTo>
                        <a:pt x="1327" y="335"/>
                      </a:lnTo>
                      <a:lnTo>
                        <a:pt x="1330" y="327"/>
                      </a:lnTo>
                      <a:lnTo>
                        <a:pt x="1330" y="318"/>
                      </a:lnTo>
                      <a:lnTo>
                        <a:pt x="1332" y="308"/>
                      </a:lnTo>
                      <a:lnTo>
                        <a:pt x="1334" y="299"/>
                      </a:lnTo>
                      <a:lnTo>
                        <a:pt x="1336" y="291"/>
                      </a:lnTo>
                      <a:lnTo>
                        <a:pt x="1334" y="281"/>
                      </a:lnTo>
                      <a:lnTo>
                        <a:pt x="1334" y="272"/>
                      </a:lnTo>
                      <a:lnTo>
                        <a:pt x="1334" y="264"/>
                      </a:lnTo>
                      <a:lnTo>
                        <a:pt x="1334" y="257"/>
                      </a:lnTo>
                      <a:lnTo>
                        <a:pt x="1332" y="247"/>
                      </a:lnTo>
                      <a:lnTo>
                        <a:pt x="1330" y="238"/>
                      </a:lnTo>
                      <a:lnTo>
                        <a:pt x="1327" y="228"/>
                      </a:lnTo>
                      <a:lnTo>
                        <a:pt x="1325" y="221"/>
                      </a:lnTo>
                      <a:lnTo>
                        <a:pt x="1321" y="211"/>
                      </a:lnTo>
                      <a:lnTo>
                        <a:pt x="1317" y="204"/>
                      </a:lnTo>
                      <a:lnTo>
                        <a:pt x="1313" y="196"/>
                      </a:lnTo>
                      <a:lnTo>
                        <a:pt x="1309" y="188"/>
                      </a:lnTo>
                      <a:lnTo>
                        <a:pt x="1304" y="179"/>
                      </a:lnTo>
                      <a:lnTo>
                        <a:pt x="1298" y="173"/>
                      </a:lnTo>
                      <a:lnTo>
                        <a:pt x="1292" y="164"/>
                      </a:lnTo>
                      <a:lnTo>
                        <a:pt x="1287" y="158"/>
                      </a:lnTo>
                      <a:lnTo>
                        <a:pt x="1281" y="150"/>
                      </a:lnTo>
                      <a:lnTo>
                        <a:pt x="1273" y="143"/>
                      </a:lnTo>
                      <a:lnTo>
                        <a:pt x="1268" y="137"/>
                      </a:lnTo>
                      <a:lnTo>
                        <a:pt x="1260" y="129"/>
                      </a:lnTo>
                      <a:lnTo>
                        <a:pt x="1252" y="122"/>
                      </a:lnTo>
                      <a:lnTo>
                        <a:pt x="1243" y="116"/>
                      </a:lnTo>
                      <a:lnTo>
                        <a:pt x="1235" y="110"/>
                      </a:lnTo>
                      <a:lnTo>
                        <a:pt x="1226" y="103"/>
                      </a:lnTo>
                      <a:lnTo>
                        <a:pt x="1216" y="97"/>
                      </a:lnTo>
                      <a:lnTo>
                        <a:pt x="1207" y="91"/>
                      </a:lnTo>
                      <a:lnTo>
                        <a:pt x="1197" y="86"/>
                      </a:lnTo>
                      <a:lnTo>
                        <a:pt x="1190" y="82"/>
                      </a:lnTo>
                      <a:lnTo>
                        <a:pt x="1178" y="74"/>
                      </a:lnTo>
                      <a:lnTo>
                        <a:pt x="1167" y="71"/>
                      </a:lnTo>
                      <a:lnTo>
                        <a:pt x="1157" y="65"/>
                      </a:lnTo>
                      <a:lnTo>
                        <a:pt x="1146" y="61"/>
                      </a:lnTo>
                      <a:lnTo>
                        <a:pt x="1135" y="55"/>
                      </a:lnTo>
                      <a:lnTo>
                        <a:pt x="1123" y="52"/>
                      </a:lnTo>
                      <a:lnTo>
                        <a:pt x="1112" y="48"/>
                      </a:lnTo>
                      <a:lnTo>
                        <a:pt x="1100" y="44"/>
                      </a:lnTo>
                      <a:lnTo>
                        <a:pt x="1087" y="38"/>
                      </a:lnTo>
                      <a:lnTo>
                        <a:pt x="1074" y="34"/>
                      </a:lnTo>
                      <a:lnTo>
                        <a:pt x="1062" y="33"/>
                      </a:lnTo>
                      <a:lnTo>
                        <a:pt x="1049" y="29"/>
                      </a:lnTo>
                      <a:lnTo>
                        <a:pt x="1036" y="25"/>
                      </a:lnTo>
                      <a:lnTo>
                        <a:pt x="1022" y="23"/>
                      </a:lnTo>
                      <a:lnTo>
                        <a:pt x="1007" y="19"/>
                      </a:lnTo>
                      <a:lnTo>
                        <a:pt x="996" y="17"/>
                      </a:lnTo>
                      <a:lnTo>
                        <a:pt x="981" y="14"/>
                      </a:lnTo>
                      <a:lnTo>
                        <a:pt x="967" y="12"/>
                      </a:lnTo>
                      <a:lnTo>
                        <a:pt x="952" y="10"/>
                      </a:lnTo>
                      <a:lnTo>
                        <a:pt x="939" y="8"/>
                      </a:lnTo>
                      <a:lnTo>
                        <a:pt x="922" y="6"/>
                      </a:lnTo>
                      <a:lnTo>
                        <a:pt x="908" y="4"/>
                      </a:lnTo>
                      <a:lnTo>
                        <a:pt x="893" y="4"/>
                      </a:lnTo>
                      <a:lnTo>
                        <a:pt x="878" y="4"/>
                      </a:lnTo>
                      <a:lnTo>
                        <a:pt x="863" y="0"/>
                      </a:lnTo>
                      <a:lnTo>
                        <a:pt x="846" y="0"/>
                      </a:lnTo>
                      <a:lnTo>
                        <a:pt x="831" y="0"/>
                      </a:lnTo>
                      <a:lnTo>
                        <a:pt x="815" y="0"/>
                      </a:lnTo>
                      <a:lnTo>
                        <a:pt x="798" y="0"/>
                      </a:lnTo>
                      <a:lnTo>
                        <a:pt x="781" y="0"/>
                      </a:lnTo>
                      <a:lnTo>
                        <a:pt x="766" y="0"/>
                      </a:lnTo>
                      <a:lnTo>
                        <a:pt x="751" y="2"/>
                      </a:lnTo>
                      <a:lnTo>
                        <a:pt x="734" y="2"/>
                      </a:lnTo>
                      <a:lnTo>
                        <a:pt x="716" y="4"/>
                      </a:lnTo>
                      <a:lnTo>
                        <a:pt x="699" y="4"/>
                      </a:lnTo>
                      <a:lnTo>
                        <a:pt x="682" y="8"/>
                      </a:lnTo>
                      <a:lnTo>
                        <a:pt x="665" y="8"/>
                      </a:lnTo>
                      <a:lnTo>
                        <a:pt x="648" y="10"/>
                      </a:lnTo>
                      <a:lnTo>
                        <a:pt x="633" y="14"/>
                      </a:lnTo>
                      <a:lnTo>
                        <a:pt x="616" y="17"/>
                      </a:lnTo>
                      <a:lnTo>
                        <a:pt x="599" y="19"/>
                      </a:lnTo>
                      <a:lnTo>
                        <a:pt x="582" y="21"/>
                      </a:lnTo>
                      <a:lnTo>
                        <a:pt x="563" y="25"/>
                      </a:lnTo>
                      <a:lnTo>
                        <a:pt x="547" y="29"/>
                      </a:lnTo>
                      <a:lnTo>
                        <a:pt x="530" y="33"/>
                      </a:lnTo>
                      <a:lnTo>
                        <a:pt x="513" y="34"/>
                      </a:lnTo>
                      <a:lnTo>
                        <a:pt x="498" y="38"/>
                      </a:lnTo>
                      <a:lnTo>
                        <a:pt x="483" y="44"/>
                      </a:lnTo>
                      <a:lnTo>
                        <a:pt x="466" y="46"/>
                      </a:lnTo>
                      <a:lnTo>
                        <a:pt x="450" y="52"/>
                      </a:lnTo>
                      <a:lnTo>
                        <a:pt x="435" y="55"/>
                      </a:lnTo>
                      <a:lnTo>
                        <a:pt x="420" y="61"/>
                      </a:lnTo>
                      <a:lnTo>
                        <a:pt x="405" y="65"/>
                      </a:lnTo>
                      <a:lnTo>
                        <a:pt x="390" y="71"/>
                      </a:lnTo>
                      <a:lnTo>
                        <a:pt x="374" y="76"/>
                      </a:lnTo>
                      <a:lnTo>
                        <a:pt x="361" y="82"/>
                      </a:lnTo>
                      <a:lnTo>
                        <a:pt x="344" y="88"/>
                      </a:lnTo>
                      <a:lnTo>
                        <a:pt x="331" y="93"/>
                      </a:lnTo>
                      <a:lnTo>
                        <a:pt x="315" y="99"/>
                      </a:lnTo>
                      <a:lnTo>
                        <a:pt x="304" y="107"/>
                      </a:lnTo>
                      <a:lnTo>
                        <a:pt x="289" y="112"/>
                      </a:lnTo>
                      <a:lnTo>
                        <a:pt x="277" y="118"/>
                      </a:lnTo>
                      <a:lnTo>
                        <a:pt x="264" y="126"/>
                      </a:lnTo>
                      <a:lnTo>
                        <a:pt x="251" y="131"/>
                      </a:lnTo>
                      <a:lnTo>
                        <a:pt x="239" y="139"/>
                      </a:lnTo>
                      <a:lnTo>
                        <a:pt x="226" y="145"/>
                      </a:lnTo>
                      <a:lnTo>
                        <a:pt x="215" y="152"/>
                      </a:lnTo>
                      <a:lnTo>
                        <a:pt x="203" y="160"/>
                      </a:lnTo>
                      <a:lnTo>
                        <a:pt x="192" y="166"/>
                      </a:lnTo>
                      <a:lnTo>
                        <a:pt x="181" y="175"/>
                      </a:lnTo>
                      <a:lnTo>
                        <a:pt x="171" y="183"/>
                      </a:lnTo>
                      <a:lnTo>
                        <a:pt x="162" y="190"/>
                      </a:lnTo>
                      <a:lnTo>
                        <a:pt x="150" y="196"/>
                      </a:lnTo>
                      <a:lnTo>
                        <a:pt x="141" y="205"/>
                      </a:lnTo>
                      <a:lnTo>
                        <a:pt x="131" y="213"/>
                      </a:lnTo>
                      <a:lnTo>
                        <a:pt x="122" y="221"/>
                      </a:lnTo>
                      <a:lnTo>
                        <a:pt x="112" y="228"/>
                      </a:lnTo>
                      <a:lnTo>
                        <a:pt x="103" y="238"/>
                      </a:lnTo>
                      <a:lnTo>
                        <a:pt x="93" y="243"/>
                      </a:lnTo>
                      <a:lnTo>
                        <a:pt x="86" y="253"/>
                      </a:lnTo>
                      <a:lnTo>
                        <a:pt x="78" y="261"/>
                      </a:lnTo>
                      <a:lnTo>
                        <a:pt x="70" y="268"/>
                      </a:lnTo>
                      <a:lnTo>
                        <a:pt x="63" y="278"/>
                      </a:lnTo>
                      <a:lnTo>
                        <a:pt x="57" y="285"/>
                      </a:lnTo>
                      <a:lnTo>
                        <a:pt x="49" y="295"/>
                      </a:lnTo>
                      <a:lnTo>
                        <a:pt x="44" y="302"/>
                      </a:lnTo>
                      <a:lnTo>
                        <a:pt x="38" y="310"/>
                      </a:lnTo>
                      <a:lnTo>
                        <a:pt x="34" y="319"/>
                      </a:lnTo>
                      <a:lnTo>
                        <a:pt x="28" y="329"/>
                      </a:lnTo>
                      <a:lnTo>
                        <a:pt x="23" y="337"/>
                      </a:lnTo>
                      <a:lnTo>
                        <a:pt x="19" y="346"/>
                      </a:lnTo>
                      <a:lnTo>
                        <a:pt x="17" y="356"/>
                      </a:lnTo>
                      <a:lnTo>
                        <a:pt x="13" y="363"/>
                      </a:lnTo>
                      <a:lnTo>
                        <a:pt x="9" y="373"/>
                      </a:lnTo>
                      <a:lnTo>
                        <a:pt x="8" y="380"/>
                      </a:lnTo>
                      <a:lnTo>
                        <a:pt x="6" y="390"/>
                      </a:lnTo>
                      <a:lnTo>
                        <a:pt x="2" y="399"/>
                      </a:lnTo>
                      <a:lnTo>
                        <a:pt x="2" y="407"/>
                      </a:lnTo>
                      <a:lnTo>
                        <a:pt x="0" y="416"/>
                      </a:lnTo>
                      <a:lnTo>
                        <a:pt x="0" y="426"/>
                      </a:lnTo>
                      <a:lnTo>
                        <a:pt x="0" y="435"/>
                      </a:lnTo>
                      <a:lnTo>
                        <a:pt x="0" y="443"/>
                      </a:lnTo>
                      <a:lnTo>
                        <a:pt x="2" y="453"/>
                      </a:lnTo>
                      <a:lnTo>
                        <a:pt x="4" y="462"/>
                      </a:lnTo>
                      <a:lnTo>
                        <a:pt x="4" y="470"/>
                      </a:lnTo>
                      <a:lnTo>
                        <a:pt x="6" y="479"/>
                      </a:lnTo>
                      <a:lnTo>
                        <a:pt x="8" y="487"/>
                      </a:lnTo>
                      <a:lnTo>
                        <a:pt x="11" y="496"/>
                      </a:lnTo>
                      <a:lnTo>
                        <a:pt x="13" y="504"/>
                      </a:lnTo>
                      <a:lnTo>
                        <a:pt x="17" y="511"/>
                      </a:lnTo>
                      <a:lnTo>
                        <a:pt x="21" y="521"/>
                      </a:lnTo>
                      <a:lnTo>
                        <a:pt x="27" y="529"/>
                      </a:lnTo>
                      <a:lnTo>
                        <a:pt x="30" y="536"/>
                      </a:lnTo>
                      <a:lnTo>
                        <a:pt x="36" y="544"/>
                      </a:lnTo>
                      <a:lnTo>
                        <a:pt x="42" y="551"/>
                      </a:lnTo>
                      <a:lnTo>
                        <a:pt x="48" y="559"/>
                      </a:lnTo>
                      <a:lnTo>
                        <a:pt x="53" y="567"/>
                      </a:lnTo>
                      <a:lnTo>
                        <a:pt x="59" y="572"/>
                      </a:lnTo>
                      <a:lnTo>
                        <a:pt x="67" y="580"/>
                      </a:lnTo>
                      <a:lnTo>
                        <a:pt x="76" y="587"/>
                      </a:lnTo>
                      <a:lnTo>
                        <a:pt x="82" y="595"/>
                      </a:lnTo>
                      <a:lnTo>
                        <a:pt x="89" y="601"/>
                      </a:lnTo>
                      <a:lnTo>
                        <a:pt x="97" y="606"/>
                      </a:lnTo>
                      <a:lnTo>
                        <a:pt x="106" y="614"/>
                      </a:lnTo>
                      <a:lnTo>
                        <a:pt x="116" y="618"/>
                      </a:lnTo>
                      <a:lnTo>
                        <a:pt x="125" y="625"/>
                      </a:lnTo>
                      <a:lnTo>
                        <a:pt x="135" y="631"/>
                      </a:lnTo>
                      <a:lnTo>
                        <a:pt x="144" y="637"/>
                      </a:lnTo>
                      <a:lnTo>
                        <a:pt x="154" y="641"/>
                      </a:lnTo>
                      <a:lnTo>
                        <a:pt x="165" y="646"/>
                      </a:lnTo>
                      <a:lnTo>
                        <a:pt x="175" y="652"/>
                      </a:lnTo>
                      <a:lnTo>
                        <a:pt x="188" y="656"/>
                      </a:lnTo>
                      <a:lnTo>
                        <a:pt x="198" y="662"/>
                      </a:lnTo>
                      <a:lnTo>
                        <a:pt x="209" y="665"/>
                      </a:lnTo>
                      <a:lnTo>
                        <a:pt x="222" y="671"/>
                      </a:lnTo>
                      <a:lnTo>
                        <a:pt x="236" y="675"/>
                      </a:lnTo>
                      <a:lnTo>
                        <a:pt x="247" y="679"/>
                      </a:lnTo>
                      <a:lnTo>
                        <a:pt x="258" y="682"/>
                      </a:lnTo>
                      <a:lnTo>
                        <a:pt x="270" y="684"/>
                      </a:lnTo>
                      <a:lnTo>
                        <a:pt x="285" y="690"/>
                      </a:lnTo>
                      <a:lnTo>
                        <a:pt x="296" y="692"/>
                      </a:lnTo>
                      <a:lnTo>
                        <a:pt x="312" y="694"/>
                      </a:lnTo>
                      <a:lnTo>
                        <a:pt x="325" y="698"/>
                      </a:lnTo>
                      <a:lnTo>
                        <a:pt x="340" y="701"/>
                      </a:lnTo>
                      <a:lnTo>
                        <a:pt x="352" y="703"/>
                      </a:lnTo>
                      <a:lnTo>
                        <a:pt x="367" y="705"/>
                      </a:lnTo>
                      <a:lnTo>
                        <a:pt x="380" y="707"/>
                      </a:lnTo>
                      <a:lnTo>
                        <a:pt x="397" y="709"/>
                      </a:lnTo>
                      <a:lnTo>
                        <a:pt x="410" y="711"/>
                      </a:lnTo>
                      <a:lnTo>
                        <a:pt x="426" y="713"/>
                      </a:lnTo>
                      <a:lnTo>
                        <a:pt x="443" y="713"/>
                      </a:lnTo>
                      <a:lnTo>
                        <a:pt x="458" y="717"/>
                      </a:lnTo>
                      <a:lnTo>
                        <a:pt x="473" y="717"/>
                      </a:lnTo>
                      <a:lnTo>
                        <a:pt x="488" y="717"/>
                      </a:lnTo>
                      <a:lnTo>
                        <a:pt x="504" y="717"/>
                      </a:lnTo>
                      <a:lnTo>
                        <a:pt x="521" y="717"/>
                      </a:lnTo>
                      <a:lnTo>
                        <a:pt x="536" y="717"/>
                      </a:lnTo>
                      <a:lnTo>
                        <a:pt x="551" y="717"/>
                      </a:lnTo>
                      <a:lnTo>
                        <a:pt x="568" y="717"/>
                      </a:lnTo>
                      <a:lnTo>
                        <a:pt x="585" y="717"/>
                      </a:lnTo>
                      <a:lnTo>
                        <a:pt x="601" y="713"/>
                      </a:lnTo>
                      <a:lnTo>
                        <a:pt x="618" y="713"/>
                      </a:lnTo>
                      <a:lnTo>
                        <a:pt x="635" y="711"/>
                      </a:lnTo>
                      <a:lnTo>
                        <a:pt x="652" y="711"/>
                      </a:lnTo>
                      <a:lnTo>
                        <a:pt x="669" y="709"/>
                      </a:lnTo>
                      <a:lnTo>
                        <a:pt x="686" y="707"/>
                      </a:lnTo>
                      <a:lnTo>
                        <a:pt x="703" y="703"/>
                      </a:lnTo>
                      <a:lnTo>
                        <a:pt x="722" y="701"/>
                      </a:lnTo>
                      <a:close/>
                    </a:path>
                  </a:pathLst>
                </a:custGeom>
                <a:solidFill>
                  <a:srgbClr val="7d4d1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5" name="Freeform 34"/>
                <p:cNvSpPr/>
                <p:nvPr/>
              </p:nvSpPr>
              <p:spPr>
                <a:xfrm rot="622800">
                  <a:off x="4130280" y="3117960"/>
                  <a:ext cx="140040" cy="41040"/>
                </a:xfrm>
                <a:custGeom>
                  <a:avLst/>
                  <a:gdLst>
                    <a:gd name="textAreaLeft" fmla="*/ 0 w 140040"/>
                    <a:gd name="textAreaRight" fmla="*/ 140400 w 140040"/>
                    <a:gd name="textAreaTop" fmla="*/ 0 h 41040"/>
                    <a:gd name="textAreaBottom" fmla="*/ 41400 h 41040"/>
                  </a:gdLst>
                  <a:ahLst/>
                  <a:rect l="textAreaLeft" t="textAreaTop" r="textAreaRight" b="textAreaBottom"/>
                  <a:pathLst>
                    <a:path w="353" h="103">
                      <a:moveTo>
                        <a:pt x="182" y="97"/>
                      </a:moveTo>
                      <a:lnTo>
                        <a:pt x="190" y="95"/>
                      </a:lnTo>
                      <a:lnTo>
                        <a:pt x="199" y="93"/>
                      </a:lnTo>
                      <a:lnTo>
                        <a:pt x="207" y="91"/>
                      </a:lnTo>
                      <a:lnTo>
                        <a:pt x="216" y="89"/>
                      </a:lnTo>
                      <a:lnTo>
                        <a:pt x="224" y="88"/>
                      </a:lnTo>
                      <a:lnTo>
                        <a:pt x="231" y="86"/>
                      </a:lnTo>
                      <a:lnTo>
                        <a:pt x="241" y="84"/>
                      </a:lnTo>
                      <a:lnTo>
                        <a:pt x="248" y="82"/>
                      </a:lnTo>
                      <a:lnTo>
                        <a:pt x="256" y="78"/>
                      </a:lnTo>
                      <a:lnTo>
                        <a:pt x="264" y="76"/>
                      </a:lnTo>
                      <a:lnTo>
                        <a:pt x="271" y="74"/>
                      </a:lnTo>
                      <a:lnTo>
                        <a:pt x="279" y="72"/>
                      </a:lnTo>
                      <a:lnTo>
                        <a:pt x="285" y="70"/>
                      </a:lnTo>
                      <a:lnTo>
                        <a:pt x="290" y="69"/>
                      </a:lnTo>
                      <a:lnTo>
                        <a:pt x="298" y="67"/>
                      </a:lnTo>
                      <a:lnTo>
                        <a:pt x="304" y="65"/>
                      </a:lnTo>
                      <a:lnTo>
                        <a:pt x="313" y="59"/>
                      </a:lnTo>
                      <a:lnTo>
                        <a:pt x="324" y="53"/>
                      </a:lnTo>
                      <a:lnTo>
                        <a:pt x="332" y="48"/>
                      </a:lnTo>
                      <a:lnTo>
                        <a:pt x="340" y="44"/>
                      </a:lnTo>
                      <a:lnTo>
                        <a:pt x="345" y="38"/>
                      </a:lnTo>
                      <a:lnTo>
                        <a:pt x="349" y="34"/>
                      </a:lnTo>
                      <a:lnTo>
                        <a:pt x="351" y="29"/>
                      </a:lnTo>
                      <a:lnTo>
                        <a:pt x="353" y="25"/>
                      </a:lnTo>
                      <a:lnTo>
                        <a:pt x="349" y="19"/>
                      </a:lnTo>
                      <a:lnTo>
                        <a:pt x="347" y="15"/>
                      </a:lnTo>
                      <a:lnTo>
                        <a:pt x="340" y="12"/>
                      </a:lnTo>
                      <a:lnTo>
                        <a:pt x="334" y="10"/>
                      </a:lnTo>
                      <a:lnTo>
                        <a:pt x="326" y="6"/>
                      </a:lnTo>
                      <a:lnTo>
                        <a:pt x="317" y="4"/>
                      </a:lnTo>
                      <a:lnTo>
                        <a:pt x="311" y="2"/>
                      </a:lnTo>
                      <a:lnTo>
                        <a:pt x="305" y="2"/>
                      </a:lnTo>
                      <a:lnTo>
                        <a:pt x="300" y="2"/>
                      </a:lnTo>
                      <a:lnTo>
                        <a:pt x="294" y="2"/>
                      </a:lnTo>
                      <a:lnTo>
                        <a:pt x="286" y="0"/>
                      </a:lnTo>
                      <a:lnTo>
                        <a:pt x="281" y="0"/>
                      </a:lnTo>
                      <a:lnTo>
                        <a:pt x="273" y="0"/>
                      </a:lnTo>
                      <a:lnTo>
                        <a:pt x="266" y="0"/>
                      </a:lnTo>
                      <a:lnTo>
                        <a:pt x="260" y="0"/>
                      </a:lnTo>
                      <a:lnTo>
                        <a:pt x="252" y="0"/>
                      </a:lnTo>
                      <a:lnTo>
                        <a:pt x="245" y="0"/>
                      </a:lnTo>
                      <a:lnTo>
                        <a:pt x="237" y="0"/>
                      </a:lnTo>
                      <a:lnTo>
                        <a:pt x="228" y="0"/>
                      </a:lnTo>
                      <a:lnTo>
                        <a:pt x="220" y="0"/>
                      </a:lnTo>
                      <a:lnTo>
                        <a:pt x="212" y="2"/>
                      </a:lnTo>
                      <a:lnTo>
                        <a:pt x="203" y="2"/>
                      </a:lnTo>
                      <a:lnTo>
                        <a:pt x="195" y="2"/>
                      </a:lnTo>
                      <a:lnTo>
                        <a:pt x="186" y="4"/>
                      </a:lnTo>
                      <a:lnTo>
                        <a:pt x="178" y="4"/>
                      </a:lnTo>
                      <a:lnTo>
                        <a:pt x="169" y="8"/>
                      </a:lnTo>
                      <a:lnTo>
                        <a:pt x="159" y="8"/>
                      </a:lnTo>
                      <a:lnTo>
                        <a:pt x="150" y="10"/>
                      </a:lnTo>
                      <a:lnTo>
                        <a:pt x="142" y="10"/>
                      </a:lnTo>
                      <a:lnTo>
                        <a:pt x="133" y="12"/>
                      </a:lnTo>
                      <a:lnTo>
                        <a:pt x="123" y="13"/>
                      </a:lnTo>
                      <a:lnTo>
                        <a:pt x="117" y="17"/>
                      </a:lnTo>
                      <a:lnTo>
                        <a:pt x="108" y="17"/>
                      </a:lnTo>
                      <a:lnTo>
                        <a:pt x="102" y="21"/>
                      </a:lnTo>
                      <a:lnTo>
                        <a:pt x="93" y="21"/>
                      </a:lnTo>
                      <a:lnTo>
                        <a:pt x="85" y="23"/>
                      </a:lnTo>
                      <a:lnTo>
                        <a:pt x="79" y="27"/>
                      </a:lnTo>
                      <a:lnTo>
                        <a:pt x="72" y="29"/>
                      </a:lnTo>
                      <a:lnTo>
                        <a:pt x="64" y="31"/>
                      </a:lnTo>
                      <a:lnTo>
                        <a:pt x="58" y="32"/>
                      </a:lnTo>
                      <a:lnTo>
                        <a:pt x="53" y="36"/>
                      </a:lnTo>
                      <a:lnTo>
                        <a:pt x="47" y="38"/>
                      </a:lnTo>
                      <a:lnTo>
                        <a:pt x="41" y="40"/>
                      </a:lnTo>
                      <a:lnTo>
                        <a:pt x="36" y="44"/>
                      </a:lnTo>
                      <a:lnTo>
                        <a:pt x="32" y="46"/>
                      </a:lnTo>
                      <a:lnTo>
                        <a:pt x="26" y="48"/>
                      </a:lnTo>
                      <a:lnTo>
                        <a:pt x="19" y="53"/>
                      </a:lnTo>
                      <a:lnTo>
                        <a:pt x="13" y="59"/>
                      </a:lnTo>
                      <a:lnTo>
                        <a:pt x="5" y="63"/>
                      </a:lnTo>
                      <a:lnTo>
                        <a:pt x="3" y="69"/>
                      </a:lnTo>
                      <a:lnTo>
                        <a:pt x="0" y="74"/>
                      </a:lnTo>
                      <a:lnTo>
                        <a:pt x="1" y="78"/>
                      </a:lnTo>
                      <a:lnTo>
                        <a:pt x="1" y="82"/>
                      </a:lnTo>
                      <a:lnTo>
                        <a:pt x="5" y="86"/>
                      </a:lnTo>
                      <a:lnTo>
                        <a:pt x="9" y="89"/>
                      </a:lnTo>
                      <a:lnTo>
                        <a:pt x="17" y="93"/>
                      </a:lnTo>
                      <a:lnTo>
                        <a:pt x="24" y="95"/>
                      </a:lnTo>
                      <a:lnTo>
                        <a:pt x="34" y="97"/>
                      </a:lnTo>
                      <a:lnTo>
                        <a:pt x="38" y="97"/>
                      </a:lnTo>
                      <a:lnTo>
                        <a:pt x="43" y="99"/>
                      </a:lnTo>
                      <a:lnTo>
                        <a:pt x="51" y="101"/>
                      </a:lnTo>
                      <a:lnTo>
                        <a:pt x="57" y="101"/>
                      </a:lnTo>
                      <a:lnTo>
                        <a:pt x="62" y="101"/>
                      </a:lnTo>
                      <a:lnTo>
                        <a:pt x="68" y="101"/>
                      </a:lnTo>
                      <a:lnTo>
                        <a:pt x="74" y="101"/>
                      </a:lnTo>
                      <a:lnTo>
                        <a:pt x="81" y="103"/>
                      </a:lnTo>
                      <a:lnTo>
                        <a:pt x="89" y="103"/>
                      </a:lnTo>
                      <a:lnTo>
                        <a:pt x="96" y="103"/>
                      </a:lnTo>
                      <a:lnTo>
                        <a:pt x="104" y="103"/>
                      </a:lnTo>
                      <a:lnTo>
                        <a:pt x="112" y="103"/>
                      </a:lnTo>
                      <a:lnTo>
                        <a:pt x="119" y="101"/>
                      </a:lnTo>
                      <a:lnTo>
                        <a:pt x="129" y="101"/>
                      </a:lnTo>
                      <a:lnTo>
                        <a:pt x="136" y="101"/>
                      </a:lnTo>
                      <a:lnTo>
                        <a:pt x="146" y="101"/>
                      </a:lnTo>
                      <a:lnTo>
                        <a:pt x="155" y="99"/>
                      </a:lnTo>
                      <a:lnTo>
                        <a:pt x="163" y="97"/>
                      </a:lnTo>
                      <a:lnTo>
                        <a:pt x="172" y="97"/>
                      </a:lnTo>
                      <a:lnTo>
                        <a:pt x="182" y="97"/>
                      </a:lnTo>
                      <a:close/>
                    </a:path>
                  </a:pathLst>
                </a:custGeom>
                <a:solidFill>
                  <a:srgbClr val="6936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206" name="Freeform 35"/>
                <p:cNvSpPr/>
                <p:nvPr/>
              </p:nvSpPr>
              <p:spPr>
                <a:xfrm rot="622800">
                  <a:off x="3962160" y="3010320"/>
                  <a:ext cx="485640" cy="266400"/>
                </a:xfrm>
                <a:custGeom>
                  <a:avLst/>
                  <a:gdLst>
                    <a:gd name="textAreaLeft" fmla="*/ 0 w 485640"/>
                    <a:gd name="textAreaRight" fmla="*/ 486000 w 485640"/>
                    <a:gd name="textAreaTop" fmla="*/ 0 h 266400"/>
                    <a:gd name="textAreaBottom" fmla="*/ 266760 h 266400"/>
                  </a:gdLst>
                  <a:ahLst/>
                  <a:rect l="textAreaLeft" t="textAreaTop" r="textAreaRight" b="textAreaBottom"/>
                  <a:pathLst>
                    <a:path w="1227" h="658">
                      <a:moveTo>
                        <a:pt x="462" y="48"/>
                      </a:moveTo>
                      <a:lnTo>
                        <a:pt x="460" y="48"/>
                      </a:lnTo>
                      <a:lnTo>
                        <a:pt x="450" y="52"/>
                      </a:lnTo>
                      <a:lnTo>
                        <a:pt x="444" y="52"/>
                      </a:lnTo>
                      <a:lnTo>
                        <a:pt x="439" y="53"/>
                      </a:lnTo>
                      <a:lnTo>
                        <a:pt x="431" y="57"/>
                      </a:lnTo>
                      <a:lnTo>
                        <a:pt x="424" y="61"/>
                      </a:lnTo>
                      <a:lnTo>
                        <a:pt x="412" y="63"/>
                      </a:lnTo>
                      <a:lnTo>
                        <a:pt x="403" y="65"/>
                      </a:lnTo>
                      <a:lnTo>
                        <a:pt x="391" y="71"/>
                      </a:lnTo>
                      <a:lnTo>
                        <a:pt x="382" y="74"/>
                      </a:lnTo>
                      <a:lnTo>
                        <a:pt x="374" y="74"/>
                      </a:lnTo>
                      <a:lnTo>
                        <a:pt x="368" y="78"/>
                      </a:lnTo>
                      <a:lnTo>
                        <a:pt x="363" y="80"/>
                      </a:lnTo>
                      <a:lnTo>
                        <a:pt x="355" y="82"/>
                      </a:lnTo>
                      <a:lnTo>
                        <a:pt x="349" y="84"/>
                      </a:lnTo>
                      <a:lnTo>
                        <a:pt x="344" y="88"/>
                      </a:lnTo>
                      <a:lnTo>
                        <a:pt x="336" y="90"/>
                      </a:lnTo>
                      <a:lnTo>
                        <a:pt x="332" y="93"/>
                      </a:lnTo>
                      <a:lnTo>
                        <a:pt x="325" y="95"/>
                      </a:lnTo>
                      <a:lnTo>
                        <a:pt x="317" y="97"/>
                      </a:lnTo>
                      <a:lnTo>
                        <a:pt x="309" y="99"/>
                      </a:lnTo>
                      <a:lnTo>
                        <a:pt x="304" y="103"/>
                      </a:lnTo>
                      <a:lnTo>
                        <a:pt x="296" y="105"/>
                      </a:lnTo>
                      <a:lnTo>
                        <a:pt x="289" y="107"/>
                      </a:lnTo>
                      <a:lnTo>
                        <a:pt x="283" y="110"/>
                      </a:lnTo>
                      <a:lnTo>
                        <a:pt x="277" y="112"/>
                      </a:lnTo>
                      <a:lnTo>
                        <a:pt x="270" y="116"/>
                      </a:lnTo>
                      <a:lnTo>
                        <a:pt x="262" y="118"/>
                      </a:lnTo>
                      <a:lnTo>
                        <a:pt x="254" y="122"/>
                      </a:lnTo>
                      <a:lnTo>
                        <a:pt x="249" y="126"/>
                      </a:lnTo>
                      <a:lnTo>
                        <a:pt x="241" y="128"/>
                      </a:lnTo>
                      <a:lnTo>
                        <a:pt x="235" y="129"/>
                      </a:lnTo>
                      <a:lnTo>
                        <a:pt x="230" y="133"/>
                      </a:lnTo>
                      <a:lnTo>
                        <a:pt x="222" y="137"/>
                      </a:lnTo>
                      <a:lnTo>
                        <a:pt x="214" y="139"/>
                      </a:lnTo>
                      <a:lnTo>
                        <a:pt x="209" y="141"/>
                      </a:lnTo>
                      <a:lnTo>
                        <a:pt x="203" y="145"/>
                      </a:lnTo>
                      <a:lnTo>
                        <a:pt x="195" y="148"/>
                      </a:lnTo>
                      <a:lnTo>
                        <a:pt x="190" y="150"/>
                      </a:lnTo>
                      <a:lnTo>
                        <a:pt x="184" y="154"/>
                      </a:lnTo>
                      <a:lnTo>
                        <a:pt x="176" y="156"/>
                      </a:lnTo>
                      <a:lnTo>
                        <a:pt x="173" y="160"/>
                      </a:lnTo>
                      <a:lnTo>
                        <a:pt x="159" y="166"/>
                      </a:lnTo>
                      <a:lnTo>
                        <a:pt x="150" y="171"/>
                      </a:lnTo>
                      <a:lnTo>
                        <a:pt x="140" y="177"/>
                      </a:lnTo>
                      <a:lnTo>
                        <a:pt x="133" y="185"/>
                      </a:lnTo>
                      <a:lnTo>
                        <a:pt x="123" y="190"/>
                      </a:lnTo>
                      <a:lnTo>
                        <a:pt x="116" y="194"/>
                      </a:lnTo>
                      <a:lnTo>
                        <a:pt x="108" y="200"/>
                      </a:lnTo>
                      <a:lnTo>
                        <a:pt x="100" y="205"/>
                      </a:lnTo>
                      <a:lnTo>
                        <a:pt x="93" y="211"/>
                      </a:lnTo>
                      <a:lnTo>
                        <a:pt x="87" y="215"/>
                      </a:lnTo>
                      <a:lnTo>
                        <a:pt x="80" y="221"/>
                      </a:lnTo>
                      <a:lnTo>
                        <a:pt x="74" y="228"/>
                      </a:lnTo>
                      <a:lnTo>
                        <a:pt x="68" y="232"/>
                      </a:lnTo>
                      <a:lnTo>
                        <a:pt x="62" y="238"/>
                      </a:lnTo>
                      <a:lnTo>
                        <a:pt x="57" y="243"/>
                      </a:lnTo>
                      <a:lnTo>
                        <a:pt x="51" y="249"/>
                      </a:lnTo>
                      <a:lnTo>
                        <a:pt x="42" y="261"/>
                      </a:lnTo>
                      <a:lnTo>
                        <a:pt x="36" y="272"/>
                      </a:lnTo>
                      <a:lnTo>
                        <a:pt x="26" y="281"/>
                      </a:lnTo>
                      <a:lnTo>
                        <a:pt x="23" y="293"/>
                      </a:lnTo>
                      <a:lnTo>
                        <a:pt x="17" y="304"/>
                      </a:lnTo>
                      <a:lnTo>
                        <a:pt x="13" y="316"/>
                      </a:lnTo>
                      <a:lnTo>
                        <a:pt x="11" y="325"/>
                      </a:lnTo>
                      <a:lnTo>
                        <a:pt x="7" y="337"/>
                      </a:lnTo>
                      <a:lnTo>
                        <a:pt x="7" y="346"/>
                      </a:lnTo>
                      <a:lnTo>
                        <a:pt x="7" y="359"/>
                      </a:lnTo>
                      <a:lnTo>
                        <a:pt x="7" y="369"/>
                      </a:lnTo>
                      <a:lnTo>
                        <a:pt x="7" y="378"/>
                      </a:lnTo>
                      <a:lnTo>
                        <a:pt x="5" y="390"/>
                      </a:lnTo>
                      <a:lnTo>
                        <a:pt x="5" y="399"/>
                      </a:lnTo>
                      <a:lnTo>
                        <a:pt x="4" y="409"/>
                      </a:lnTo>
                      <a:lnTo>
                        <a:pt x="4" y="420"/>
                      </a:lnTo>
                      <a:lnTo>
                        <a:pt x="2" y="430"/>
                      </a:lnTo>
                      <a:lnTo>
                        <a:pt x="2" y="439"/>
                      </a:lnTo>
                      <a:lnTo>
                        <a:pt x="2" y="449"/>
                      </a:lnTo>
                      <a:lnTo>
                        <a:pt x="0" y="458"/>
                      </a:lnTo>
                      <a:lnTo>
                        <a:pt x="0" y="466"/>
                      </a:lnTo>
                      <a:lnTo>
                        <a:pt x="0" y="475"/>
                      </a:lnTo>
                      <a:lnTo>
                        <a:pt x="0" y="485"/>
                      </a:lnTo>
                      <a:lnTo>
                        <a:pt x="2" y="492"/>
                      </a:lnTo>
                      <a:lnTo>
                        <a:pt x="4" y="500"/>
                      </a:lnTo>
                      <a:lnTo>
                        <a:pt x="7" y="510"/>
                      </a:lnTo>
                      <a:lnTo>
                        <a:pt x="11" y="515"/>
                      </a:lnTo>
                      <a:lnTo>
                        <a:pt x="17" y="523"/>
                      </a:lnTo>
                      <a:lnTo>
                        <a:pt x="24" y="529"/>
                      </a:lnTo>
                      <a:lnTo>
                        <a:pt x="34" y="536"/>
                      </a:lnTo>
                      <a:lnTo>
                        <a:pt x="43" y="542"/>
                      </a:lnTo>
                      <a:lnTo>
                        <a:pt x="55" y="549"/>
                      </a:lnTo>
                      <a:lnTo>
                        <a:pt x="61" y="553"/>
                      </a:lnTo>
                      <a:lnTo>
                        <a:pt x="64" y="557"/>
                      </a:lnTo>
                      <a:lnTo>
                        <a:pt x="72" y="559"/>
                      </a:lnTo>
                      <a:lnTo>
                        <a:pt x="78" y="563"/>
                      </a:lnTo>
                      <a:lnTo>
                        <a:pt x="83" y="567"/>
                      </a:lnTo>
                      <a:lnTo>
                        <a:pt x="89" y="570"/>
                      </a:lnTo>
                      <a:lnTo>
                        <a:pt x="97" y="572"/>
                      </a:lnTo>
                      <a:lnTo>
                        <a:pt x="102" y="576"/>
                      </a:lnTo>
                      <a:lnTo>
                        <a:pt x="108" y="580"/>
                      </a:lnTo>
                      <a:lnTo>
                        <a:pt x="116" y="584"/>
                      </a:lnTo>
                      <a:lnTo>
                        <a:pt x="121" y="586"/>
                      </a:lnTo>
                      <a:lnTo>
                        <a:pt x="127" y="589"/>
                      </a:lnTo>
                      <a:lnTo>
                        <a:pt x="138" y="595"/>
                      </a:lnTo>
                      <a:lnTo>
                        <a:pt x="150" y="603"/>
                      </a:lnTo>
                      <a:lnTo>
                        <a:pt x="159" y="610"/>
                      </a:lnTo>
                      <a:lnTo>
                        <a:pt x="171" y="618"/>
                      </a:lnTo>
                      <a:lnTo>
                        <a:pt x="178" y="624"/>
                      </a:lnTo>
                      <a:lnTo>
                        <a:pt x="188" y="627"/>
                      </a:lnTo>
                      <a:lnTo>
                        <a:pt x="197" y="633"/>
                      </a:lnTo>
                      <a:lnTo>
                        <a:pt x="209" y="637"/>
                      </a:lnTo>
                      <a:lnTo>
                        <a:pt x="214" y="639"/>
                      </a:lnTo>
                      <a:lnTo>
                        <a:pt x="220" y="641"/>
                      </a:lnTo>
                      <a:lnTo>
                        <a:pt x="226" y="643"/>
                      </a:lnTo>
                      <a:lnTo>
                        <a:pt x="232" y="644"/>
                      </a:lnTo>
                      <a:lnTo>
                        <a:pt x="239" y="644"/>
                      </a:lnTo>
                      <a:lnTo>
                        <a:pt x="245" y="646"/>
                      </a:lnTo>
                      <a:lnTo>
                        <a:pt x="251" y="648"/>
                      </a:lnTo>
                      <a:lnTo>
                        <a:pt x="258" y="650"/>
                      </a:lnTo>
                      <a:lnTo>
                        <a:pt x="264" y="650"/>
                      </a:lnTo>
                      <a:lnTo>
                        <a:pt x="271" y="652"/>
                      </a:lnTo>
                      <a:lnTo>
                        <a:pt x="277" y="652"/>
                      </a:lnTo>
                      <a:lnTo>
                        <a:pt x="285" y="652"/>
                      </a:lnTo>
                      <a:lnTo>
                        <a:pt x="290" y="652"/>
                      </a:lnTo>
                      <a:lnTo>
                        <a:pt x="298" y="654"/>
                      </a:lnTo>
                      <a:lnTo>
                        <a:pt x="306" y="654"/>
                      </a:lnTo>
                      <a:lnTo>
                        <a:pt x="313" y="656"/>
                      </a:lnTo>
                      <a:lnTo>
                        <a:pt x="319" y="656"/>
                      </a:lnTo>
                      <a:lnTo>
                        <a:pt x="327" y="656"/>
                      </a:lnTo>
                      <a:lnTo>
                        <a:pt x="334" y="656"/>
                      </a:lnTo>
                      <a:lnTo>
                        <a:pt x="342" y="656"/>
                      </a:lnTo>
                      <a:lnTo>
                        <a:pt x="347" y="656"/>
                      </a:lnTo>
                      <a:lnTo>
                        <a:pt x="355" y="656"/>
                      </a:lnTo>
                      <a:lnTo>
                        <a:pt x="363" y="656"/>
                      </a:lnTo>
                      <a:lnTo>
                        <a:pt x="370" y="658"/>
                      </a:lnTo>
                      <a:lnTo>
                        <a:pt x="376" y="656"/>
                      </a:lnTo>
                      <a:lnTo>
                        <a:pt x="382" y="656"/>
                      </a:lnTo>
                      <a:lnTo>
                        <a:pt x="389" y="656"/>
                      </a:lnTo>
                      <a:lnTo>
                        <a:pt x="395" y="656"/>
                      </a:lnTo>
                      <a:lnTo>
                        <a:pt x="403" y="654"/>
                      </a:lnTo>
                      <a:lnTo>
                        <a:pt x="410" y="654"/>
                      </a:lnTo>
                      <a:lnTo>
                        <a:pt x="416" y="654"/>
                      </a:lnTo>
                      <a:lnTo>
                        <a:pt x="424" y="654"/>
                      </a:lnTo>
                      <a:lnTo>
                        <a:pt x="429" y="654"/>
                      </a:lnTo>
                      <a:lnTo>
                        <a:pt x="437" y="654"/>
                      </a:lnTo>
                      <a:lnTo>
                        <a:pt x="443" y="654"/>
                      </a:lnTo>
                      <a:lnTo>
                        <a:pt x="450" y="654"/>
                      </a:lnTo>
                      <a:lnTo>
                        <a:pt x="458" y="654"/>
                      </a:lnTo>
                      <a:lnTo>
                        <a:pt x="465" y="654"/>
                      </a:lnTo>
                      <a:lnTo>
                        <a:pt x="471" y="654"/>
                      </a:lnTo>
                      <a:lnTo>
                        <a:pt x="479" y="654"/>
                      </a:lnTo>
                      <a:lnTo>
                        <a:pt x="486" y="654"/>
                      </a:lnTo>
                      <a:lnTo>
                        <a:pt x="494" y="654"/>
                      </a:lnTo>
                      <a:lnTo>
                        <a:pt x="500" y="654"/>
                      </a:lnTo>
                      <a:lnTo>
                        <a:pt x="507" y="654"/>
                      </a:lnTo>
                      <a:lnTo>
                        <a:pt x="515" y="654"/>
                      </a:lnTo>
                      <a:lnTo>
                        <a:pt x="524" y="654"/>
                      </a:lnTo>
                      <a:lnTo>
                        <a:pt x="532" y="654"/>
                      </a:lnTo>
                      <a:lnTo>
                        <a:pt x="539" y="654"/>
                      </a:lnTo>
                      <a:lnTo>
                        <a:pt x="547" y="654"/>
                      </a:lnTo>
                      <a:lnTo>
                        <a:pt x="555" y="654"/>
                      </a:lnTo>
                      <a:lnTo>
                        <a:pt x="564" y="654"/>
                      </a:lnTo>
                      <a:lnTo>
                        <a:pt x="572" y="656"/>
                      </a:lnTo>
                      <a:lnTo>
                        <a:pt x="581" y="656"/>
                      </a:lnTo>
                      <a:lnTo>
                        <a:pt x="591" y="656"/>
                      </a:lnTo>
                      <a:lnTo>
                        <a:pt x="600" y="656"/>
                      </a:lnTo>
                      <a:lnTo>
                        <a:pt x="610" y="658"/>
                      </a:lnTo>
                      <a:lnTo>
                        <a:pt x="619" y="656"/>
                      </a:lnTo>
                      <a:lnTo>
                        <a:pt x="629" y="656"/>
                      </a:lnTo>
                      <a:lnTo>
                        <a:pt x="638" y="656"/>
                      </a:lnTo>
                      <a:lnTo>
                        <a:pt x="648" y="656"/>
                      </a:lnTo>
                      <a:lnTo>
                        <a:pt x="657" y="656"/>
                      </a:lnTo>
                      <a:lnTo>
                        <a:pt x="669" y="654"/>
                      </a:lnTo>
                      <a:lnTo>
                        <a:pt x="678" y="654"/>
                      </a:lnTo>
                      <a:lnTo>
                        <a:pt x="690" y="654"/>
                      </a:lnTo>
                      <a:lnTo>
                        <a:pt x="699" y="652"/>
                      </a:lnTo>
                      <a:lnTo>
                        <a:pt x="710" y="650"/>
                      </a:lnTo>
                      <a:lnTo>
                        <a:pt x="720" y="648"/>
                      </a:lnTo>
                      <a:lnTo>
                        <a:pt x="731" y="646"/>
                      </a:lnTo>
                      <a:lnTo>
                        <a:pt x="741" y="644"/>
                      </a:lnTo>
                      <a:lnTo>
                        <a:pt x="752" y="644"/>
                      </a:lnTo>
                      <a:lnTo>
                        <a:pt x="762" y="643"/>
                      </a:lnTo>
                      <a:lnTo>
                        <a:pt x="773" y="641"/>
                      </a:lnTo>
                      <a:lnTo>
                        <a:pt x="781" y="637"/>
                      </a:lnTo>
                      <a:lnTo>
                        <a:pt x="790" y="635"/>
                      </a:lnTo>
                      <a:lnTo>
                        <a:pt x="800" y="633"/>
                      </a:lnTo>
                      <a:lnTo>
                        <a:pt x="809" y="631"/>
                      </a:lnTo>
                      <a:lnTo>
                        <a:pt x="819" y="627"/>
                      </a:lnTo>
                      <a:lnTo>
                        <a:pt x="828" y="625"/>
                      </a:lnTo>
                      <a:lnTo>
                        <a:pt x="836" y="624"/>
                      </a:lnTo>
                      <a:lnTo>
                        <a:pt x="845" y="622"/>
                      </a:lnTo>
                      <a:lnTo>
                        <a:pt x="851" y="618"/>
                      </a:lnTo>
                      <a:lnTo>
                        <a:pt x="859" y="616"/>
                      </a:lnTo>
                      <a:lnTo>
                        <a:pt x="866" y="614"/>
                      </a:lnTo>
                      <a:lnTo>
                        <a:pt x="874" y="612"/>
                      </a:lnTo>
                      <a:lnTo>
                        <a:pt x="878" y="610"/>
                      </a:lnTo>
                      <a:lnTo>
                        <a:pt x="885" y="608"/>
                      </a:lnTo>
                      <a:lnTo>
                        <a:pt x="889" y="606"/>
                      </a:lnTo>
                      <a:lnTo>
                        <a:pt x="895" y="605"/>
                      </a:lnTo>
                      <a:lnTo>
                        <a:pt x="902" y="599"/>
                      </a:lnTo>
                      <a:lnTo>
                        <a:pt x="912" y="595"/>
                      </a:lnTo>
                      <a:lnTo>
                        <a:pt x="918" y="589"/>
                      </a:lnTo>
                      <a:lnTo>
                        <a:pt x="925" y="586"/>
                      </a:lnTo>
                      <a:lnTo>
                        <a:pt x="931" y="580"/>
                      </a:lnTo>
                      <a:lnTo>
                        <a:pt x="939" y="576"/>
                      </a:lnTo>
                      <a:lnTo>
                        <a:pt x="944" y="570"/>
                      </a:lnTo>
                      <a:lnTo>
                        <a:pt x="952" y="567"/>
                      </a:lnTo>
                      <a:lnTo>
                        <a:pt x="959" y="561"/>
                      </a:lnTo>
                      <a:lnTo>
                        <a:pt x="965" y="555"/>
                      </a:lnTo>
                      <a:lnTo>
                        <a:pt x="971" y="549"/>
                      </a:lnTo>
                      <a:lnTo>
                        <a:pt x="980" y="544"/>
                      </a:lnTo>
                      <a:lnTo>
                        <a:pt x="988" y="538"/>
                      </a:lnTo>
                      <a:lnTo>
                        <a:pt x="997" y="530"/>
                      </a:lnTo>
                      <a:lnTo>
                        <a:pt x="1005" y="525"/>
                      </a:lnTo>
                      <a:lnTo>
                        <a:pt x="1016" y="519"/>
                      </a:lnTo>
                      <a:lnTo>
                        <a:pt x="1026" y="511"/>
                      </a:lnTo>
                      <a:lnTo>
                        <a:pt x="1035" y="504"/>
                      </a:lnTo>
                      <a:lnTo>
                        <a:pt x="1045" y="496"/>
                      </a:lnTo>
                      <a:lnTo>
                        <a:pt x="1056" y="491"/>
                      </a:lnTo>
                      <a:lnTo>
                        <a:pt x="1064" y="483"/>
                      </a:lnTo>
                      <a:lnTo>
                        <a:pt x="1073" y="477"/>
                      </a:lnTo>
                      <a:lnTo>
                        <a:pt x="1083" y="472"/>
                      </a:lnTo>
                      <a:lnTo>
                        <a:pt x="1092" y="466"/>
                      </a:lnTo>
                      <a:lnTo>
                        <a:pt x="1100" y="460"/>
                      </a:lnTo>
                      <a:lnTo>
                        <a:pt x="1106" y="454"/>
                      </a:lnTo>
                      <a:lnTo>
                        <a:pt x="1113" y="449"/>
                      </a:lnTo>
                      <a:lnTo>
                        <a:pt x="1119" y="443"/>
                      </a:lnTo>
                      <a:lnTo>
                        <a:pt x="1125" y="437"/>
                      </a:lnTo>
                      <a:lnTo>
                        <a:pt x="1130" y="434"/>
                      </a:lnTo>
                      <a:lnTo>
                        <a:pt x="1136" y="428"/>
                      </a:lnTo>
                      <a:lnTo>
                        <a:pt x="1142" y="424"/>
                      </a:lnTo>
                      <a:lnTo>
                        <a:pt x="1144" y="418"/>
                      </a:lnTo>
                      <a:lnTo>
                        <a:pt x="1150" y="413"/>
                      </a:lnTo>
                      <a:lnTo>
                        <a:pt x="1155" y="407"/>
                      </a:lnTo>
                      <a:lnTo>
                        <a:pt x="1163" y="399"/>
                      </a:lnTo>
                      <a:lnTo>
                        <a:pt x="1169" y="392"/>
                      </a:lnTo>
                      <a:lnTo>
                        <a:pt x="1178" y="384"/>
                      </a:lnTo>
                      <a:lnTo>
                        <a:pt x="1186" y="375"/>
                      </a:lnTo>
                      <a:lnTo>
                        <a:pt x="1193" y="365"/>
                      </a:lnTo>
                      <a:lnTo>
                        <a:pt x="1199" y="354"/>
                      </a:lnTo>
                      <a:lnTo>
                        <a:pt x="1207" y="344"/>
                      </a:lnTo>
                      <a:lnTo>
                        <a:pt x="1208" y="337"/>
                      </a:lnTo>
                      <a:lnTo>
                        <a:pt x="1212" y="333"/>
                      </a:lnTo>
                      <a:lnTo>
                        <a:pt x="1216" y="325"/>
                      </a:lnTo>
                      <a:lnTo>
                        <a:pt x="1218" y="321"/>
                      </a:lnTo>
                      <a:lnTo>
                        <a:pt x="1220" y="314"/>
                      </a:lnTo>
                      <a:lnTo>
                        <a:pt x="1224" y="306"/>
                      </a:lnTo>
                      <a:lnTo>
                        <a:pt x="1224" y="300"/>
                      </a:lnTo>
                      <a:lnTo>
                        <a:pt x="1226" y="295"/>
                      </a:lnTo>
                      <a:lnTo>
                        <a:pt x="1226" y="287"/>
                      </a:lnTo>
                      <a:lnTo>
                        <a:pt x="1227" y="280"/>
                      </a:lnTo>
                      <a:lnTo>
                        <a:pt x="1227" y="272"/>
                      </a:lnTo>
                      <a:lnTo>
                        <a:pt x="1227" y="266"/>
                      </a:lnTo>
                      <a:lnTo>
                        <a:pt x="1226" y="257"/>
                      </a:lnTo>
                      <a:lnTo>
                        <a:pt x="1226" y="249"/>
                      </a:lnTo>
                      <a:lnTo>
                        <a:pt x="1224" y="242"/>
                      </a:lnTo>
                      <a:lnTo>
                        <a:pt x="1222" y="234"/>
                      </a:lnTo>
                      <a:lnTo>
                        <a:pt x="1220" y="226"/>
                      </a:lnTo>
                      <a:lnTo>
                        <a:pt x="1218" y="219"/>
                      </a:lnTo>
                      <a:lnTo>
                        <a:pt x="1216" y="213"/>
                      </a:lnTo>
                      <a:lnTo>
                        <a:pt x="1214" y="205"/>
                      </a:lnTo>
                      <a:lnTo>
                        <a:pt x="1210" y="200"/>
                      </a:lnTo>
                      <a:lnTo>
                        <a:pt x="1207" y="192"/>
                      </a:lnTo>
                      <a:lnTo>
                        <a:pt x="1205" y="186"/>
                      </a:lnTo>
                      <a:lnTo>
                        <a:pt x="1201" y="181"/>
                      </a:lnTo>
                      <a:lnTo>
                        <a:pt x="1197" y="175"/>
                      </a:lnTo>
                      <a:lnTo>
                        <a:pt x="1193" y="167"/>
                      </a:lnTo>
                      <a:lnTo>
                        <a:pt x="1189" y="164"/>
                      </a:lnTo>
                      <a:lnTo>
                        <a:pt x="1188" y="158"/>
                      </a:lnTo>
                      <a:lnTo>
                        <a:pt x="1178" y="147"/>
                      </a:lnTo>
                      <a:lnTo>
                        <a:pt x="1170" y="139"/>
                      </a:lnTo>
                      <a:lnTo>
                        <a:pt x="1163" y="129"/>
                      </a:lnTo>
                      <a:lnTo>
                        <a:pt x="1155" y="122"/>
                      </a:lnTo>
                      <a:lnTo>
                        <a:pt x="1148" y="116"/>
                      </a:lnTo>
                      <a:lnTo>
                        <a:pt x="1140" y="110"/>
                      </a:lnTo>
                      <a:lnTo>
                        <a:pt x="1134" y="107"/>
                      </a:lnTo>
                      <a:lnTo>
                        <a:pt x="1129" y="103"/>
                      </a:lnTo>
                      <a:lnTo>
                        <a:pt x="1121" y="101"/>
                      </a:lnTo>
                      <a:lnTo>
                        <a:pt x="1115" y="99"/>
                      </a:lnTo>
                      <a:lnTo>
                        <a:pt x="1110" y="97"/>
                      </a:lnTo>
                      <a:lnTo>
                        <a:pt x="1102" y="97"/>
                      </a:lnTo>
                      <a:lnTo>
                        <a:pt x="1094" y="97"/>
                      </a:lnTo>
                      <a:lnTo>
                        <a:pt x="1087" y="97"/>
                      </a:lnTo>
                      <a:lnTo>
                        <a:pt x="1081" y="95"/>
                      </a:lnTo>
                      <a:lnTo>
                        <a:pt x="1073" y="95"/>
                      </a:lnTo>
                      <a:lnTo>
                        <a:pt x="1066" y="93"/>
                      </a:lnTo>
                      <a:lnTo>
                        <a:pt x="1058" y="93"/>
                      </a:lnTo>
                      <a:lnTo>
                        <a:pt x="1051" y="91"/>
                      </a:lnTo>
                      <a:lnTo>
                        <a:pt x="1045" y="91"/>
                      </a:lnTo>
                      <a:lnTo>
                        <a:pt x="1037" y="88"/>
                      </a:lnTo>
                      <a:lnTo>
                        <a:pt x="1032" y="86"/>
                      </a:lnTo>
                      <a:lnTo>
                        <a:pt x="1026" y="82"/>
                      </a:lnTo>
                      <a:lnTo>
                        <a:pt x="1020" y="78"/>
                      </a:lnTo>
                      <a:lnTo>
                        <a:pt x="1015" y="72"/>
                      </a:lnTo>
                      <a:lnTo>
                        <a:pt x="1007" y="69"/>
                      </a:lnTo>
                      <a:lnTo>
                        <a:pt x="1001" y="63"/>
                      </a:lnTo>
                      <a:lnTo>
                        <a:pt x="996" y="59"/>
                      </a:lnTo>
                      <a:lnTo>
                        <a:pt x="990" y="55"/>
                      </a:lnTo>
                      <a:lnTo>
                        <a:pt x="982" y="52"/>
                      </a:lnTo>
                      <a:lnTo>
                        <a:pt x="977" y="46"/>
                      </a:lnTo>
                      <a:lnTo>
                        <a:pt x="971" y="44"/>
                      </a:lnTo>
                      <a:lnTo>
                        <a:pt x="963" y="40"/>
                      </a:lnTo>
                      <a:lnTo>
                        <a:pt x="956" y="34"/>
                      </a:lnTo>
                      <a:lnTo>
                        <a:pt x="950" y="31"/>
                      </a:lnTo>
                      <a:lnTo>
                        <a:pt x="942" y="27"/>
                      </a:lnTo>
                      <a:lnTo>
                        <a:pt x="935" y="25"/>
                      </a:lnTo>
                      <a:lnTo>
                        <a:pt x="929" y="21"/>
                      </a:lnTo>
                      <a:lnTo>
                        <a:pt x="923" y="17"/>
                      </a:lnTo>
                      <a:lnTo>
                        <a:pt x="916" y="15"/>
                      </a:lnTo>
                      <a:lnTo>
                        <a:pt x="908" y="14"/>
                      </a:lnTo>
                      <a:lnTo>
                        <a:pt x="901" y="10"/>
                      </a:lnTo>
                      <a:lnTo>
                        <a:pt x="893" y="8"/>
                      </a:lnTo>
                      <a:lnTo>
                        <a:pt x="885" y="6"/>
                      </a:lnTo>
                      <a:lnTo>
                        <a:pt x="876" y="4"/>
                      </a:lnTo>
                      <a:lnTo>
                        <a:pt x="866" y="4"/>
                      </a:lnTo>
                      <a:lnTo>
                        <a:pt x="857" y="4"/>
                      </a:lnTo>
                      <a:lnTo>
                        <a:pt x="847" y="4"/>
                      </a:lnTo>
                      <a:lnTo>
                        <a:pt x="836" y="2"/>
                      </a:lnTo>
                      <a:lnTo>
                        <a:pt x="825" y="0"/>
                      </a:lnTo>
                      <a:lnTo>
                        <a:pt x="813" y="0"/>
                      </a:lnTo>
                      <a:lnTo>
                        <a:pt x="804" y="2"/>
                      </a:lnTo>
                      <a:lnTo>
                        <a:pt x="798" y="2"/>
                      </a:lnTo>
                      <a:lnTo>
                        <a:pt x="790" y="2"/>
                      </a:lnTo>
                      <a:lnTo>
                        <a:pt x="785" y="2"/>
                      </a:lnTo>
                      <a:lnTo>
                        <a:pt x="779" y="2"/>
                      </a:lnTo>
                      <a:lnTo>
                        <a:pt x="773" y="2"/>
                      </a:lnTo>
                      <a:lnTo>
                        <a:pt x="766" y="4"/>
                      </a:lnTo>
                      <a:lnTo>
                        <a:pt x="760" y="4"/>
                      </a:lnTo>
                      <a:lnTo>
                        <a:pt x="754" y="4"/>
                      </a:lnTo>
                      <a:lnTo>
                        <a:pt x="748" y="4"/>
                      </a:lnTo>
                      <a:lnTo>
                        <a:pt x="743" y="4"/>
                      </a:lnTo>
                      <a:lnTo>
                        <a:pt x="735" y="4"/>
                      </a:lnTo>
                      <a:lnTo>
                        <a:pt x="731" y="4"/>
                      </a:lnTo>
                      <a:lnTo>
                        <a:pt x="718" y="4"/>
                      </a:lnTo>
                      <a:lnTo>
                        <a:pt x="709" y="4"/>
                      </a:lnTo>
                      <a:lnTo>
                        <a:pt x="699" y="4"/>
                      </a:lnTo>
                      <a:lnTo>
                        <a:pt x="690" y="4"/>
                      </a:lnTo>
                      <a:lnTo>
                        <a:pt x="682" y="4"/>
                      </a:lnTo>
                      <a:lnTo>
                        <a:pt x="676" y="4"/>
                      </a:lnTo>
                      <a:lnTo>
                        <a:pt x="669" y="4"/>
                      </a:lnTo>
                      <a:lnTo>
                        <a:pt x="661" y="4"/>
                      </a:lnTo>
                      <a:lnTo>
                        <a:pt x="655" y="4"/>
                      </a:lnTo>
                      <a:lnTo>
                        <a:pt x="650" y="4"/>
                      </a:lnTo>
                      <a:lnTo>
                        <a:pt x="638" y="4"/>
                      </a:lnTo>
                      <a:lnTo>
                        <a:pt x="629" y="8"/>
                      </a:lnTo>
                      <a:lnTo>
                        <a:pt x="621" y="8"/>
                      </a:lnTo>
                      <a:lnTo>
                        <a:pt x="615" y="12"/>
                      </a:lnTo>
                      <a:lnTo>
                        <a:pt x="610" y="15"/>
                      </a:lnTo>
                      <a:lnTo>
                        <a:pt x="604" y="19"/>
                      </a:lnTo>
                      <a:lnTo>
                        <a:pt x="598" y="23"/>
                      </a:lnTo>
                      <a:lnTo>
                        <a:pt x="591" y="27"/>
                      </a:lnTo>
                      <a:lnTo>
                        <a:pt x="585" y="33"/>
                      </a:lnTo>
                      <a:lnTo>
                        <a:pt x="581" y="38"/>
                      </a:lnTo>
                      <a:lnTo>
                        <a:pt x="570" y="46"/>
                      </a:lnTo>
                      <a:lnTo>
                        <a:pt x="562" y="55"/>
                      </a:lnTo>
                      <a:lnTo>
                        <a:pt x="557" y="61"/>
                      </a:lnTo>
                      <a:lnTo>
                        <a:pt x="557" y="63"/>
                      </a:lnTo>
                      <a:lnTo>
                        <a:pt x="566" y="181"/>
                      </a:lnTo>
                      <a:lnTo>
                        <a:pt x="566" y="183"/>
                      </a:lnTo>
                      <a:lnTo>
                        <a:pt x="568" y="186"/>
                      </a:lnTo>
                      <a:lnTo>
                        <a:pt x="570" y="192"/>
                      </a:lnTo>
                      <a:lnTo>
                        <a:pt x="576" y="200"/>
                      </a:lnTo>
                      <a:lnTo>
                        <a:pt x="583" y="204"/>
                      </a:lnTo>
                      <a:lnTo>
                        <a:pt x="593" y="209"/>
                      </a:lnTo>
                      <a:lnTo>
                        <a:pt x="598" y="211"/>
                      </a:lnTo>
                      <a:lnTo>
                        <a:pt x="606" y="213"/>
                      </a:lnTo>
                      <a:lnTo>
                        <a:pt x="612" y="213"/>
                      </a:lnTo>
                      <a:lnTo>
                        <a:pt x="621" y="213"/>
                      </a:lnTo>
                      <a:lnTo>
                        <a:pt x="629" y="209"/>
                      </a:lnTo>
                      <a:lnTo>
                        <a:pt x="634" y="209"/>
                      </a:lnTo>
                      <a:lnTo>
                        <a:pt x="638" y="207"/>
                      </a:lnTo>
                      <a:lnTo>
                        <a:pt x="642" y="207"/>
                      </a:lnTo>
                      <a:lnTo>
                        <a:pt x="648" y="205"/>
                      </a:lnTo>
                      <a:lnTo>
                        <a:pt x="655" y="205"/>
                      </a:lnTo>
                      <a:lnTo>
                        <a:pt x="657" y="205"/>
                      </a:lnTo>
                      <a:lnTo>
                        <a:pt x="661" y="205"/>
                      </a:lnTo>
                      <a:lnTo>
                        <a:pt x="667" y="205"/>
                      </a:lnTo>
                      <a:lnTo>
                        <a:pt x="672" y="207"/>
                      </a:lnTo>
                      <a:lnTo>
                        <a:pt x="678" y="209"/>
                      </a:lnTo>
                      <a:lnTo>
                        <a:pt x="690" y="209"/>
                      </a:lnTo>
                      <a:lnTo>
                        <a:pt x="693" y="209"/>
                      </a:lnTo>
                      <a:lnTo>
                        <a:pt x="699" y="211"/>
                      </a:lnTo>
                      <a:lnTo>
                        <a:pt x="707" y="211"/>
                      </a:lnTo>
                      <a:lnTo>
                        <a:pt x="714" y="213"/>
                      </a:lnTo>
                      <a:lnTo>
                        <a:pt x="722" y="213"/>
                      </a:lnTo>
                      <a:lnTo>
                        <a:pt x="728" y="213"/>
                      </a:lnTo>
                      <a:lnTo>
                        <a:pt x="733" y="213"/>
                      </a:lnTo>
                      <a:lnTo>
                        <a:pt x="741" y="213"/>
                      </a:lnTo>
                      <a:lnTo>
                        <a:pt x="747" y="213"/>
                      </a:lnTo>
                      <a:lnTo>
                        <a:pt x="752" y="213"/>
                      </a:lnTo>
                      <a:lnTo>
                        <a:pt x="760" y="213"/>
                      </a:lnTo>
                      <a:lnTo>
                        <a:pt x="766" y="213"/>
                      </a:lnTo>
                      <a:lnTo>
                        <a:pt x="775" y="213"/>
                      </a:lnTo>
                      <a:lnTo>
                        <a:pt x="785" y="213"/>
                      </a:lnTo>
                      <a:lnTo>
                        <a:pt x="794" y="215"/>
                      </a:lnTo>
                      <a:lnTo>
                        <a:pt x="802" y="215"/>
                      </a:lnTo>
                      <a:lnTo>
                        <a:pt x="807" y="215"/>
                      </a:lnTo>
                      <a:lnTo>
                        <a:pt x="813" y="215"/>
                      </a:lnTo>
                      <a:lnTo>
                        <a:pt x="817" y="217"/>
                      </a:lnTo>
                      <a:lnTo>
                        <a:pt x="821" y="219"/>
                      </a:lnTo>
                      <a:lnTo>
                        <a:pt x="823" y="223"/>
                      </a:lnTo>
                      <a:lnTo>
                        <a:pt x="821" y="228"/>
                      </a:lnTo>
                      <a:lnTo>
                        <a:pt x="819" y="234"/>
                      </a:lnTo>
                      <a:lnTo>
                        <a:pt x="828" y="242"/>
                      </a:lnTo>
                      <a:lnTo>
                        <a:pt x="832" y="247"/>
                      </a:lnTo>
                      <a:lnTo>
                        <a:pt x="836" y="255"/>
                      </a:lnTo>
                      <a:lnTo>
                        <a:pt x="834" y="259"/>
                      </a:lnTo>
                      <a:lnTo>
                        <a:pt x="834" y="266"/>
                      </a:lnTo>
                      <a:lnTo>
                        <a:pt x="832" y="274"/>
                      </a:lnTo>
                      <a:lnTo>
                        <a:pt x="830" y="285"/>
                      </a:lnTo>
                      <a:lnTo>
                        <a:pt x="826" y="295"/>
                      </a:lnTo>
                      <a:lnTo>
                        <a:pt x="825" y="304"/>
                      </a:lnTo>
                      <a:lnTo>
                        <a:pt x="825" y="314"/>
                      </a:lnTo>
                      <a:lnTo>
                        <a:pt x="826" y="323"/>
                      </a:lnTo>
                      <a:lnTo>
                        <a:pt x="828" y="331"/>
                      </a:lnTo>
                      <a:lnTo>
                        <a:pt x="830" y="340"/>
                      </a:lnTo>
                      <a:lnTo>
                        <a:pt x="834" y="350"/>
                      </a:lnTo>
                      <a:lnTo>
                        <a:pt x="838" y="357"/>
                      </a:lnTo>
                      <a:lnTo>
                        <a:pt x="840" y="363"/>
                      </a:lnTo>
                      <a:lnTo>
                        <a:pt x="844" y="371"/>
                      </a:lnTo>
                      <a:lnTo>
                        <a:pt x="845" y="378"/>
                      </a:lnTo>
                      <a:lnTo>
                        <a:pt x="849" y="384"/>
                      </a:lnTo>
                      <a:lnTo>
                        <a:pt x="851" y="394"/>
                      </a:lnTo>
                      <a:lnTo>
                        <a:pt x="849" y="399"/>
                      </a:lnTo>
                      <a:lnTo>
                        <a:pt x="844" y="399"/>
                      </a:lnTo>
                      <a:lnTo>
                        <a:pt x="838" y="401"/>
                      </a:lnTo>
                      <a:lnTo>
                        <a:pt x="830" y="399"/>
                      </a:lnTo>
                      <a:lnTo>
                        <a:pt x="825" y="399"/>
                      </a:lnTo>
                      <a:lnTo>
                        <a:pt x="815" y="397"/>
                      </a:lnTo>
                      <a:lnTo>
                        <a:pt x="806" y="394"/>
                      </a:lnTo>
                      <a:lnTo>
                        <a:pt x="794" y="392"/>
                      </a:lnTo>
                      <a:lnTo>
                        <a:pt x="785" y="390"/>
                      </a:lnTo>
                      <a:lnTo>
                        <a:pt x="779" y="388"/>
                      </a:lnTo>
                      <a:lnTo>
                        <a:pt x="773" y="384"/>
                      </a:lnTo>
                      <a:lnTo>
                        <a:pt x="766" y="382"/>
                      </a:lnTo>
                      <a:lnTo>
                        <a:pt x="762" y="382"/>
                      </a:lnTo>
                      <a:lnTo>
                        <a:pt x="750" y="378"/>
                      </a:lnTo>
                      <a:lnTo>
                        <a:pt x="739" y="376"/>
                      </a:lnTo>
                      <a:lnTo>
                        <a:pt x="728" y="373"/>
                      </a:lnTo>
                      <a:lnTo>
                        <a:pt x="718" y="371"/>
                      </a:lnTo>
                      <a:lnTo>
                        <a:pt x="709" y="369"/>
                      </a:lnTo>
                      <a:lnTo>
                        <a:pt x="703" y="369"/>
                      </a:lnTo>
                      <a:lnTo>
                        <a:pt x="693" y="367"/>
                      </a:lnTo>
                      <a:lnTo>
                        <a:pt x="688" y="367"/>
                      </a:lnTo>
                      <a:lnTo>
                        <a:pt x="682" y="367"/>
                      </a:lnTo>
                      <a:lnTo>
                        <a:pt x="678" y="369"/>
                      </a:lnTo>
                      <a:lnTo>
                        <a:pt x="671" y="373"/>
                      </a:lnTo>
                      <a:lnTo>
                        <a:pt x="667" y="378"/>
                      </a:lnTo>
                      <a:lnTo>
                        <a:pt x="661" y="382"/>
                      </a:lnTo>
                      <a:lnTo>
                        <a:pt x="657" y="388"/>
                      </a:lnTo>
                      <a:lnTo>
                        <a:pt x="650" y="392"/>
                      </a:lnTo>
                      <a:lnTo>
                        <a:pt x="640" y="397"/>
                      </a:lnTo>
                      <a:lnTo>
                        <a:pt x="633" y="397"/>
                      </a:lnTo>
                      <a:lnTo>
                        <a:pt x="627" y="397"/>
                      </a:lnTo>
                      <a:lnTo>
                        <a:pt x="619" y="399"/>
                      </a:lnTo>
                      <a:lnTo>
                        <a:pt x="612" y="399"/>
                      </a:lnTo>
                      <a:lnTo>
                        <a:pt x="604" y="399"/>
                      </a:lnTo>
                      <a:lnTo>
                        <a:pt x="595" y="399"/>
                      </a:lnTo>
                      <a:lnTo>
                        <a:pt x="585" y="399"/>
                      </a:lnTo>
                      <a:lnTo>
                        <a:pt x="577" y="399"/>
                      </a:lnTo>
                      <a:lnTo>
                        <a:pt x="568" y="399"/>
                      </a:lnTo>
                      <a:lnTo>
                        <a:pt x="558" y="399"/>
                      </a:lnTo>
                      <a:lnTo>
                        <a:pt x="549" y="399"/>
                      </a:lnTo>
                      <a:lnTo>
                        <a:pt x="541" y="401"/>
                      </a:lnTo>
                      <a:lnTo>
                        <a:pt x="532" y="401"/>
                      </a:lnTo>
                      <a:lnTo>
                        <a:pt x="522" y="403"/>
                      </a:lnTo>
                      <a:lnTo>
                        <a:pt x="513" y="405"/>
                      </a:lnTo>
                      <a:lnTo>
                        <a:pt x="507" y="409"/>
                      </a:lnTo>
                      <a:lnTo>
                        <a:pt x="498" y="411"/>
                      </a:lnTo>
                      <a:lnTo>
                        <a:pt x="490" y="413"/>
                      </a:lnTo>
                      <a:lnTo>
                        <a:pt x="484" y="413"/>
                      </a:lnTo>
                      <a:lnTo>
                        <a:pt x="477" y="416"/>
                      </a:lnTo>
                      <a:lnTo>
                        <a:pt x="469" y="416"/>
                      </a:lnTo>
                      <a:lnTo>
                        <a:pt x="463" y="416"/>
                      </a:lnTo>
                      <a:lnTo>
                        <a:pt x="458" y="416"/>
                      </a:lnTo>
                      <a:lnTo>
                        <a:pt x="452" y="416"/>
                      </a:lnTo>
                      <a:lnTo>
                        <a:pt x="446" y="415"/>
                      </a:lnTo>
                      <a:lnTo>
                        <a:pt x="441" y="413"/>
                      </a:lnTo>
                      <a:lnTo>
                        <a:pt x="437" y="413"/>
                      </a:lnTo>
                      <a:lnTo>
                        <a:pt x="431" y="413"/>
                      </a:lnTo>
                      <a:lnTo>
                        <a:pt x="422" y="413"/>
                      </a:lnTo>
                      <a:lnTo>
                        <a:pt x="416" y="415"/>
                      </a:lnTo>
                      <a:lnTo>
                        <a:pt x="408" y="416"/>
                      </a:lnTo>
                      <a:lnTo>
                        <a:pt x="403" y="420"/>
                      </a:lnTo>
                      <a:lnTo>
                        <a:pt x="397" y="422"/>
                      </a:lnTo>
                      <a:lnTo>
                        <a:pt x="391" y="428"/>
                      </a:lnTo>
                      <a:lnTo>
                        <a:pt x="387" y="430"/>
                      </a:lnTo>
                      <a:lnTo>
                        <a:pt x="384" y="430"/>
                      </a:lnTo>
                      <a:lnTo>
                        <a:pt x="378" y="432"/>
                      </a:lnTo>
                      <a:lnTo>
                        <a:pt x="372" y="434"/>
                      </a:lnTo>
                      <a:lnTo>
                        <a:pt x="365" y="434"/>
                      </a:lnTo>
                      <a:lnTo>
                        <a:pt x="359" y="435"/>
                      </a:lnTo>
                      <a:lnTo>
                        <a:pt x="351" y="434"/>
                      </a:lnTo>
                      <a:lnTo>
                        <a:pt x="342" y="434"/>
                      </a:lnTo>
                      <a:lnTo>
                        <a:pt x="332" y="432"/>
                      </a:lnTo>
                      <a:lnTo>
                        <a:pt x="328" y="430"/>
                      </a:lnTo>
                      <a:lnTo>
                        <a:pt x="327" y="428"/>
                      </a:lnTo>
                      <a:lnTo>
                        <a:pt x="328" y="428"/>
                      </a:lnTo>
                      <a:lnTo>
                        <a:pt x="332" y="424"/>
                      </a:lnTo>
                      <a:lnTo>
                        <a:pt x="336" y="422"/>
                      </a:lnTo>
                      <a:lnTo>
                        <a:pt x="344" y="420"/>
                      </a:lnTo>
                      <a:lnTo>
                        <a:pt x="349" y="418"/>
                      </a:lnTo>
                      <a:lnTo>
                        <a:pt x="359" y="413"/>
                      </a:lnTo>
                      <a:lnTo>
                        <a:pt x="363" y="409"/>
                      </a:lnTo>
                      <a:lnTo>
                        <a:pt x="363" y="405"/>
                      </a:lnTo>
                      <a:lnTo>
                        <a:pt x="357" y="401"/>
                      </a:lnTo>
                      <a:lnTo>
                        <a:pt x="353" y="399"/>
                      </a:lnTo>
                      <a:lnTo>
                        <a:pt x="351" y="399"/>
                      </a:lnTo>
                      <a:lnTo>
                        <a:pt x="344" y="397"/>
                      </a:lnTo>
                      <a:lnTo>
                        <a:pt x="338" y="397"/>
                      </a:lnTo>
                      <a:lnTo>
                        <a:pt x="330" y="394"/>
                      </a:lnTo>
                      <a:lnTo>
                        <a:pt x="325" y="394"/>
                      </a:lnTo>
                      <a:lnTo>
                        <a:pt x="319" y="392"/>
                      </a:lnTo>
                      <a:lnTo>
                        <a:pt x="315" y="392"/>
                      </a:lnTo>
                      <a:lnTo>
                        <a:pt x="308" y="390"/>
                      </a:lnTo>
                      <a:lnTo>
                        <a:pt x="304" y="388"/>
                      </a:lnTo>
                      <a:lnTo>
                        <a:pt x="298" y="386"/>
                      </a:lnTo>
                      <a:lnTo>
                        <a:pt x="302" y="384"/>
                      </a:lnTo>
                      <a:lnTo>
                        <a:pt x="309" y="380"/>
                      </a:lnTo>
                      <a:lnTo>
                        <a:pt x="319" y="376"/>
                      </a:lnTo>
                      <a:lnTo>
                        <a:pt x="325" y="371"/>
                      </a:lnTo>
                      <a:lnTo>
                        <a:pt x="332" y="367"/>
                      </a:lnTo>
                      <a:lnTo>
                        <a:pt x="336" y="361"/>
                      </a:lnTo>
                      <a:lnTo>
                        <a:pt x="342" y="356"/>
                      </a:lnTo>
                      <a:lnTo>
                        <a:pt x="346" y="346"/>
                      </a:lnTo>
                      <a:lnTo>
                        <a:pt x="347" y="340"/>
                      </a:lnTo>
                      <a:lnTo>
                        <a:pt x="351" y="337"/>
                      </a:lnTo>
                      <a:lnTo>
                        <a:pt x="353" y="333"/>
                      </a:lnTo>
                      <a:lnTo>
                        <a:pt x="357" y="329"/>
                      </a:lnTo>
                      <a:lnTo>
                        <a:pt x="363" y="327"/>
                      </a:lnTo>
                      <a:lnTo>
                        <a:pt x="365" y="327"/>
                      </a:lnTo>
                      <a:lnTo>
                        <a:pt x="368" y="327"/>
                      </a:lnTo>
                      <a:lnTo>
                        <a:pt x="372" y="325"/>
                      </a:lnTo>
                      <a:lnTo>
                        <a:pt x="380" y="321"/>
                      </a:lnTo>
                      <a:lnTo>
                        <a:pt x="384" y="314"/>
                      </a:lnTo>
                      <a:lnTo>
                        <a:pt x="391" y="308"/>
                      </a:lnTo>
                      <a:lnTo>
                        <a:pt x="397" y="300"/>
                      </a:lnTo>
                      <a:lnTo>
                        <a:pt x="406" y="297"/>
                      </a:lnTo>
                      <a:lnTo>
                        <a:pt x="410" y="293"/>
                      </a:lnTo>
                      <a:lnTo>
                        <a:pt x="414" y="291"/>
                      </a:lnTo>
                      <a:lnTo>
                        <a:pt x="420" y="287"/>
                      </a:lnTo>
                      <a:lnTo>
                        <a:pt x="427" y="285"/>
                      </a:lnTo>
                      <a:lnTo>
                        <a:pt x="431" y="281"/>
                      </a:lnTo>
                      <a:lnTo>
                        <a:pt x="439" y="280"/>
                      </a:lnTo>
                      <a:lnTo>
                        <a:pt x="446" y="278"/>
                      </a:lnTo>
                      <a:lnTo>
                        <a:pt x="454" y="276"/>
                      </a:lnTo>
                      <a:lnTo>
                        <a:pt x="460" y="272"/>
                      </a:lnTo>
                      <a:lnTo>
                        <a:pt x="467" y="268"/>
                      </a:lnTo>
                      <a:lnTo>
                        <a:pt x="473" y="266"/>
                      </a:lnTo>
                      <a:lnTo>
                        <a:pt x="479" y="262"/>
                      </a:lnTo>
                      <a:lnTo>
                        <a:pt x="484" y="259"/>
                      </a:lnTo>
                      <a:lnTo>
                        <a:pt x="490" y="257"/>
                      </a:lnTo>
                      <a:lnTo>
                        <a:pt x="496" y="253"/>
                      </a:lnTo>
                      <a:lnTo>
                        <a:pt x="501" y="251"/>
                      </a:lnTo>
                      <a:lnTo>
                        <a:pt x="509" y="245"/>
                      </a:lnTo>
                      <a:lnTo>
                        <a:pt x="515" y="242"/>
                      </a:lnTo>
                      <a:lnTo>
                        <a:pt x="519" y="240"/>
                      </a:lnTo>
                      <a:lnTo>
                        <a:pt x="522" y="240"/>
                      </a:lnTo>
                      <a:lnTo>
                        <a:pt x="462" y="48"/>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07" name="Freeform 36"/>
                <p:cNvSpPr/>
                <p:nvPr/>
              </p:nvSpPr>
              <p:spPr>
                <a:xfrm rot="622800">
                  <a:off x="4116240" y="3022560"/>
                  <a:ext cx="114480" cy="53280"/>
                </a:xfrm>
                <a:custGeom>
                  <a:avLst/>
                  <a:gdLst>
                    <a:gd name="textAreaLeft" fmla="*/ 0 w 114480"/>
                    <a:gd name="textAreaRight" fmla="*/ 114840 w 114480"/>
                    <a:gd name="textAreaTop" fmla="*/ 0 h 53280"/>
                    <a:gd name="textAreaBottom" fmla="*/ 53640 h 53280"/>
                  </a:gdLst>
                  <a:ahLst/>
                  <a:rect l="textAreaLeft" t="textAreaTop" r="textAreaRight" b="textAreaBottom"/>
                  <a:pathLst>
                    <a:path w="289" h="133">
                      <a:moveTo>
                        <a:pt x="115" y="0"/>
                      </a:moveTo>
                      <a:lnTo>
                        <a:pt x="210" y="15"/>
                      </a:lnTo>
                      <a:lnTo>
                        <a:pt x="289" y="15"/>
                      </a:lnTo>
                      <a:lnTo>
                        <a:pt x="219" y="133"/>
                      </a:lnTo>
                      <a:lnTo>
                        <a:pt x="134" y="116"/>
                      </a:lnTo>
                      <a:lnTo>
                        <a:pt x="0" y="99"/>
                      </a:lnTo>
                      <a:lnTo>
                        <a:pt x="115" y="0"/>
                      </a:lnTo>
                      <a:close/>
                    </a:path>
                  </a:pathLst>
                </a:custGeom>
                <a:solidFill>
                  <a:srgbClr val="a67a4d"/>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Arial"/>
                  </a:endParaRPr>
                </a:p>
              </p:txBody>
            </p:sp>
          </p:grpSp>
        </p:grpSp>
        <p:sp>
          <p:nvSpPr>
            <p:cNvPr id="208" name="Line 116"/>
            <p:cNvSpPr/>
            <p:nvPr/>
          </p:nvSpPr>
          <p:spPr>
            <a:xfrm>
              <a:off x="798840" y="4210920"/>
              <a:ext cx="348840" cy="17604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209" name="Line 117"/>
            <p:cNvSpPr/>
            <p:nvPr/>
          </p:nvSpPr>
          <p:spPr>
            <a:xfrm>
              <a:off x="762120" y="4469760"/>
              <a:ext cx="359280" cy="3492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210" name="Line 118"/>
            <p:cNvSpPr/>
            <p:nvPr/>
          </p:nvSpPr>
          <p:spPr>
            <a:xfrm flipV="1">
              <a:off x="771120" y="4644720"/>
              <a:ext cx="347040" cy="5904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grpSp>
          <p:nvGrpSpPr>
            <p:cNvPr id="211" name="Group 120"/>
            <p:cNvGrpSpPr/>
            <p:nvPr/>
          </p:nvGrpSpPr>
          <p:grpSpPr>
            <a:xfrm>
              <a:off x="4413600" y="3638160"/>
              <a:ext cx="1773720" cy="1798200"/>
              <a:chOff x="4413600" y="3638160"/>
              <a:chExt cx="1773720" cy="1798200"/>
            </a:xfrm>
          </p:grpSpPr>
          <p:pic>
            <p:nvPicPr>
              <p:cNvPr id="212" name="Picture 12" descr="j0345385"/>
              <p:cNvPicPr/>
              <p:nvPr/>
            </p:nvPicPr>
            <p:blipFill>
              <a:blip r:embed="rId6"/>
              <a:stretch/>
            </p:blipFill>
            <p:spPr>
              <a:xfrm>
                <a:off x="5525640" y="3820680"/>
                <a:ext cx="528120" cy="1423080"/>
              </a:xfrm>
              <a:prstGeom prst="rect">
                <a:avLst/>
              </a:prstGeom>
              <a:ln w="0">
                <a:noFill/>
              </a:ln>
            </p:spPr>
          </p:pic>
          <p:pic>
            <p:nvPicPr>
              <p:cNvPr id="213" name="Picture 13" descr="j0345386"/>
              <p:cNvPicPr/>
              <p:nvPr/>
            </p:nvPicPr>
            <p:blipFill>
              <a:blip r:embed="rId7"/>
              <a:stretch/>
            </p:blipFill>
            <p:spPr>
              <a:xfrm>
                <a:off x="4566960" y="3806640"/>
                <a:ext cx="712440" cy="1433880"/>
              </a:xfrm>
              <a:prstGeom prst="rect">
                <a:avLst/>
              </a:prstGeom>
              <a:ln w="0">
                <a:noFill/>
              </a:ln>
            </p:spPr>
          </p:pic>
          <p:sp>
            <p:nvSpPr>
              <p:cNvPr id="214" name="Line 114"/>
              <p:cNvSpPr/>
              <p:nvPr/>
            </p:nvSpPr>
            <p:spPr>
              <a:xfrm>
                <a:off x="5409720" y="3733560"/>
                <a:ext cx="0" cy="1580400"/>
              </a:xfrm>
              <a:prstGeom prst="line">
                <a:avLst/>
              </a:prstGeom>
              <a:ln w="25560">
                <a:solidFill>
                  <a:srgbClr val="333333"/>
                </a:solidFill>
                <a:miter/>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215" name="AutoShape 119"/>
              <p:cNvSpPr/>
              <p:nvPr/>
            </p:nvSpPr>
            <p:spPr>
              <a:xfrm>
                <a:off x="4413600" y="3638160"/>
                <a:ext cx="1773720" cy="1798200"/>
              </a:xfrm>
              <a:custGeom>
                <a:avLst/>
                <a:gdLst>
                  <a:gd name="textAreaLeft" fmla="*/ 86400 w 1773720"/>
                  <a:gd name="textAreaRight" fmla="*/ 1687320 w 1773720"/>
                  <a:gd name="textAreaTop" fmla="*/ 86400 h 1798200"/>
                  <a:gd name="textAreaBottom" fmla="*/ 1711800 h 1798200"/>
                </a:gdLst>
                <a:ahLst/>
                <a:rect l="textAreaLeft" t="textAreaTop" r="textAreaRight" b="textAreaBottom"/>
                <a:pathLst>
                  <a:path w="21600" h="21898">
                    <a:moveTo>
                      <a:pt x="3600" y="0"/>
                    </a:moveTo>
                    <a:arcTo wR="3600" hR="3600" stAng="16200000" swAng="-5400000"/>
                    <a:lnTo>
                      <a:pt x="0" y="18298"/>
                    </a:lnTo>
                    <a:arcTo wR="3600" hR="3600" stAng="10800000" swAng="-5400000"/>
                    <a:lnTo>
                      <a:pt x="18000" y="21898"/>
                    </a:lnTo>
                    <a:arcTo wR="3600" hR="3600" stAng="5400000" swAng="-5400000"/>
                    <a:lnTo>
                      <a:pt x="21600" y="3600"/>
                    </a:lnTo>
                    <a:arcTo wR="3600" hR="3600" stAng="0" swAng="-5400000"/>
                    <a:close/>
                  </a:path>
                </a:pathLst>
              </a:custGeom>
              <a:noFill/>
              <a:ln w="38160">
                <a:solidFill>
                  <a:srgbClr val="36362e"/>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16" name="Group 153"/>
            <p:cNvGrpSpPr/>
            <p:nvPr/>
          </p:nvGrpSpPr>
          <p:grpSpPr>
            <a:xfrm>
              <a:off x="1201680" y="1993320"/>
              <a:ext cx="1244880" cy="1483920"/>
              <a:chOff x="1201680" y="1993320"/>
              <a:chExt cx="1244880" cy="1483920"/>
            </a:xfrm>
          </p:grpSpPr>
          <p:sp>
            <p:nvSpPr>
              <p:cNvPr id="217" name="Freeform 127"/>
              <p:cNvSpPr/>
              <p:nvPr/>
            </p:nvSpPr>
            <p:spPr>
              <a:xfrm>
                <a:off x="1201680" y="1993320"/>
                <a:ext cx="1244880" cy="1483920"/>
              </a:xfrm>
              <a:custGeom>
                <a:avLst/>
                <a:gdLst>
                  <a:gd name="textAreaLeft" fmla="*/ 0 w 1244880"/>
                  <a:gd name="textAreaRight" fmla="*/ 1245240 w 1244880"/>
                  <a:gd name="textAreaTop" fmla="*/ 0 h 1483920"/>
                  <a:gd name="textAreaBottom" fmla="*/ 1484280 h 1483920"/>
                </a:gdLst>
                <a:ahLst/>
                <a:rect l="textAreaLeft" t="textAreaTop" r="textAreaRight" b="textAreaBottom"/>
                <a:pathLst>
                  <a:path w="1044" h="1214">
                    <a:moveTo>
                      <a:pt x="1044" y="625"/>
                    </a:moveTo>
                    <a:lnTo>
                      <a:pt x="1042" y="587"/>
                    </a:lnTo>
                    <a:lnTo>
                      <a:pt x="1038" y="550"/>
                    </a:lnTo>
                    <a:lnTo>
                      <a:pt x="1031" y="514"/>
                    </a:lnTo>
                    <a:lnTo>
                      <a:pt x="1021" y="479"/>
                    </a:lnTo>
                    <a:lnTo>
                      <a:pt x="1008" y="443"/>
                    </a:lnTo>
                    <a:lnTo>
                      <a:pt x="995" y="411"/>
                    </a:lnTo>
                    <a:lnTo>
                      <a:pt x="976" y="378"/>
                    </a:lnTo>
                    <a:lnTo>
                      <a:pt x="958" y="347"/>
                    </a:lnTo>
                    <a:lnTo>
                      <a:pt x="972" y="306"/>
                    </a:lnTo>
                    <a:lnTo>
                      <a:pt x="979" y="268"/>
                    </a:lnTo>
                    <a:lnTo>
                      <a:pt x="979" y="231"/>
                    </a:lnTo>
                    <a:lnTo>
                      <a:pt x="975" y="196"/>
                    </a:lnTo>
                    <a:lnTo>
                      <a:pt x="964" y="164"/>
                    </a:lnTo>
                    <a:lnTo>
                      <a:pt x="946" y="133"/>
                    </a:lnTo>
                    <a:lnTo>
                      <a:pt x="923" y="104"/>
                    </a:lnTo>
                    <a:lnTo>
                      <a:pt x="892" y="78"/>
                    </a:lnTo>
                    <a:lnTo>
                      <a:pt x="897" y="57"/>
                    </a:lnTo>
                    <a:lnTo>
                      <a:pt x="883" y="41"/>
                    </a:lnTo>
                    <a:lnTo>
                      <a:pt x="869" y="28"/>
                    </a:lnTo>
                    <a:lnTo>
                      <a:pt x="854" y="18"/>
                    </a:lnTo>
                    <a:lnTo>
                      <a:pt x="840" y="11"/>
                    </a:lnTo>
                    <a:lnTo>
                      <a:pt x="827" y="6"/>
                    </a:lnTo>
                    <a:lnTo>
                      <a:pt x="814" y="3"/>
                    </a:lnTo>
                    <a:lnTo>
                      <a:pt x="805" y="2"/>
                    </a:lnTo>
                    <a:lnTo>
                      <a:pt x="798" y="2"/>
                    </a:lnTo>
                    <a:lnTo>
                      <a:pt x="793" y="2"/>
                    </a:lnTo>
                    <a:lnTo>
                      <a:pt x="773" y="2"/>
                    </a:lnTo>
                    <a:lnTo>
                      <a:pt x="764" y="12"/>
                    </a:lnTo>
                    <a:lnTo>
                      <a:pt x="744" y="6"/>
                    </a:lnTo>
                    <a:lnTo>
                      <a:pt x="724" y="3"/>
                    </a:lnTo>
                    <a:lnTo>
                      <a:pt x="704" y="0"/>
                    </a:lnTo>
                    <a:lnTo>
                      <a:pt x="686" y="0"/>
                    </a:lnTo>
                    <a:lnTo>
                      <a:pt x="668" y="2"/>
                    </a:lnTo>
                    <a:lnTo>
                      <a:pt x="649" y="3"/>
                    </a:lnTo>
                    <a:lnTo>
                      <a:pt x="632" y="8"/>
                    </a:lnTo>
                    <a:lnTo>
                      <a:pt x="616" y="14"/>
                    </a:lnTo>
                    <a:lnTo>
                      <a:pt x="600" y="21"/>
                    </a:lnTo>
                    <a:lnTo>
                      <a:pt x="585" y="29"/>
                    </a:lnTo>
                    <a:lnTo>
                      <a:pt x="570" y="40"/>
                    </a:lnTo>
                    <a:lnTo>
                      <a:pt x="554" y="52"/>
                    </a:lnTo>
                    <a:lnTo>
                      <a:pt x="541" y="66"/>
                    </a:lnTo>
                    <a:lnTo>
                      <a:pt x="527" y="83"/>
                    </a:lnTo>
                    <a:lnTo>
                      <a:pt x="515" y="99"/>
                    </a:lnTo>
                    <a:lnTo>
                      <a:pt x="503" y="118"/>
                    </a:lnTo>
                    <a:lnTo>
                      <a:pt x="498" y="118"/>
                    </a:lnTo>
                    <a:lnTo>
                      <a:pt x="493" y="118"/>
                    </a:lnTo>
                    <a:lnTo>
                      <a:pt x="489" y="118"/>
                    </a:lnTo>
                    <a:lnTo>
                      <a:pt x="486" y="118"/>
                    </a:lnTo>
                    <a:lnTo>
                      <a:pt x="470" y="98"/>
                    </a:lnTo>
                    <a:lnTo>
                      <a:pt x="454" y="81"/>
                    </a:lnTo>
                    <a:lnTo>
                      <a:pt x="437" y="67"/>
                    </a:lnTo>
                    <a:lnTo>
                      <a:pt x="422" y="55"/>
                    </a:lnTo>
                    <a:lnTo>
                      <a:pt x="405" y="46"/>
                    </a:lnTo>
                    <a:lnTo>
                      <a:pt x="388" y="38"/>
                    </a:lnTo>
                    <a:lnTo>
                      <a:pt x="373" y="32"/>
                    </a:lnTo>
                    <a:lnTo>
                      <a:pt x="356" y="28"/>
                    </a:lnTo>
                    <a:lnTo>
                      <a:pt x="341" y="25"/>
                    </a:lnTo>
                    <a:lnTo>
                      <a:pt x="324" y="23"/>
                    </a:lnTo>
                    <a:lnTo>
                      <a:pt x="308" y="23"/>
                    </a:lnTo>
                    <a:lnTo>
                      <a:pt x="295" y="25"/>
                    </a:lnTo>
                    <a:lnTo>
                      <a:pt x="279" y="28"/>
                    </a:lnTo>
                    <a:lnTo>
                      <a:pt x="266" y="31"/>
                    </a:lnTo>
                    <a:lnTo>
                      <a:pt x="252" y="34"/>
                    </a:lnTo>
                    <a:lnTo>
                      <a:pt x="240" y="38"/>
                    </a:lnTo>
                    <a:lnTo>
                      <a:pt x="223" y="20"/>
                    </a:lnTo>
                    <a:lnTo>
                      <a:pt x="200" y="23"/>
                    </a:lnTo>
                    <a:lnTo>
                      <a:pt x="182" y="28"/>
                    </a:lnTo>
                    <a:lnTo>
                      <a:pt x="166" y="34"/>
                    </a:lnTo>
                    <a:lnTo>
                      <a:pt x="153" y="43"/>
                    </a:lnTo>
                    <a:lnTo>
                      <a:pt x="140" y="51"/>
                    </a:lnTo>
                    <a:lnTo>
                      <a:pt x="131" y="60"/>
                    </a:lnTo>
                    <a:lnTo>
                      <a:pt x="125" y="66"/>
                    </a:lnTo>
                    <a:lnTo>
                      <a:pt x="120" y="72"/>
                    </a:lnTo>
                    <a:lnTo>
                      <a:pt x="117" y="75"/>
                    </a:lnTo>
                    <a:lnTo>
                      <a:pt x="107" y="90"/>
                    </a:lnTo>
                    <a:lnTo>
                      <a:pt x="113" y="112"/>
                    </a:lnTo>
                    <a:lnTo>
                      <a:pt x="91" y="132"/>
                    </a:lnTo>
                    <a:lnTo>
                      <a:pt x="71" y="154"/>
                    </a:lnTo>
                    <a:lnTo>
                      <a:pt x="55" y="182"/>
                    </a:lnTo>
                    <a:lnTo>
                      <a:pt x="42" y="213"/>
                    </a:lnTo>
                    <a:lnTo>
                      <a:pt x="35" y="249"/>
                    </a:lnTo>
                    <a:lnTo>
                      <a:pt x="35" y="289"/>
                    </a:lnTo>
                    <a:lnTo>
                      <a:pt x="44" y="333"/>
                    </a:lnTo>
                    <a:lnTo>
                      <a:pt x="64" y="382"/>
                    </a:lnTo>
                    <a:lnTo>
                      <a:pt x="50" y="410"/>
                    </a:lnTo>
                    <a:lnTo>
                      <a:pt x="36" y="439"/>
                    </a:lnTo>
                    <a:lnTo>
                      <a:pt x="26" y="468"/>
                    </a:lnTo>
                    <a:lnTo>
                      <a:pt x="16" y="498"/>
                    </a:lnTo>
                    <a:lnTo>
                      <a:pt x="9" y="529"/>
                    </a:lnTo>
                    <a:lnTo>
                      <a:pt x="4" y="560"/>
                    </a:lnTo>
                    <a:lnTo>
                      <a:pt x="1" y="592"/>
                    </a:lnTo>
                    <a:lnTo>
                      <a:pt x="0" y="625"/>
                    </a:lnTo>
                    <a:lnTo>
                      <a:pt x="4" y="688"/>
                    </a:lnTo>
                    <a:lnTo>
                      <a:pt x="15" y="749"/>
                    </a:lnTo>
                    <a:lnTo>
                      <a:pt x="35" y="807"/>
                    </a:lnTo>
                    <a:lnTo>
                      <a:pt x="59" y="862"/>
                    </a:lnTo>
                    <a:lnTo>
                      <a:pt x="91" y="913"/>
                    </a:lnTo>
                    <a:lnTo>
                      <a:pt x="130" y="960"/>
                    </a:lnTo>
                    <a:lnTo>
                      <a:pt x="172" y="1003"/>
                    </a:lnTo>
                    <a:lnTo>
                      <a:pt x="220" y="1039"/>
                    </a:lnTo>
                    <a:lnTo>
                      <a:pt x="180" y="1139"/>
                    </a:lnTo>
                    <a:lnTo>
                      <a:pt x="185" y="1154"/>
                    </a:lnTo>
                    <a:lnTo>
                      <a:pt x="189" y="1166"/>
                    </a:lnTo>
                    <a:lnTo>
                      <a:pt x="197" y="1179"/>
                    </a:lnTo>
                    <a:lnTo>
                      <a:pt x="208" y="1191"/>
                    </a:lnTo>
                    <a:lnTo>
                      <a:pt x="220" y="1200"/>
                    </a:lnTo>
                    <a:lnTo>
                      <a:pt x="235" y="1209"/>
                    </a:lnTo>
                    <a:lnTo>
                      <a:pt x="252" y="1214"/>
                    </a:lnTo>
                    <a:lnTo>
                      <a:pt x="272" y="1214"/>
                    </a:lnTo>
                    <a:lnTo>
                      <a:pt x="293" y="1211"/>
                    </a:lnTo>
                    <a:lnTo>
                      <a:pt x="307" y="1208"/>
                    </a:lnTo>
                    <a:lnTo>
                      <a:pt x="386" y="1117"/>
                    </a:lnTo>
                    <a:lnTo>
                      <a:pt x="403" y="1120"/>
                    </a:lnTo>
                    <a:lnTo>
                      <a:pt x="418" y="1125"/>
                    </a:lnTo>
                    <a:lnTo>
                      <a:pt x="435" y="1128"/>
                    </a:lnTo>
                    <a:lnTo>
                      <a:pt x="452" y="1130"/>
                    </a:lnTo>
                    <a:lnTo>
                      <a:pt x="469" y="1131"/>
                    </a:lnTo>
                    <a:lnTo>
                      <a:pt x="487" y="1133"/>
                    </a:lnTo>
                    <a:lnTo>
                      <a:pt x="504" y="1134"/>
                    </a:lnTo>
                    <a:lnTo>
                      <a:pt x="521" y="1134"/>
                    </a:lnTo>
                    <a:lnTo>
                      <a:pt x="553" y="1133"/>
                    </a:lnTo>
                    <a:lnTo>
                      <a:pt x="584" y="1131"/>
                    </a:lnTo>
                    <a:lnTo>
                      <a:pt x="614" y="1127"/>
                    </a:lnTo>
                    <a:lnTo>
                      <a:pt x="645" y="1120"/>
                    </a:lnTo>
                    <a:lnTo>
                      <a:pt x="674" y="1111"/>
                    </a:lnTo>
                    <a:lnTo>
                      <a:pt x="703" y="1102"/>
                    </a:lnTo>
                    <a:lnTo>
                      <a:pt x="730" y="1091"/>
                    </a:lnTo>
                    <a:lnTo>
                      <a:pt x="758" y="1079"/>
                    </a:lnTo>
                    <a:lnTo>
                      <a:pt x="816" y="1139"/>
                    </a:lnTo>
                    <a:lnTo>
                      <a:pt x="833" y="1140"/>
                    </a:lnTo>
                    <a:lnTo>
                      <a:pt x="851" y="1140"/>
                    </a:lnTo>
                    <a:lnTo>
                      <a:pt x="866" y="1136"/>
                    </a:lnTo>
                    <a:lnTo>
                      <a:pt x="880" y="1130"/>
                    </a:lnTo>
                    <a:lnTo>
                      <a:pt x="892" y="1122"/>
                    </a:lnTo>
                    <a:lnTo>
                      <a:pt x="903" y="1113"/>
                    </a:lnTo>
                    <a:lnTo>
                      <a:pt x="911" y="1104"/>
                    </a:lnTo>
                    <a:lnTo>
                      <a:pt x="917" y="1095"/>
                    </a:lnTo>
                    <a:lnTo>
                      <a:pt x="921" y="1085"/>
                    </a:lnTo>
                    <a:lnTo>
                      <a:pt x="927" y="1069"/>
                    </a:lnTo>
                    <a:lnTo>
                      <a:pt x="891" y="984"/>
                    </a:lnTo>
                    <a:lnTo>
                      <a:pt x="924" y="948"/>
                    </a:lnTo>
                    <a:lnTo>
                      <a:pt x="953" y="910"/>
                    </a:lnTo>
                    <a:lnTo>
                      <a:pt x="979" y="868"/>
                    </a:lnTo>
                    <a:lnTo>
                      <a:pt x="1002" y="822"/>
                    </a:lnTo>
                    <a:lnTo>
                      <a:pt x="1019" y="777"/>
                    </a:lnTo>
                    <a:lnTo>
                      <a:pt x="1033" y="728"/>
                    </a:lnTo>
                    <a:lnTo>
                      <a:pt x="1041" y="677"/>
                    </a:lnTo>
                    <a:lnTo>
                      <a:pt x="1044"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8" name="Freeform 128"/>
              <p:cNvSpPr/>
              <p:nvPr/>
            </p:nvSpPr>
            <p:spPr>
              <a:xfrm>
                <a:off x="1414080" y="2964960"/>
                <a:ext cx="195120" cy="212760"/>
              </a:xfrm>
              <a:custGeom>
                <a:avLst/>
                <a:gdLst>
                  <a:gd name="textAreaLeft" fmla="*/ 0 w 195120"/>
                  <a:gd name="textAreaRight" fmla="*/ 195480 w 195120"/>
                  <a:gd name="textAreaTop" fmla="*/ 0 h 212760"/>
                  <a:gd name="textAreaBottom" fmla="*/ 213120 h 212760"/>
                </a:gdLst>
                <a:ahLst/>
                <a:rect l="textAreaLeft" t="textAreaTop" r="textAreaRight" b="textAreaBottom"/>
                <a:pathLst>
                  <a:path w="164" h="174">
                    <a:moveTo>
                      <a:pt x="164" y="53"/>
                    </a:moveTo>
                    <a:lnTo>
                      <a:pt x="58" y="172"/>
                    </a:lnTo>
                    <a:lnTo>
                      <a:pt x="43" y="174"/>
                    </a:lnTo>
                    <a:lnTo>
                      <a:pt x="31" y="172"/>
                    </a:lnTo>
                    <a:lnTo>
                      <a:pt x="20" y="169"/>
                    </a:lnTo>
                    <a:lnTo>
                      <a:pt x="13" y="162"/>
                    </a:lnTo>
                    <a:lnTo>
                      <a:pt x="6" y="156"/>
                    </a:lnTo>
                    <a:lnTo>
                      <a:pt x="3" y="149"/>
                    </a:lnTo>
                    <a:lnTo>
                      <a:pt x="0" y="145"/>
                    </a:lnTo>
                    <a:lnTo>
                      <a:pt x="0" y="143"/>
                    </a:lnTo>
                    <a:lnTo>
                      <a:pt x="58" y="0"/>
                    </a:lnTo>
                    <a:lnTo>
                      <a:pt x="16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19" name="Freeform 129"/>
              <p:cNvSpPr/>
              <p:nvPr/>
            </p:nvSpPr>
            <p:spPr>
              <a:xfrm>
                <a:off x="1910880" y="2927160"/>
                <a:ext cx="161280" cy="171360"/>
              </a:xfrm>
              <a:custGeom>
                <a:avLst/>
                <a:gdLst>
                  <a:gd name="textAreaLeft" fmla="*/ 0 w 161280"/>
                  <a:gd name="textAreaRight" fmla="*/ 161640 w 161280"/>
                  <a:gd name="textAreaTop" fmla="*/ 0 h 171360"/>
                  <a:gd name="textAreaBottom" fmla="*/ 171720 h 171360"/>
                </a:gdLst>
                <a:ahLst/>
                <a:rect l="textAreaLeft" t="textAreaTop" r="textAreaRight" b="textAreaBottom"/>
                <a:pathLst>
                  <a:path w="136" h="141">
                    <a:moveTo>
                      <a:pt x="85" y="0"/>
                    </a:moveTo>
                    <a:lnTo>
                      <a:pt x="136" y="113"/>
                    </a:lnTo>
                    <a:lnTo>
                      <a:pt x="136" y="115"/>
                    </a:lnTo>
                    <a:lnTo>
                      <a:pt x="133" y="118"/>
                    </a:lnTo>
                    <a:lnTo>
                      <a:pt x="129" y="122"/>
                    </a:lnTo>
                    <a:lnTo>
                      <a:pt x="125" y="128"/>
                    </a:lnTo>
                    <a:lnTo>
                      <a:pt x="119" y="133"/>
                    </a:lnTo>
                    <a:lnTo>
                      <a:pt x="111" y="138"/>
                    </a:lnTo>
                    <a:lnTo>
                      <a:pt x="102" y="141"/>
                    </a:lnTo>
                    <a:lnTo>
                      <a:pt x="90" y="141"/>
                    </a:lnTo>
                    <a:lnTo>
                      <a:pt x="0" y="5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0" name="Freeform 130"/>
              <p:cNvSpPr/>
              <p:nvPr/>
            </p:nvSpPr>
            <p:spPr>
              <a:xfrm>
                <a:off x="1240560" y="2147400"/>
                <a:ext cx="1143720" cy="1144800"/>
              </a:xfrm>
              <a:custGeom>
                <a:avLst/>
                <a:gdLst>
                  <a:gd name="textAreaLeft" fmla="*/ 0 w 1143720"/>
                  <a:gd name="textAreaRight" fmla="*/ 1144080 w 1143720"/>
                  <a:gd name="textAreaTop" fmla="*/ 0 h 1144800"/>
                  <a:gd name="textAreaBottom" fmla="*/ 1145160 h 1144800"/>
                </a:gdLst>
                <a:ahLst/>
                <a:rect l="textAreaLeft" t="textAreaTop" r="textAreaRight" b="textAreaBottom"/>
                <a:pathLst>
                  <a:path w="959" h="934">
                    <a:moveTo>
                      <a:pt x="0" y="466"/>
                    </a:moveTo>
                    <a:lnTo>
                      <a:pt x="4" y="514"/>
                    </a:lnTo>
                    <a:lnTo>
                      <a:pt x="10" y="559"/>
                    </a:lnTo>
                    <a:lnTo>
                      <a:pt x="22" y="605"/>
                    </a:lnTo>
                    <a:lnTo>
                      <a:pt x="39" y="648"/>
                    </a:lnTo>
                    <a:lnTo>
                      <a:pt x="59" y="688"/>
                    </a:lnTo>
                    <a:lnTo>
                      <a:pt x="83" y="728"/>
                    </a:lnTo>
                    <a:lnTo>
                      <a:pt x="111" y="763"/>
                    </a:lnTo>
                    <a:lnTo>
                      <a:pt x="141" y="796"/>
                    </a:lnTo>
                    <a:lnTo>
                      <a:pt x="175" y="827"/>
                    </a:lnTo>
                    <a:lnTo>
                      <a:pt x="211" y="853"/>
                    </a:lnTo>
                    <a:lnTo>
                      <a:pt x="251" y="877"/>
                    </a:lnTo>
                    <a:lnTo>
                      <a:pt x="294" y="897"/>
                    </a:lnTo>
                    <a:lnTo>
                      <a:pt x="337" y="913"/>
                    </a:lnTo>
                    <a:lnTo>
                      <a:pt x="383" y="925"/>
                    </a:lnTo>
                    <a:lnTo>
                      <a:pt x="430" y="931"/>
                    </a:lnTo>
                    <a:lnTo>
                      <a:pt x="479" y="934"/>
                    </a:lnTo>
                    <a:lnTo>
                      <a:pt x="528" y="931"/>
                    </a:lnTo>
                    <a:lnTo>
                      <a:pt x="575" y="925"/>
                    </a:lnTo>
                    <a:lnTo>
                      <a:pt x="621" y="913"/>
                    </a:lnTo>
                    <a:lnTo>
                      <a:pt x="665" y="897"/>
                    </a:lnTo>
                    <a:lnTo>
                      <a:pt x="707" y="877"/>
                    </a:lnTo>
                    <a:lnTo>
                      <a:pt x="746" y="853"/>
                    </a:lnTo>
                    <a:lnTo>
                      <a:pt x="785" y="827"/>
                    </a:lnTo>
                    <a:lnTo>
                      <a:pt x="818" y="796"/>
                    </a:lnTo>
                    <a:lnTo>
                      <a:pt x="849" y="763"/>
                    </a:lnTo>
                    <a:lnTo>
                      <a:pt x="876" y="728"/>
                    </a:lnTo>
                    <a:lnTo>
                      <a:pt x="901" y="688"/>
                    </a:lnTo>
                    <a:lnTo>
                      <a:pt x="921" y="648"/>
                    </a:lnTo>
                    <a:lnTo>
                      <a:pt x="937" y="605"/>
                    </a:lnTo>
                    <a:lnTo>
                      <a:pt x="950" y="559"/>
                    </a:lnTo>
                    <a:lnTo>
                      <a:pt x="956" y="514"/>
                    </a:lnTo>
                    <a:lnTo>
                      <a:pt x="959" y="466"/>
                    </a:lnTo>
                    <a:lnTo>
                      <a:pt x="956" y="419"/>
                    </a:lnTo>
                    <a:lnTo>
                      <a:pt x="950" y="373"/>
                    </a:lnTo>
                    <a:lnTo>
                      <a:pt x="937" y="327"/>
                    </a:lnTo>
                    <a:lnTo>
                      <a:pt x="921" y="284"/>
                    </a:lnTo>
                    <a:lnTo>
                      <a:pt x="901" y="245"/>
                    </a:lnTo>
                    <a:lnTo>
                      <a:pt x="876" y="206"/>
                    </a:lnTo>
                    <a:lnTo>
                      <a:pt x="849" y="170"/>
                    </a:lnTo>
                    <a:lnTo>
                      <a:pt x="818" y="136"/>
                    </a:lnTo>
                    <a:lnTo>
                      <a:pt x="785" y="107"/>
                    </a:lnTo>
                    <a:lnTo>
                      <a:pt x="746" y="80"/>
                    </a:lnTo>
                    <a:lnTo>
                      <a:pt x="707" y="57"/>
                    </a:lnTo>
                    <a:lnTo>
                      <a:pt x="665" y="37"/>
                    </a:lnTo>
                    <a:lnTo>
                      <a:pt x="621" y="21"/>
                    </a:lnTo>
                    <a:lnTo>
                      <a:pt x="575" y="9"/>
                    </a:lnTo>
                    <a:lnTo>
                      <a:pt x="528" y="3"/>
                    </a:lnTo>
                    <a:lnTo>
                      <a:pt x="479" y="0"/>
                    </a:lnTo>
                    <a:lnTo>
                      <a:pt x="430" y="3"/>
                    </a:lnTo>
                    <a:lnTo>
                      <a:pt x="383" y="9"/>
                    </a:lnTo>
                    <a:lnTo>
                      <a:pt x="337" y="21"/>
                    </a:lnTo>
                    <a:lnTo>
                      <a:pt x="294" y="37"/>
                    </a:lnTo>
                    <a:lnTo>
                      <a:pt x="251" y="57"/>
                    </a:lnTo>
                    <a:lnTo>
                      <a:pt x="211" y="80"/>
                    </a:lnTo>
                    <a:lnTo>
                      <a:pt x="175" y="107"/>
                    </a:lnTo>
                    <a:lnTo>
                      <a:pt x="141" y="136"/>
                    </a:lnTo>
                    <a:lnTo>
                      <a:pt x="111" y="170"/>
                    </a:lnTo>
                    <a:lnTo>
                      <a:pt x="83" y="206"/>
                    </a:lnTo>
                    <a:lnTo>
                      <a:pt x="59" y="245"/>
                    </a:lnTo>
                    <a:lnTo>
                      <a:pt x="39" y="284"/>
                    </a:lnTo>
                    <a:lnTo>
                      <a:pt x="22" y="327"/>
                    </a:lnTo>
                    <a:lnTo>
                      <a:pt x="10" y="373"/>
                    </a:lnTo>
                    <a:lnTo>
                      <a:pt x="4" y="419"/>
                    </a:lnTo>
                    <a:lnTo>
                      <a:pt x="0"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1" name="Freeform 131"/>
              <p:cNvSpPr/>
              <p:nvPr/>
            </p:nvSpPr>
            <p:spPr>
              <a:xfrm>
                <a:off x="1282680" y="2188440"/>
                <a:ext cx="1041120" cy="1041120"/>
              </a:xfrm>
              <a:custGeom>
                <a:avLst/>
                <a:gdLst>
                  <a:gd name="textAreaLeft" fmla="*/ 0 w 1041120"/>
                  <a:gd name="textAreaRight" fmla="*/ 1041480 w 1041120"/>
                  <a:gd name="textAreaTop" fmla="*/ 0 h 1041120"/>
                  <a:gd name="textAreaBottom" fmla="*/ 1041480 h 1041120"/>
                </a:gdLst>
                <a:ahLst/>
                <a:rect l="textAreaLeft" t="textAreaTop" r="textAreaRight" b="textAreaBottom"/>
                <a:pathLst>
                  <a:path w="873" h="848">
                    <a:moveTo>
                      <a:pt x="0" y="423"/>
                    </a:moveTo>
                    <a:lnTo>
                      <a:pt x="2" y="380"/>
                    </a:lnTo>
                    <a:lnTo>
                      <a:pt x="9" y="338"/>
                    </a:lnTo>
                    <a:lnTo>
                      <a:pt x="20" y="298"/>
                    </a:lnTo>
                    <a:lnTo>
                      <a:pt x="34" y="260"/>
                    </a:lnTo>
                    <a:lnTo>
                      <a:pt x="52" y="221"/>
                    </a:lnTo>
                    <a:lnTo>
                      <a:pt x="75" y="188"/>
                    </a:lnTo>
                    <a:lnTo>
                      <a:pt x="100" y="154"/>
                    </a:lnTo>
                    <a:lnTo>
                      <a:pt x="129" y="124"/>
                    </a:lnTo>
                    <a:lnTo>
                      <a:pt x="159" y="98"/>
                    </a:lnTo>
                    <a:lnTo>
                      <a:pt x="193" y="73"/>
                    </a:lnTo>
                    <a:lnTo>
                      <a:pt x="228" y="52"/>
                    </a:lnTo>
                    <a:lnTo>
                      <a:pt x="266" y="33"/>
                    </a:lnTo>
                    <a:lnTo>
                      <a:pt x="306" y="20"/>
                    </a:lnTo>
                    <a:lnTo>
                      <a:pt x="349" y="9"/>
                    </a:lnTo>
                    <a:lnTo>
                      <a:pt x="392" y="1"/>
                    </a:lnTo>
                    <a:lnTo>
                      <a:pt x="436" y="0"/>
                    </a:lnTo>
                    <a:lnTo>
                      <a:pt x="480" y="1"/>
                    </a:lnTo>
                    <a:lnTo>
                      <a:pt x="525" y="9"/>
                    </a:lnTo>
                    <a:lnTo>
                      <a:pt x="566" y="20"/>
                    </a:lnTo>
                    <a:lnTo>
                      <a:pt x="606" y="33"/>
                    </a:lnTo>
                    <a:lnTo>
                      <a:pt x="644" y="52"/>
                    </a:lnTo>
                    <a:lnTo>
                      <a:pt x="680" y="73"/>
                    </a:lnTo>
                    <a:lnTo>
                      <a:pt x="714" y="98"/>
                    </a:lnTo>
                    <a:lnTo>
                      <a:pt x="745" y="124"/>
                    </a:lnTo>
                    <a:lnTo>
                      <a:pt x="774" y="154"/>
                    </a:lnTo>
                    <a:lnTo>
                      <a:pt x="798" y="188"/>
                    </a:lnTo>
                    <a:lnTo>
                      <a:pt x="820" y="221"/>
                    </a:lnTo>
                    <a:lnTo>
                      <a:pt x="839" y="260"/>
                    </a:lnTo>
                    <a:lnTo>
                      <a:pt x="853" y="298"/>
                    </a:lnTo>
                    <a:lnTo>
                      <a:pt x="864" y="338"/>
                    </a:lnTo>
                    <a:lnTo>
                      <a:pt x="871" y="380"/>
                    </a:lnTo>
                    <a:lnTo>
                      <a:pt x="873" y="423"/>
                    </a:lnTo>
                    <a:lnTo>
                      <a:pt x="871" y="466"/>
                    </a:lnTo>
                    <a:lnTo>
                      <a:pt x="864" y="509"/>
                    </a:lnTo>
                    <a:lnTo>
                      <a:pt x="853" y="549"/>
                    </a:lnTo>
                    <a:lnTo>
                      <a:pt x="839" y="588"/>
                    </a:lnTo>
                    <a:lnTo>
                      <a:pt x="820" y="625"/>
                    </a:lnTo>
                    <a:lnTo>
                      <a:pt x="798" y="660"/>
                    </a:lnTo>
                    <a:lnTo>
                      <a:pt x="774" y="694"/>
                    </a:lnTo>
                    <a:lnTo>
                      <a:pt x="745" y="723"/>
                    </a:lnTo>
                    <a:lnTo>
                      <a:pt x="714" y="750"/>
                    </a:lnTo>
                    <a:lnTo>
                      <a:pt x="680" y="775"/>
                    </a:lnTo>
                    <a:lnTo>
                      <a:pt x="644" y="796"/>
                    </a:lnTo>
                    <a:lnTo>
                      <a:pt x="606" y="815"/>
                    </a:lnTo>
                    <a:lnTo>
                      <a:pt x="566" y="828"/>
                    </a:lnTo>
                    <a:lnTo>
                      <a:pt x="525" y="839"/>
                    </a:lnTo>
                    <a:lnTo>
                      <a:pt x="480" y="847"/>
                    </a:lnTo>
                    <a:lnTo>
                      <a:pt x="436" y="848"/>
                    </a:lnTo>
                    <a:lnTo>
                      <a:pt x="392" y="847"/>
                    </a:lnTo>
                    <a:lnTo>
                      <a:pt x="349" y="839"/>
                    </a:lnTo>
                    <a:lnTo>
                      <a:pt x="306" y="828"/>
                    </a:lnTo>
                    <a:lnTo>
                      <a:pt x="266" y="815"/>
                    </a:lnTo>
                    <a:lnTo>
                      <a:pt x="228" y="796"/>
                    </a:lnTo>
                    <a:lnTo>
                      <a:pt x="193" y="775"/>
                    </a:lnTo>
                    <a:lnTo>
                      <a:pt x="159" y="750"/>
                    </a:lnTo>
                    <a:lnTo>
                      <a:pt x="129" y="723"/>
                    </a:lnTo>
                    <a:lnTo>
                      <a:pt x="100" y="694"/>
                    </a:lnTo>
                    <a:lnTo>
                      <a:pt x="75" y="660"/>
                    </a:lnTo>
                    <a:lnTo>
                      <a:pt x="52" y="625"/>
                    </a:lnTo>
                    <a:lnTo>
                      <a:pt x="34" y="588"/>
                    </a:lnTo>
                    <a:lnTo>
                      <a:pt x="20" y="549"/>
                    </a:lnTo>
                    <a:lnTo>
                      <a:pt x="9" y="509"/>
                    </a:lnTo>
                    <a:lnTo>
                      <a:pt x="2" y="466"/>
                    </a:lnTo>
                    <a:lnTo>
                      <a:pt x="0" y="423"/>
                    </a:lnTo>
                    <a:close/>
                  </a:path>
                </a:pathLst>
              </a:custGeom>
              <a:solidFill>
                <a:srgbClr val="f93a3a"/>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2" name="Freeform 132"/>
              <p:cNvSpPr/>
              <p:nvPr/>
            </p:nvSpPr>
            <p:spPr>
              <a:xfrm>
                <a:off x="1346400" y="2285280"/>
                <a:ext cx="960480" cy="918360"/>
              </a:xfrm>
              <a:custGeom>
                <a:avLst/>
                <a:gdLst>
                  <a:gd name="textAreaLeft" fmla="*/ 0 w 960480"/>
                  <a:gd name="textAreaRight" fmla="*/ 960840 w 960480"/>
                  <a:gd name="textAreaTop" fmla="*/ 0 h 918360"/>
                  <a:gd name="textAreaBottom" fmla="*/ 918720 h 918360"/>
                </a:gdLst>
                <a:ahLst/>
                <a:rect l="textAreaLeft" t="textAreaTop" r="textAreaRight" b="textAreaBottom"/>
                <a:pathLst>
                  <a:path w="805" h="749">
                    <a:moveTo>
                      <a:pt x="648" y="0"/>
                    </a:moveTo>
                    <a:lnTo>
                      <a:pt x="663" y="25"/>
                    </a:lnTo>
                    <a:lnTo>
                      <a:pt x="675" y="51"/>
                    </a:lnTo>
                    <a:lnTo>
                      <a:pt x="687" y="78"/>
                    </a:lnTo>
                    <a:lnTo>
                      <a:pt x="696" y="106"/>
                    </a:lnTo>
                    <a:lnTo>
                      <a:pt x="704" y="135"/>
                    </a:lnTo>
                    <a:lnTo>
                      <a:pt x="710" y="164"/>
                    </a:lnTo>
                    <a:lnTo>
                      <a:pt x="713" y="194"/>
                    </a:lnTo>
                    <a:lnTo>
                      <a:pt x="715" y="225"/>
                    </a:lnTo>
                    <a:lnTo>
                      <a:pt x="713" y="268"/>
                    </a:lnTo>
                    <a:lnTo>
                      <a:pt x="706" y="310"/>
                    </a:lnTo>
                    <a:lnTo>
                      <a:pt x="695" y="350"/>
                    </a:lnTo>
                    <a:lnTo>
                      <a:pt x="680" y="388"/>
                    </a:lnTo>
                    <a:lnTo>
                      <a:pt x="661" y="427"/>
                    </a:lnTo>
                    <a:lnTo>
                      <a:pt x="640" y="460"/>
                    </a:lnTo>
                    <a:lnTo>
                      <a:pt x="614" y="494"/>
                    </a:lnTo>
                    <a:lnTo>
                      <a:pt x="586" y="523"/>
                    </a:lnTo>
                    <a:lnTo>
                      <a:pt x="556" y="550"/>
                    </a:lnTo>
                    <a:lnTo>
                      <a:pt x="522" y="575"/>
                    </a:lnTo>
                    <a:lnTo>
                      <a:pt x="486" y="596"/>
                    </a:lnTo>
                    <a:lnTo>
                      <a:pt x="447" y="615"/>
                    </a:lnTo>
                    <a:lnTo>
                      <a:pt x="408" y="628"/>
                    </a:lnTo>
                    <a:lnTo>
                      <a:pt x="366" y="639"/>
                    </a:lnTo>
                    <a:lnTo>
                      <a:pt x="324" y="647"/>
                    </a:lnTo>
                    <a:lnTo>
                      <a:pt x="279" y="648"/>
                    </a:lnTo>
                    <a:lnTo>
                      <a:pt x="259" y="648"/>
                    </a:lnTo>
                    <a:lnTo>
                      <a:pt x="239" y="647"/>
                    </a:lnTo>
                    <a:lnTo>
                      <a:pt x="220" y="644"/>
                    </a:lnTo>
                    <a:lnTo>
                      <a:pt x="201" y="641"/>
                    </a:lnTo>
                    <a:lnTo>
                      <a:pt x="181" y="638"/>
                    </a:lnTo>
                    <a:lnTo>
                      <a:pt x="163" y="633"/>
                    </a:lnTo>
                    <a:lnTo>
                      <a:pt x="145" y="627"/>
                    </a:lnTo>
                    <a:lnTo>
                      <a:pt x="128" y="621"/>
                    </a:lnTo>
                    <a:lnTo>
                      <a:pt x="110" y="615"/>
                    </a:lnTo>
                    <a:lnTo>
                      <a:pt x="93" y="607"/>
                    </a:lnTo>
                    <a:lnTo>
                      <a:pt x="76" y="599"/>
                    </a:lnTo>
                    <a:lnTo>
                      <a:pt x="59" y="590"/>
                    </a:lnTo>
                    <a:lnTo>
                      <a:pt x="44" y="581"/>
                    </a:lnTo>
                    <a:lnTo>
                      <a:pt x="29" y="570"/>
                    </a:lnTo>
                    <a:lnTo>
                      <a:pt x="13" y="560"/>
                    </a:lnTo>
                    <a:lnTo>
                      <a:pt x="0" y="549"/>
                    </a:lnTo>
                    <a:lnTo>
                      <a:pt x="15" y="570"/>
                    </a:lnTo>
                    <a:lnTo>
                      <a:pt x="32" y="592"/>
                    </a:lnTo>
                    <a:lnTo>
                      <a:pt x="48" y="612"/>
                    </a:lnTo>
                    <a:lnTo>
                      <a:pt x="68" y="630"/>
                    </a:lnTo>
                    <a:lnTo>
                      <a:pt x="88" y="648"/>
                    </a:lnTo>
                    <a:lnTo>
                      <a:pt x="110" y="665"/>
                    </a:lnTo>
                    <a:lnTo>
                      <a:pt x="131" y="680"/>
                    </a:lnTo>
                    <a:lnTo>
                      <a:pt x="154" y="694"/>
                    </a:lnTo>
                    <a:lnTo>
                      <a:pt x="178" y="706"/>
                    </a:lnTo>
                    <a:lnTo>
                      <a:pt x="204" y="717"/>
                    </a:lnTo>
                    <a:lnTo>
                      <a:pt x="229" y="726"/>
                    </a:lnTo>
                    <a:lnTo>
                      <a:pt x="256" y="734"/>
                    </a:lnTo>
                    <a:lnTo>
                      <a:pt x="284" y="742"/>
                    </a:lnTo>
                    <a:lnTo>
                      <a:pt x="311" y="746"/>
                    </a:lnTo>
                    <a:lnTo>
                      <a:pt x="339" y="748"/>
                    </a:lnTo>
                    <a:lnTo>
                      <a:pt x="368" y="749"/>
                    </a:lnTo>
                    <a:lnTo>
                      <a:pt x="412" y="748"/>
                    </a:lnTo>
                    <a:lnTo>
                      <a:pt x="457" y="740"/>
                    </a:lnTo>
                    <a:lnTo>
                      <a:pt x="498" y="729"/>
                    </a:lnTo>
                    <a:lnTo>
                      <a:pt x="538" y="716"/>
                    </a:lnTo>
                    <a:lnTo>
                      <a:pt x="576" y="697"/>
                    </a:lnTo>
                    <a:lnTo>
                      <a:pt x="612" y="676"/>
                    </a:lnTo>
                    <a:lnTo>
                      <a:pt x="646" y="651"/>
                    </a:lnTo>
                    <a:lnTo>
                      <a:pt x="677" y="624"/>
                    </a:lnTo>
                    <a:lnTo>
                      <a:pt x="706" y="595"/>
                    </a:lnTo>
                    <a:lnTo>
                      <a:pt x="730" y="561"/>
                    </a:lnTo>
                    <a:lnTo>
                      <a:pt x="752" y="526"/>
                    </a:lnTo>
                    <a:lnTo>
                      <a:pt x="771" y="489"/>
                    </a:lnTo>
                    <a:lnTo>
                      <a:pt x="785" y="450"/>
                    </a:lnTo>
                    <a:lnTo>
                      <a:pt x="796" y="410"/>
                    </a:lnTo>
                    <a:lnTo>
                      <a:pt x="803" y="367"/>
                    </a:lnTo>
                    <a:lnTo>
                      <a:pt x="805" y="324"/>
                    </a:lnTo>
                    <a:lnTo>
                      <a:pt x="802" y="277"/>
                    </a:lnTo>
                    <a:lnTo>
                      <a:pt x="794" y="229"/>
                    </a:lnTo>
                    <a:lnTo>
                      <a:pt x="781" y="185"/>
                    </a:lnTo>
                    <a:lnTo>
                      <a:pt x="762" y="142"/>
                    </a:lnTo>
                    <a:lnTo>
                      <a:pt x="739" y="103"/>
                    </a:lnTo>
                    <a:lnTo>
                      <a:pt x="713" y="66"/>
                    </a:lnTo>
                    <a:lnTo>
                      <a:pt x="683" y="31"/>
                    </a:lnTo>
                    <a:lnTo>
                      <a:pt x="648"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3" name="Freeform 133"/>
              <p:cNvSpPr/>
              <p:nvPr/>
            </p:nvSpPr>
            <p:spPr>
              <a:xfrm>
                <a:off x="1691640" y="2033280"/>
                <a:ext cx="503640" cy="402480"/>
              </a:xfrm>
              <a:custGeom>
                <a:avLst/>
                <a:gdLst>
                  <a:gd name="textAreaLeft" fmla="*/ 0 w 503640"/>
                  <a:gd name="textAreaRight" fmla="*/ 504000 w 503640"/>
                  <a:gd name="textAreaTop" fmla="*/ 0 h 402480"/>
                  <a:gd name="textAreaBottom" fmla="*/ 402840 h 402480"/>
                </a:gdLst>
                <a:ahLst/>
                <a:rect l="textAreaLeft" t="textAreaTop" r="textAreaRight" b="textAreaBottom"/>
                <a:pathLst>
                  <a:path w="422" h="331">
                    <a:moveTo>
                      <a:pt x="5" y="130"/>
                    </a:moveTo>
                    <a:lnTo>
                      <a:pt x="0" y="141"/>
                    </a:lnTo>
                    <a:lnTo>
                      <a:pt x="8" y="149"/>
                    </a:lnTo>
                    <a:lnTo>
                      <a:pt x="11" y="152"/>
                    </a:lnTo>
                    <a:lnTo>
                      <a:pt x="17" y="158"/>
                    </a:lnTo>
                    <a:lnTo>
                      <a:pt x="26" y="165"/>
                    </a:lnTo>
                    <a:lnTo>
                      <a:pt x="37" y="176"/>
                    </a:lnTo>
                    <a:lnTo>
                      <a:pt x="52" y="188"/>
                    </a:lnTo>
                    <a:lnTo>
                      <a:pt x="69" y="202"/>
                    </a:lnTo>
                    <a:lnTo>
                      <a:pt x="90" y="217"/>
                    </a:lnTo>
                    <a:lnTo>
                      <a:pt x="113" y="233"/>
                    </a:lnTo>
                    <a:lnTo>
                      <a:pt x="138" y="250"/>
                    </a:lnTo>
                    <a:lnTo>
                      <a:pt x="165" y="265"/>
                    </a:lnTo>
                    <a:lnTo>
                      <a:pt x="194" y="280"/>
                    </a:lnTo>
                    <a:lnTo>
                      <a:pt x="227" y="294"/>
                    </a:lnTo>
                    <a:lnTo>
                      <a:pt x="260" y="306"/>
                    </a:lnTo>
                    <a:lnTo>
                      <a:pt x="297" y="317"/>
                    </a:lnTo>
                    <a:lnTo>
                      <a:pt x="333" y="324"/>
                    </a:lnTo>
                    <a:lnTo>
                      <a:pt x="373" y="331"/>
                    </a:lnTo>
                    <a:lnTo>
                      <a:pt x="384" y="331"/>
                    </a:lnTo>
                    <a:lnTo>
                      <a:pt x="389" y="321"/>
                    </a:lnTo>
                    <a:lnTo>
                      <a:pt x="411" y="262"/>
                    </a:lnTo>
                    <a:lnTo>
                      <a:pt x="422" y="211"/>
                    </a:lnTo>
                    <a:lnTo>
                      <a:pt x="419" y="167"/>
                    </a:lnTo>
                    <a:lnTo>
                      <a:pt x="405" y="130"/>
                    </a:lnTo>
                    <a:lnTo>
                      <a:pt x="384" y="100"/>
                    </a:lnTo>
                    <a:lnTo>
                      <a:pt x="356" y="74"/>
                    </a:lnTo>
                    <a:lnTo>
                      <a:pt x="326" y="52"/>
                    </a:lnTo>
                    <a:lnTo>
                      <a:pt x="292" y="34"/>
                    </a:lnTo>
                    <a:lnTo>
                      <a:pt x="275" y="26"/>
                    </a:lnTo>
                    <a:lnTo>
                      <a:pt x="257" y="19"/>
                    </a:lnTo>
                    <a:lnTo>
                      <a:pt x="239" y="13"/>
                    </a:lnTo>
                    <a:lnTo>
                      <a:pt x="220" y="6"/>
                    </a:lnTo>
                    <a:lnTo>
                      <a:pt x="202" y="2"/>
                    </a:lnTo>
                    <a:lnTo>
                      <a:pt x="184" y="0"/>
                    </a:lnTo>
                    <a:lnTo>
                      <a:pt x="165" y="0"/>
                    </a:lnTo>
                    <a:lnTo>
                      <a:pt x="147" y="2"/>
                    </a:lnTo>
                    <a:lnTo>
                      <a:pt x="127" y="6"/>
                    </a:lnTo>
                    <a:lnTo>
                      <a:pt x="109" y="14"/>
                    </a:lnTo>
                    <a:lnTo>
                      <a:pt x="90" y="23"/>
                    </a:lnTo>
                    <a:lnTo>
                      <a:pt x="72" y="37"/>
                    </a:lnTo>
                    <a:lnTo>
                      <a:pt x="55" y="54"/>
                    </a:lnTo>
                    <a:lnTo>
                      <a:pt x="37" y="75"/>
                    </a:lnTo>
                    <a:lnTo>
                      <a:pt x="22" y="101"/>
                    </a:lnTo>
                    <a:lnTo>
                      <a:pt x="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4" name="Freeform 134"/>
              <p:cNvSpPr/>
              <p:nvPr/>
            </p:nvSpPr>
            <p:spPr>
              <a:xfrm>
                <a:off x="1727280" y="2064240"/>
                <a:ext cx="420840" cy="323280"/>
              </a:xfrm>
              <a:custGeom>
                <a:avLst/>
                <a:gdLst>
                  <a:gd name="textAreaLeft" fmla="*/ 0 w 420840"/>
                  <a:gd name="textAreaRight" fmla="*/ 421200 w 420840"/>
                  <a:gd name="textAreaTop" fmla="*/ 0 h 323280"/>
                  <a:gd name="textAreaBottom" fmla="*/ 323640 h 323280"/>
                </a:gdLst>
                <a:ahLst/>
                <a:rect l="textAreaLeft" t="textAreaTop" r="textAreaRight" b="textAreaBottom"/>
                <a:pathLst>
                  <a:path w="352" h="265">
                    <a:moveTo>
                      <a:pt x="240" y="31"/>
                    </a:moveTo>
                    <a:lnTo>
                      <a:pt x="262" y="42"/>
                    </a:lnTo>
                    <a:lnTo>
                      <a:pt x="283" y="55"/>
                    </a:lnTo>
                    <a:lnTo>
                      <a:pt x="302" y="69"/>
                    </a:lnTo>
                    <a:lnTo>
                      <a:pt x="318" y="85"/>
                    </a:lnTo>
                    <a:lnTo>
                      <a:pt x="332" y="101"/>
                    </a:lnTo>
                    <a:lnTo>
                      <a:pt x="343" y="121"/>
                    </a:lnTo>
                    <a:lnTo>
                      <a:pt x="349" y="144"/>
                    </a:lnTo>
                    <a:lnTo>
                      <a:pt x="352" y="169"/>
                    </a:lnTo>
                    <a:lnTo>
                      <a:pt x="351" y="190"/>
                    </a:lnTo>
                    <a:lnTo>
                      <a:pt x="346" y="213"/>
                    </a:lnTo>
                    <a:lnTo>
                      <a:pt x="338" y="237"/>
                    </a:lnTo>
                    <a:lnTo>
                      <a:pt x="326" y="265"/>
                    </a:lnTo>
                    <a:lnTo>
                      <a:pt x="295" y="260"/>
                    </a:lnTo>
                    <a:lnTo>
                      <a:pt x="265" y="253"/>
                    </a:lnTo>
                    <a:lnTo>
                      <a:pt x="236" y="245"/>
                    </a:lnTo>
                    <a:lnTo>
                      <a:pt x="208" y="234"/>
                    </a:lnTo>
                    <a:lnTo>
                      <a:pt x="182" y="224"/>
                    </a:lnTo>
                    <a:lnTo>
                      <a:pt x="158" y="213"/>
                    </a:lnTo>
                    <a:lnTo>
                      <a:pt x="133" y="201"/>
                    </a:lnTo>
                    <a:lnTo>
                      <a:pt x="112" y="187"/>
                    </a:lnTo>
                    <a:lnTo>
                      <a:pt x="92" y="175"/>
                    </a:lnTo>
                    <a:lnTo>
                      <a:pt x="74" y="162"/>
                    </a:lnTo>
                    <a:lnTo>
                      <a:pt x="57" y="150"/>
                    </a:lnTo>
                    <a:lnTo>
                      <a:pt x="42" y="138"/>
                    </a:lnTo>
                    <a:lnTo>
                      <a:pt x="28" y="127"/>
                    </a:lnTo>
                    <a:lnTo>
                      <a:pt x="17" y="118"/>
                    </a:lnTo>
                    <a:lnTo>
                      <a:pt x="8" y="109"/>
                    </a:lnTo>
                    <a:lnTo>
                      <a:pt x="0" y="103"/>
                    </a:lnTo>
                    <a:lnTo>
                      <a:pt x="28" y="60"/>
                    </a:lnTo>
                    <a:lnTo>
                      <a:pt x="56" y="31"/>
                    </a:lnTo>
                    <a:lnTo>
                      <a:pt x="85" y="11"/>
                    </a:lnTo>
                    <a:lnTo>
                      <a:pt x="115" y="2"/>
                    </a:lnTo>
                    <a:lnTo>
                      <a:pt x="146" y="0"/>
                    </a:lnTo>
                    <a:lnTo>
                      <a:pt x="178" y="7"/>
                    </a:lnTo>
                    <a:lnTo>
                      <a:pt x="208" y="17"/>
                    </a:lnTo>
                    <a:lnTo>
                      <a:pt x="240" y="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5" name="Freeform 135"/>
              <p:cNvSpPr/>
              <p:nvPr/>
            </p:nvSpPr>
            <p:spPr>
              <a:xfrm>
                <a:off x="1727280" y="2064240"/>
                <a:ext cx="325080" cy="243720"/>
              </a:xfrm>
              <a:custGeom>
                <a:avLst/>
                <a:gdLst>
                  <a:gd name="textAreaLeft" fmla="*/ 0 w 325080"/>
                  <a:gd name="textAreaRight" fmla="*/ 325440 w 325080"/>
                  <a:gd name="textAreaTop" fmla="*/ 0 h 243720"/>
                  <a:gd name="textAreaBottom" fmla="*/ 244080 h 243720"/>
                </a:gdLst>
                <a:ahLst/>
                <a:rect l="textAreaLeft" t="textAreaTop" r="textAreaRight" b="textAreaBottom"/>
                <a:pathLst>
                  <a:path w="274" h="201">
                    <a:moveTo>
                      <a:pt x="23" y="115"/>
                    </a:moveTo>
                    <a:lnTo>
                      <a:pt x="51" y="72"/>
                    </a:lnTo>
                    <a:lnTo>
                      <a:pt x="78" y="43"/>
                    </a:lnTo>
                    <a:lnTo>
                      <a:pt x="107" y="23"/>
                    </a:lnTo>
                    <a:lnTo>
                      <a:pt x="138" y="14"/>
                    </a:lnTo>
                    <a:lnTo>
                      <a:pt x="169" y="13"/>
                    </a:lnTo>
                    <a:lnTo>
                      <a:pt x="199" y="19"/>
                    </a:lnTo>
                    <a:lnTo>
                      <a:pt x="231" y="30"/>
                    </a:lnTo>
                    <a:lnTo>
                      <a:pt x="262" y="43"/>
                    </a:lnTo>
                    <a:lnTo>
                      <a:pt x="265" y="45"/>
                    </a:lnTo>
                    <a:lnTo>
                      <a:pt x="268" y="46"/>
                    </a:lnTo>
                    <a:lnTo>
                      <a:pt x="271" y="48"/>
                    </a:lnTo>
                    <a:lnTo>
                      <a:pt x="274" y="49"/>
                    </a:lnTo>
                    <a:lnTo>
                      <a:pt x="266" y="45"/>
                    </a:lnTo>
                    <a:lnTo>
                      <a:pt x="257" y="40"/>
                    </a:lnTo>
                    <a:lnTo>
                      <a:pt x="248" y="36"/>
                    </a:lnTo>
                    <a:lnTo>
                      <a:pt x="240" y="31"/>
                    </a:lnTo>
                    <a:lnTo>
                      <a:pt x="208" y="17"/>
                    </a:lnTo>
                    <a:lnTo>
                      <a:pt x="178" y="7"/>
                    </a:lnTo>
                    <a:lnTo>
                      <a:pt x="146" y="0"/>
                    </a:lnTo>
                    <a:lnTo>
                      <a:pt x="115" y="2"/>
                    </a:lnTo>
                    <a:lnTo>
                      <a:pt x="85" y="11"/>
                    </a:lnTo>
                    <a:lnTo>
                      <a:pt x="56" y="31"/>
                    </a:lnTo>
                    <a:lnTo>
                      <a:pt x="28" y="60"/>
                    </a:lnTo>
                    <a:lnTo>
                      <a:pt x="0" y="103"/>
                    </a:lnTo>
                    <a:lnTo>
                      <a:pt x="8" y="111"/>
                    </a:lnTo>
                    <a:lnTo>
                      <a:pt x="20" y="120"/>
                    </a:lnTo>
                    <a:lnTo>
                      <a:pt x="33" y="130"/>
                    </a:lnTo>
                    <a:lnTo>
                      <a:pt x="49" y="144"/>
                    </a:lnTo>
                    <a:lnTo>
                      <a:pt x="68" y="158"/>
                    </a:lnTo>
                    <a:lnTo>
                      <a:pt x="88" y="172"/>
                    </a:lnTo>
                    <a:lnTo>
                      <a:pt x="111" y="187"/>
                    </a:lnTo>
                    <a:lnTo>
                      <a:pt x="137" y="201"/>
                    </a:lnTo>
                    <a:lnTo>
                      <a:pt x="115" y="188"/>
                    </a:lnTo>
                    <a:lnTo>
                      <a:pt x="97" y="175"/>
                    </a:lnTo>
                    <a:lnTo>
                      <a:pt x="80" y="162"/>
                    </a:lnTo>
                    <a:lnTo>
                      <a:pt x="65" y="150"/>
                    </a:lnTo>
                    <a:lnTo>
                      <a:pt x="51" y="140"/>
                    </a:lnTo>
                    <a:lnTo>
                      <a:pt x="39" y="130"/>
                    </a:lnTo>
                    <a:lnTo>
                      <a:pt x="30" y="121"/>
                    </a:lnTo>
                    <a:lnTo>
                      <a:pt x="23"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6" name="Freeform 136"/>
              <p:cNvSpPr/>
              <p:nvPr/>
            </p:nvSpPr>
            <p:spPr>
              <a:xfrm>
                <a:off x="1727280" y="2122920"/>
                <a:ext cx="420840" cy="248760"/>
              </a:xfrm>
              <a:custGeom>
                <a:avLst/>
                <a:gdLst>
                  <a:gd name="textAreaLeft" fmla="*/ 0 w 420840"/>
                  <a:gd name="textAreaRight" fmla="*/ 421200 w 420840"/>
                  <a:gd name="textAreaTop" fmla="*/ 0 h 248760"/>
                  <a:gd name="textAreaBottom" fmla="*/ 249120 h 248760"/>
                </a:gdLst>
                <a:ahLst/>
                <a:rect l="textAreaLeft" t="textAreaTop" r="textAreaRight" b="textAreaBottom"/>
                <a:pathLst>
                  <a:path w="352" h="205">
                    <a:moveTo>
                      <a:pt x="289" y="0"/>
                    </a:moveTo>
                    <a:lnTo>
                      <a:pt x="297" y="14"/>
                    </a:lnTo>
                    <a:lnTo>
                      <a:pt x="305" y="31"/>
                    </a:lnTo>
                    <a:lnTo>
                      <a:pt x="308" y="47"/>
                    </a:lnTo>
                    <a:lnTo>
                      <a:pt x="309" y="66"/>
                    </a:lnTo>
                    <a:lnTo>
                      <a:pt x="308" y="87"/>
                    </a:lnTo>
                    <a:lnTo>
                      <a:pt x="303" y="110"/>
                    </a:lnTo>
                    <a:lnTo>
                      <a:pt x="295" y="135"/>
                    </a:lnTo>
                    <a:lnTo>
                      <a:pt x="283" y="162"/>
                    </a:lnTo>
                    <a:lnTo>
                      <a:pt x="260" y="159"/>
                    </a:lnTo>
                    <a:lnTo>
                      <a:pt x="239" y="154"/>
                    </a:lnTo>
                    <a:lnTo>
                      <a:pt x="218" y="148"/>
                    </a:lnTo>
                    <a:lnTo>
                      <a:pt x="196" y="142"/>
                    </a:lnTo>
                    <a:lnTo>
                      <a:pt x="176" y="136"/>
                    </a:lnTo>
                    <a:lnTo>
                      <a:pt x="156" y="128"/>
                    </a:lnTo>
                    <a:lnTo>
                      <a:pt x="137" y="121"/>
                    </a:lnTo>
                    <a:lnTo>
                      <a:pt x="118" y="112"/>
                    </a:lnTo>
                    <a:lnTo>
                      <a:pt x="101" y="102"/>
                    </a:lnTo>
                    <a:lnTo>
                      <a:pt x="85" y="93"/>
                    </a:lnTo>
                    <a:lnTo>
                      <a:pt x="69" y="84"/>
                    </a:lnTo>
                    <a:lnTo>
                      <a:pt x="54" y="75"/>
                    </a:lnTo>
                    <a:lnTo>
                      <a:pt x="40" y="66"/>
                    </a:lnTo>
                    <a:lnTo>
                      <a:pt x="26" y="57"/>
                    </a:lnTo>
                    <a:lnTo>
                      <a:pt x="14" y="47"/>
                    </a:lnTo>
                    <a:lnTo>
                      <a:pt x="4" y="38"/>
                    </a:lnTo>
                    <a:lnTo>
                      <a:pt x="2" y="40"/>
                    </a:lnTo>
                    <a:lnTo>
                      <a:pt x="2" y="41"/>
                    </a:lnTo>
                    <a:lnTo>
                      <a:pt x="0" y="43"/>
                    </a:lnTo>
                    <a:lnTo>
                      <a:pt x="8" y="49"/>
                    </a:lnTo>
                    <a:lnTo>
                      <a:pt x="17" y="58"/>
                    </a:lnTo>
                    <a:lnTo>
                      <a:pt x="28" y="67"/>
                    </a:lnTo>
                    <a:lnTo>
                      <a:pt x="42" y="78"/>
                    </a:lnTo>
                    <a:lnTo>
                      <a:pt x="57" y="90"/>
                    </a:lnTo>
                    <a:lnTo>
                      <a:pt x="74" y="102"/>
                    </a:lnTo>
                    <a:lnTo>
                      <a:pt x="92" y="115"/>
                    </a:lnTo>
                    <a:lnTo>
                      <a:pt x="112" y="127"/>
                    </a:lnTo>
                    <a:lnTo>
                      <a:pt x="133" y="141"/>
                    </a:lnTo>
                    <a:lnTo>
                      <a:pt x="158" y="153"/>
                    </a:lnTo>
                    <a:lnTo>
                      <a:pt x="182" y="164"/>
                    </a:lnTo>
                    <a:lnTo>
                      <a:pt x="208" y="174"/>
                    </a:lnTo>
                    <a:lnTo>
                      <a:pt x="236" y="185"/>
                    </a:lnTo>
                    <a:lnTo>
                      <a:pt x="265" y="193"/>
                    </a:lnTo>
                    <a:lnTo>
                      <a:pt x="295" y="200"/>
                    </a:lnTo>
                    <a:lnTo>
                      <a:pt x="326" y="205"/>
                    </a:lnTo>
                    <a:lnTo>
                      <a:pt x="338" y="177"/>
                    </a:lnTo>
                    <a:lnTo>
                      <a:pt x="346" y="153"/>
                    </a:lnTo>
                    <a:lnTo>
                      <a:pt x="351" y="130"/>
                    </a:lnTo>
                    <a:lnTo>
                      <a:pt x="352" y="109"/>
                    </a:lnTo>
                    <a:lnTo>
                      <a:pt x="351" y="90"/>
                    </a:lnTo>
                    <a:lnTo>
                      <a:pt x="347" y="75"/>
                    </a:lnTo>
                    <a:lnTo>
                      <a:pt x="341" y="60"/>
                    </a:lnTo>
                    <a:lnTo>
                      <a:pt x="335" y="46"/>
                    </a:lnTo>
                    <a:lnTo>
                      <a:pt x="326" y="32"/>
                    </a:lnTo>
                    <a:lnTo>
                      <a:pt x="315" y="21"/>
                    </a:lnTo>
                    <a:lnTo>
                      <a:pt x="303" y="11"/>
                    </a:lnTo>
                    <a:lnTo>
                      <a:pt x="28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7" name="Freeform 137"/>
              <p:cNvSpPr/>
              <p:nvPr/>
            </p:nvSpPr>
            <p:spPr>
              <a:xfrm>
                <a:off x="1272240" y="2052000"/>
                <a:ext cx="493560" cy="423720"/>
              </a:xfrm>
              <a:custGeom>
                <a:avLst/>
                <a:gdLst>
                  <a:gd name="textAreaLeft" fmla="*/ 0 w 493560"/>
                  <a:gd name="textAreaRight" fmla="*/ 493920 w 493560"/>
                  <a:gd name="textAreaTop" fmla="*/ 0 h 423720"/>
                  <a:gd name="textAreaBottom" fmla="*/ 424080 h 423720"/>
                </a:gdLst>
                <a:ahLst/>
                <a:rect l="textAreaLeft" t="textAreaTop" r="textAreaRight" b="textAreaBottom"/>
                <a:pathLst>
                  <a:path w="414" h="346">
                    <a:moveTo>
                      <a:pt x="116" y="43"/>
                    </a:moveTo>
                    <a:lnTo>
                      <a:pt x="84" y="63"/>
                    </a:lnTo>
                    <a:lnTo>
                      <a:pt x="55" y="87"/>
                    </a:lnTo>
                    <a:lnTo>
                      <a:pt x="29" y="115"/>
                    </a:lnTo>
                    <a:lnTo>
                      <a:pt x="11" y="147"/>
                    </a:lnTo>
                    <a:lnTo>
                      <a:pt x="0" y="185"/>
                    </a:lnTo>
                    <a:lnTo>
                      <a:pt x="0" y="228"/>
                    </a:lnTo>
                    <a:lnTo>
                      <a:pt x="14" y="278"/>
                    </a:lnTo>
                    <a:lnTo>
                      <a:pt x="41" y="337"/>
                    </a:lnTo>
                    <a:lnTo>
                      <a:pt x="47" y="346"/>
                    </a:lnTo>
                    <a:lnTo>
                      <a:pt x="58" y="344"/>
                    </a:lnTo>
                    <a:lnTo>
                      <a:pt x="61" y="344"/>
                    </a:lnTo>
                    <a:lnTo>
                      <a:pt x="70" y="341"/>
                    </a:lnTo>
                    <a:lnTo>
                      <a:pt x="81" y="340"/>
                    </a:lnTo>
                    <a:lnTo>
                      <a:pt x="98" y="335"/>
                    </a:lnTo>
                    <a:lnTo>
                      <a:pt x="116" y="329"/>
                    </a:lnTo>
                    <a:lnTo>
                      <a:pt x="136" y="323"/>
                    </a:lnTo>
                    <a:lnTo>
                      <a:pt x="161" y="314"/>
                    </a:lnTo>
                    <a:lnTo>
                      <a:pt x="185" y="303"/>
                    </a:lnTo>
                    <a:lnTo>
                      <a:pt x="212" y="291"/>
                    </a:lnTo>
                    <a:lnTo>
                      <a:pt x="240" y="275"/>
                    </a:lnTo>
                    <a:lnTo>
                      <a:pt x="269" y="259"/>
                    </a:lnTo>
                    <a:lnTo>
                      <a:pt x="298" y="240"/>
                    </a:lnTo>
                    <a:lnTo>
                      <a:pt x="327" y="217"/>
                    </a:lnTo>
                    <a:lnTo>
                      <a:pt x="355" y="193"/>
                    </a:lnTo>
                    <a:lnTo>
                      <a:pt x="382" y="167"/>
                    </a:lnTo>
                    <a:lnTo>
                      <a:pt x="408" y="136"/>
                    </a:lnTo>
                    <a:lnTo>
                      <a:pt x="414" y="127"/>
                    </a:lnTo>
                    <a:lnTo>
                      <a:pt x="410" y="118"/>
                    </a:lnTo>
                    <a:lnTo>
                      <a:pt x="391" y="89"/>
                    </a:lnTo>
                    <a:lnTo>
                      <a:pt x="373" y="66"/>
                    </a:lnTo>
                    <a:lnTo>
                      <a:pt x="355" y="46"/>
                    </a:lnTo>
                    <a:lnTo>
                      <a:pt x="335" y="31"/>
                    </a:lnTo>
                    <a:lnTo>
                      <a:pt x="316" y="19"/>
                    </a:lnTo>
                    <a:lnTo>
                      <a:pt x="297" y="9"/>
                    </a:lnTo>
                    <a:lnTo>
                      <a:pt x="278" y="3"/>
                    </a:lnTo>
                    <a:lnTo>
                      <a:pt x="258" y="0"/>
                    </a:lnTo>
                    <a:lnTo>
                      <a:pt x="240" y="0"/>
                    </a:lnTo>
                    <a:lnTo>
                      <a:pt x="222" y="2"/>
                    </a:lnTo>
                    <a:lnTo>
                      <a:pt x="203" y="5"/>
                    </a:lnTo>
                    <a:lnTo>
                      <a:pt x="185" y="11"/>
                    </a:lnTo>
                    <a:lnTo>
                      <a:pt x="167" y="17"/>
                    </a:lnTo>
                    <a:lnTo>
                      <a:pt x="150" y="25"/>
                    </a:lnTo>
                    <a:lnTo>
                      <a:pt x="133" y="34"/>
                    </a:lnTo>
                    <a:lnTo>
                      <a:pt x="11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8" name="Freeform 138"/>
              <p:cNvSpPr/>
              <p:nvPr/>
            </p:nvSpPr>
            <p:spPr>
              <a:xfrm>
                <a:off x="1299240" y="2082960"/>
                <a:ext cx="412560" cy="339120"/>
              </a:xfrm>
              <a:custGeom>
                <a:avLst/>
                <a:gdLst>
                  <a:gd name="textAreaLeft" fmla="*/ 0 w 412560"/>
                  <a:gd name="textAreaRight" fmla="*/ 412920 w 412560"/>
                  <a:gd name="textAreaTop" fmla="*/ 0 h 339120"/>
                  <a:gd name="textAreaBottom" fmla="*/ 339480 h 339120"/>
                </a:gdLst>
                <a:ahLst/>
                <a:rect l="textAreaLeft" t="textAreaTop" r="textAreaRight" b="textAreaBottom"/>
                <a:pathLst>
                  <a:path w="345" h="279">
                    <a:moveTo>
                      <a:pt x="0" y="175"/>
                    </a:moveTo>
                    <a:lnTo>
                      <a:pt x="1" y="152"/>
                    </a:lnTo>
                    <a:lnTo>
                      <a:pt x="7" y="130"/>
                    </a:lnTo>
                    <a:lnTo>
                      <a:pt x="18" y="112"/>
                    </a:lnTo>
                    <a:lnTo>
                      <a:pt x="30" y="95"/>
                    </a:lnTo>
                    <a:lnTo>
                      <a:pt x="45" y="78"/>
                    </a:lnTo>
                    <a:lnTo>
                      <a:pt x="62" y="65"/>
                    </a:lnTo>
                    <a:lnTo>
                      <a:pt x="82" y="51"/>
                    </a:lnTo>
                    <a:lnTo>
                      <a:pt x="102" y="39"/>
                    </a:lnTo>
                    <a:lnTo>
                      <a:pt x="133" y="22"/>
                    </a:lnTo>
                    <a:lnTo>
                      <a:pt x="162" y="10"/>
                    </a:lnTo>
                    <a:lnTo>
                      <a:pt x="192" y="2"/>
                    </a:lnTo>
                    <a:lnTo>
                      <a:pt x="224" y="0"/>
                    </a:lnTo>
                    <a:lnTo>
                      <a:pt x="255" y="8"/>
                    </a:lnTo>
                    <a:lnTo>
                      <a:pt x="285" y="25"/>
                    </a:lnTo>
                    <a:lnTo>
                      <a:pt x="314" y="52"/>
                    </a:lnTo>
                    <a:lnTo>
                      <a:pt x="345" y="94"/>
                    </a:lnTo>
                    <a:lnTo>
                      <a:pt x="324" y="117"/>
                    </a:lnTo>
                    <a:lnTo>
                      <a:pt x="302" y="138"/>
                    </a:lnTo>
                    <a:lnTo>
                      <a:pt x="279" y="158"/>
                    </a:lnTo>
                    <a:lnTo>
                      <a:pt x="256" y="176"/>
                    </a:lnTo>
                    <a:lnTo>
                      <a:pt x="232" y="191"/>
                    </a:lnTo>
                    <a:lnTo>
                      <a:pt x="209" y="207"/>
                    </a:lnTo>
                    <a:lnTo>
                      <a:pt x="186" y="219"/>
                    </a:lnTo>
                    <a:lnTo>
                      <a:pt x="163" y="231"/>
                    </a:lnTo>
                    <a:lnTo>
                      <a:pt x="142" y="240"/>
                    </a:lnTo>
                    <a:lnTo>
                      <a:pt x="122" y="249"/>
                    </a:lnTo>
                    <a:lnTo>
                      <a:pt x="102" y="257"/>
                    </a:lnTo>
                    <a:lnTo>
                      <a:pt x="84" y="263"/>
                    </a:lnTo>
                    <a:lnTo>
                      <a:pt x="68" y="269"/>
                    </a:lnTo>
                    <a:lnTo>
                      <a:pt x="53" y="272"/>
                    </a:lnTo>
                    <a:lnTo>
                      <a:pt x="41" y="275"/>
                    </a:lnTo>
                    <a:lnTo>
                      <a:pt x="32" y="279"/>
                    </a:lnTo>
                    <a:lnTo>
                      <a:pt x="18" y="249"/>
                    </a:lnTo>
                    <a:lnTo>
                      <a:pt x="7" y="222"/>
                    </a:lnTo>
                    <a:lnTo>
                      <a:pt x="1" y="198"/>
                    </a:lnTo>
                    <a:lnTo>
                      <a:pt x="0" y="17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9" name="Freeform 139"/>
              <p:cNvSpPr/>
              <p:nvPr/>
            </p:nvSpPr>
            <p:spPr>
              <a:xfrm>
                <a:off x="1299240" y="2138760"/>
                <a:ext cx="340200" cy="271080"/>
              </a:xfrm>
              <a:custGeom>
                <a:avLst/>
                <a:gdLst>
                  <a:gd name="textAreaLeft" fmla="*/ 0 w 340200"/>
                  <a:gd name="textAreaRight" fmla="*/ 340560 w 340200"/>
                  <a:gd name="textAreaTop" fmla="*/ 0 h 271080"/>
                  <a:gd name="textAreaBottom" fmla="*/ 271440 h 271080"/>
                </a:gdLst>
                <a:ahLst/>
                <a:rect l="textAreaLeft" t="textAreaTop" r="textAreaRight" b="textAreaBottom"/>
                <a:pathLst>
                  <a:path w="287" h="224">
                    <a:moveTo>
                      <a:pt x="71" y="211"/>
                    </a:moveTo>
                    <a:lnTo>
                      <a:pt x="55" y="179"/>
                    </a:lnTo>
                    <a:lnTo>
                      <a:pt x="42" y="149"/>
                    </a:lnTo>
                    <a:lnTo>
                      <a:pt x="33" y="120"/>
                    </a:lnTo>
                    <a:lnTo>
                      <a:pt x="30" y="95"/>
                    </a:lnTo>
                    <a:lnTo>
                      <a:pt x="33" y="68"/>
                    </a:lnTo>
                    <a:lnTo>
                      <a:pt x="42" y="43"/>
                    </a:lnTo>
                    <a:lnTo>
                      <a:pt x="56" y="20"/>
                    </a:lnTo>
                    <a:lnTo>
                      <a:pt x="74" y="0"/>
                    </a:lnTo>
                    <a:lnTo>
                      <a:pt x="59" y="13"/>
                    </a:lnTo>
                    <a:lnTo>
                      <a:pt x="45" y="25"/>
                    </a:lnTo>
                    <a:lnTo>
                      <a:pt x="32" y="37"/>
                    </a:lnTo>
                    <a:lnTo>
                      <a:pt x="21" y="51"/>
                    </a:lnTo>
                    <a:lnTo>
                      <a:pt x="12" y="66"/>
                    </a:lnTo>
                    <a:lnTo>
                      <a:pt x="6" y="83"/>
                    </a:lnTo>
                    <a:lnTo>
                      <a:pt x="1" y="100"/>
                    </a:lnTo>
                    <a:lnTo>
                      <a:pt x="0" y="120"/>
                    </a:lnTo>
                    <a:lnTo>
                      <a:pt x="1" y="143"/>
                    </a:lnTo>
                    <a:lnTo>
                      <a:pt x="7" y="167"/>
                    </a:lnTo>
                    <a:lnTo>
                      <a:pt x="18" y="194"/>
                    </a:lnTo>
                    <a:lnTo>
                      <a:pt x="32" y="224"/>
                    </a:lnTo>
                    <a:lnTo>
                      <a:pt x="39" y="222"/>
                    </a:lnTo>
                    <a:lnTo>
                      <a:pt x="49" y="219"/>
                    </a:lnTo>
                    <a:lnTo>
                      <a:pt x="61" y="216"/>
                    </a:lnTo>
                    <a:lnTo>
                      <a:pt x="73" y="211"/>
                    </a:lnTo>
                    <a:lnTo>
                      <a:pt x="87" y="207"/>
                    </a:lnTo>
                    <a:lnTo>
                      <a:pt x="102" y="202"/>
                    </a:lnTo>
                    <a:lnTo>
                      <a:pt x="119" y="196"/>
                    </a:lnTo>
                    <a:lnTo>
                      <a:pt x="136" y="188"/>
                    </a:lnTo>
                    <a:lnTo>
                      <a:pt x="152" y="181"/>
                    </a:lnTo>
                    <a:lnTo>
                      <a:pt x="171" y="172"/>
                    </a:lnTo>
                    <a:lnTo>
                      <a:pt x="191" y="162"/>
                    </a:lnTo>
                    <a:lnTo>
                      <a:pt x="209" y="150"/>
                    </a:lnTo>
                    <a:lnTo>
                      <a:pt x="229" y="138"/>
                    </a:lnTo>
                    <a:lnTo>
                      <a:pt x="249" y="126"/>
                    </a:lnTo>
                    <a:lnTo>
                      <a:pt x="269" y="110"/>
                    </a:lnTo>
                    <a:lnTo>
                      <a:pt x="287" y="95"/>
                    </a:lnTo>
                    <a:lnTo>
                      <a:pt x="252" y="120"/>
                    </a:lnTo>
                    <a:lnTo>
                      <a:pt x="218" y="141"/>
                    </a:lnTo>
                    <a:lnTo>
                      <a:pt x="186" y="161"/>
                    </a:lnTo>
                    <a:lnTo>
                      <a:pt x="157" y="176"/>
                    </a:lnTo>
                    <a:lnTo>
                      <a:pt x="130" y="190"/>
                    </a:lnTo>
                    <a:lnTo>
                      <a:pt x="105" y="199"/>
                    </a:lnTo>
                    <a:lnTo>
                      <a:pt x="87" y="207"/>
                    </a:lnTo>
                    <a:lnTo>
                      <a:pt x="71"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0" name="Freeform 140"/>
              <p:cNvSpPr/>
              <p:nvPr/>
            </p:nvSpPr>
            <p:spPr>
              <a:xfrm>
                <a:off x="1329480" y="2082960"/>
                <a:ext cx="375840" cy="339120"/>
              </a:xfrm>
              <a:custGeom>
                <a:avLst/>
                <a:gdLst>
                  <a:gd name="textAreaLeft" fmla="*/ 0 w 375840"/>
                  <a:gd name="textAreaRight" fmla="*/ 376200 w 375840"/>
                  <a:gd name="textAreaTop" fmla="*/ 0 h 339120"/>
                  <a:gd name="textAreaBottom" fmla="*/ 339480 h 339120"/>
                </a:gdLst>
                <a:ahLst/>
                <a:rect l="textAreaLeft" t="textAreaTop" r="textAreaRight" b="textAreaBottom"/>
                <a:pathLst>
                  <a:path w="313" h="279">
                    <a:moveTo>
                      <a:pt x="171" y="0"/>
                    </a:moveTo>
                    <a:lnTo>
                      <a:pt x="183" y="5"/>
                    </a:lnTo>
                    <a:lnTo>
                      <a:pt x="195" y="11"/>
                    </a:lnTo>
                    <a:lnTo>
                      <a:pt x="208" y="19"/>
                    </a:lnTo>
                    <a:lnTo>
                      <a:pt x="220" y="29"/>
                    </a:lnTo>
                    <a:lnTo>
                      <a:pt x="232" y="40"/>
                    </a:lnTo>
                    <a:lnTo>
                      <a:pt x="244" y="54"/>
                    </a:lnTo>
                    <a:lnTo>
                      <a:pt x="255" y="69"/>
                    </a:lnTo>
                    <a:lnTo>
                      <a:pt x="267" y="87"/>
                    </a:lnTo>
                    <a:lnTo>
                      <a:pt x="243" y="117"/>
                    </a:lnTo>
                    <a:lnTo>
                      <a:pt x="218" y="142"/>
                    </a:lnTo>
                    <a:lnTo>
                      <a:pt x="194" y="165"/>
                    </a:lnTo>
                    <a:lnTo>
                      <a:pt x="171" y="185"/>
                    </a:lnTo>
                    <a:lnTo>
                      <a:pt x="146" y="204"/>
                    </a:lnTo>
                    <a:lnTo>
                      <a:pt x="125" y="219"/>
                    </a:lnTo>
                    <a:lnTo>
                      <a:pt x="104" y="231"/>
                    </a:lnTo>
                    <a:lnTo>
                      <a:pt x="84" y="242"/>
                    </a:lnTo>
                    <a:lnTo>
                      <a:pt x="65" y="251"/>
                    </a:lnTo>
                    <a:lnTo>
                      <a:pt x="49" y="259"/>
                    </a:lnTo>
                    <a:lnTo>
                      <a:pt x="35" y="265"/>
                    </a:lnTo>
                    <a:lnTo>
                      <a:pt x="23" y="269"/>
                    </a:lnTo>
                    <a:lnTo>
                      <a:pt x="12" y="272"/>
                    </a:lnTo>
                    <a:lnTo>
                      <a:pt x="4" y="275"/>
                    </a:lnTo>
                    <a:lnTo>
                      <a:pt x="1" y="277"/>
                    </a:lnTo>
                    <a:lnTo>
                      <a:pt x="0" y="279"/>
                    </a:lnTo>
                    <a:lnTo>
                      <a:pt x="9" y="275"/>
                    </a:lnTo>
                    <a:lnTo>
                      <a:pt x="21" y="272"/>
                    </a:lnTo>
                    <a:lnTo>
                      <a:pt x="36" y="269"/>
                    </a:lnTo>
                    <a:lnTo>
                      <a:pt x="52" y="263"/>
                    </a:lnTo>
                    <a:lnTo>
                      <a:pt x="70" y="257"/>
                    </a:lnTo>
                    <a:lnTo>
                      <a:pt x="90" y="249"/>
                    </a:lnTo>
                    <a:lnTo>
                      <a:pt x="110" y="240"/>
                    </a:lnTo>
                    <a:lnTo>
                      <a:pt x="131" y="231"/>
                    </a:lnTo>
                    <a:lnTo>
                      <a:pt x="154" y="219"/>
                    </a:lnTo>
                    <a:lnTo>
                      <a:pt x="177" y="207"/>
                    </a:lnTo>
                    <a:lnTo>
                      <a:pt x="200" y="191"/>
                    </a:lnTo>
                    <a:lnTo>
                      <a:pt x="224" y="176"/>
                    </a:lnTo>
                    <a:lnTo>
                      <a:pt x="247" y="158"/>
                    </a:lnTo>
                    <a:lnTo>
                      <a:pt x="270" y="138"/>
                    </a:lnTo>
                    <a:lnTo>
                      <a:pt x="292" y="117"/>
                    </a:lnTo>
                    <a:lnTo>
                      <a:pt x="313" y="94"/>
                    </a:lnTo>
                    <a:lnTo>
                      <a:pt x="296" y="69"/>
                    </a:lnTo>
                    <a:lnTo>
                      <a:pt x="278" y="48"/>
                    </a:lnTo>
                    <a:lnTo>
                      <a:pt x="261" y="31"/>
                    </a:lnTo>
                    <a:lnTo>
                      <a:pt x="243" y="19"/>
                    </a:lnTo>
                    <a:lnTo>
                      <a:pt x="224" y="10"/>
                    </a:lnTo>
                    <a:lnTo>
                      <a:pt x="206" y="3"/>
                    </a:lnTo>
                    <a:lnTo>
                      <a:pt x="189" y="0"/>
                    </a:lnTo>
                    <a:lnTo>
                      <a:pt x="17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1" name="Freeform 141"/>
              <p:cNvSpPr/>
              <p:nvPr/>
            </p:nvSpPr>
            <p:spPr>
              <a:xfrm>
                <a:off x="1346400" y="2055600"/>
                <a:ext cx="99720" cy="88200"/>
              </a:xfrm>
              <a:custGeom>
                <a:avLst/>
                <a:gdLst>
                  <a:gd name="textAreaLeft" fmla="*/ 0 w 99720"/>
                  <a:gd name="textAreaRight" fmla="*/ 100080 w 99720"/>
                  <a:gd name="textAreaTop" fmla="*/ 0 h 88200"/>
                  <a:gd name="textAreaBottom" fmla="*/ 88560 h 88200"/>
                </a:gdLst>
                <a:ahLst/>
                <a:rect l="textAreaLeft" t="textAreaTop" r="textAreaRight" b="textAreaBottom"/>
                <a:pathLst>
                  <a:path w="82" h="70">
                    <a:moveTo>
                      <a:pt x="10" y="70"/>
                    </a:moveTo>
                    <a:lnTo>
                      <a:pt x="0" y="32"/>
                    </a:lnTo>
                    <a:lnTo>
                      <a:pt x="1" y="30"/>
                    </a:lnTo>
                    <a:lnTo>
                      <a:pt x="3" y="27"/>
                    </a:lnTo>
                    <a:lnTo>
                      <a:pt x="7" y="23"/>
                    </a:lnTo>
                    <a:lnTo>
                      <a:pt x="13" y="18"/>
                    </a:lnTo>
                    <a:lnTo>
                      <a:pt x="21" y="12"/>
                    </a:lnTo>
                    <a:lnTo>
                      <a:pt x="30" y="7"/>
                    </a:lnTo>
                    <a:lnTo>
                      <a:pt x="41" y="3"/>
                    </a:lnTo>
                    <a:lnTo>
                      <a:pt x="53" y="0"/>
                    </a:lnTo>
                    <a:lnTo>
                      <a:pt x="82" y="30"/>
                    </a:lnTo>
                    <a:lnTo>
                      <a:pt x="10" y="7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000000"/>
                  </a:solidFill>
                  <a:latin typeface="Arial"/>
                </a:endParaRPr>
              </a:p>
            </p:txBody>
          </p:sp>
          <p:sp>
            <p:nvSpPr>
              <p:cNvPr id="232" name="Freeform 142"/>
              <p:cNvSpPr/>
              <p:nvPr/>
            </p:nvSpPr>
            <p:spPr>
              <a:xfrm>
                <a:off x="1931400" y="2034720"/>
                <a:ext cx="100800" cy="82800"/>
              </a:xfrm>
              <a:custGeom>
                <a:avLst/>
                <a:gdLst>
                  <a:gd name="textAreaLeft" fmla="*/ 0 w 100800"/>
                  <a:gd name="textAreaRight" fmla="*/ 101160 w 100800"/>
                  <a:gd name="textAreaTop" fmla="*/ 0 h 82800"/>
                  <a:gd name="textAreaBottom" fmla="*/ 83160 h 82800"/>
                </a:gdLst>
                <a:ahLst/>
                <a:rect l="textAreaLeft" t="textAreaTop" r="textAreaRight" b="textAreaBottom"/>
                <a:pathLst>
                  <a:path w="83" h="69">
                    <a:moveTo>
                      <a:pt x="0" y="30"/>
                    </a:moveTo>
                    <a:lnTo>
                      <a:pt x="26" y="0"/>
                    </a:lnTo>
                    <a:lnTo>
                      <a:pt x="28" y="0"/>
                    </a:lnTo>
                    <a:lnTo>
                      <a:pt x="33" y="0"/>
                    </a:lnTo>
                    <a:lnTo>
                      <a:pt x="37" y="1"/>
                    </a:lnTo>
                    <a:lnTo>
                      <a:pt x="46" y="3"/>
                    </a:lnTo>
                    <a:lnTo>
                      <a:pt x="54" y="6"/>
                    </a:lnTo>
                    <a:lnTo>
                      <a:pt x="63" y="12"/>
                    </a:lnTo>
                    <a:lnTo>
                      <a:pt x="74" y="18"/>
                    </a:lnTo>
                    <a:lnTo>
                      <a:pt x="83" y="27"/>
                    </a:lnTo>
                    <a:lnTo>
                      <a:pt x="74" y="69"/>
                    </a:lnTo>
                    <a:lnTo>
                      <a:pt x="0" y="3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2000" spc="-1" strike="noStrike">
                  <a:solidFill>
                    <a:srgbClr val="000000"/>
                  </a:solidFill>
                  <a:latin typeface="Arial"/>
                </a:endParaRPr>
              </a:p>
            </p:txBody>
          </p:sp>
          <p:sp>
            <p:nvSpPr>
              <p:cNvPr id="233" name="Freeform 143"/>
              <p:cNvSpPr/>
              <p:nvPr/>
            </p:nvSpPr>
            <p:spPr>
              <a:xfrm>
                <a:off x="1391760" y="2278800"/>
                <a:ext cx="833760" cy="856080"/>
              </a:xfrm>
              <a:custGeom>
                <a:avLst/>
                <a:gdLst>
                  <a:gd name="textAreaLeft" fmla="*/ 0 w 833760"/>
                  <a:gd name="textAreaRight" fmla="*/ 834120 w 833760"/>
                  <a:gd name="textAreaTop" fmla="*/ 0 h 856080"/>
                  <a:gd name="textAreaBottom" fmla="*/ 856440 h 856080"/>
                </a:gdLst>
                <a:ahLst/>
                <a:rect l="textAreaLeft" t="textAreaTop" r="textAreaRight" b="textAreaBottom"/>
                <a:pathLst>
                  <a:path w="700" h="700">
                    <a:moveTo>
                      <a:pt x="0" y="349"/>
                    </a:moveTo>
                    <a:lnTo>
                      <a:pt x="1" y="385"/>
                    </a:lnTo>
                    <a:lnTo>
                      <a:pt x="8" y="419"/>
                    </a:lnTo>
                    <a:lnTo>
                      <a:pt x="15" y="452"/>
                    </a:lnTo>
                    <a:lnTo>
                      <a:pt x="27" y="486"/>
                    </a:lnTo>
                    <a:lnTo>
                      <a:pt x="43" y="517"/>
                    </a:lnTo>
                    <a:lnTo>
                      <a:pt x="59" y="546"/>
                    </a:lnTo>
                    <a:lnTo>
                      <a:pt x="79" y="572"/>
                    </a:lnTo>
                    <a:lnTo>
                      <a:pt x="102" y="598"/>
                    </a:lnTo>
                    <a:lnTo>
                      <a:pt x="127" y="619"/>
                    </a:lnTo>
                    <a:lnTo>
                      <a:pt x="154" y="640"/>
                    </a:lnTo>
                    <a:lnTo>
                      <a:pt x="183" y="657"/>
                    </a:lnTo>
                    <a:lnTo>
                      <a:pt x="214" y="673"/>
                    </a:lnTo>
                    <a:lnTo>
                      <a:pt x="246" y="685"/>
                    </a:lnTo>
                    <a:lnTo>
                      <a:pt x="278" y="692"/>
                    </a:lnTo>
                    <a:lnTo>
                      <a:pt x="313" y="699"/>
                    </a:lnTo>
                    <a:lnTo>
                      <a:pt x="348" y="700"/>
                    </a:lnTo>
                    <a:lnTo>
                      <a:pt x="385" y="699"/>
                    </a:lnTo>
                    <a:lnTo>
                      <a:pt x="419" y="692"/>
                    </a:lnTo>
                    <a:lnTo>
                      <a:pt x="452" y="685"/>
                    </a:lnTo>
                    <a:lnTo>
                      <a:pt x="486" y="673"/>
                    </a:lnTo>
                    <a:lnTo>
                      <a:pt x="517" y="657"/>
                    </a:lnTo>
                    <a:lnTo>
                      <a:pt x="546" y="640"/>
                    </a:lnTo>
                    <a:lnTo>
                      <a:pt x="572" y="619"/>
                    </a:lnTo>
                    <a:lnTo>
                      <a:pt x="598" y="598"/>
                    </a:lnTo>
                    <a:lnTo>
                      <a:pt x="619" y="572"/>
                    </a:lnTo>
                    <a:lnTo>
                      <a:pt x="640" y="546"/>
                    </a:lnTo>
                    <a:lnTo>
                      <a:pt x="657" y="517"/>
                    </a:lnTo>
                    <a:lnTo>
                      <a:pt x="672" y="486"/>
                    </a:lnTo>
                    <a:lnTo>
                      <a:pt x="685" y="452"/>
                    </a:lnTo>
                    <a:lnTo>
                      <a:pt x="692" y="419"/>
                    </a:lnTo>
                    <a:lnTo>
                      <a:pt x="698" y="385"/>
                    </a:lnTo>
                    <a:lnTo>
                      <a:pt x="700" y="349"/>
                    </a:lnTo>
                    <a:lnTo>
                      <a:pt x="698" y="313"/>
                    </a:lnTo>
                    <a:lnTo>
                      <a:pt x="692" y="278"/>
                    </a:lnTo>
                    <a:lnTo>
                      <a:pt x="685" y="246"/>
                    </a:lnTo>
                    <a:lnTo>
                      <a:pt x="672" y="214"/>
                    </a:lnTo>
                    <a:lnTo>
                      <a:pt x="657" y="183"/>
                    </a:lnTo>
                    <a:lnTo>
                      <a:pt x="640" y="154"/>
                    </a:lnTo>
                    <a:lnTo>
                      <a:pt x="619" y="127"/>
                    </a:lnTo>
                    <a:lnTo>
                      <a:pt x="598" y="102"/>
                    </a:lnTo>
                    <a:lnTo>
                      <a:pt x="572" y="80"/>
                    </a:lnTo>
                    <a:lnTo>
                      <a:pt x="546" y="60"/>
                    </a:lnTo>
                    <a:lnTo>
                      <a:pt x="517" y="43"/>
                    </a:lnTo>
                    <a:lnTo>
                      <a:pt x="486" y="28"/>
                    </a:lnTo>
                    <a:lnTo>
                      <a:pt x="452" y="15"/>
                    </a:lnTo>
                    <a:lnTo>
                      <a:pt x="419" y="8"/>
                    </a:lnTo>
                    <a:lnTo>
                      <a:pt x="385" y="2"/>
                    </a:lnTo>
                    <a:lnTo>
                      <a:pt x="348" y="0"/>
                    </a:lnTo>
                    <a:lnTo>
                      <a:pt x="313" y="2"/>
                    </a:lnTo>
                    <a:lnTo>
                      <a:pt x="278" y="8"/>
                    </a:lnTo>
                    <a:lnTo>
                      <a:pt x="246" y="15"/>
                    </a:lnTo>
                    <a:lnTo>
                      <a:pt x="214" y="28"/>
                    </a:lnTo>
                    <a:lnTo>
                      <a:pt x="183" y="43"/>
                    </a:lnTo>
                    <a:lnTo>
                      <a:pt x="154" y="60"/>
                    </a:lnTo>
                    <a:lnTo>
                      <a:pt x="127" y="80"/>
                    </a:lnTo>
                    <a:lnTo>
                      <a:pt x="102" y="102"/>
                    </a:lnTo>
                    <a:lnTo>
                      <a:pt x="79" y="127"/>
                    </a:lnTo>
                    <a:lnTo>
                      <a:pt x="59" y="154"/>
                    </a:lnTo>
                    <a:lnTo>
                      <a:pt x="43" y="183"/>
                    </a:lnTo>
                    <a:lnTo>
                      <a:pt x="27" y="214"/>
                    </a:lnTo>
                    <a:lnTo>
                      <a:pt x="15" y="246"/>
                    </a:lnTo>
                    <a:lnTo>
                      <a:pt x="8" y="278"/>
                    </a:lnTo>
                    <a:lnTo>
                      <a:pt x="1" y="313"/>
                    </a:lnTo>
                    <a:lnTo>
                      <a:pt x="0" y="349"/>
                    </a:lnTo>
                    <a:close/>
                  </a:path>
                </a:pathLst>
              </a:custGeom>
              <a:solidFill>
                <a:srgbClr val="fc7c7c"/>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4" name="Freeform 144"/>
              <p:cNvSpPr/>
              <p:nvPr/>
            </p:nvSpPr>
            <p:spPr>
              <a:xfrm>
                <a:off x="1411920" y="2297520"/>
                <a:ext cx="835920" cy="856080"/>
              </a:xfrm>
              <a:custGeom>
                <a:avLst/>
                <a:gdLst>
                  <a:gd name="textAreaLeft" fmla="*/ 0 w 835920"/>
                  <a:gd name="textAreaRight" fmla="*/ 836280 w 835920"/>
                  <a:gd name="textAreaTop" fmla="*/ 0 h 856080"/>
                  <a:gd name="textAreaBottom" fmla="*/ 856440 h 856080"/>
                </a:gdLst>
                <a:ahLst/>
                <a:rect l="textAreaLeft" t="textAreaTop" r="textAreaRight" b="textAreaBottom"/>
                <a:pathLst>
                  <a:path w="700" h="699">
                    <a:moveTo>
                      <a:pt x="0" y="349"/>
                    </a:moveTo>
                    <a:lnTo>
                      <a:pt x="2" y="386"/>
                    </a:lnTo>
                    <a:lnTo>
                      <a:pt x="8" y="419"/>
                    </a:lnTo>
                    <a:lnTo>
                      <a:pt x="16" y="453"/>
                    </a:lnTo>
                    <a:lnTo>
                      <a:pt x="28" y="485"/>
                    </a:lnTo>
                    <a:lnTo>
                      <a:pt x="43" y="516"/>
                    </a:lnTo>
                    <a:lnTo>
                      <a:pt x="60" y="545"/>
                    </a:lnTo>
                    <a:lnTo>
                      <a:pt x="80" y="572"/>
                    </a:lnTo>
                    <a:lnTo>
                      <a:pt x="103" y="597"/>
                    </a:lnTo>
                    <a:lnTo>
                      <a:pt x="127" y="619"/>
                    </a:lnTo>
                    <a:lnTo>
                      <a:pt x="155" y="639"/>
                    </a:lnTo>
                    <a:lnTo>
                      <a:pt x="184" y="656"/>
                    </a:lnTo>
                    <a:lnTo>
                      <a:pt x="214" y="671"/>
                    </a:lnTo>
                    <a:lnTo>
                      <a:pt x="246" y="684"/>
                    </a:lnTo>
                    <a:lnTo>
                      <a:pt x="278" y="691"/>
                    </a:lnTo>
                    <a:lnTo>
                      <a:pt x="314" y="697"/>
                    </a:lnTo>
                    <a:lnTo>
                      <a:pt x="349" y="699"/>
                    </a:lnTo>
                    <a:lnTo>
                      <a:pt x="385" y="697"/>
                    </a:lnTo>
                    <a:lnTo>
                      <a:pt x="419" y="691"/>
                    </a:lnTo>
                    <a:lnTo>
                      <a:pt x="453" y="684"/>
                    </a:lnTo>
                    <a:lnTo>
                      <a:pt x="486" y="671"/>
                    </a:lnTo>
                    <a:lnTo>
                      <a:pt x="517" y="656"/>
                    </a:lnTo>
                    <a:lnTo>
                      <a:pt x="546" y="639"/>
                    </a:lnTo>
                    <a:lnTo>
                      <a:pt x="572" y="619"/>
                    </a:lnTo>
                    <a:lnTo>
                      <a:pt x="598" y="597"/>
                    </a:lnTo>
                    <a:lnTo>
                      <a:pt x="619" y="572"/>
                    </a:lnTo>
                    <a:lnTo>
                      <a:pt x="641" y="545"/>
                    </a:lnTo>
                    <a:lnTo>
                      <a:pt x="658" y="516"/>
                    </a:lnTo>
                    <a:lnTo>
                      <a:pt x="673" y="485"/>
                    </a:lnTo>
                    <a:lnTo>
                      <a:pt x="685" y="453"/>
                    </a:lnTo>
                    <a:lnTo>
                      <a:pt x="693" y="419"/>
                    </a:lnTo>
                    <a:lnTo>
                      <a:pt x="699" y="386"/>
                    </a:lnTo>
                    <a:lnTo>
                      <a:pt x="700" y="349"/>
                    </a:lnTo>
                    <a:lnTo>
                      <a:pt x="699" y="314"/>
                    </a:lnTo>
                    <a:lnTo>
                      <a:pt x="693" y="279"/>
                    </a:lnTo>
                    <a:lnTo>
                      <a:pt x="685" y="247"/>
                    </a:lnTo>
                    <a:lnTo>
                      <a:pt x="673" y="214"/>
                    </a:lnTo>
                    <a:lnTo>
                      <a:pt x="658" y="184"/>
                    </a:lnTo>
                    <a:lnTo>
                      <a:pt x="641" y="155"/>
                    </a:lnTo>
                    <a:lnTo>
                      <a:pt x="619" y="127"/>
                    </a:lnTo>
                    <a:lnTo>
                      <a:pt x="598" y="103"/>
                    </a:lnTo>
                    <a:lnTo>
                      <a:pt x="572" y="80"/>
                    </a:lnTo>
                    <a:lnTo>
                      <a:pt x="546" y="60"/>
                    </a:lnTo>
                    <a:lnTo>
                      <a:pt x="517" y="43"/>
                    </a:lnTo>
                    <a:lnTo>
                      <a:pt x="486" y="28"/>
                    </a:lnTo>
                    <a:lnTo>
                      <a:pt x="453" y="16"/>
                    </a:lnTo>
                    <a:lnTo>
                      <a:pt x="419" y="8"/>
                    </a:lnTo>
                    <a:lnTo>
                      <a:pt x="385" y="2"/>
                    </a:lnTo>
                    <a:lnTo>
                      <a:pt x="349" y="0"/>
                    </a:lnTo>
                    <a:lnTo>
                      <a:pt x="314" y="2"/>
                    </a:lnTo>
                    <a:lnTo>
                      <a:pt x="278" y="8"/>
                    </a:lnTo>
                    <a:lnTo>
                      <a:pt x="246" y="16"/>
                    </a:lnTo>
                    <a:lnTo>
                      <a:pt x="214" y="28"/>
                    </a:lnTo>
                    <a:lnTo>
                      <a:pt x="184" y="43"/>
                    </a:lnTo>
                    <a:lnTo>
                      <a:pt x="155" y="60"/>
                    </a:lnTo>
                    <a:lnTo>
                      <a:pt x="127" y="80"/>
                    </a:lnTo>
                    <a:lnTo>
                      <a:pt x="103" y="103"/>
                    </a:lnTo>
                    <a:lnTo>
                      <a:pt x="80" y="127"/>
                    </a:lnTo>
                    <a:lnTo>
                      <a:pt x="60" y="155"/>
                    </a:lnTo>
                    <a:lnTo>
                      <a:pt x="43" y="184"/>
                    </a:lnTo>
                    <a:lnTo>
                      <a:pt x="28" y="214"/>
                    </a:lnTo>
                    <a:lnTo>
                      <a:pt x="16" y="247"/>
                    </a:lnTo>
                    <a:lnTo>
                      <a:pt x="8" y="279"/>
                    </a:lnTo>
                    <a:lnTo>
                      <a:pt x="2" y="314"/>
                    </a:lnTo>
                    <a:lnTo>
                      <a:pt x="0"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5" name="Freeform 145"/>
              <p:cNvSpPr/>
              <p:nvPr/>
            </p:nvSpPr>
            <p:spPr>
              <a:xfrm>
                <a:off x="1442520" y="2328840"/>
                <a:ext cx="757800" cy="779760"/>
              </a:xfrm>
              <a:custGeom>
                <a:avLst/>
                <a:gdLst>
                  <a:gd name="textAreaLeft" fmla="*/ 0 w 757800"/>
                  <a:gd name="textAreaRight" fmla="*/ 758160 w 757800"/>
                  <a:gd name="textAreaTop" fmla="*/ 0 h 779760"/>
                  <a:gd name="textAreaBottom" fmla="*/ 780120 h 779760"/>
                </a:gdLst>
                <a:ahLst/>
                <a:rect l="textAreaLeft" t="textAreaTop" r="textAreaRight" b="textAreaBottom"/>
                <a:pathLst>
                  <a:path w="636" h="635">
                    <a:moveTo>
                      <a:pt x="0" y="316"/>
                    </a:moveTo>
                    <a:lnTo>
                      <a:pt x="2" y="284"/>
                    </a:lnTo>
                    <a:lnTo>
                      <a:pt x="6" y="252"/>
                    </a:lnTo>
                    <a:lnTo>
                      <a:pt x="14" y="223"/>
                    </a:lnTo>
                    <a:lnTo>
                      <a:pt x="25" y="194"/>
                    </a:lnTo>
                    <a:lnTo>
                      <a:pt x="39" y="165"/>
                    </a:lnTo>
                    <a:lnTo>
                      <a:pt x="54" y="139"/>
                    </a:lnTo>
                    <a:lnTo>
                      <a:pt x="72" y="114"/>
                    </a:lnTo>
                    <a:lnTo>
                      <a:pt x="94" y="93"/>
                    </a:lnTo>
                    <a:lnTo>
                      <a:pt x="115" y="71"/>
                    </a:lnTo>
                    <a:lnTo>
                      <a:pt x="139" y="53"/>
                    </a:lnTo>
                    <a:lnTo>
                      <a:pt x="165" y="38"/>
                    </a:lnTo>
                    <a:lnTo>
                      <a:pt x="195" y="24"/>
                    </a:lnTo>
                    <a:lnTo>
                      <a:pt x="224" y="13"/>
                    </a:lnTo>
                    <a:lnTo>
                      <a:pt x="253" y="6"/>
                    </a:lnTo>
                    <a:lnTo>
                      <a:pt x="285" y="1"/>
                    </a:lnTo>
                    <a:lnTo>
                      <a:pt x="317" y="0"/>
                    </a:lnTo>
                    <a:lnTo>
                      <a:pt x="349" y="1"/>
                    </a:lnTo>
                    <a:lnTo>
                      <a:pt x="381" y="6"/>
                    </a:lnTo>
                    <a:lnTo>
                      <a:pt x="412" y="13"/>
                    </a:lnTo>
                    <a:lnTo>
                      <a:pt x="441" y="24"/>
                    </a:lnTo>
                    <a:lnTo>
                      <a:pt x="468" y="38"/>
                    </a:lnTo>
                    <a:lnTo>
                      <a:pt x="496" y="53"/>
                    </a:lnTo>
                    <a:lnTo>
                      <a:pt x="520" y="71"/>
                    </a:lnTo>
                    <a:lnTo>
                      <a:pt x="543" y="93"/>
                    </a:lnTo>
                    <a:lnTo>
                      <a:pt x="563" y="114"/>
                    </a:lnTo>
                    <a:lnTo>
                      <a:pt x="581" y="139"/>
                    </a:lnTo>
                    <a:lnTo>
                      <a:pt x="598" y="165"/>
                    </a:lnTo>
                    <a:lnTo>
                      <a:pt x="612" y="194"/>
                    </a:lnTo>
                    <a:lnTo>
                      <a:pt x="622" y="223"/>
                    </a:lnTo>
                    <a:lnTo>
                      <a:pt x="630" y="252"/>
                    </a:lnTo>
                    <a:lnTo>
                      <a:pt x="635" y="284"/>
                    </a:lnTo>
                    <a:lnTo>
                      <a:pt x="636" y="316"/>
                    </a:lnTo>
                    <a:lnTo>
                      <a:pt x="635" y="348"/>
                    </a:lnTo>
                    <a:lnTo>
                      <a:pt x="630" y="380"/>
                    </a:lnTo>
                    <a:lnTo>
                      <a:pt x="622" y="411"/>
                    </a:lnTo>
                    <a:lnTo>
                      <a:pt x="612" y="440"/>
                    </a:lnTo>
                    <a:lnTo>
                      <a:pt x="598" y="467"/>
                    </a:lnTo>
                    <a:lnTo>
                      <a:pt x="581" y="495"/>
                    </a:lnTo>
                    <a:lnTo>
                      <a:pt x="563" y="519"/>
                    </a:lnTo>
                    <a:lnTo>
                      <a:pt x="543" y="542"/>
                    </a:lnTo>
                    <a:lnTo>
                      <a:pt x="520" y="562"/>
                    </a:lnTo>
                    <a:lnTo>
                      <a:pt x="496" y="580"/>
                    </a:lnTo>
                    <a:lnTo>
                      <a:pt x="468" y="597"/>
                    </a:lnTo>
                    <a:lnTo>
                      <a:pt x="441" y="611"/>
                    </a:lnTo>
                    <a:lnTo>
                      <a:pt x="412" y="622"/>
                    </a:lnTo>
                    <a:lnTo>
                      <a:pt x="381" y="629"/>
                    </a:lnTo>
                    <a:lnTo>
                      <a:pt x="349" y="634"/>
                    </a:lnTo>
                    <a:lnTo>
                      <a:pt x="317" y="635"/>
                    </a:lnTo>
                    <a:lnTo>
                      <a:pt x="285" y="634"/>
                    </a:lnTo>
                    <a:lnTo>
                      <a:pt x="253" y="629"/>
                    </a:lnTo>
                    <a:lnTo>
                      <a:pt x="224" y="622"/>
                    </a:lnTo>
                    <a:lnTo>
                      <a:pt x="195" y="611"/>
                    </a:lnTo>
                    <a:lnTo>
                      <a:pt x="165" y="597"/>
                    </a:lnTo>
                    <a:lnTo>
                      <a:pt x="139" y="580"/>
                    </a:lnTo>
                    <a:lnTo>
                      <a:pt x="115" y="562"/>
                    </a:lnTo>
                    <a:lnTo>
                      <a:pt x="94" y="542"/>
                    </a:lnTo>
                    <a:lnTo>
                      <a:pt x="72" y="519"/>
                    </a:lnTo>
                    <a:lnTo>
                      <a:pt x="54" y="495"/>
                    </a:lnTo>
                    <a:lnTo>
                      <a:pt x="39" y="467"/>
                    </a:lnTo>
                    <a:lnTo>
                      <a:pt x="25" y="440"/>
                    </a:lnTo>
                    <a:lnTo>
                      <a:pt x="14" y="411"/>
                    </a:lnTo>
                    <a:lnTo>
                      <a:pt x="6" y="380"/>
                    </a:lnTo>
                    <a:lnTo>
                      <a:pt x="2" y="348"/>
                    </a:lnTo>
                    <a:lnTo>
                      <a:pt x="0"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6" name="Freeform 146"/>
              <p:cNvSpPr/>
              <p:nvPr/>
            </p:nvSpPr>
            <p:spPr>
              <a:xfrm>
                <a:off x="1555200" y="2397960"/>
                <a:ext cx="473400" cy="385560"/>
              </a:xfrm>
              <a:custGeom>
                <a:avLst/>
                <a:gdLst>
                  <a:gd name="textAreaLeft" fmla="*/ 0 w 473400"/>
                  <a:gd name="textAreaRight" fmla="*/ 473760 w 473400"/>
                  <a:gd name="textAreaTop" fmla="*/ 0 h 385560"/>
                  <a:gd name="textAreaBottom" fmla="*/ 385920 h 385560"/>
                </a:gdLst>
                <a:ahLst/>
                <a:rect l="textAreaLeft" t="textAreaTop" r="textAreaRight" b="textAreaBottom"/>
                <a:pathLst>
                  <a:path w="397" h="315">
                    <a:moveTo>
                      <a:pt x="21" y="267"/>
                    </a:moveTo>
                    <a:lnTo>
                      <a:pt x="26" y="223"/>
                    </a:lnTo>
                    <a:lnTo>
                      <a:pt x="38" y="180"/>
                    </a:lnTo>
                    <a:lnTo>
                      <a:pt x="59" y="144"/>
                    </a:lnTo>
                    <a:lnTo>
                      <a:pt x="85" y="110"/>
                    </a:lnTo>
                    <a:lnTo>
                      <a:pt x="119" y="84"/>
                    </a:lnTo>
                    <a:lnTo>
                      <a:pt x="156" y="63"/>
                    </a:lnTo>
                    <a:lnTo>
                      <a:pt x="198" y="50"/>
                    </a:lnTo>
                    <a:lnTo>
                      <a:pt x="243" y="46"/>
                    </a:lnTo>
                    <a:lnTo>
                      <a:pt x="264" y="47"/>
                    </a:lnTo>
                    <a:lnTo>
                      <a:pt x="287" y="50"/>
                    </a:lnTo>
                    <a:lnTo>
                      <a:pt x="307" y="55"/>
                    </a:lnTo>
                    <a:lnTo>
                      <a:pt x="327" y="63"/>
                    </a:lnTo>
                    <a:lnTo>
                      <a:pt x="347" y="72"/>
                    </a:lnTo>
                    <a:lnTo>
                      <a:pt x="365" y="82"/>
                    </a:lnTo>
                    <a:lnTo>
                      <a:pt x="382" y="96"/>
                    </a:lnTo>
                    <a:lnTo>
                      <a:pt x="397" y="110"/>
                    </a:lnTo>
                    <a:lnTo>
                      <a:pt x="382" y="87"/>
                    </a:lnTo>
                    <a:lnTo>
                      <a:pt x="363" y="66"/>
                    </a:lnTo>
                    <a:lnTo>
                      <a:pt x="344" y="46"/>
                    </a:lnTo>
                    <a:lnTo>
                      <a:pt x="321" y="30"/>
                    </a:lnTo>
                    <a:lnTo>
                      <a:pt x="296" y="17"/>
                    </a:lnTo>
                    <a:lnTo>
                      <a:pt x="269" y="7"/>
                    </a:lnTo>
                    <a:lnTo>
                      <a:pt x="240" y="1"/>
                    </a:lnTo>
                    <a:lnTo>
                      <a:pt x="211" y="0"/>
                    </a:lnTo>
                    <a:lnTo>
                      <a:pt x="168" y="4"/>
                    </a:lnTo>
                    <a:lnTo>
                      <a:pt x="128" y="17"/>
                    </a:lnTo>
                    <a:lnTo>
                      <a:pt x="93" y="37"/>
                    </a:lnTo>
                    <a:lnTo>
                      <a:pt x="62" y="61"/>
                    </a:lnTo>
                    <a:lnTo>
                      <a:pt x="36" y="93"/>
                    </a:lnTo>
                    <a:lnTo>
                      <a:pt x="16" y="128"/>
                    </a:lnTo>
                    <a:lnTo>
                      <a:pt x="4" y="168"/>
                    </a:lnTo>
                    <a:lnTo>
                      <a:pt x="0" y="211"/>
                    </a:lnTo>
                    <a:lnTo>
                      <a:pt x="1" y="238"/>
                    </a:lnTo>
                    <a:lnTo>
                      <a:pt x="7" y="266"/>
                    </a:lnTo>
                    <a:lnTo>
                      <a:pt x="15" y="290"/>
                    </a:lnTo>
                    <a:lnTo>
                      <a:pt x="27" y="315"/>
                    </a:lnTo>
                    <a:lnTo>
                      <a:pt x="26" y="302"/>
                    </a:lnTo>
                    <a:lnTo>
                      <a:pt x="23" y="290"/>
                    </a:lnTo>
                    <a:lnTo>
                      <a:pt x="21" y="280"/>
                    </a:lnTo>
                    <a:lnTo>
                      <a:pt x="21" y="2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7" name="Freeform 147"/>
              <p:cNvSpPr/>
              <p:nvPr/>
            </p:nvSpPr>
            <p:spPr>
              <a:xfrm>
                <a:off x="1464480" y="2481120"/>
                <a:ext cx="731160" cy="587880"/>
              </a:xfrm>
              <a:custGeom>
                <a:avLst/>
                <a:gdLst>
                  <a:gd name="textAreaLeft" fmla="*/ 0 w 731160"/>
                  <a:gd name="textAreaRight" fmla="*/ 731520 w 731160"/>
                  <a:gd name="textAreaTop" fmla="*/ 0 h 587880"/>
                  <a:gd name="textAreaBottom" fmla="*/ 588240 h 587880"/>
                </a:gdLst>
                <a:ahLst/>
                <a:rect l="textAreaLeft" t="textAreaTop" r="textAreaRight" b="textAreaBottom"/>
                <a:pathLst>
                  <a:path w="613" h="480">
                    <a:moveTo>
                      <a:pt x="569" y="0"/>
                    </a:moveTo>
                    <a:lnTo>
                      <a:pt x="578" y="28"/>
                    </a:lnTo>
                    <a:lnTo>
                      <a:pt x="586" y="57"/>
                    </a:lnTo>
                    <a:lnTo>
                      <a:pt x="590" y="88"/>
                    </a:lnTo>
                    <a:lnTo>
                      <a:pt x="592" y="118"/>
                    </a:lnTo>
                    <a:lnTo>
                      <a:pt x="590" y="150"/>
                    </a:lnTo>
                    <a:lnTo>
                      <a:pt x="586" y="182"/>
                    </a:lnTo>
                    <a:lnTo>
                      <a:pt x="578" y="213"/>
                    </a:lnTo>
                    <a:lnTo>
                      <a:pt x="567" y="242"/>
                    </a:lnTo>
                    <a:lnTo>
                      <a:pt x="554" y="269"/>
                    </a:lnTo>
                    <a:lnTo>
                      <a:pt x="537" y="297"/>
                    </a:lnTo>
                    <a:lnTo>
                      <a:pt x="518" y="321"/>
                    </a:lnTo>
                    <a:lnTo>
                      <a:pt x="499" y="344"/>
                    </a:lnTo>
                    <a:lnTo>
                      <a:pt x="476" y="364"/>
                    </a:lnTo>
                    <a:lnTo>
                      <a:pt x="451" y="383"/>
                    </a:lnTo>
                    <a:lnTo>
                      <a:pt x="424" y="399"/>
                    </a:lnTo>
                    <a:lnTo>
                      <a:pt x="396" y="413"/>
                    </a:lnTo>
                    <a:lnTo>
                      <a:pt x="367" y="424"/>
                    </a:lnTo>
                    <a:lnTo>
                      <a:pt x="337" y="431"/>
                    </a:lnTo>
                    <a:lnTo>
                      <a:pt x="304" y="436"/>
                    </a:lnTo>
                    <a:lnTo>
                      <a:pt x="272" y="438"/>
                    </a:lnTo>
                    <a:lnTo>
                      <a:pt x="251" y="438"/>
                    </a:lnTo>
                    <a:lnTo>
                      <a:pt x="230" y="435"/>
                    </a:lnTo>
                    <a:lnTo>
                      <a:pt x="210" y="431"/>
                    </a:lnTo>
                    <a:lnTo>
                      <a:pt x="190" y="425"/>
                    </a:lnTo>
                    <a:lnTo>
                      <a:pt x="170" y="419"/>
                    </a:lnTo>
                    <a:lnTo>
                      <a:pt x="150" y="412"/>
                    </a:lnTo>
                    <a:lnTo>
                      <a:pt x="132" y="404"/>
                    </a:lnTo>
                    <a:lnTo>
                      <a:pt x="115" y="393"/>
                    </a:lnTo>
                    <a:lnTo>
                      <a:pt x="98" y="383"/>
                    </a:lnTo>
                    <a:lnTo>
                      <a:pt x="81" y="370"/>
                    </a:lnTo>
                    <a:lnTo>
                      <a:pt x="66" y="358"/>
                    </a:lnTo>
                    <a:lnTo>
                      <a:pt x="51" y="344"/>
                    </a:lnTo>
                    <a:lnTo>
                      <a:pt x="37" y="329"/>
                    </a:lnTo>
                    <a:lnTo>
                      <a:pt x="23" y="314"/>
                    </a:lnTo>
                    <a:lnTo>
                      <a:pt x="11" y="297"/>
                    </a:lnTo>
                    <a:lnTo>
                      <a:pt x="0" y="280"/>
                    </a:lnTo>
                    <a:lnTo>
                      <a:pt x="9" y="302"/>
                    </a:lnTo>
                    <a:lnTo>
                      <a:pt x="22" y="323"/>
                    </a:lnTo>
                    <a:lnTo>
                      <a:pt x="34" y="343"/>
                    </a:lnTo>
                    <a:lnTo>
                      <a:pt x="48" y="361"/>
                    </a:lnTo>
                    <a:lnTo>
                      <a:pt x="63" y="380"/>
                    </a:lnTo>
                    <a:lnTo>
                      <a:pt x="80" y="395"/>
                    </a:lnTo>
                    <a:lnTo>
                      <a:pt x="97" y="410"/>
                    </a:lnTo>
                    <a:lnTo>
                      <a:pt x="115" y="424"/>
                    </a:lnTo>
                    <a:lnTo>
                      <a:pt x="135" y="438"/>
                    </a:lnTo>
                    <a:lnTo>
                      <a:pt x="156" y="448"/>
                    </a:lnTo>
                    <a:lnTo>
                      <a:pt x="178" y="457"/>
                    </a:lnTo>
                    <a:lnTo>
                      <a:pt x="199" y="465"/>
                    </a:lnTo>
                    <a:lnTo>
                      <a:pt x="222" y="473"/>
                    </a:lnTo>
                    <a:lnTo>
                      <a:pt x="245" y="477"/>
                    </a:lnTo>
                    <a:lnTo>
                      <a:pt x="269" y="479"/>
                    </a:lnTo>
                    <a:lnTo>
                      <a:pt x="294" y="480"/>
                    </a:lnTo>
                    <a:lnTo>
                      <a:pt x="326" y="479"/>
                    </a:lnTo>
                    <a:lnTo>
                      <a:pt x="358" y="474"/>
                    </a:lnTo>
                    <a:lnTo>
                      <a:pt x="389" y="467"/>
                    </a:lnTo>
                    <a:lnTo>
                      <a:pt x="418" y="456"/>
                    </a:lnTo>
                    <a:lnTo>
                      <a:pt x="445" y="442"/>
                    </a:lnTo>
                    <a:lnTo>
                      <a:pt x="473" y="425"/>
                    </a:lnTo>
                    <a:lnTo>
                      <a:pt x="497" y="407"/>
                    </a:lnTo>
                    <a:lnTo>
                      <a:pt x="520" y="387"/>
                    </a:lnTo>
                    <a:lnTo>
                      <a:pt x="540" y="364"/>
                    </a:lnTo>
                    <a:lnTo>
                      <a:pt x="558" y="340"/>
                    </a:lnTo>
                    <a:lnTo>
                      <a:pt x="575" y="312"/>
                    </a:lnTo>
                    <a:lnTo>
                      <a:pt x="589" y="285"/>
                    </a:lnTo>
                    <a:lnTo>
                      <a:pt x="599" y="256"/>
                    </a:lnTo>
                    <a:lnTo>
                      <a:pt x="607" y="225"/>
                    </a:lnTo>
                    <a:lnTo>
                      <a:pt x="612" y="193"/>
                    </a:lnTo>
                    <a:lnTo>
                      <a:pt x="613" y="161"/>
                    </a:lnTo>
                    <a:lnTo>
                      <a:pt x="610" y="118"/>
                    </a:lnTo>
                    <a:lnTo>
                      <a:pt x="601" y="75"/>
                    </a:lnTo>
                    <a:lnTo>
                      <a:pt x="587" y="37"/>
                    </a:lnTo>
                    <a:lnTo>
                      <a:pt x="569"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8" name="Freeform 148"/>
              <p:cNvSpPr/>
              <p:nvPr/>
            </p:nvSpPr>
            <p:spPr>
              <a:xfrm>
                <a:off x="1530000" y="2541600"/>
                <a:ext cx="533880" cy="233280"/>
              </a:xfrm>
              <a:custGeom>
                <a:avLst/>
                <a:gdLst>
                  <a:gd name="textAreaLeft" fmla="*/ 0 w 533880"/>
                  <a:gd name="textAreaRight" fmla="*/ 534240 w 533880"/>
                  <a:gd name="textAreaTop" fmla="*/ 0 h 233280"/>
                  <a:gd name="textAreaBottom" fmla="*/ 233640 h 233280"/>
                </a:gdLst>
                <a:ahLst/>
                <a:rect l="textAreaLeft" t="textAreaTop" r="textAreaRight" b="textAreaBottom"/>
                <a:pathLst>
                  <a:path w="449" h="189">
                    <a:moveTo>
                      <a:pt x="449" y="15"/>
                    </a:moveTo>
                    <a:lnTo>
                      <a:pt x="439" y="0"/>
                    </a:lnTo>
                    <a:lnTo>
                      <a:pt x="291" y="82"/>
                    </a:lnTo>
                    <a:lnTo>
                      <a:pt x="281" y="74"/>
                    </a:lnTo>
                    <a:lnTo>
                      <a:pt x="271" y="68"/>
                    </a:lnTo>
                    <a:lnTo>
                      <a:pt x="258" y="65"/>
                    </a:lnTo>
                    <a:lnTo>
                      <a:pt x="246" y="64"/>
                    </a:lnTo>
                    <a:lnTo>
                      <a:pt x="240" y="64"/>
                    </a:lnTo>
                    <a:lnTo>
                      <a:pt x="232" y="65"/>
                    </a:lnTo>
                    <a:lnTo>
                      <a:pt x="226" y="67"/>
                    </a:lnTo>
                    <a:lnTo>
                      <a:pt x="220" y="70"/>
                    </a:lnTo>
                    <a:lnTo>
                      <a:pt x="214" y="73"/>
                    </a:lnTo>
                    <a:lnTo>
                      <a:pt x="209" y="76"/>
                    </a:lnTo>
                    <a:lnTo>
                      <a:pt x="203" y="81"/>
                    </a:lnTo>
                    <a:lnTo>
                      <a:pt x="199" y="85"/>
                    </a:lnTo>
                    <a:lnTo>
                      <a:pt x="9" y="15"/>
                    </a:lnTo>
                    <a:lnTo>
                      <a:pt x="0" y="33"/>
                    </a:lnTo>
                    <a:lnTo>
                      <a:pt x="185" y="139"/>
                    </a:lnTo>
                    <a:lnTo>
                      <a:pt x="188" y="149"/>
                    </a:lnTo>
                    <a:lnTo>
                      <a:pt x="193" y="159"/>
                    </a:lnTo>
                    <a:lnTo>
                      <a:pt x="199" y="168"/>
                    </a:lnTo>
                    <a:lnTo>
                      <a:pt x="206" y="175"/>
                    </a:lnTo>
                    <a:lnTo>
                      <a:pt x="214" y="181"/>
                    </a:lnTo>
                    <a:lnTo>
                      <a:pt x="225" y="186"/>
                    </a:lnTo>
                    <a:lnTo>
                      <a:pt x="235" y="188"/>
                    </a:lnTo>
                    <a:lnTo>
                      <a:pt x="246" y="189"/>
                    </a:lnTo>
                    <a:lnTo>
                      <a:pt x="258" y="188"/>
                    </a:lnTo>
                    <a:lnTo>
                      <a:pt x="271" y="185"/>
                    </a:lnTo>
                    <a:lnTo>
                      <a:pt x="281" y="178"/>
                    </a:lnTo>
                    <a:lnTo>
                      <a:pt x="291" y="171"/>
                    </a:lnTo>
                    <a:lnTo>
                      <a:pt x="298" y="162"/>
                    </a:lnTo>
                    <a:lnTo>
                      <a:pt x="304" y="151"/>
                    </a:lnTo>
                    <a:lnTo>
                      <a:pt x="307" y="139"/>
                    </a:lnTo>
                    <a:lnTo>
                      <a:pt x="309" y="126"/>
                    </a:lnTo>
                    <a:lnTo>
                      <a:pt x="44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9" name="Freeform 149"/>
              <p:cNvSpPr/>
              <p:nvPr/>
            </p:nvSpPr>
            <p:spPr>
              <a:xfrm>
                <a:off x="1845360" y="2098800"/>
                <a:ext cx="83880" cy="74520"/>
              </a:xfrm>
              <a:custGeom>
                <a:avLst/>
                <a:gdLst>
                  <a:gd name="textAreaLeft" fmla="*/ 0 w 83880"/>
                  <a:gd name="textAreaRight" fmla="*/ 84240 w 83880"/>
                  <a:gd name="textAreaTop" fmla="*/ 0 h 74520"/>
                  <a:gd name="textAreaBottom" fmla="*/ 74880 h 74520"/>
                </a:gdLst>
                <a:ahLst/>
                <a:rect l="textAreaLeft" t="textAreaTop" r="textAreaRight" b="textAreaBottom"/>
                <a:pathLst>
                  <a:path w="69" h="59">
                    <a:moveTo>
                      <a:pt x="69" y="29"/>
                    </a:moveTo>
                    <a:lnTo>
                      <a:pt x="66" y="41"/>
                    </a:lnTo>
                    <a:lnTo>
                      <a:pt x="58" y="50"/>
                    </a:lnTo>
                    <a:lnTo>
                      <a:pt x="48" y="56"/>
                    </a:lnTo>
                    <a:lnTo>
                      <a:pt x="34" y="59"/>
                    </a:lnTo>
                    <a:lnTo>
                      <a:pt x="22" y="56"/>
                    </a:lnTo>
                    <a:lnTo>
                      <a:pt x="11" y="50"/>
                    </a:lnTo>
                    <a:lnTo>
                      <a:pt x="3" y="41"/>
                    </a:lnTo>
                    <a:lnTo>
                      <a:pt x="0" y="29"/>
                    </a:lnTo>
                    <a:lnTo>
                      <a:pt x="3" y="18"/>
                    </a:lnTo>
                    <a:lnTo>
                      <a:pt x="11" y="9"/>
                    </a:lnTo>
                    <a:lnTo>
                      <a:pt x="22" y="3"/>
                    </a:lnTo>
                    <a:lnTo>
                      <a:pt x="34" y="0"/>
                    </a:lnTo>
                    <a:lnTo>
                      <a:pt x="48" y="3"/>
                    </a:lnTo>
                    <a:lnTo>
                      <a:pt x="58" y="9"/>
                    </a:lnTo>
                    <a:lnTo>
                      <a:pt x="66" y="18"/>
                    </a:lnTo>
                    <a:lnTo>
                      <a:pt x="69" y="29"/>
                    </a:lnTo>
                    <a:close/>
                  </a:path>
                </a:pathLst>
              </a:custGeom>
              <a:solidFill>
                <a:srgbClr val="ffffff"/>
              </a:solidFill>
              <a:ln w="0">
                <a:noFill/>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240" name="Freeform 150"/>
              <p:cNvSpPr/>
              <p:nvPr/>
            </p:nvSpPr>
            <p:spPr>
              <a:xfrm>
                <a:off x="1370160" y="2169720"/>
                <a:ext cx="84240" cy="74520"/>
              </a:xfrm>
              <a:custGeom>
                <a:avLst/>
                <a:gdLst>
                  <a:gd name="textAreaLeft" fmla="*/ 0 w 84240"/>
                  <a:gd name="textAreaRight" fmla="*/ 84600 w 84240"/>
                  <a:gd name="textAreaTop" fmla="*/ 0 h 74520"/>
                  <a:gd name="textAreaBottom" fmla="*/ 74880 h 74520"/>
                </a:gdLst>
                <a:ahLst/>
                <a:rect l="textAreaLeft" t="textAreaTop" r="textAreaRight" b="textAreaBottom"/>
                <a:pathLst>
                  <a:path w="69" h="60">
                    <a:moveTo>
                      <a:pt x="69" y="30"/>
                    </a:moveTo>
                    <a:lnTo>
                      <a:pt x="66" y="42"/>
                    </a:lnTo>
                    <a:lnTo>
                      <a:pt x="60" y="51"/>
                    </a:lnTo>
                    <a:lnTo>
                      <a:pt x="49" y="57"/>
                    </a:lnTo>
                    <a:lnTo>
                      <a:pt x="36" y="60"/>
                    </a:lnTo>
                    <a:lnTo>
                      <a:pt x="22" y="57"/>
                    </a:lnTo>
                    <a:lnTo>
                      <a:pt x="11" y="51"/>
                    </a:lnTo>
                    <a:lnTo>
                      <a:pt x="4" y="42"/>
                    </a:lnTo>
                    <a:lnTo>
                      <a:pt x="0" y="30"/>
                    </a:lnTo>
                    <a:lnTo>
                      <a:pt x="4" y="19"/>
                    </a:lnTo>
                    <a:lnTo>
                      <a:pt x="11" y="10"/>
                    </a:lnTo>
                    <a:lnTo>
                      <a:pt x="22" y="4"/>
                    </a:lnTo>
                    <a:lnTo>
                      <a:pt x="36" y="0"/>
                    </a:lnTo>
                    <a:lnTo>
                      <a:pt x="49" y="4"/>
                    </a:lnTo>
                    <a:lnTo>
                      <a:pt x="60" y="10"/>
                    </a:lnTo>
                    <a:lnTo>
                      <a:pt x="66" y="19"/>
                    </a:lnTo>
                    <a:lnTo>
                      <a:pt x="69" y="30"/>
                    </a:lnTo>
                    <a:close/>
                  </a:path>
                </a:pathLst>
              </a:custGeom>
              <a:solidFill>
                <a:srgbClr val="ffffff"/>
              </a:solidFill>
              <a:ln w="0">
                <a:noFill/>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grpSp>
        <p:grpSp>
          <p:nvGrpSpPr>
            <p:cNvPr id="241" name="Group 214"/>
            <p:cNvGrpSpPr/>
            <p:nvPr/>
          </p:nvGrpSpPr>
          <p:grpSpPr>
            <a:xfrm>
              <a:off x="5998320" y="1415160"/>
              <a:ext cx="718560" cy="1076400"/>
              <a:chOff x="5998320" y="1415160"/>
              <a:chExt cx="718560" cy="1076400"/>
            </a:xfrm>
          </p:grpSpPr>
          <p:sp>
            <p:nvSpPr>
              <p:cNvPr id="242" name="Freeform 161"/>
              <p:cNvSpPr/>
              <p:nvPr/>
            </p:nvSpPr>
            <p:spPr>
              <a:xfrm rot="20586600">
                <a:off x="6165360" y="1447920"/>
                <a:ext cx="362160" cy="909360"/>
              </a:xfrm>
              <a:custGeom>
                <a:avLst/>
                <a:gdLst>
                  <a:gd name="textAreaLeft" fmla="*/ 0 w 362160"/>
                  <a:gd name="textAreaRight" fmla="*/ 362520 w 362160"/>
                  <a:gd name="textAreaTop" fmla="*/ 0 h 909360"/>
                  <a:gd name="textAreaBottom" fmla="*/ 909720 h 909360"/>
                </a:gdLst>
                <a:ahLst/>
                <a:rect l="textAreaLeft" t="textAreaTop" r="textAreaRight" b="textAreaBottom"/>
                <a:pathLst>
                  <a:path w="1198" h="1498">
                    <a:moveTo>
                      <a:pt x="352" y="1372"/>
                    </a:moveTo>
                    <a:lnTo>
                      <a:pt x="354" y="1372"/>
                    </a:lnTo>
                    <a:lnTo>
                      <a:pt x="359" y="1370"/>
                    </a:lnTo>
                    <a:lnTo>
                      <a:pt x="363" y="1367"/>
                    </a:lnTo>
                    <a:lnTo>
                      <a:pt x="367" y="1365"/>
                    </a:lnTo>
                    <a:lnTo>
                      <a:pt x="373" y="1361"/>
                    </a:lnTo>
                    <a:lnTo>
                      <a:pt x="379" y="1359"/>
                    </a:lnTo>
                    <a:lnTo>
                      <a:pt x="384" y="1355"/>
                    </a:lnTo>
                    <a:lnTo>
                      <a:pt x="392" y="1351"/>
                    </a:lnTo>
                    <a:lnTo>
                      <a:pt x="398" y="1346"/>
                    </a:lnTo>
                    <a:lnTo>
                      <a:pt x="403" y="1342"/>
                    </a:lnTo>
                    <a:lnTo>
                      <a:pt x="411" y="1334"/>
                    </a:lnTo>
                    <a:lnTo>
                      <a:pt x="417" y="1331"/>
                    </a:lnTo>
                    <a:lnTo>
                      <a:pt x="424" y="1323"/>
                    </a:lnTo>
                    <a:lnTo>
                      <a:pt x="432" y="1317"/>
                    </a:lnTo>
                    <a:lnTo>
                      <a:pt x="436" y="1310"/>
                    </a:lnTo>
                    <a:lnTo>
                      <a:pt x="441" y="1302"/>
                    </a:lnTo>
                    <a:lnTo>
                      <a:pt x="447" y="1293"/>
                    </a:lnTo>
                    <a:lnTo>
                      <a:pt x="451" y="1283"/>
                    </a:lnTo>
                    <a:lnTo>
                      <a:pt x="453" y="1279"/>
                    </a:lnTo>
                    <a:lnTo>
                      <a:pt x="455" y="1274"/>
                    </a:lnTo>
                    <a:lnTo>
                      <a:pt x="456" y="1268"/>
                    </a:lnTo>
                    <a:lnTo>
                      <a:pt x="458" y="1264"/>
                    </a:lnTo>
                    <a:lnTo>
                      <a:pt x="458" y="1258"/>
                    </a:lnTo>
                    <a:lnTo>
                      <a:pt x="460" y="1253"/>
                    </a:lnTo>
                    <a:lnTo>
                      <a:pt x="460" y="1249"/>
                    </a:lnTo>
                    <a:lnTo>
                      <a:pt x="462" y="1243"/>
                    </a:lnTo>
                    <a:lnTo>
                      <a:pt x="460" y="1236"/>
                    </a:lnTo>
                    <a:lnTo>
                      <a:pt x="460" y="1230"/>
                    </a:lnTo>
                    <a:lnTo>
                      <a:pt x="460" y="1224"/>
                    </a:lnTo>
                    <a:lnTo>
                      <a:pt x="460" y="1218"/>
                    </a:lnTo>
                    <a:lnTo>
                      <a:pt x="458" y="1211"/>
                    </a:lnTo>
                    <a:lnTo>
                      <a:pt x="458" y="1205"/>
                    </a:lnTo>
                    <a:lnTo>
                      <a:pt x="456" y="1198"/>
                    </a:lnTo>
                    <a:lnTo>
                      <a:pt x="455" y="1192"/>
                    </a:lnTo>
                    <a:lnTo>
                      <a:pt x="453" y="1184"/>
                    </a:lnTo>
                    <a:lnTo>
                      <a:pt x="449" y="1177"/>
                    </a:lnTo>
                    <a:lnTo>
                      <a:pt x="447" y="1171"/>
                    </a:lnTo>
                    <a:lnTo>
                      <a:pt x="443" y="1163"/>
                    </a:lnTo>
                    <a:lnTo>
                      <a:pt x="439" y="1156"/>
                    </a:lnTo>
                    <a:lnTo>
                      <a:pt x="436" y="1148"/>
                    </a:lnTo>
                    <a:lnTo>
                      <a:pt x="432" y="1141"/>
                    </a:lnTo>
                    <a:lnTo>
                      <a:pt x="428" y="1133"/>
                    </a:lnTo>
                    <a:lnTo>
                      <a:pt x="422" y="1123"/>
                    </a:lnTo>
                    <a:lnTo>
                      <a:pt x="417" y="1116"/>
                    </a:lnTo>
                    <a:lnTo>
                      <a:pt x="411" y="1108"/>
                    </a:lnTo>
                    <a:lnTo>
                      <a:pt x="405" y="1101"/>
                    </a:lnTo>
                    <a:lnTo>
                      <a:pt x="399" y="1093"/>
                    </a:lnTo>
                    <a:lnTo>
                      <a:pt x="394" y="1085"/>
                    </a:lnTo>
                    <a:lnTo>
                      <a:pt x="388" y="1078"/>
                    </a:lnTo>
                    <a:lnTo>
                      <a:pt x="384" y="1070"/>
                    </a:lnTo>
                    <a:lnTo>
                      <a:pt x="377" y="1063"/>
                    </a:lnTo>
                    <a:lnTo>
                      <a:pt x="373" y="1057"/>
                    </a:lnTo>
                    <a:lnTo>
                      <a:pt x="367" y="1049"/>
                    </a:lnTo>
                    <a:lnTo>
                      <a:pt x="361" y="1044"/>
                    </a:lnTo>
                    <a:lnTo>
                      <a:pt x="356" y="1036"/>
                    </a:lnTo>
                    <a:lnTo>
                      <a:pt x="350" y="1030"/>
                    </a:lnTo>
                    <a:lnTo>
                      <a:pt x="346" y="1023"/>
                    </a:lnTo>
                    <a:lnTo>
                      <a:pt x="340" y="1017"/>
                    </a:lnTo>
                    <a:lnTo>
                      <a:pt x="335" y="1009"/>
                    </a:lnTo>
                    <a:lnTo>
                      <a:pt x="329" y="1004"/>
                    </a:lnTo>
                    <a:lnTo>
                      <a:pt x="323" y="998"/>
                    </a:lnTo>
                    <a:lnTo>
                      <a:pt x="320" y="990"/>
                    </a:lnTo>
                    <a:lnTo>
                      <a:pt x="314" y="985"/>
                    </a:lnTo>
                    <a:lnTo>
                      <a:pt x="308" y="979"/>
                    </a:lnTo>
                    <a:lnTo>
                      <a:pt x="302" y="973"/>
                    </a:lnTo>
                    <a:lnTo>
                      <a:pt x="299" y="968"/>
                    </a:lnTo>
                    <a:lnTo>
                      <a:pt x="293" y="960"/>
                    </a:lnTo>
                    <a:lnTo>
                      <a:pt x="289" y="954"/>
                    </a:lnTo>
                    <a:lnTo>
                      <a:pt x="283" y="949"/>
                    </a:lnTo>
                    <a:lnTo>
                      <a:pt x="280" y="943"/>
                    </a:lnTo>
                    <a:lnTo>
                      <a:pt x="276" y="937"/>
                    </a:lnTo>
                    <a:lnTo>
                      <a:pt x="272" y="931"/>
                    </a:lnTo>
                    <a:lnTo>
                      <a:pt x="268" y="926"/>
                    </a:lnTo>
                    <a:lnTo>
                      <a:pt x="264" y="920"/>
                    </a:lnTo>
                    <a:lnTo>
                      <a:pt x="259" y="912"/>
                    </a:lnTo>
                    <a:lnTo>
                      <a:pt x="257" y="907"/>
                    </a:lnTo>
                    <a:lnTo>
                      <a:pt x="251" y="901"/>
                    </a:lnTo>
                    <a:lnTo>
                      <a:pt x="249" y="895"/>
                    </a:lnTo>
                    <a:lnTo>
                      <a:pt x="245" y="888"/>
                    </a:lnTo>
                    <a:lnTo>
                      <a:pt x="242" y="882"/>
                    </a:lnTo>
                    <a:lnTo>
                      <a:pt x="240" y="876"/>
                    </a:lnTo>
                    <a:lnTo>
                      <a:pt x="238" y="871"/>
                    </a:lnTo>
                    <a:lnTo>
                      <a:pt x="234" y="863"/>
                    </a:lnTo>
                    <a:lnTo>
                      <a:pt x="230" y="855"/>
                    </a:lnTo>
                    <a:lnTo>
                      <a:pt x="228" y="850"/>
                    </a:lnTo>
                    <a:lnTo>
                      <a:pt x="226" y="842"/>
                    </a:lnTo>
                    <a:lnTo>
                      <a:pt x="224" y="836"/>
                    </a:lnTo>
                    <a:lnTo>
                      <a:pt x="223" y="831"/>
                    </a:lnTo>
                    <a:lnTo>
                      <a:pt x="221" y="823"/>
                    </a:lnTo>
                    <a:lnTo>
                      <a:pt x="221" y="817"/>
                    </a:lnTo>
                    <a:lnTo>
                      <a:pt x="221" y="810"/>
                    </a:lnTo>
                    <a:lnTo>
                      <a:pt x="219" y="802"/>
                    </a:lnTo>
                    <a:lnTo>
                      <a:pt x="219" y="795"/>
                    </a:lnTo>
                    <a:lnTo>
                      <a:pt x="219" y="787"/>
                    </a:lnTo>
                    <a:lnTo>
                      <a:pt x="217" y="779"/>
                    </a:lnTo>
                    <a:lnTo>
                      <a:pt x="217" y="772"/>
                    </a:lnTo>
                    <a:lnTo>
                      <a:pt x="219" y="764"/>
                    </a:lnTo>
                    <a:lnTo>
                      <a:pt x="219" y="759"/>
                    </a:lnTo>
                    <a:lnTo>
                      <a:pt x="219" y="749"/>
                    </a:lnTo>
                    <a:lnTo>
                      <a:pt x="221" y="741"/>
                    </a:lnTo>
                    <a:lnTo>
                      <a:pt x="221" y="732"/>
                    </a:lnTo>
                    <a:lnTo>
                      <a:pt x="224" y="724"/>
                    </a:lnTo>
                    <a:lnTo>
                      <a:pt x="226" y="715"/>
                    </a:lnTo>
                    <a:lnTo>
                      <a:pt x="228" y="707"/>
                    </a:lnTo>
                    <a:lnTo>
                      <a:pt x="232" y="698"/>
                    </a:lnTo>
                    <a:lnTo>
                      <a:pt x="236" y="690"/>
                    </a:lnTo>
                    <a:lnTo>
                      <a:pt x="238" y="679"/>
                    </a:lnTo>
                    <a:lnTo>
                      <a:pt x="242" y="669"/>
                    </a:lnTo>
                    <a:lnTo>
                      <a:pt x="245" y="660"/>
                    </a:lnTo>
                    <a:lnTo>
                      <a:pt x="249" y="650"/>
                    </a:lnTo>
                    <a:lnTo>
                      <a:pt x="253" y="641"/>
                    </a:lnTo>
                    <a:lnTo>
                      <a:pt x="257" y="629"/>
                    </a:lnTo>
                    <a:lnTo>
                      <a:pt x="263" y="620"/>
                    </a:lnTo>
                    <a:lnTo>
                      <a:pt x="266" y="610"/>
                    </a:lnTo>
                    <a:lnTo>
                      <a:pt x="272" y="601"/>
                    </a:lnTo>
                    <a:lnTo>
                      <a:pt x="276" y="589"/>
                    </a:lnTo>
                    <a:lnTo>
                      <a:pt x="282" y="580"/>
                    </a:lnTo>
                    <a:lnTo>
                      <a:pt x="287" y="568"/>
                    </a:lnTo>
                    <a:lnTo>
                      <a:pt x="293" y="559"/>
                    </a:lnTo>
                    <a:lnTo>
                      <a:pt x="299" y="548"/>
                    </a:lnTo>
                    <a:lnTo>
                      <a:pt x="302" y="538"/>
                    </a:lnTo>
                    <a:lnTo>
                      <a:pt x="310" y="529"/>
                    </a:lnTo>
                    <a:lnTo>
                      <a:pt x="314" y="517"/>
                    </a:lnTo>
                    <a:lnTo>
                      <a:pt x="320" y="508"/>
                    </a:lnTo>
                    <a:lnTo>
                      <a:pt x="325" y="496"/>
                    </a:lnTo>
                    <a:lnTo>
                      <a:pt x="331" y="487"/>
                    </a:lnTo>
                    <a:lnTo>
                      <a:pt x="337" y="475"/>
                    </a:lnTo>
                    <a:lnTo>
                      <a:pt x="342" y="466"/>
                    </a:lnTo>
                    <a:lnTo>
                      <a:pt x="348" y="454"/>
                    </a:lnTo>
                    <a:lnTo>
                      <a:pt x="354" y="445"/>
                    </a:lnTo>
                    <a:lnTo>
                      <a:pt x="358" y="435"/>
                    </a:lnTo>
                    <a:lnTo>
                      <a:pt x="363" y="426"/>
                    </a:lnTo>
                    <a:lnTo>
                      <a:pt x="367" y="416"/>
                    </a:lnTo>
                    <a:lnTo>
                      <a:pt x="373" y="405"/>
                    </a:lnTo>
                    <a:lnTo>
                      <a:pt x="377" y="396"/>
                    </a:lnTo>
                    <a:lnTo>
                      <a:pt x="382" y="388"/>
                    </a:lnTo>
                    <a:lnTo>
                      <a:pt x="386" y="378"/>
                    </a:lnTo>
                    <a:lnTo>
                      <a:pt x="392" y="369"/>
                    </a:lnTo>
                    <a:lnTo>
                      <a:pt x="396" y="359"/>
                    </a:lnTo>
                    <a:lnTo>
                      <a:pt x="399" y="350"/>
                    </a:lnTo>
                    <a:lnTo>
                      <a:pt x="403" y="340"/>
                    </a:lnTo>
                    <a:lnTo>
                      <a:pt x="405" y="333"/>
                    </a:lnTo>
                    <a:lnTo>
                      <a:pt x="409" y="323"/>
                    </a:lnTo>
                    <a:lnTo>
                      <a:pt x="411" y="316"/>
                    </a:lnTo>
                    <a:lnTo>
                      <a:pt x="413" y="308"/>
                    </a:lnTo>
                    <a:lnTo>
                      <a:pt x="417" y="301"/>
                    </a:lnTo>
                    <a:lnTo>
                      <a:pt x="417" y="293"/>
                    </a:lnTo>
                    <a:lnTo>
                      <a:pt x="418" y="285"/>
                    </a:lnTo>
                    <a:lnTo>
                      <a:pt x="420" y="278"/>
                    </a:lnTo>
                    <a:lnTo>
                      <a:pt x="422" y="272"/>
                    </a:lnTo>
                    <a:lnTo>
                      <a:pt x="422" y="266"/>
                    </a:lnTo>
                    <a:lnTo>
                      <a:pt x="422" y="259"/>
                    </a:lnTo>
                    <a:lnTo>
                      <a:pt x="422" y="255"/>
                    </a:lnTo>
                    <a:lnTo>
                      <a:pt x="422" y="249"/>
                    </a:lnTo>
                    <a:lnTo>
                      <a:pt x="420" y="243"/>
                    </a:lnTo>
                    <a:lnTo>
                      <a:pt x="418" y="238"/>
                    </a:lnTo>
                    <a:lnTo>
                      <a:pt x="415" y="232"/>
                    </a:lnTo>
                    <a:lnTo>
                      <a:pt x="413" y="230"/>
                    </a:lnTo>
                    <a:lnTo>
                      <a:pt x="405" y="221"/>
                    </a:lnTo>
                    <a:lnTo>
                      <a:pt x="398" y="215"/>
                    </a:lnTo>
                    <a:lnTo>
                      <a:pt x="392" y="211"/>
                    </a:lnTo>
                    <a:lnTo>
                      <a:pt x="386" y="209"/>
                    </a:lnTo>
                    <a:lnTo>
                      <a:pt x="380" y="207"/>
                    </a:lnTo>
                    <a:lnTo>
                      <a:pt x="375" y="207"/>
                    </a:lnTo>
                    <a:lnTo>
                      <a:pt x="367" y="205"/>
                    </a:lnTo>
                    <a:lnTo>
                      <a:pt x="358" y="205"/>
                    </a:lnTo>
                    <a:lnTo>
                      <a:pt x="348" y="205"/>
                    </a:lnTo>
                    <a:lnTo>
                      <a:pt x="340" y="207"/>
                    </a:lnTo>
                    <a:lnTo>
                      <a:pt x="331" y="207"/>
                    </a:lnTo>
                    <a:lnTo>
                      <a:pt x="320" y="207"/>
                    </a:lnTo>
                    <a:lnTo>
                      <a:pt x="310" y="207"/>
                    </a:lnTo>
                    <a:lnTo>
                      <a:pt x="302" y="209"/>
                    </a:lnTo>
                    <a:lnTo>
                      <a:pt x="293" y="209"/>
                    </a:lnTo>
                    <a:lnTo>
                      <a:pt x="283" y="211"/>
                    </a:lnTo>
                    <a:lnTo>
                      <a:pt x="274" y="211"/>
                    </a:lnTo>
                    <a:lnTo>
                      <a:pt x="266" y="213"/>
                    </a:lnTo>
                    <a:lnTo>
                      <a:pt x="257" y="213"/>
                    </a:lnTo>
                    <a:lnTo>
                      <a:pt x="249" y="215"/>
                    </a:lnTo>
                    <a:lnTo>
                      <a:pt x="242" y="217"/>
                    </a:lnTo>
                    <a:lnTo>
                      <a:pt x="234" y="219"/>
                    </a:lnTo>
                    <a:lnTo>
                      <a:pt x="224" y="219"/>
                    </a:lnTo>
                    <a:lnTo>
                      <a:pt x="217" y="221"/>
                    </a:lnTo>
                    <a:lnTo>
                      <a:pt x="211" y="221"/>
                    </a:lnTo>
                    <a:lnTo>
                      <a:pt x="204" y="223"/>
                    </a:lnTo>
                    <a:lnTo>
                      <a:pt x="196" y="224"/>
                    </a:lnTo>
                    <a:lnTo>
                      <a:pt x="188" y="224"/>
                    </a:lnTo>
                    <a:lnTo>
                      <a:pt x="181" y="226"/>
                    </a:lnTo>
                    <a:lnTo>
                      <a:pt x="175" y="228"/>
                    </a:lnTo>
                    <a:lnTo>
                      <a:pt x="167" y="228"/>
                    </a:lnTo>
                    <a:lnTo>
                      <a:pt x="162" y="230"/>
                    </a:lnTo>
                    <a:lnTo>
                      <a:pt x="156" y="232"/>
                    </a:lnTo>
                    <a:lnTo>
                      <a:pt x="150" y="232"/>
                    </a:lnTo>
                    <a:lnTo>
                      <a:pt x="143" y="234"/>
                    </a:lnTo>
                    <a:lnTo>
                      <a:pt x="137" y="234"/>
                    </a:lnTo>
                    <a:lnTo>
                      <a:pt x="131" y="236"/>
                    </a:lnTo>
                    <a:lnTo>
                      <a:pt x="127" y="238"/>
                    </a:lnTo>
                    <a:lnTo>
                      <a:pt x="120" y="238"/>
                    </a:lnTo>
                    <a:lnTo>
                      <a:pt x="116" y="240"/>
                    </a:lnTo>
                    <a:lnTo>
                      <a:pt x="110" y="240"/>
                    </a:lnTo>
                    <a:lnTo>
                      <a:pt x="107" y="240"/>
                    </a:lnTo>
                    <a:lnTo>
                      <a:pt x="101" y="240"/>
                    </a:lnTo>
                    <a:lnTo>
                      <a:pt x="95" y="240"/>
                    </a:lnTo>
                    <a:lnTo>
                      <a:pt x="91" y="240"/>
                    </a:lnTo>
                    <a:lnTo>
                      <a:pt x="86" y="242"/>
                    </a:lnTo>
                    <a:lnTo>
                      <a:pt x="82" y="242"/>
                    </a:lnTo>
                    <a:lnTo>
                      <a:pt x="76" y="242"/>
                    </a:lnTo>
                    <a:lnTo>
                      <a:pt x="72" y="242"/>
                    </a:lnTo>
                    <a:lnTo>
                      <a:pt x="69" y="242"/>
                    </a:lnTo>
                    <a:lnTo>
                      <a:pt x="61" y="240"/>
                    </a:lnTo>
                    <a:lnTo>
                      <a:pt x="53" y="240"/>
                    </a:lnTo>
                    <a:lnTo>
                      <a:pt x="46" y="236"/>
                    </a:lnTo>
                    <a:lnTo>
                      <a:pt x="40" y="234"/>
                    </a:lnTo>
                    <a:lnTo>
                      <a:pt x="32" y="230"/>
                    </a:lnTo>
                    <a:lnTo>
                      <a:pt x="29" y="226"/>
                    </a:lnTo>
                    <a:lnTo>
                      <a:pt x="23" y="221"/>
                    </a:lnTo>
                    <a:lnTo>
                      <a:pt x="17" y="215"/>
                    </a:lnTo>
                    <a:lnTo>
                      <a:pt x="11" y="207"/>
                    </a:lnTo>
                    <a:lnTo>
                      <a:pt x="10" y="202"/>
                    </a:lnTo>
                    <a:lnTo>
                      <a:pt x="6" y="196"/>
                    </a:lnTo>
                    <a:lnTo>
                      <a:pt x="4" y="192"/>
                    </a:lnTo>
                    <a:lnTo>
                      <a:pt x="2" y="186"/>
                    </a:lnTo>
                    <a:lnTo>
                      <a:pt x="2" y="183"/>
                    </a:lnTo>
                    <a:lnTo>
                      <a:pt x="0" y="177"/>
                    </a:lnTo>
                    <a:lnTo>
                      <a:pt x="0" y="171"/>
                    </a:lnTo>
                    <a:lnTo>
                      <a:pt x="0" y="166"/>
                    </a:lnTo>
                    <a:lnTo>
                      <a:pt x="4" y="160"/>
                    </a:lnTo>
                    <a:lnTo>
                      <a:pt x="6" y="152"/>
                    </a:lnTo>
                    <a:lnTo>
                      <a:pt x="10" y="147"/>
                    </a:lnTo>
                    <a:lnTo>
                      <a:pt x="15" y="141"/>
                    </a:lnTo>
                    <a:lnTo>
                      <a:pt x="23" y="135"/>
                    </a:lnTo>
                    <a:lnTo>
                      <a:pt x="29" y="128"/>
                    </a:lnTo>
                    <a:lnTo>
                      <a:pt x="38" y="122"/>
                    </a:lnTo>
                    <a:lnTo>
                      <a:pt x="46" y="114"/>
                    </a:lnTo>
                    <a:lnTo>
                      <a:pt x="55" y="109"/>
                    </a:lnTo>
                    <a:lnTo>
                      <a:pt x="65" y="101"/>
                    </a:lnTo>
                    <a:lnTo>
                      <a:pt x="76" y="95"/>
                    </a:lnTo>
                    <a:lnTo>
                      <a:pt x="89" y="90"/>
                    </a:lnTo>
                    <a:lnTo>
                      <a:pt x="103" y="84"/>
                    </a:lnTo>
                    <a:lnTo>
                      <a:pt x="114" y="76"/>
                    </a:lnTo>
                    <a:lnTo>
                      <a:pt x="127" y="71"/>
                    </a:lnTo>
                    <a:lnTo>
                      <a:pt x="141" y="65"/>
                    </a:lnTo>
                    <a:lnTo>
                      <a:pt x="156" y="59"/>
                    </a:lnTo>
                    <a:lnTo>
                      <a:pt x="171" y="53"/>
                    </a:lnTo>
                    <a:lnTo>
                      <a:pt x="186" y="48"/>
                    </a:lnTo>
                    <a:lnTo>
                      <a:pt x="202" y="44"/>
                    </a:lnTo>
                    <a:lnTo>
                      <a:pt x="219" y="38"/>
                    </a:lnTo>
                    <a:lnTo>
                      <a:pt x="234" y="33"/>
                    </a:lnTo>
                    <a:lnTo>
                      <a:pt x="249" y="27"/>
                    </a:lnTo>
                    <a:lnTo>
                      <a:pt x="266" y="23"/>
                    </a:lnTo>
                    <a:lnTo>
                      <a:pt x="283" y="21"/>
                    </a:lnTo>
                    <a:lnTo>
                      <a:pt x="301" y="17"/>
                    </a:lnTo>
                    <a:lnTo>
                      <a:pt x="318" y="14"/>
                    </a:lnTo>
                    <a:lnTo>
                      <a:pt x="335" y="10"/>
                    </a:lnTo>
                    <a:lnTo>
                      <a:pt x="352" y="8"/>
                    </a:lnTo>
                    <a:lnTo>
                      <a:pt x="369" y="6"/>
                    </a:lnTo>
                    <a:lnTo>
                      <a:pt x="386" y="4"/>
                    </a:lnTo>
                    <a:lnTo>
                      <a:pt x="401" y="2"/>
                    </a:lnTo>
                    <a:lnTo>
                      <a:pt x="418" y="0"/>
                    </a:lnTo>
                    <a:lnTo>
                      <a:pt x="436" y="0"/>
                    </a:lnTo>
                    <a:lnTo>
                      <a:pt x="451" y="0"/>
                    </a:lnTo>
                    <a:lnTo>
                      <a:pt x="468" y="0"/>
                    </a:lnTo>
                    <a:lnTo>
                      <a:pt x="483" y="2"/>
                    </a:lnTo>
                    <a:lnTo>
                      <a:pt x="498" y="2"/>
                    </a:lnTo>
                    <a:lnTo>
                      <a:pt x="512" y="4"/>
                    </a:lnTo>
                    <a:lnTo>
                      <a:pt x="527" y="6"/>
                    </a:lnTo>
                    <a:lnTo>
                      <a:pt x="542" y="10"/>
                    </a:lnTo>
                    <a:lnTo>
                      <a:pt x="553" y="14"/>
                    </a:lnTo>
                    <a:lnTo>
                      <a:pt x="567" y="17"/>
                    </a:lnTo>
                    <a:lnTo>
                      <a:pt x="578" y="23"/>
                    </a:lnTo>
                    <a:lnTo>
                      <a:pt x="591" y="29"/>
                    </a:lnTo>
                    <a:lnTo>
                      <a:pt x="603" y="34"/>
                    </a:lnTo>
                    <a:lnTo>
                      <a:pt x="612" y="42"/>
                    </a:lnTo>
                    <a:lnTo>
                      <a:pt x="622" y="48"/>
                    </a:lnTo>
                    <a:lnTo>
                      <a:pt x="631" y="57"/>
                    </a:lnTo>
                    <a:lnTo>
                      <a:pt x="639" y="65"/>
                    </a:lnTo>
                    <a:lnTo>
                      <a:pt x="647" y="74"/>
                    </a:lnTo>
                    <a:lnTo>
                      <a:pt x="652" y="86"/>
                    </a:lnTo>
                    <a:lnTo>
                      <a:pt x="658" y="97"/>
                    </a:lnTo>
                    <a:lnTo>
                      <a:pt x="662" y="109"/>
                    </a:lnTo>
                    <a:lnTo>
                      <a:pt x="666" y="122"/>
                    </a:lnTo>
                    <a:lnTo>
                      <a:pt x="668" y="135"/>
                    </a:lnTo>
                    <a:lnTo>
                      <a:pt x="669" y="150"/>
                    </a:lnTo>
                    <a:lnTo>
                      <a:pt x="669" y="166"/>
                    </a:lnTo>
                    <a:lnTo>
                      <a:pt x="668" y="183"/>
                    </a:lnTo>
                    <a:lnTo>
                      <a:pt x="666" y="200"/>
                    </a:lnTo>
                    <a:lnTo>
                      <a:pt x="662" y="219"/>
                    </a:lnTo>
                    <a:lnTo>
                      <a:pt x="660" y="224"/>
                    </a:lnTo>
                    <a:lnTo>
                      <a:pt x="660" y="230"/>
                    </a:lnTo>
                    <a:lnTo>
                      <a:pt x="662" y="234"/>
                    </a:lnTo>
                    <a:lnTo>
                      <a:pt x="666" y="238"/>
                    </a:lnTo>
                    <a:lnTo>
                      <a:pt x="669" y="240"/>
                    </a:lnTo>
                    <a:lnTo>
                      <a:pt x="675" y="240"/>
                    </a:lnTo>
                    <a:lnTo>
                      <a:pt x="681" y="240"/>
                    </a:lnTo>
                    <a:lnTo>
                      <a:pt x="690" y="238"/>
                    </a:lnTo>
                    <a:lnTo>
                      <a:pt x="694" y="236"/>
                    </a:lnTo>
                    <a:lnTo>
                      <a:pt x="698" y="234"/>
                    </a:lnTo>
                    <a:lnTo>
                      <a:pt x="704" y="232"/>
                    </a:lnTo>
                    <a:lnTo>
                      <a:pt x="708" y="232"/>
                    </a:lnTo>
                    <a:lnTo>
                      <a:pt x="713" y="230"/>
                    </a:lnTo>
                    <a:lnTo>
                      <a:pt x="719" y="228"/>
                    </a:lnTo>
                    <a:lnTo>
                      <a:pt x="725" y="226"/>
                    </a:lnTo>
                    <a:lnTo>
                      <a:pt x="732" y="224"/>
                    </a:lnTo>
                    <a:lnTo>
                      <a:pt x="738" y="221"/>
                    </a:lnTo>
                    <a:lnTo>
                      <a:pt x="744" y="219"/>
                    </a:lnTo>
                    <a:lnTo>
                      <a:pt x="751" y="217"/>
                    </a:lnTo>
                    <a:lnTo>
                      <a:pt x="759" y="213"/>
                    </a:lnTo>
                    <a:lnTo>
                      <a:pt x="766" y="211"/>
                    </a:lnTo>
                    <a:lnTo>
                      <a:pt x="774" y="207"/>
                    </a:lnTo>
                    <a:lnTo>
                      <a:pt x="782" y="204"/>
                    </a:lnTo>
                    <a:lnTo>
                      <a:pt x="789" y="202"/>
                    </a:lnTo>
                    <a:lnTo>
                      <a:pt x="797" y="198"/>
                    </a:lnTo>
                    <a:lnTo>
                      <a:pt x="806" y="194"/>
                    </a:lnTo>
                    <a:lnTo>
                      <a:pt x="814" y="190"/>
                    </a:lnTo>
                    <a:lnTo>
                      <a:pt x="824" y="186"/>
                    </a:lnTo>
                    <a:lnTo>
                      <a:pt x="831" y="183"/>
                    </a:lnTo>
                    <a:lnTo>
                      <a:pt x="841" y="181"/>
                    </a:lnTo>
                    <a:lnTo>
                      <a:pt x="848" y="175"/>
                    </a:lnTo>
                    <a:lnTo>
                      <a:pt x="858" y="173"/>
                    </a:lnTo>
                    <a:lnTo>
                      <a:pt x="867" y="169"/>
                    </a:lnTo>
                    <a:lnTo>
                      <a:pt x="877" y="166"/>
                    </a:lnTo>
                    <a:lnTo>
                      <a:pt x="886" y="162"/>
                    </a:lnTo>
                    <a:lnTo>
                      <a:pt x="896" y="160"/>
                    </a:lnTo>
                    <a:lnTo>
                      <a:pt x="907" y="156"/>
                    </a:lnTo>
                    <a:lnTo>
                      <a:pt x="917" y="152"/>
                    </a:lnTo>
                    <a:lnTo>
                      <a:pt x="926" y="148"/>
                    </a:lnTo>
                    <a:lnTo>
                      <a:pt x="938" y="147"/>
                    </a:lnTo>
                    <a:lnTo>
                      <a:pt x="947" y="143"/>
                    </a:lnTo>
                    <a:lnTo>
                      <a:pt x="959" y="139"/>
                    </a:lnTo>
                    <a:lnTo>
                      <a:pt x="968" y="137"/>
                    </a:lnTo>
                    <a:lnTo>
                      <a:pt x="979" y="135"/>
                    </a:lnTo>
                    <a:lnTo>
                      <a:pt x="989" y="131"/>
                    </a:lnTo>
                    <a:lnTo>
                      <a:pt x="1000" y="129"/>
                    </a:lnTo>
                    <a:lnTo>
                      <a:pt x="1012" y="128"/>
                    </a:lnTo>
                    <a:lnTo>
                      <a:pt x="1023" y="126"/>
                    </a:lnTo>
                    <a:lnTo>
                      <a:pt x="1033" y="122"/>
                    </a:lnTo>
                    <a:lnTo>
                      <a:pt x="1044" y="120"/>
                    </a:lnTo>
                    <a:lnTo>
                      <a:pt x="1056" y="120"/>
                    </a:lnTo>
                    <a:lnTo>
                      <a:pt x="1067" y="118"/>
                    </a:lnTo>
                    <a:lnTo>
                      <a:pt x="1078" y="116"/>
                    </a:lnTo>
                    <a:lnTo>
                      <a:pt x="1090" y="116"/>
                    </a:lnTo>
                    <a:lnTo>
                      <a:pt x="1099" y="114"/>
                    </a:lnTo>
                    <a:lnTo>
                      <a:pt x="1113" y="114"/>
                    </a:lnTo>
                    <a:lnTo>
                      <a:pt x="1122" y="114"/>
                    </a:lnTo>
                    <a:lnTo>
                      <a:pt x="1132" y="112"/>
                    </a:lnTo>
                    <a:lnTo>
                      <a:pt x="1141" y="112"/>
                    </a:lnTo>
                    <a:lnTo>
                      <a:pt x="1151" y="114"/>
                    </a:lnTo>
                    <a:lnTo>
                      <a:pt x="1156" y="114"/>
                    </a:lnTo>
                    <a:lnTo>
                      <a:pt x="1164" y="114"/>
                    </a:lnTo>
                    <a:lnTo>
                      <a:pt x="1172" y="116"/>
                    </a:lnTo>
                    <a:lnTo>
                      <a:pt x="1177" y="118"/>
                    </a:lnTo>
                    <a:lnTo>
                      <a:pt x="1181" y="120"/>
                    </a:lnTo>
                    <a:lnTo>
                      <a:pt x="1185" y="122"/>
                    </a:lnTo>
                    <a:lnTo>
                      <a:pt x="1189" y="124"/>
                    </a:lnTo>
                    <a:lnTo>
                      <a:pt x="1191" y="128"/>
                    </a:lnTo>
                    <a:lnTo>
                      <a:pt x="1194" y="131"/>
                    </a:lnTo>
                    <a:lnTo>
                      <a:pt x="1198" y="139"/>
                    </a:lnTo>
                    <a:lnTo>
                      <a:pt x="1196" y="147"/>
                    </a:lnTo>
                    <a:lnTo>
                      <a:pt x="1192" y="156"/>
                    </a:lnTo>
                    <a:lnTo>
                      <a:pt x="1191" y="160"/>
                    </a:lnTo>
                    <a:lnTo>
                      <a:pt x="1189" y="166"/>
                    </a:lnTo>
                    <a:lnTo>
                      <a:pt x="1185" y="169"/>
                    </a:lnTo>
                    <a:lnTo>
                      <a:pt x="1183" y="175"/>
                    </a:lnTo>
                    <a:lnTo>
                      <a:pt x="1179" y="181"/>
                    </a:lnTo>
                    <a:lnTo>
                      <a:pt x="1173" y="186"/>
                    </a:lnTo>
                    <a:lnTo>
                      <a:pt x="1170" y="192"/>
                    </a:lnTo>
                    <a:lnTo>
                      <a:pt x="1164" y="200"/>
                    </a:lnTo>
                    <a:lnTo>
                      <a:pt x="1158" y="204"/>
                    </a:lnTo>
                    <a:lnTo>
                      <a:pt x="1154" y="211"/>
                    </a:lnTo>
                    <a:lnTo>
                      <a:pt x="1147" y="219"/>
                    </a:lnTo>
                    <a:lnTo>
                      <a:pt x="1143" y="226"/>
                    </a:lnTo>
                    <a:lnTo>
                      <a:pt x="1135" y="232"/>
                    </a:lnTo>
                    <a:lnTo>
                      <a:pt x="1128" y="240"/>
                    </a:lnTo>
                    <a:lnTo>
                      <a:pt x="1120" y="247"/>
                    </a:lnTo>
                    <a:lnTo>
                      <a:pt x="1114" y="255"/>
                    </a:lnTo>
                    <a:lnTo>
                      <a:pt x="1107" y="262"/>
                    </a:lnTo>
                    <a:lnTo>
                      <a:pt x="1099" y="270"/>
                    </a:lnTo>
                    <a:lnTo>
                      <a:pt x="1090" y="278"/>
                    </a:lnTo>
                    <a:lnTo>
                      <a:pt x="1082" y="287"/>
                    </a:lnTo>
                    <a:lnTo>
                      <a:pt x="1075" y="295"/>
                    </a:lnTo>
                    <a:lnTo>
                      <a:pt x="1065" y="302"/>
                    </a:lnTo>
                    <a:lnTo>
                      <a:pt x="1057" y="310"/>
                    </a:lnTo>
                    <a:lnTo>
                      <a:pt x="1050" y="320"/>
                    </a:lnTo>
                    <a:lnTo>
                      <a:pt x="1040" y="329"/>
                    </a:lnTo>
                    <a:lnTo>
                      <a:pt x="1033" y="339"/>
                    </a:lnTo>
                    <a:lnTo>
                      <a:pt x="1023" y="346"/>
                    </a:lnTo>
                    <a:lnTo>
                      <a:pt x="1016" y="358"/>
                    </a:lnTo>
                    <a:lnTo>
                      <a:pt x="1006" y="365"/>
                    </a:lnTo>
                    <a:lnTo>
                      <a:pt x="998" y="375"/>
                    </a:lnTo>
                    <a:lnTo>
                      <a:pt x="989" y="384"/>
                    </a:lnTo>
                    <a:lnTo>
                      <a:pt x="981" y="396"/>
                    </a:lnTo>
                    <a:lnTo>
                      <a:pt x="972" y="405"/>
                    </a:lnTo>
                    <a:lnTo>
                      <a:pt x="964" y="415"/>
                    </a:lnTo>
                    <a:lnTo>
                      <a:pt x="957" y="426"/>
                    </a:lnTo>
                    <a:lnTo>
                      <a:pt x="949" y="435"/>
                    </a:lnTo>
                    <a:lnTo>
                      <a:pt x="940" y="445"/>
                    </a:lnTo>
                    <a:lnTo>
                      <a:pt x="932" y="456"/>
                    </a:lnTo>
                    <a:lnTo>
                      <a:pt x="924" y="466"/>
                    </a:lnTo>
                    <a:lnTo>
                      <a:pt x="917" y="477"/>
                    </a:lnTo>
                    <a:lnTo>
                      <a:pt x="909" y="489"/>
                    </a:lnTo>
                    <a:lnTo>
                      <a:pt x="903" y="500"/>
                    </a:lnTo>
                    <a:lnTo>
                      <a:pt x="896" y="510"/>
                    </a:lnTo>
                    <a:lnTo>
                      <a:pt x="890" y="521"/>
                    </a:lnTo>
                    <a:lnTo>
                      <a:pt x="884" y="532"/>
                    </a:lnTo>
                    <a:lnTo>
                      <a:pt x="879" y="542"/>
                    </a:lnTo>
                    <a:lnTo>
                      <a:pt x="873" y="553"/>
                    </a:lnTo>
                    <a:lnTo>
                      <a:pt x="869" y="563"/>
                    </a:lnTo>
                    <a:lnTo>
                      <a:pt x="863" y="572"/>
                    </a:lnTo>
                    <a:lnTo>
                      <a:pt x="860" y="582"/>
                    </a:lnTo>
                    <a:lnTo>
                      <a:pt x="858" y="591"/>
                    </a:lnTo>
                    <a:lnTo>
                      <a:pt x="854" y="603"/>
                    </a:lnTo>
                    <a:lnTo>
                      <a:pt x="852" y="610"/>
                    </a:lnTo>
                    <a:lnTo>
                      <a:pt x="850" y="620"/>
                    </a:lnTo>
                    <a:lnTo>
                      <a:pt x="848" y="627"/>
                    </a:lnTo>
                    <a:lnTo>
                      <a:pt x="846" y="637"/>
                    </a:lnTo>
                    <a:lnTo>
                      <a:pt x="844" y="644"/>
                    </a:lnTo>
                    <a:lnTo>
                      <a:pt x="844" y="654"/>
                    </a:lnTo>
                    <a:lnTo>
                      <a:pt x="844" y="662"/>
                    </a:lnTo>
                    <a:lnTo>
                      <a:pt x="844" y="671"/>
                    </a:lnTo>
                    <a:lnTo>
                      <a:pt x="844" y="679"/>
                    </a:lnTo>
                    <a:lnTo>
                      <a:pt x="844" y="686"/>
                    </a:lnTo>
                    <a:lnTo>
                      <a:pt x="846" y="694"/>
                    </a:lnTo>
                    <a:lnTo>
                      <a:pt x="846" y="702"/>
                    </a:lnTo>
                    <a:lnTo>
                      <a:pt x="848" y="709"/>
                    </a:lnTo>
                    <a:lnTo>
                      <a:pt x="850" y="717"/>
                    </a:lnTo>
                    <a:lnTo>
                      <a:pt x="852" y="724"/>
                    </a:lnTo>
                    <a:lnTo>
                      <a:pt x="854" y="732"/>
                    </a:lnTo>
                    <a:lnTo>
                      <a:pt x="856" y="740"/>
                    </a:lnTo>
                    <a:lnTo>
                      <a:pt x="858" y="745"/>
                    </a:lnTo>
                    <a:lnTo>
                      <a:pt x="860" y="753"/>
                    </a:lnTo>
                    <a:lnTo>
                      <a:pt x="862" y="760"/>
                    </a:lnTo>
                    <a:lnTo>
                      <a:pt x="865" y="768"/>
                    </a:lnTo>
                    <a:lnTo>
                      <a:pt x="867" y="776"/>
                    </a:lnTo>
                    <a:lnTo>
                      <a:pt x="871" y="783"/>
                    </a:lnTo>
                    <a:lnTo>
                      <a:pt x="873" y="791"/>
                    </a:lnTo>
                    <a:lnTo>
                      <a:pt x="877" y="797"/>
                    </a:lnTo>
                    <a:lnTo>
                      <a:pt x="879" y="804"/>
                    </a:lnTo>
                    <a:lnTo>
                      <a:pt x="881" y="812"/>
                    </a:lnTo>
                    <a:lnTo>
                      <a:pt x="884" y="819"/>
                    </a:lnTo>
                    <a:lnTo>
                      <a:pt x="886" y="827"/>
                    </a:lnTo>
                    <a:lnTo>
                      <a:pt x="890" y="835"/>
                    </a:lnTo>
                    <a:lnTo>
                      <a:pt x="892" y="842"/>
                    </a:lnTo>
                    <a:lnTo>
                      <a:pt x="896" y="850"/>
                    </a:lnTo>
                    <a:lnTo>
                      <a:pt x="898" y="857"/>
                    </a:lnTo>
                    <a:lnTo>
                      <a:pt x="900" y="865"/>
                    </a:lnTo>
                    <a:lnTo>
                      <a:pt x="901" y="873"/>
                    </a:lnTo>
                    <a:lnTo>
                      <a:pt x="905" y="882"/>
                    </a:lnTo>
                    <a:lnTo>
                      <a:pt x="907" y="890"/>
                    </a:lnTo>
                    <a:lnTo>
                      <a:pt x="907" y="899"/>
                    </a:lnTo>
                    <a:lnTo>
                      <a:pt x="909" y="907"/>
                    </a:lnTo>
                    <a:lnTo>
                      <a:pt x="913" y="916"/>
                    </a:lnTo>
                    <a:lnTo>
                      <a:pt x="913" y="924"/>
                    </a:lnTo>
                    <a:lnTo>
                      <a:pt x="915" y="933"/>
                    </a:lnTo>
                    <a:lnTo>
                      <a:pt x="915" y="943"/>
                    </a:lnTo>
                    <a:lnTo>
                      <a:pt x="917" y="952"/>
                    </a:lnTo>
                    <a:lnTo>
                      <a:pt x="917" y="962"/>
                    </a:lnTo>
                    <a:lnTo>
                      <a:pt x="917" y="971"/>
                    </a:lnTo>
                    <a:lnTo>
                      <a:pt x="917" y="981"/>
                    </a:lnTo>
                    <a:lnTo>
                      <a:pt x="917" y="992"/>
                    </a:lnTo>
                    <a:lnTo>
                      <a:pt x="917" y="1002"/>
                    </a:lnTo>
                    <a:lnTo>
                      <a:pt x="915" y="1013"/>
                    </a:lnTo>
                    <a:lnTo>
                      <a:pt x="913" y="1025"/>
                    </a:lnTo>
                    <a:lnTo>
                      <a:pt x="913" y="1036"/>
                    </a:lnTo>
                    <a:lnTo>
                      <a:pt x="909" y="1047"/>
                    </a:lnTo>
                    <a:lnTo>
                      <a:pt x="907" y="1059"/>
                    </a:lnTo>
                    <a:lnTo>
                      <a:pt x="905" y="1072"/>
                    </a:lnTo>
                    <a:lnTo>
                      <a:pt x="903" y="1083"/>
                    </a:lnTo>
                    <a:lnTo>
                      <a:pt x="898" y="1095"/>
                    </a:lnTo>
                    <a:lnTo>
                      <a:pt x="894" y="1108"/>
                    </a:lnTo>
                    <a:lnTo>
                      <a:pt x="890" y="1120"/>
                    </a:lnTo>
                    <a:lnTo>
                      <a:pt x="886" y="1131"/>
                    </a:lnTo>
                    <a:lnTo>
                      <a:pt x="881" y="1142"/>
                    </a:lnTo>
                    <a:lnTo>
                      <a:pt x="877" y="1154"/>
                    </a:lnTo>
                    <a:lnTo>
                      <a:pt x="873" y="1165"/>
                    </a:lnTo>
                    <a:lnTo>
                      <a:pt x="869" y="1177"/>
                    </a:lnTo>
                    <a:lnTo>
                      <a:pt x="863" y="1188"/>
                    </a:lnTo>
                    <a:lnTo>
                      <a:pt x="858" y="1198"/>
                    </a:lnTo>
                    <a:lnTo>
                      <a:pt x="852" y="1209"/>
                    </a:lnTo>
                    <a:lnTo>
                      <a:pt x="848" y="1220"/>
                    </a:lnTo>
                    <a:lnTo>
                      <a:pt x="843" y="1230"/>
                    </a:lnTo>
                    <a:lnTo>
                      <a:pt x="837" y="1239"/>
                    </a:lnTo>
                    <a:lnTo>
                      <a:pt x="831" y="1251"/>
                    </a:lnTo>
                    <a:lnTo>
                      <a:pt x="825" y="1260"/>
                    </a:lnTo>
                    <a:lnTo>
                      <a:pt x="820" y="1270"/>
                    </a:lnTo>
                    <a:lnTo>
                      <a:pt x="814" y="1279"/>
                    </a:lnTo>
                    <a:lnTo>
                      <a:pt x="808" y="1287"/>
                    </a:lnTo>
                    <a:lnTo>
                      <a:pt x="803" y="1296"/>
                    </a:lnTo>
                    <a:lnTo>
                      <a:pt x="797" y="1306"/>
                    </a:lnTo>
                    <a:lnTo>
                      <a:pt x="789" y="1313"/>
                    </a:lnTo>
                    <a:lnTo>
                      <a:pt x="784" y="1323"/>
                    </a:lnTo>
                    <a:lnTo>
                      <a:pt x="780" y="1331"/>
                    </a:lnTo>
                    <a:lnTo>
                      <a:pt x="772" y="1338"/>
                    </a:lnTo>
                    <a:lnTo>
                      <a:pt x="766" y="1346"/>
                    </a:lnTo>
                    <a:lnTo>
                      <a:pt x="761" y="1353"/>
                    </a:lnTo>
                    <a:lnTo>
                      <a:pt x="755" y="1361"/>
                    </a:lnTo>
                    <a:lnTo>
                      <a:pt x="749" y="1369"/>
                    </a:lnTo>
                    <a:lnTo>
                      <a:pt x="744" y="1376"/>
                    </a:lnTo>
                    <a:lnTo>
                      <a:pt x="738" y="1382"/>
                    </a:lnTo>
                    <a:lnTo>
                      <a:pt x="732" y="1391"/>
                    </a:lnTo>
                    <a:lnTo>
                      <a:pt x="727" y="1397"/>
                    </a:lnTo>
                    <a:lnTo>
                      <a:pt x="721" y="1403"/>
                    </a:lnTo>
                    <a:lnTo>
                      <a:pt x="715" y="1408"/>
                    </a:lnTo>
                    <a:lnTo>
                      <a:pt x="709" y="1414"/>
                    </a:lnTo>
                    <a:lnTo>
                      <a:pt x="704" y="1420"/>
                    </a:lnTo>
                    <a:lnTo>
                      <a:pt x="698" y="1426"/>
                    </a:lnTo>
                    <a:lnTo>
                      <a:pt x="692" y="1429"/>
                    </a:lnTo>
                    <a:lnTo>
                      <a:pt x="688" y="1437"/>
                    </a:lnTo>
                    <a:lnTo>
                      <a:pt x="683" y="1441"/>
                    </a:lnTo>
                    <a:lnTo>
                      <a:pt x="677" y="1445"/>
                    </a:lnTo>
                    <a:lnTo>
                      <a:pt x="673" y="1448"/>
                    </a:lnTo>
                    <a:lnTo>
                      <a:pt x="669" y="1454"/>
                    </a:lnTo>
                    <a:lnTo>
                      <a:pt x="660" y="1462"/>
                    </a:lnTo>
                    <a:lnTo>
                      <a:pt x="652" y="1469"/>
                    </a:lnTo>
                    <a:lnTo>
                      <a:pt x="645" y="1475"/>
                    </a:lnTo>
                    <a:lnTo>
                      <a:pt x="637" y="1483"/>
                    </a:lnTo>
                    <a:lnTo>
                      <a:pt x="631" y="1486"/>
                    </a:lnTo>
                    <a:lnTo>
                      <a:pt x="628" y="1490"/>
                    </a:lnTo>
                    <a:lnTo>
                      <a:pt x="620" y="1496"/>
                    </a:lnTo>
                    <a:lnTo>
                      <a:pt x="618" y="1498"/>
                    </a:lnTo>
                    <a:lnTo>
                      <a:pt x="352" y="1372"/>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3" name="Freeform 201"/>
              <p:cNvSpPr/>
              <p:nvPr/>
            </p:nvSpPr>
            <p:spPr>
              <a:xfrm rot="20586600">
                <a:off x="6341040" y="1557720"/>
                <a:ext cx="247680" cy="917640"/>
              </a:xfrm>
              <a:custGeom>
                <a:avLst/>
                <a:gdLst>
                  <a:gd name="textAreaLeft" fmla="*/ 0 w 247680"/>
                  <a:gd name="textAreaRight" fmla="*/ 248040 w 247680"/>
                  <a:gd name="textAreaTop" fmla="*/ 0 h 917640"/>
                  <a:gd name="textAreaBottom" fmla="*/ 918000 h 917640"/>
                </a:gdLst>
                <a:ahLst/>
                <a:rect l="textAreaLeft" t="textAreaTop" r="textAreaRight" b="textAreaBottom"/>
                <a:pathLst>
                  <a:path w="379" h="1369">
                    <a:moveTo>
                      <a:pt x="371" y="44"/>
                    </a:moveTo>
                    <a:lnTo>
                      <a:pt x="322" y="86"/>
                    </a:lnTo>
                    <a:lnTo>
                      <a:pt x="301" y="107"/>
                    </a:lnTo>
                    <a:lnTo>
                      <a:pt x="278" y="124"/>
                    </a:lnTo>
                    <a:lnTo>
                      <a:pt x="259" y="145"/>
                    </a:lnTo>
                    <a:lnTo>
                      <a:pt x="238" y="162"/>
                    </a:lnTo>
                    <a:lnTo>
                      <a:pt x="230" y="173"/>
                    </a:lnTo>
                    <a:lnTo>
                      <a:pt x="221" y="181"/>
                    </a:lnTo>
                    <a:lnTo>
                      <a:pt x="202" y="202"/>
                    </a:lnTo>
                    <a:lnTo>
                      <a:pt x="194" y="211"/>
                    </a:lnTo>
                    <a:lnTo>
                      <a:pt x="190" y="217"/>
                    </a:lnTo>
                    <a:lnTo>
                      <a:pt x="185" y="221"/>
                    </a:lnTo>
                    <a:lnTo>
                      <a:pt x="177" y="232"/>
                    </a:lnTo>
                    <a:lnTo>
                      <a:pt x="170" y="244"/>
                    </a:lnTo>
                    <a:lnTo>
                      <a:pt x="162" y="253"/>
                    </a:lnTo>
                    <a:lnTo>
                      <a:pt x="154" y="266"/>
                    </a:lnTo>
                    <a:lnTo>
                      <a:pt x="149" y="278"/>
                    </a:lnTo>
                    <a:lnTo>
                      <a:pt x="141" y="287"/>
                    </a:lnTo>
                    <a:lnTo>
                      <a:pt x="133" y="299"/>
                    </a:lnTo>
                    <a:lnTo>
                      <a:pt x="128" y="314"/>
                    </a:lnTo>
                    <a:lnTo>
                      <a:pt x="120" y="327"/>
                    </a:lnTo>
                    <a:lnTo>
                      <a:pt x="114" y="340"/>
                    </a:lnTo>
                    <a:lnTo>
                      <a:pt x="109" y="354"/>
                    </a:lnTo>
                    <a:lnTo>
                      <a:pt x="105" y="369"/>
                    </a:lnTo>
                    <a:lnTo>
                      <a:pt x="99" y="382"/>
                    </a:lnTo>
                    <a:lnTo>
                      <a:pt x="95" y="399"/>
                    </a:lnTo>
                    <a:lnTo>
                      <a:pt x="92" y="407"/>
                    </a:lnTo>
                    <a:lnTo>
                      <a:pt x="92" y="416"/>
                    </a:lnTo>
                    <a:lnTo>
                      <a:pt x="90" y="424"/>
                    </a:lnTo>
                    <a:lnTo>
                      <a:pt x="86" y="435"/>
                    </a:lnTo>
                    <a:lnTo>
                      <a:pt x="86" y="443"/>
                    </a:lnTo>
                    <a:lnTo>
                      <a:pt x="86" y="451"/>
                    </a:lnTo>
                    <a:lnTo>
                      <a:pt x="86" y="462"/>
                    </a:lnTo>
                    <a:lnTo>
                      <a:pt x="86" y="470"/>
                    </a:lnTo>
                    <a:lnTo>
                      <a:pt x="86" y="477"/>
                    </a:lnTo>
                    <a:lnTo>
                      <a:pt x="90" y="485"/>
                    </a:lnTo>
                    <a:lnTo>
                      <a:pt x="92" y="493"/>
                    </a:lnTo>
                    <a:lnTo>
                      <a:pt x="92" y="502"/>
                    </a:lnTo>
                    <a:lnTo>
                      <a:pt x="95" y="508"/>
                    </a:lnTo>
                    <a:lnTo>
                      <a:pt x="97" y="515"/>
                    </a:lnTo>
                    <a:lnTo>
                      <a:pt x="101" y="532"/>
                    </a:lnTo>
                    <a:lnTo>
                      <a:pt x="109" y="548"/>
                    </a:lnTo>
                    <a:lnTo>
                      <a:pt x="114" y="561"/>
                    </a:lnTo>
                    <a:lnTo>
                      <a:pt x="130" y="595"/>
                    </a:lnTo>
                    <a:lnTo>
                      <a:pt x="145" y="626"/>
                    </a:lnTo>
                    <a:lnTo>
                      <a:pt x="156" y="645"/>
                    </a:lnTo>
                    <a:lnTo>
                      <a:pt x="162" y="662"/>
                    </a:lnTo>
                    <a:lnTo>
                      <a:pt x="168" y="673"/>
                    </a:lnTo>
                    <a:lnTo>
                      <a:pt x="171" y="684"/>
                    </a:lnTo>
                    <a:lnTo>
                      <a:pt x="175" y="696"/>
                    </a:lnTo>
                    <a:lnTo>
                      <a:pt x="179" y="707"/>
                    </a:lnTo>
                    <a:lnTo>
                      <a:pt x="181" y="719"/>
                    </a:lnTo>
                    <a:lnTo>
                      <a:pt x="185" y="730"/>
                    </a:lnTo>
                    <a:lnTo>
                      <a:pt x="187" y="741"/>
                    </a:lnTo>
                    <a:lnTo>
                      <a:pt x="187" y="751"/>
                    </a:lnTo>
                    <a:lnTo>
                      <a:pt x="190" y="762"/>
                    </a:lnTo>
                    <a:lnTo>
                      <a:pt x="192" y="774"/>
                    </a:lnTo>
                    <a:lnTo>
                      <a:pt x="192" y="783"/>
                    </a:lnTo>
                    <a:lnTo>
                      <a:pt x="192" y="795"/>
                    </a:lnTo>
                    <a:lnTo>
                      <a:pt x="192" y="804"/>
                    </a:lnTo>
                    <a:lnTo>
                      <a:pt x="192" y="814"/>
                    </a:lnTo>
                    <a:lnTo>
                      <a:pt x="192" y="825"/>
                    </a:lnTo>
                    <a:lnTo>
                      <a:pt x="190" y="835"/>
                    </a:lnTo>
                    <a:lnTo>
                      <a:pt x="190" y="846"/>
                    </a:lnTo>
                    <a:lnTo>
                      <a:pt x="187" y="855"/>
                    </a:lnTo>
                    <a:lnTo>
                      <a:pt x="185" y="876"/>
                    </a:lnTo>
                    <a:lnTo>
                      <a:pt x="179" y="897"/>
                    </a:lnTo>
                    <a:lnTo>
                      <a:pt x="177" y="907"/>
                    </a:lnTo>
                    <a:lnTo>
                      <a:pt x="173" y="914"/>
                    </a:lnTo>
                    <a:lnTo>
                      <a:pt x="168" y="935"/>
                    </a:lnTo>
                    <a:lnTo>
                      <a:pt x="162" y="956"/>
                    </a:lnTo>
                    <a:lnTo>
                      <a:pt x="156" y="975"/>
                    </a:lnTo>
                    <a:lnTo>
                      <a:pt x="149" y="996"/>
                    </a:lnTo>
                    <a:lnTo>
                      <a:pt x="132" y="1036"/>
                    </a:lnTo>
                    <a:lnTo>
                      <a:pt x="114" y="1076"/>
                    </a:lnTo>
                    <a:lnTo>
                      <a:pt x="99" y="1116"/>
                    </a:lnTo>
                    <a:lnTo>
                      <a:pt x="92" y="1137"/>
                    </a:lnTo>
                    <a:lnTo>
                      <a:pt x="84" y="1160"/>
                    </a:lnTo>
                    <a:lnTo>
                      <a:pt x="76" y="1180"/>
                    </a:lnTo>
                    <a:lnTo>
                      <a:pt x="71" y="1201"/>
                    </a:lnTo>
                    <a:lnTo>
                      <a:pt x="65" y="1226"/>
                    </a:lnTo>
                    <a:lnTo>
                      <a:pt x="63" y="1236"/>
                    </a:lnTo>
                    <a:lnTo>
                      <a:pt x="61" y="1247"/>
                    </a:lnTo>
                    <a:lnTo>
                      <a:pt x="55" y="1270"/>
                    </a:lnTo>
                    <a:lnTo>
                      <a:pt x="55" y="1281"/>
                    </a:lnTo>
                    <a:lnTo>
                      <a:pt x="54" y="1296"/>
                    </a:lnTo>
                    <a:lnTo>
                      <a:pt x="54" y="1306"/>
                    </a:lnTo>
                    <a:lnTo>
                      <a:pt x="50" y="1321"/>
                    </a:lnTo>
                    <a:lnTo>
                      <a:pt x="50" y="1331"/>
                    </a:lnTo>
                    <a:lnTo>
                      <a:pt x="50" y="1344"/>
                    </a:lnTo>
                    <a:lnTo>
                      <a:pt x="50" y="1348"/>
                    </a:lnTo>
                    <a:lnTo>
                      <a:pt x="50" y="1350"/>
                    </a:lnTo>
                    <a:lnTo>
                      <a:pt x="48" y="1355"/>
                    </a:lnTo>
                    <a:lnTo>
                      <a:pt x="46" y="1357"/>
                    </a:lnTo>
                    <a:lnTo>
                      <a:pt x="46" y="1361"/>
                    </a:lnTo>
                    <a:lnTo>
                      <a:pt x="44" y="1361"/>
                    </a:lnTo>
                    <a:lnTo>
                      <a:pt x="42" y="1363"/>
                    </a:lnTo>
                    <a:lnTo>
                      <a:pt x="40" y="1367"/>
                    </a:lnTo>
                    <a:lnTo>
                      <a:pt x="35" y="1367"/>
                    </a:lnTo>
                    <a:lnTo>
                      <a:pt x="33" y="1369"/>
                    </a:lnTo>
                    <a:lnTo>
                      <a:pt x="31" y="1369"/>
                    </a:lnTo>
                    <a:lnTo>
                      <a:pt x="27" y="1369"/>
                    </a:lnTo>
                    <a:lnTo>
                      <a:pt x="23" y="1369"/>
                    </a:lnTo>
                    <a:lnTo>
                      <a:pt x="19" y="1369"/>
                    </a:lnTo>
                    <a:lnTo>
                      <a:pt x="17" y="1367"/>
                    </a:lnTo>
                    <a:lnTo>
                      <a:pt x="12" y="1367"/>
                    </a:lnTo>
                    <a:lnTo>
                      <a:pt x="8" y="1363"/>
                    </a:lnTo>
                    <a:lnTo>
                      <a:pt x="8" y="1361"/>
                    </a:lnTo>
                    <a:lnTo>
                      <a:pt x="6" y="1361"/>
                    </a:lnTo>
                    <a:lnTo>
                      <a:pt x="4" y="1355"/>
                    </a:lnTo>
                    <a:lnTo>
                      <a:pt x="2" y="1350"/>
                    </a:lnTo>
                    <a:lnTo>
                      <a:pt x="0" y="1348"/>
                    </a:lnTo>
                    <a:lnTo>
                      <a:pt x="0" y="1344"/>
                    </a:lnTo>
                    <a:lnTo>
                      <a:pt x="0" y="1333"/>
                    </a:lnTo>
                    <a:lnTo>
                      <a:pt x="2" y="1321"/>
                    </a:lnTo>
                    <a:lnTo>
                      <a:pt x="2" y="1308"/>
                    </a:lnTo>
                    <a:lnTo>
                      <a:pt x="4" y="1296"/>
                    </a:lnTo>
                    <a:lnTo>
                      <a:pt x="4" y="1283"/>
                    </a:lnTo>
                    <a:lnTo>
                      <a:pt x="6" y="1274"/>
                    </a:lnTo>
                    <a:lnTo>
                      <a:pt x="8" y="1262"/>
                    </a:lnTo>
                    <a:lnTo>
                      <a:pt x="10" y="1249"/>
                    </a:lnTo>
                    <a:lnTo>
                      <a:pt x="12" y="1239"/>
                    </a:lnTo>
                    <a:lnTo>
                      <a:pt x="14" y="1228"/>
                    </a:lnTo>
                    <a:lnTo>
                      <a:pt x="19" y="1205"/>
                    </a:lnTo>
                    <a:lnTo>
                      <a:pt x="27" y="1186"/>
                    </a:lnTo>
                    <a:lnTo>
                      <a:pt x="33" y="1165"/>
                    </a:lnTo>
                    <a:lnTo>
                      <a:pt x="40" y="1142"/>
                    </a:lnTo>
                    <a:lnTo>
                      <a:pt x="48" y="1123"/>
                    </a:lnTo>
                    <a:lnTo>
                      <a:pt x="55" y="1103"/>
                    </a:lnTo>
                    <a:lnTo>
                      <a:pt x="65" y="1082"/>
                    </a:lnTo>
                    <a:lnTo>
                      <a:pt x="97" y="1006"/>
                    </a:lnTo>
                    <a:lnTo>
                      <a:pt x="105" y="987"/>
                    </a:lnTo>
                    <a:lnTo>
                      <a:pt x="112" y="968"/>
                    </a:lnTo>
                    <a:lnTo>
                      <a:pt x="120" y="947"/>
                    </a:lnTo>
                    <a:lnTo>
                      <a:pt x="126" y="930"/>
                    </a:lnTo>
                    <a:lnTo>
                      <a:pt x="132" y="909"/>
                    </a:lnTo>
                    <a:lnTo>
                      <a:pt x="135" y="890"/>
                    </a:lnTo>
                    <a:lnTo>
                      <a:pt x="137" y="880"/>
                    </a:lnTo>
                    <a:lnTo>
                      <a:pt x="139" y="871"/>
                    </a:lnTo>
                    <a:lnTo>
                      <a:pt x="141" y="861"/>
                    </a:lnTo>
                    <a:lnTo>
                      <a:pt x="141" y="850"/>
                    </a:lnTo>
                    <a:lnTo>
                      <a:pt x="143" y="840"/>
                    </a:lnTo>
                    <a:lnTo>
                      <a:pt x="145" y="831"/>
                    </a:lnTo>
                    <a:lnTo>
                      <a:pt x="145" y="819"/>
                    </a:lnTo>
                    <a:lnTo>
                      <a:pt x="145" y="810"/>
                    </a:lnTo>
                    <a:lnTo>
                      <a:pt x="145" y="800"/>
                    </a:lnTo>
                    <a:lnTo>
                      <a:pt x="143" y="791"/>
                    </a:lnTo>
                    <a:lnTo>
                      <a:pt x="143" y="779"/>
                    </a:lnTo>
                    <a:lnTo>
                      <a:pt x="141" y="768"/>
                    </a:lnTo>
                    <a:lnTo>
                      <a:pt x="139" y="757"/>
                    </a:lnTo>
                    <a:lnTo>
                      <a:pt x="137" y="747"/>
                    </a:lnTo>
                    <a:lnTo>
                      <a:pt x="133" y="726"/>
                    </a:lnTo>
                    <a:lnTo>
                      <a:pt x="130" y="715"/>
                    </a:lnTo>
                    <a:lnTo>
                      <a:pt x="126" y="703"/>
                    </a:lnTo>
                    <a:lnTo>
                      <a:pt x="120" y="694"/>
                    </a:lnTo>
                    <a:lnTo>
                      <a:pt x="114" y="681"/>
                    </a:lnTo>
                    <a:lnTo>
                      <a:pt x="107" y="662"/>
                    </a:lnTo>
                    <a:lnTo>
                      <a:pt x="99" y="641"/>
                    </a:lnTo>
                    <a:lnTo>
                      <a:pt x="80" y="605"/>
                    </a:lnTo>
                    <a:lnTo>
                      <a:pt x="65" y="570"/>
                    </a:lnTo>
                    <a:lnTo>
                      <a:pt x="59" y="551"/>
                    </a:lnTo>
                    <a:lnTo>
                      <a:pt x="50" y="534"/>
                    </a:lnTo>
                    <a:lnTo>
                      <a:pt x="48" y="525"/>
                    </a:lnTo>
                    <a:lnTo>
                      <a:pt x="46" y="517"/>
                    </a:lnTo>
                    <a:lnTo>
                      <a:pt x="44" y="508"/>
                    </a:lnTo>
                    <a:lnTo>
                      <a:pt x="42" y="500"/>
                    </a:lnTo>
                    <a:lnTo>
                      <a:pt x="40" y="489"/>
                    </a:lnTo>
                    <a:lnTo>
                      <a:pt x="38" y="481"/>
                    </a:lnTo>
                    <a:lnTo>
                      <a:pt x="36" y="472"/>
                    </a:lnTo>
                    <a:lnTo>
                      <a:pt x="36" y="464"/>
                    </a:lnTo>
                    <a:lnTo>
                      <a:pt x="36" y="453"/>
                    </a:lnTo>
                    <a:lnTo>
                      <a:pt x="36" y="445"/>
                    </a:lnTo>
                    <a:lnTo>
                      <a:pt x="36" y="435"/>
                    </a:lnTo>
                    <a:lnTo>
                      <a:pt x="38" y="424"/>
                    </a:lnTo>
                    <a:lnTo>
                      <a:pt x="40" y="415"/>
                    </a:lnTo>
                    <a:lnTo>
                      <a:pt x="40" y="405"/>
                    </a:lnTo>
                    <a:lnTo>
                      <a:pt x="44" y="394"/>
                    </a:lnTo>
                    <a:lnTo>
                      <a:pt x="46" y="384"/>
                    </a:lnTo>
                    <a:lnTo>
                      <a:pt x="50" y="369"/>
                    </a:lnTo>
                    <a:lnTo>
                      <a:pt x="55" y="352"/>
                    </a:lnTo>
                    <a:lnTo>
                      <a:pt x="63" y="335"/>
                    </a:lnTo>
                    <a:lnTo>
                      <a:pt x="69" y="321"/>
                    </a:lnTo>
                    <a:lnTo>
                      <a:pt x="74" y="308"/>
                    </a:lnTo>
                    <a:lnTo>
                      <a:pt x="80" y="293"/>
                    </a:lnTo>
                    <a:lnTo>
                      <a:pt x="86" y="280"/>
                    </a:lnTo>
                    <a:lnTo>
                      <a:pt x="95" y="268"/>
                    </a:lnTo>
                    <a:lnTo>
                      <a:pt x="101" y="255"/>
                    </a:lnTo>
                    <a:lnTo>
                      <a:pt x="109" y="242"/>
                    </a:lnTo>
                    <a:lnTo>
                      <a:pt x="126" y="219"/>
                    </a:lnTo>
                    <a:lnTo>
                      <a:pt x="141" y="198"/>
                    </a:lnTo>
                    <a:lnTo>
                      <a:pt x="151" y="185"/>
                    </a:lnTo>
                    <a:lnTo>
                      <a:pt x="160" y="175"/>
                    </a:lnTo>
                    <a:lnTo>
                      <a:pt x="170" y="166"/>
                    </a:lnTo>
                    <a:lnTo>
                      <a:pt x="177" y="152"/>
                    </a:lnTo>
                    <a:lnTo>
                      <a:pt x="198" y="131"/>
                    </a:lnTo>
                    <a:lnTo>
                      <a:pt x="209" y="122"/>
                    </a:lnTo>
                    <a:lnTo>
                      <a:pt x="221" y="112"/>
                    </a:lnTo>
                    <a:lnTo>
                      <a:pt x="242" y="92"/>
                    </a:lnTo>
                    <a:lnTo>
                      <a:pt x="263" y="73"/>
                    </a:lnTo>
                    <a:lnTo>
                      <a:pt x="287" y="52"/>
                    </a:lnTo>
                    <a:lnTo>
                      <a:pt x="337" y="6"/>
                    </a:lnTo>
                    <a:lnTo>
                      <a:pt x="343" y="4"/>
                    </a:lnTo>
                    <a:lnTo>
                      <a:pt x="344" y="2"/>
                    </a:lnTo>
                    <a:lnTo>
                      <a:pt x="346" y="2"/>
                    </a:lnTo>
                    <a:lnTo>
                      <a:pt x="350" y="0"/>
                    </a:lnTo>
                    <a:lnTo>
                      <a:pt x="352" y="0"/>
                    </a:lnTo>
                    <a:lnTo>
                      <a:pt x="358" y="0"/>
                    </a:lnTo>
                    <a:lnTo>
                      <a:pt x="362" y="2"/>
                    </a:lnTo>
                    <a:lnTo>
                      <a:pt x="365" y="4"/>
                    </a:lnTo>
                    <a:lnTo>
                      <a:pt x="369" y="6"/>
                    </a:lnTo>
                    <a:lnTo>
                      <a:pt x="373" y="8"/>
                    </a:lnTo>
                    <a:lnTo>
                      <a:pt x="375" y="12"/>
                    </a:lnTo>
                    <a:lnTo>
                      <a:pt x="377" y="15"/>
                    </a:lnTo>
                    <a:lnTo>
                      <a:pt x="379" y="21"/>
                    </a:lnTo>
                    <a:lnTo>
                      <a:pt x="379" y="23"/>
                    </a:lnTo>
                    <a:lnTo>
                      <a:pt x="379" y="25"/>
                    </a:lnTo>
                    <a:lnTo>
                      <a:pt x="379" y="31"/>
                    </a:lnTo>
                    <a:lnTo>
                      <a:pt x="377" y="33"/>
                    </a:lnTo>
                    <a:lnTo>
                      <a:pt x="377" y="36"/>
                    </a:lnTo>
                    <a:lnTo>
                      <a:pt x="375" y="38"/>
                    </a:lnTo>
                    <a:lnTo>
                      <a:pt x="375" y="40"/>
                    </a:lnTo>
                    <a:lnTo>
                      <a:pt x="373" y="42"/>
                    </a:lnTo>
                    <a:lnTo>
                      <a:pt x="37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4" name="Freeform 202"/>
              <p:cNvSpPr/>
              <p:nvPr/>
            </p:nvSpPr>
            <p:spPr>
              <a:xfrm rot="20586600">
                <a:off x="6257160" y="1875600"/>
                <a:ext cx="128160" cy="401040"/>
              </a:xfrm>
              <a:custGeom>
                <a:avLst/>
                <a:gdLst>
                  <a:gd name="textAreaLeft" fmla="*/ 0 w 128160"/>
                  <a:gd name="textAreaRight" fmla="*/ 128520 w 128160"/>
                  <a:gd name="textAreaTop" fmla="*/ 0 h 401040"/>
                  <a:gd name="textAreaBottom" fmla="*/ 401400 h 401040"/>
                </a:gdLst>
                <a:ahLst/>
                <a:rect l="textAreaLeft" t="textAreaTop" r="textAreaRight" b="textAreaBottom"/>
                <a:pathLst>
                  <a:path w="198" h="596">
                    <a:moveTo>
                      <a:pt x="124" y="24"/>
                    </a:moveTo>
                    <a:lnTo>
                      <a:pt x="112" y="39"/>
                    </a:lnTo>
                    <a:lnTo>
                      <a:pt x="103" y="53"/>
                    </a:lnTo>
                    <a:lnTo>
                      <a:pt x="91" y="70"/>
                    </a:lnTo>
                    <a:lnTo>
                      <a:pt x="82" y="85"/>
                    </a:lnTo>
                    <a:lnTo>
                      <a:pt x="74" y="98"/>
                    </a:lnTo>
                    <a:lnTo>
                      <a:pt x="67" y="112"/>
                    </a:lnTo>
                    <a:lnTo>
                      <a:pt x="59" y="125"/>
                    </a:lnTo>
                    <a:lnTo>
                      <a:pt x="59" y="133"/>
                    </a:lnTo>
                    <a:lnTo>
                      <a:pt x="55" y="138"/>
                    </a:lnTo>
                    <a:lnTo>
                      <a:pt x="50" y="154"/>
                    </a:lnTo>
                    <a:lnTo>
                      <a:pt x="48" y="161"/>
                    </a:lnTo>
                    <a:lnTo>
                      <a:pt x="48" y="167"/>
                    </a:lnTo>
                    <a:lnTo>
                      <a:pt x="46" y="174"/>
                    </a:lnTo>
                    <a:lnTo>
                      <a:pt x="46" y="182"/>
                    </a:lnTo>
                    <a:lnTo>
                      <a:pt x="46" y="190"/>
                    </a:lnTo>
                    <a:lnTo>
                      <a:pt x="46" y="195"/>
                    </a:lnTo>
                    <a:lnTo>
                      <a:pt x="46" y="211"/>
                    </a:lnTo>
                    <a:lnTo>
                      <a:pt x="46" y="218"/>
                    </a:lnTo>
                    <a:lnTo>
                      <a:pt x="48" y="226"/>
                    </a:lnTo>
                    <a:lnTo>
                      <a:pt x="48" y="233"/>
                    </a:lnTo>
                    <a:lnTo>
                      <a:pt x="52" y="241"/>
                    </a:lnTo>
                    <a:lnTo>
                      <a:pt x="53" y="249"/>
                    </a:lnTo>
                    <a:lnTo>
                      <a:pt x="55" y="258"/>
                    </a:lnTo>
                    <a:lnTo>
                      <a:pt x="61" y="268"/>
                    </a:lnTo>
                    <a:lnTo>
                      <a:pt x="65" y="273"/>
                    </a:lnTo>
                    <a:lnTo>
                      <a:pt x="67" y="277"/>
                    </a:lnTo>
                    <a:lnTo>
                      <a:pt x="74" y="288"/>
                    </a:lnTo>
                    <a:lnTo>
                      <a:pt x="76" y="292"/>
                    </a:lnTo>
                    <a:lnTo>
                      <a:pt x="80" y="298"/>
                    </a:lnTo>
                    <a:lnTo>
                      <a:pt x="88" y="306"/>
                    </a:lnTo>
                    <a:lnTo>
                      <a:pt x="95" y="313"/>
                    </a:lnTo>
                    <a:lnTo>
                      <a:pt x="112" y="328"/>
                    </a:lnTo>
                    <a:lnTo>
                      <a:pt x="128" y="342"/>
                    </a:lnTo>
                    <a:lnTo>
                      <a:pt x="137" y="349"/>
                    </a:lnTo>
                    <a:lnTo>
                      <a:pt x="145" y="361"/>
                    </a:lnTo>
                    <a:lnTo>
                      <a:pt x="152" y="368"/>
                    </a:lnTo>
                    <a:lnTo>
                      <a:pt x="160" y="376"/>
                    </a:lnTo>
                    <a:lnTo>
                      <a:pt x="169" y="385"/>
                    </a:lnTo>
                    <a:lnTo>
                      <a:pt x="175" y="397"/>
                    </a:lnTo>
                    <a:lnTo>
                      <a:pt x="181" y="408"/>
                    </a:lnTo>
                    <a:lnTo>
                      <a:pt x="187" y="421"/>
                    </a:lnTo>
                    <a:lnTo>
                      <a:pt x="188" y="427"/>
                    </a:lnTo>
                    <a:lnTo>
                      <a:pt x="190" y="433"/>
                    </a:lnTo>
                    <a:lnTo>
                      <a:pt x="192" y="437"/>
                    </a:lnTo>
                    <a:lnTo>
                      <a:pt x="196" y="442"/>
                    </a:lnTo>
                    <a:lnTo>
                      <a:pt x="196" y="456"/>
                    </a:lnTo>
                    <a:lnTo>
                      <a:pt x="198" y="465"/>
                    </a:lnTo>
                    <a:lnTo>
                      <a:pt x="198" y="475"/>
                    </a:lnTo>
                    <a:lnTo>
                      <a:pt x="198" y="488"/>
                    </a:lnTo>
                    <a:lnTo>
                      <a:pt x="198" y="498"/>
                    </a:lnTo>
                    <a:lnTo>
                      <a:pt x="196" y="509"/>
                    </a:lnTo>
                    <a:lnTo>
                      <a:pt x="196" y="522"/>
                    </a:lnTo>
                    <a:lnTo>
                      <a:pt x="192" y="532"/>
                    </a:lnTo>
                    <a:lnTo>
                      <a:pt x="190" y="543"/>
                    </a:lnTo>
                    <a:lnTo>
                      <a:pt x="187" y="556"/>
                    </a:lnTo>
                    <a:lnTo>
                      <a:pt x="179" y="581"/>
                    </a:lnTo>
                    <a:lnTo>
                      <a:pt x="179" y="585"/>
                    </a:lnTo>
                    <a:lnTo>
                      <a:pt x="177" y="587"/>
                    </a:lnTo>
                    <a:lnTo>
                      <a:pt x="175" y="589"/>
                    </a:lnTo>
                    <a:lnTo>
                      <a:pt x="175" y="591"/>
                    </a:lnTo>
                    <a:lnTo>
                      <a:pt x="171" y="593"/>
                    </a:lnTo>
                    <a:lnTo>
                      <a:pt x="168" y="594"/>
                    </a:lnTo>
                    <a:lnTo>
                      <a:pt x="162" y="596"/>
                    </a:lnTo>
                    <a:lnTo>
                      <a:pt x="160" y="596"/>
                    </a:lnTo>
                    <a:lnTo>
                      <a:pt x="154" y="596"/>
                    </a:lnTo>
                    <a:lnTo>
                      <a:pt x="150" y="596"/>
                    </a:lnTo>
                    <a:lnTo>
                      <a:pt x="147" y="596"/>
                    </a:lnTo>
                    <a:lnTo>
                      <a:pt x="143" y="594"/>
                    </a:lnTo>
                    <a:lnTo>
                      <a:pt x="141" y="593"/>
                    </a:lnTo>
                    <a:lnTo>
                      <a:pt x="139" y="591"/>
                    </a:lnTo>
                    <a:lnTo>
                      <a:pt x="135" y="589"/>
                    </a:lnTo>
                    <a:lnTo>
                      <a:pt x="135" y="585"/>
                    </a:lnTo>
                    <a:lnTo>
                      <a:pt x="135" y="581"/>
                    </a:lnTo>
                    <a:lnTo>
                      <a:pt x="135" y="579"/>
                    </a:lnTo>
                    <a:lnTo>
                      <a:pt x="135" y="575"/>
                    </a:lnTo>
                    <a:lnTo>
                      <a:pt x="143" y="555"/>
                    </a:lnTo>
                    <a:lnTo>
                      <a:pt x="148" y="532"/>
                    </a:lnTo>
                    <a:lnTo>
                      <a:pt x="150" y="522"/>
                    </a:lnTo>
                    <a:lnTo>
                      <a:pt x="152" y="513"/>
                    </a:lnTo>
                    <a:lnTo>
                      <a:pt x="152" y="501"/>
                    </a:lnTo>
                    <a:lnTo>
                      <a:pt x="154" y="494"/>
                    </a:lnTo>
                    <a:lnTo>
                      <a:pt x="154" y="484"/>
                    </a:lnTo>
                    <a:lnTo>
                      <a:pt x="154" y="473"/>
                    </a:lnTo>
                    <a:lnTo>
                      <a:pt x="152" y="463"/>
                    </a:lnTo>
                    <a:lnTo>
                      <a:pt x="150" y="456"/>
                    </a:lnTo>
                    <a:lnTo>
                      <a:pt x="148" y="442"/>
                    </a:lnTo>
                    <a:lnTo>
                      <a:pt x="145" y="433"/>
                    </a:lnTo>
                    <a:lnTo>
                      <a:pt x="139" y="423"/>
                    </a:lnTo>
                    <a:lnTo>
                      <a:pt x="135" y="414"/>
                    </a:lnTo>
                    <a:lnTo>
                      <a:pt x="126" y="402"/>
                    </a:lnTo>
                    <a:lnTo>
                      <a:pt x="122" y="397"/>
                    </a:lnTo>
                    <a:lnTo>
                      <a:pt x="118" y="393"/>
                    </a:lnTo>
                    <a:lnTo>
                      <a:pt x="110" y="383"/>
                    </a:lnTo>
                    <a:lnTo>
                      <a:pt x="103" y="374"/>
                    </a:lnTo>
                    <a:lnTo>
                      <a:pt x="97" y="370"/>
                    </a:lnTo>
                    <a:lnTo>
                      <a:pt x="95" y="366"/>
                    </a:lnTo>
                    <a:lnTo>
                      <a:pt x="86" y="359"/>
                    </a:lnTo>
                    <a:lnTo>
                      <a:pt x="71" y="342"/>
                    </a:lnTo>
                    <a:lnTo>
                      <a:pt x="59" y="334"/>
                    </a:lnTo>
                    <a:lnTo>
                      <a:pt x="52" y="326"/>
                    </a:lnTo>
                    <a:lnTo>
                      <a:pt x="44" y="319"/>
                    </a:lnTo>
                    <a:lnTo>
                      <a:pt x="38" y="311"/>
                    </a:lnTo>
                    <a:lnTo>
                      <a:pt x="31" y="300"/>
                    </a:lnTo>
                    <a:lnTo>
                      <a:pt x="23" y="292"/>
                    </a:lnTo>
                    <a:lnTo>
                      <a:pt x="17" y="279"/>
                    </a:lnTo>
                    <a:lnTo>
                      <a:pt x="15" y="275"/>
                    </a:lnTo>
                    <a:lnTo>
                      <a:pt x="13" y="268"/>
                    </a:lnTo>
                    <a:lnTo>
                      <a:pt x="10" y="260"/>
                    </a:lnTo>
                    <a:lnTo>
                      <a:pt x="8" y="252"/>
                    </a:lnTo>
                    <a:lnTo>
                      <a:pt x="6" y="241"/>
                    </a:lnTo>
                    <a:lnTo>
                      <a:pt x="2" y="233"/>
                    </a:lnTo>
                    <a:lnTo>
                      <a:pt x="2" y="226"/>
                    </a:lnTo>
                    <a:lnTo>
                      <a:pt x="0" y="218"/>
                    </a:lnTo>
                    <a:lnTo>
                      <a:pt x="0" y="211"/>
                    </a:lnTo>
                    <a:lnTo>
                      <a:pt x="0" y="201"/>
                    </a:lnTo>
                    <a:lnTo>
                      <a:pt x="0" y="184"/>
                    </a:lnTo>
                    <a:lnTo>
                      <a:pt x="2" y="176"/>
                    </a:lnTo>
                    <a:lnTo>
                      <a:pt x="2" y="169"/>
                    </a:lnTo>
                    <a:lnTo>
                      <a:pt x="4" y="161"/>
                    </a:lnTo>
                    <a:lnTo>
                      <a:pt x="6" y="154"/>
                    </a:lnTo>
                    <a:lnTo>
                      <a:pt x="10" y="138"/>
                    </a:lnTo>
                    <a:lnTo>
                      <a:pt x="15" y="123"/>
                    </a:lnTo>
                    <a:lnTo>
                      <a:pt x="23" y="106"/>
                    </a:lnTo>
                    <a:lnTo>
                      <a:pt x="27" y="98"/>
                    </a:lnTo>
                    <a:lnTo>
                      <a:pt x="31" y="91"/>
                    </a:lnTo>
                    <a:lnTo>
                      <a:pt x="36" y="81"/>
                    </a:lnTo>
                    <a:lnTo>
                      <a:pt x="40" y="74"/>
                    </a:lnTo>
                    <a:lnTo>
                      <a:pt x="50" y="60"/>
                    </a:lnTo>
                    <a:lnTo>
                      <a:pt x="59" y="43"/>
                    </a:lnTo>
                    <a:lnTo>
                      <a:pt x="72" y="26"/>
                    </a:lnTo>
                    <a:lnTo>
                      <a:pt x="84" y="9"/>
                    </a:lnTo>
                    <a:lnTo>
                      <a:pt x="88" y="5"/>
                    </a:lnTo>
                    <a:lnTo>
                      <a:pt x="90" y="3"/>
                    </a:lnTo>
                    <a:lnTo>
                      <a:pt x="95" y="1"/>
                    </a:lnTo>
                    <a:lnTo>
                      <a:pt x="97" y="0"/>
                    </a:lnTo>
                    <a:lnTo>
                      <a:pt x="103" y="0"/>
                    </a:lnTo>
                    <a:lnTo>
                      <a:pt x="107" y="0"/>
                    </a:lnTo>
                    <a:lnTo>
                      <a:pt x="110" y="0"/>
                    </a:lnTo>
                    <a:lnTo>
                      <a:pt x="114" y="1"/>
                    </a:lnTo>
                    <a:lnTo>
                      <a:pt x="118" y="3"/>
                    </a:lnTo>
                    <a:lnTo>
                      <a:pt x="120" y="5"/>
                    </a:lnTo>
                    <a:lnTo>
                      <a:pt x="122" y="5"/>
                    </a:lnTo>
                    <a:lnTo>
                      <a:pt x="124" y="7"/>
                    </a:lnTo>
                    <a:lnTo>
                      <a:pt x="126" y="11"/>
                    </a:lnTo>
                    <a:lnTo>
                      <a:pt x="126" y="15"/>
                    </a:lnTo>
                    <a:lnTo>
                      <a:pt x="126" y="17"/>
                    </a:lnTo>
                    <a:lnTo>
                      <a:pt x="126" y="20"/>
                    </a:lnTo>
                    <a:lnTo>
                      <a:pt x="12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5" name="Freeform 211"/>
              <p:cNvSpPr/>
              <p:nvPr/>
            </p:nvSpPr>
            <p:spPr>
              <a:xfrm rot="20586600">
                <a:off x="6035760" y="1526760"/>
                <a:ext cx="252720" cy="296280"/>
              </a:xfrm>
              <a:custGeom>
                <a:avLst/>
                <a:gdLst>
                  <a:gd name="textAreaLeft" fmla="*/ 0 w 252720"/>
                  <a:gd name="textAreaRight" fmla="*/ 253080 w 252720"/>
                  <a:gd name="textAreaTop" fmla="*/ 0 h 296280"/>
                  <a:gd name="textAreaBottom" fmla="*/ 296640 h 296280"/>
                </a:gdLst>
                <a:ahLst/>
                <a:rect l="textAreaLeft" t="textAreaTop" r="textAreaRight" b="textAreaBottom"/>
                <a:pathLst>
                  <a:path w="386" h="443">
                    <a:moveTo>
                      <a:pt x="7" y="65"/>
                    </a:moveTo>
                    <a:lnTo>
                      <a:pt x="17" y="55"/>
                    </a:lnTo>
                    <a:lnTo>
                      <a:pt x="28" y="48"/>
                    </a:lnTo>
                    <a:lnTo>
                      <a:pt x="40" y="42"/>
                    </a:lnTo>
                    <a:lnTo>
                      <a:pt x="51" y="33"/>
                    </a:lnTo>
                    <a:lnTo>
                      <a:pt x="64" y="29"/>
                    </a:lnTo>
                    <a:lnTo>
                      <a:pt x="76" y="23"/>
                    </a:lnTo>
                    <a:lnTo>
                      <a:pt x="89" y="17"/>
                    </a:lnTo>
                    <a:lnTo>
                      <a:pt x="102" y="14"/>
                    </a:lnTo>
                    <a:lnTo>
                      <a:pt x="116" y="8"/>
                    </a:lnTo>
                    <a:lnTo>
                      <a:pt x="129" y="8"/>
                    </a:lnTo>
                    <a:lnTo>
                      <a:pt x="142" y="4"/>
                    </a:lnTo>
                    <a:lnTo>
                      <a:pt x="157" y="2"/>
                    </a:lnTo>
                    <a:lnTo>
                      <a:pt x="171" y="0"/>
                    </a:lnTo>
                    <a:lnTo>
                      <a:pt x="182" y="0"/>
                    </a:lnTo>
                    <a:lnTo>
                      <a:pt x="197" y="0"/>
                    </a:lnTo>
                    <a:lnTo>
                      <a:pt x="211" y="2"/>
                    </a:lnTo>
                    <a:lnTo>
                      <a:pt x="222" y="4"/>
                    </a:lnTo>
                    <a:lnTo>
                      <a:pt x="237" y="8"/>
                    </a:lnTo>
                    <a:lnTo>
                      <a:pt x="243" y="8"/>
                    </a:lnTo>
                    <a:lnTo>
                      <a:pt x="249" y="8"/>
                    </a:lnTo>
                    <a:lnTo>
                      <a:pt x="260" y="14"/>
                    </a:lnTo>
                    <a:lnTo>
                      <a:pt x="273" y="17"/>
                    </a:lnTo>
                    <a:lnTo>
                      <a:pt x="285" y="23"/>
                    </a:lnTo>
                    <a:lnTo>
                      <a:pt x="298" y="27"/>
                    </a:lnTo>
                    <a:lnTo>
                      <a:pt x="308" y="33"/>
                    </a:lnTo>
                    <a:lnTo>
                      <a:pt x="313" y="36"/>
                    </a:lnTo>
                    <a:lnTo>
                      <a:pt x="317" y="42"/>
                    </a:lnTo>
                    <a:lnTo>
                      <a:pt x="329" y="50"/>
                    </a:lnTo>
                    <a:lnTo>
                      <a:pt x="338" y="57"/>
                    </a:lnTo>
                    <a:lnTo>
                      <a:pt x="346" y="67"/>
                    </a:lnTo>
                    <a:lnTo>
                      <a:pt x="350" y="73"/>
                    </a:lnTo>
                    <a:lnTo>
                      <a:pt x="353" y="78"/>
                    </a:lnTo>
                    <a:lnTo>
                      <a:pt x="359" y="82"/>
                    </a:lnTo>
                    <a:lnTo>
                      <a:pt x="359" y="88"/>
                    </a:lnTo>
                    <a:lnTo>
                      <a:pt x="365" y="93"/>
                    </a:lnTo>
                    <a:lnTo>
                      <a:pt x="367" y="97"/>
                    </a:lnTo>
                    <a:lnTo>
                      <a:pt x="370" y="105"/>
                    </a:lnTo>
                    <a:lnTo>
                      <a:pt x="372" y="111"/>
                    </a:lnTo>
                    <a:lnTo>
                      <a:pt x="376" y="122"/>
                    </a:lnTo>
                    <a:lnTo>
                      <a:pt x="378" y="131"/>
                    </a:lnTo>
                    <a:lnTo>
                      <a:pt x="382" y="143"/>
                    </a:lnTo>
                    <a:lnTo>
                      <a:pt x="384" y="152"/>
                    </a:lnTo>
                    <a:lnTo>
                      <a:pt x="384" y="160"/>
                    </a:lnTo>
                    <a:lnTo>
                      <a:pt x="384" y="169"/>
                    </a:lnTo>
                    <a:lnTo>
                      <a:pt x="386" y="181"/>
                    </a:lnTo>
                    <a:lnTo>
                      <a:pt x="384" y="188"/>
                    </a:lnTo>
                    <a:lnTo>
                      <a:pt x="384" y="198"/>
                    </a:lnTo>
                    <a:lnTo>
                      <a:pt x="384" y="209"/>
                    </a:lnTo>
                    <a:lnTo>
                      <a:pt x="380" y="226"/>
                    </a:lnTo>
                    <a:lnTo>
                      <a:pt x="376" y="244"/>
                    </a:lnTo>
                    <a:lnTo>
                      <a:pt x="372" y="253"/>
                    </a:lnTo>
                    <a:lnTo>
                      <a:pt x="370" y="261"/>
                    </a:lnTo>
                    <a:lnTo>
                      <a:pt x="361" y="280"/>
                    </a:lnTo>
                    <a:lnTo>
                      <a:pt x="355" y="299"/>
                    </a:lnTo>
                    <a:lnTo>
                      <a:pt x="350" y="318"/>
                    </a:lnTo>
                    <a:lnTo>
                      <a:pt x="344" y="335"/>
                    </a:lnTo>
                    <a:lnTo>
                      <a:pt x="338" y="356"/>
                    </a:lnTo>
                    <a:lnTo>
                      <a:pt x="332" y="377"/>
                    </a:lnTo>
                    <a:lnTo>
                      <a:pt x="325" y="398"/>
                    </a:lnTo>
                    <a:lnTo>
                      <a:pt x="325" y="407"/>
                    </a:lnTo>
                    <a:lnTo>
                      <a:pt x="323" y="420"/>
                    </a:lnTo>
                    <a:lnTo>
                      <a:pt x="323" y="422"/>
                    </a:lnTo>
                    <a:lnTo>
                      <a:pt x="323" y="426"/>
                    </a:lnTo>
                    <a:lnTo>
                      <a:pt x="323" y="428"/>
                    </a:lnTo>
                    <a:lnTo>
                      <a:pt x="319" y="430"/>
                    </a:lnTo>
                    <a:lnTo>
                      <a:pt x="319" y="434"/>
                    </a:lnTo>
                    <a:lnTo>
                      <a:pt x="317" y="436"/>
                    </a:lnTo>
                    <a:lnTo>
                      <a:pt x="313" y="439"/>
                    </a:lnTo>
                    <a:lnTo>
                      <a:pt x="311" y="441"/>
                    </a:lnTo>
                    <a:lnTo>
                      <a:pt x="310" y="441"/>
                    </a:lnTo>
                    <a:lnTo>
                      <a:pt x="306" y="443"/>
                    </a:lnTo>
                    <a:lnTo>
                      <a:pt x="302" y="443"/>
                    </a:lnTo>
                    <a:lnTo>
                      <a:pt x="294" y="443"/>
                    </a:lnTo>
                    <a:lnTo>
                      <a:pt x="291" y="441"/>
                    </a:lnTo>
                    <a:lnTo>
                      <a:pt x="287" y="441"/>
                    </a:lnTo>
                    <a:lnTo>
                      <a:pt x="285" y="439"/>
                    </a:lnTo>
                    <a:lnTo>
                      <a:pt x="283" y="436"/>
                    </a:lnTo>
                    <a:lnTo>
                      <a:pt x="279" y="436"/>
                    </a:lnTo>
                    <a:lnTo>
                      <a:pt x="277" y="430"/>
                    </a:lnTo>
                    <a:lnTo>
                      <a:pt x="275" y="428"/>
                    </a:lnTo>
                    <a:lnTo>
                      <a:pt x="275" y="426"/>
                    </a:lnTo>
                    <a:lnTo>
                      <a:pt x="273" y="424"/>
                    </a:lnTo>
                    <a:lnTo>
                      <a:pt x="273" y="420"/>
                    </a:lnTo>
                    <a:lnTo>
                      <a:pt x="273" y="415"/>
                    </a:lnTo>
                    <a:lnTo>
                      <a:pt x="275" y="405"/>
                    </a:lnTo>
                    <a:lnTo>
                      <a:pt x="277" y="394"/>
                    </a:lnTo>
                    <a:lnTo>
                      <a:pt x="279" y="384"/>
                    </a:lnTo>
                    <a:lnTo>
                      <a:pt x="281" y="375"/>
                    </a:lnTo>
                    <a:lnTo>
                      <a:pt x="283" y="363"/>
                    </a:lnTo>
                    <a:lnTo>
                      <a:pt x="287" y="356"/>
                    </a:lnTo>
                    <a:lnTo>
                      <a:pt x="294" y="339"/>
                    </a:lnTo>
                    <a:lnTo>
                      <a:pt x="300" y="320"/>
                    </a:lnTo>
                    <a:lnTo>
                      <a:pt x="306" y="304"/>
                    </a:lnTo>
                    <a:lnTo>
                      <a:pt x="313" y="285"/>
                    </a:lnTo>
                    <a:lnTo>
                      <a:pt x="319" y="268"/>
                    </a:lnTo>
                    <a:lnTo>
                      <a:pt x="325" y="253"/>
                    </a:lnTo>
                    <a:lnTo>
                      <a:pt x="329" y="244"/>
                    </a:lnTo>
                    <a:lnTo>
                      <a:pt x="331" y="234"/>
                    </a:lnTo>
                    <a:lnTo>
                      <a:pt x="334" y="226"/>
                    </a:lnTo>
                    <a:lnTo>
                      <a:pt x="334" y="219"/>
                    </a:lnTo>
                    <a:lnTo>
                      <a:pt x="338" y="204"/>
                    </a:lnTo>
                    <a:lnTo>
                      <a:pt x="338" y="192"/>
                    </a:lnTo>
                    <a:lnTo>
                      <a:pt x="338" y="185"/>
                    </a:lnTo>
                    <a:lnTo>
                      <a:pt x="338" y="177"/>
                    </a:lnTo>
                    <a:lnTo>
                      <a:pt x="336" y="166"/>
                    </a:lnTo>
                    <a:lnTo>
                      <a:pt x="334" y="158"/>
                    </a:lnTo>
                    <a:lnTo>
                      <a:pt x="332" y="149"/>
                    </a:lnTo>
                    <a:lnTo>
                      <a:pt x="331" y="137"/>
                    </a:lnTo>
                    <a:lnTo>
                      <a:pt x="325" y="130"/>
                    </a:lnTo>
                    <a:lnTo>
                      <a:pt x="323" y="120"/>
                    </a:lnTo>
                    <a:lnTo>
                      <a:pt x="315" y="111"/>
                    </a:lnTo>
                    <a:lnTo>
                      <a:pt x="311" y="101"/>
                    </a:lnTo>
                    <a:lnTo>
                      <a:pt x="306" y="95"/>
                    </a:lnTo>
                    <a:lnTo>
                      <a:pt x="298" y="88"/>
                    </a:lnTo>
                    <a:lnTo>
                      <a:pt x="291" y="82"/>
                    </a:lnTo>
                    <a:lnTo>
                      <a:pt x="287" y="80"/>
                    </a:lnTo>
                    <a:lnTo>
                      <a:pt x="283" y="78"/>
                    </a:lnTo>
                    <a:lnTo>
                      <a:pt x="275" y="73"/>
                    </a:lnTo>
                    <a:lnTo>
                      <a:pt x="268" y="65"/>
                    </a:lnTo>
                    <a:lnTo>
                      <a:pt x="258" y="63"/>
                    </a:lnTo>
                    <a:lnTo>
                      <a:pt x="249" y="59"/>
                    </a:lnTo>
                    <a:lnTo>
                      <a:pt x="239" y="55"/>
                    </a:lnTo>
                    <a:lnTo>
                      <a:pt x="235" y="55"/>
                    </a:lnTo>
                    <a:lnTo>
                      <a:pt x="230" y="54"/>
                    </a:lnTo>
                    <a:lnTo>
                      <a:pt x="218" y="52"/>
                    </a:lnTo>
                    <a:lnTo>
                      <a:pt x="209" y="52"/>
                    </a:lnTo>
                    <a:lnTo>
                      <a:pt x="199" y="50"/>
                    </a:lnTo>
                    <a:lnTo>
                      <a:pt x="188" y="50"/>
                    </a:lnTo>
                    <a:lnTo>
                      <a:pt x="178" y="50"/>
                    </a:lnTo>
                    <a:lnTo>
                      <a:pt x="169" y="50"/>
                    </a:lnTo>
                    <a:lnTo>
                      <a:pt x="157" y="52"/>
                    </a:lnTo>
                    <a:lnTo>
                      <a:pt x="146" y="54"/>
                    </a:lnTo>
                    <a:lnTo>
                      <a:pt x="137" y="55"/>
                    </a:lnTo>
                    <a:lnTo>
                      <a:pt x="127" y="57"/>
                    </a:lnTo>
                    <a:lnTo>
                      <a:pt x="114" y="61"/>
                    </a:lnTo>
                    <a:lnTo>
                      <a:pt x="104" y="65"/>
                    </a:lnTo>
                    <a:lnTo>
                      <a:pt x="93" y="69"/>
                    </a:lnTo>
                    <a:lnTo>
                      <a:pt x="85" y="74"/>
                    </a:lnTo>
                    <a:lnTo>
                      <a:pt x="76" y="78"/>
                    </a:lnTo>
                    <a:lnTo>
                      <a:pt x="64" y="84"/>
                    </a:lnTo>
                    <a:lnTo>
                      <a:pt x="57" y="90"/>
                    </a:lnTo>
                    <a:lnTo>
                      <a:pt x="49" y="95"/>
                    </a:lnTo>
                    <a:lnTo>
                      <a:pt x="41" y="101"/>
                    </a:lnTo>
                    <a:lnTo>
                      <a:pt x="36" y="105"/>
                    </a:lnTo>
                    <a:lnTo>
                      <a:pt x="34" y="109"/>
                    </a:lnTo>
                    <a:lnTo>
                      <a:pt x="32" y="109"/>
                    </a:lnTo>
                    <a:lnTo>
                      <a:pt x="28" y="111"/>
                    </a:lnTo>
                    <a:lnTo>
                      <a:pt x="26" y="111"/>
                    </a:lnTo>
                    <a:lnTo>
                      <a:pt x="21" y="111"/>
                    </a:lnTo>
                    <a:lnTo>
                      <a:pt x="17" y="109"/>
                    </a:lnTo>
                    <a:lnTo>
                      <a:pt x="13" y="105"/>
                    </a:lnTo>
                    <a:lnTo>
                      <a:pt x="9" y="103"/>
                    </a:lnTo>
                    <a:lnTo>
                      <a:pt x="5" y="99"/>
                    </a:lnTo>
                    <a:lnTo>
                      <a:pt x="3" y="95"/>
                    </a:lnTo>
                    <a:lnTo>
                      <a:pt x="2" y="92"/>
                    </a:lnTo>
                    <a:lnTo>
                      <a:pt x="0" y="88"/>
                    </a:lnTo>
                    <a:lnTo>
                      <a:pt x="0" y="86"/>
                    </a:lnTo>
                    <a:lnTo>
                      <a:pt x="0" y="84"/>
                    </a:lnTo>
                    <a:lnTo>
                      <a:pt x="0" y="78"/>
                    </a:lnTo>
                    <a:lnTo>
                      <a:pt x="0" y="74"/>
                    </a:lnTo>
                    <a:lnTo>
                      <a:pt x="2" y="74"/>
                    </a:lnTo>
                    <a:lnTo>
                      <a:pt x="3" y="73"/>
                    </a:lnTo>
                    <a:lnTo>
                      <a:pt x="3" y="69"/>
                    </a:lnTo>
                    <a:lnTo>
                      <a:pt x="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grpSp>
        <p:nvGrpSpPr>
          <p:cNvPr id="246" name="Group 6"/>
          <p:cNvGrpSpPr/>
          <p:nvPr/>
        </p:nvGrpSpPr>
        <p:grpSpPr>
          <a:xfrm>
            <a:off x="2514600" y="3657600"/>
            <a:ext cx="1817640" cy="1519200"/>
            <a:chOff x="2514600" y="3657600"/>
            <a:chExt cx="1817640" cy="1519200"/>
          </a:xfrm>
        </p:grpSpPr>
        <p:sp>
          <p:nvSpPr>
            <p:cNvPr id="247" name="AutoShape 5"/>
            <p:cNvSpPr/>
            <p:nvPr/>
          </p:nvSpPr>
          <p:spPr>
            <a:xfrm>
              <a:off x="2514600" y="3657600"/>
              <a:ext cx="1817640" cy="15192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8" name="Freeform 7"/>
            <p:cNvSpPr/>
            <p:nvPr/>
          </p:nvSpPr>
          <p:spPr>
            <a:xfrm>
              <a:off x="2654280" y="4221000"/>
              <a:ext cx="1652760" cy="563760"/>
            </a:xfrm>
            <a:custGeom>
              <a:avLst/>
              <a:gdLst>
                <a:gd name="textAreaLeft" fmla="*/ 0 w 1652760"/>
                <a:gd name="textAreaRight" fmla="*/ 1653120 w 1652760"/>
                <a:gd name="textAreaTop" fmla="*/ 0 h 563760"/>
                <a:gd name="textAreaBottom" fmla="*/ 564120 h 563760"/>
              </a:gdLst>
              <a:ahLst/>
              <a:rect l="textAreaLeft" t="textAreaTop" r="textAreaRight" b="textAreaBottom"/>
              <a:pathLst>
                <a:path w="2083" h="709">
                  <a:moveTo>
                    <a:pt x="487" y="577"/>
                  </a:moveTo>
                  <a:lnTo>
                    <a:pt x="623" y="529"/>
                  </a:lnTo>
                  <a:lnTo>
                    <a:pt x="664" y="173"/>
                  </a:lnTo>
                  <a:lnTo>
                    <a:pt x="757" y="167"/>
                  </a:lnTo>
                  <a:lnTo>
                    <a:pt x="811" y="240"/>
                  </a:lnTo>
                  <a:lnTo>
                    <a:pt x="1293" y="240"/>
                  </a:lnTo>
                  <a:lnTo>
                    <a:pt x="1340" y="147"/>
                  </a:lnTo>
                  <a:lnTo>
                    <a:pt x="1413" y="147"/>
                  </a:lnTo>
                  <a:lnTo>
                    <a:pt x="1466" y="542"/>
                  </a:lnTo>
                  <a:lnTo>
                    <a:pt x="1602" y="586"/>
                  </a:lnTo>
                  <a:lnTo>
                    <a:pt x="1768" y="615"/>
                  </a:lnTo>
                  <a:lnTo>
                    <a:pt x="1930" y="709"/>
                  </a:lnTo>
                  <a:lnTo>
                    <a:pt x="2003" y="669"/>
                  </a:lnTo>
                  <a:lnTo>
                    <a:pt x="2083" y="489"/>
                  </a:lnTo>
                  <a:lnTo>
                    <a:pt x="2009" y="314"/>
                  </a:lnTo>
                  <a:lnTo>
                    <a:pt x="1835" y="180"/>
                  </a:lnTo>
                  <a:lnTo>
                    <a:pt x="1607" y="80"/>
                  </a:lnTo>
                  <a:lnTo>
                    <a:pt x="1286" y="19"/>
                  </a:lnTo>
                  <a:lnTo>
                    <a:pt x="1078" y="0"/>
                  </a:lnTo>
                  <a:lnTo>
                    <a:pt x="838" y="6"/>
                  </a:lnTo>
                  <a:lnTo>
                    <a:pt x="583" y="46"/>
                  </a:lnTo>
                  <a:lnTo>
                    <a:pt x="309" y="140"/>
                  </a:lnTo>
                  <a:lnTo>
                    <a:pt x="107" y="254"/>
                  </a:lnTo>
                  <a:lnTo>
                    <a:pt x="13" y="388"/>
                  </a:lnTo>
                  <a:lnTo>
                    <a:pt x="0" y="502"/>
                  </a:lnTo>
                  <a:lnTo>
                    <a:pt x="47" y="621"/>
                  </a:lnTo>
                  <a:lnTo>
                    <a:pt x="121" y="709"/>
                  </a:lnTo>
                  <a:lnTo>
                    <a:pt x="195" y="681"/>
                  </a:lnTo>
                  <a:lnTo>
                    <a:pt x="348" y="601"/>
                  </a:lnTo>
                  <a:lnTo>
                    <a:pt x="487" y="577"/>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9" name="Freeform 8"/>
            <p:cNvSpPr/>
            <p:nvPr/>
          </p:nvSpPr>
          <p:spPr>
            <a:xfrm>
              <a:off x="2516040" y="4195800"/>
              <a:ext cx="1816200" cy="911160"/>
            </a:xfrm>
            <a:custGeom>
              <a:avLst/>
              <a:gdLst>
                <a:gd name="textAreaLeft" fmla="*/ 0 w 1816200"/>
                <a:gd name="textAreaRight" fmla="*/ 1816560 w 1816200"/>
                <a:gd name="textAreaTop" fmla="*/ 0 h 911160"/>
                <a:gd name="textAreaBottom" fmla="*/ 911520 h 911160"/>
              </a:gdLst>
              <a:ahLst/>
              <a:rect l="textAreaLeft" t="textAreaTop" r="textAreaRight" b="textAreaBottom"/>
              <a:pathLst>
                <a:path w="2289" h="1149">
                  <a:moveTo>
                    <a:pt x="438" y="1067"/>
                  </a:moveTo>
                  <a:lnTo>
                    <a:pt x="419" y="1070"/>
                  </a:lnTo>
                  <a:lnTo>
                    <a:pt x="400" y="1073"/>
                  </a:lnTo>
                  <a:lnTo>
                    <a:pt x="379" y="1077"/>
                  </a:lnTo>
                  <a:lnTo>
                    <a:pt x="358" y="1079"/>
                  </a:lnTo>
                  <a:lnTo>
                    <a:pt x="338" y="1080"/>
                  </a:lnTo>
                  <a:lnTo>
                    <a:pt x="316" y="1082"/>
                  </a:lnTo>
                  <a:lnTo>
                    <a:pt x="295" y="1082"/>
                  </a:lnTo>
                  <a:lnTo>
                    <a:pt x="273" y="1079"/>
                  </a:lnTo>
                  <a:lnTo>
                    <a:pt x="251" y="1077"/>
                  </a:lnTo>
                  <a:lnTo>
                    <a:pt x="229" y="1072"/>
                  </a:lnTo>
                  <a:lnTo>
                    <a:pt x="209" y="1067"/>
                  </a:lnTo>
                  <a:lnTo>
                    <a:pt x="188" y="1060"/>
                  </a:lnTo>
                  <a:lnTo>
                    <a:pt x="167" y="1050"/>
                  </a:lnTo>
                  <a:lnTo>
                    <a:pt x="148" y="1039"/>
                  </a:lnTo>
                  <a:lnTo>
                    <a:pt x="129" y="1026"/>
                  </a:lnTo>
                  <a:lnTo>
                    <a:pt x="112" y="1011"/>
                  </a:lnTo>
                  <a:lnTo>
                    <a:pt x="102" y="1000"/>
                  </a:lnTo>
                  <a:lnTo>
                    <a:pt x="91" y="989"/>
                  </a:lnTo>
                  <a:lnTo>
                    <a:pt x="84" y="977"/>
                  </a:lnTo>
                  <a:lnTo>
                    <a:pt x="77" y="965"/>
                  </a:lnTo>
                  <a:lnTo>
                    <a:pt x="73" y="953"/>
                  </a:lnTo>
                  <a:lnTo>
                    <a:pt x="69" y="939"/>
                  </a:lnTo>
                  <a:lnTo>
                    <a:pt x="67" y="925"/>
                  </a:lnTo>
                  <a:lnTo>
                    <a:pt x="67" y="911"/>
                  </a:lnTo>
                  <a:lnTo>
                    <a:pt x="72" y="877"/>
                  </a:lnTo>
                  <a:lnTo>
                    <a:pt x="82" y="843"/>
                  </a:lnTo>
                  <a:lnTo>
                    <a:pt x="97" y="810"/>
                  </a:lnTo>
                  <a:lnTo>
                    <a:pt x="115" y="779"/>
                  </a:lnTo>
                  <a:lnTo>
                    <a:pt x="136" y="749"/>
                  </a:lnTo>
                  <a:lnTo>
                    <a:pt x="157" y="723"/>
                  </a:lnTo>
                  <a:lnTo>
                    <a:pt x="176" y="700"/>
                  </a:lnTo>
                  <a:lnTo>
                    <a:pt x="194" y="682"/>
                  </a:lnTo>
                  <a:lnTo>
                    <a:pt x="203" y="695"/>
                  </a:lnTo>
                  <a:lnTo>
                    <a:pt x="212" y="707"/>
                  </a:lnTo>
                  <a:lnTo>
                    <a:pt x="222" y="719"/>
                  </a:lnTo>
                  <a:lnTo>
                    <a:pt x="234" y="731"/>
                  </a:lnTo>
                  <a:lnTo>
                    <a:pt x="246" y="743"/>
                  </a:lnTo>
                  <a:lnTo>
                    <a:pt x="257" y="754"/>
                  </a:lnTo>
                  <a:lnTo>
                    <a:pt x="270" y="766"/>
                  </a:lnTo>
                  <a:lnTo>
                    <a:pt x="284" y="778"/>
                  </a:lnTo>
                  <a:lnTo>
                    <a:pt x="305" y="796"/>
                  </a:lnTo>
                  <a:lnTo>
                    <a:pt x="326" y="778"/>
                  </a:lnTo>
                  <a:lnTo>
                    <a:pt x="343" y="764"/>
                  </a:lnTo>
                  <a:lnTo>
                    <a:pt x="362" y="749"/>
                  </a:lnTo>
                  <a:lnTo>
                    <a:pt x="381" y="736"/>
                  </a:lnTo>
                  <a:lnTo>
                    <a:pt x="401" y="722"/>
                  </a:lnTo>
                  <a:lnTo>
                    <a:pt x="422" y="710"/>
                  </a:lnTo>
                  <a:lnTo>
                    <a:pt x="444" y="697"/>
                  </a:lnTo>
                  <a:lnTo>
                    <a:pt x="466" y="685"/>
                  </a:lnTo>
                  <a:lnTo>
                    <a:pt x="489" y="674"/>
                  </a:lnTo>
                  <a:lnTo>
                    <a:pt x="513" y="662"/>
                  </a:lnTo>
                  <a:lnTo>
                    <a:pt x="538" y="652"/>
                  </a:lnTo>
                  <a:lnTo>
                    <a:pt x="563" y="642"/>
                  </a:lnTo>
                  <a:lnTo>
                    <a:pt x="591" y="631"/>
                  </a:lnTo>
                  <a:lnTo>
                    <a:pt x="619" y="622"/>
                  </a:lnTo>
                  <a:lnTo>
                    <a:pt x="649" y="613"/>
                  </a:lnTo>
                  <a:lnTo>
                    <a:pt x="679" y="605"/>
                  </a:lnTo>
                  <a:lnTo>
                    <a:pt x="710" y="597"/>
                  </a:lnTo>
                  <a:lnTo>
                    <a:pt x="714" y="531"/>
                  </a:lnTo>
                  <a:lnTo>
                    <a:pt x="683" y="539"/>
                  </a:lnTo>
                  <a:lnTo>
                    <a:pt x="653" y="547"/>
                  </a:lnTo>
                  <a:lnTo>
                    <a:pt x="623" y="556"/>
                  </a:lnTo>
                  <a:lnTo>
                    <a:pt x="595" y="566"/>
                  </a:lnTo>
                  <a:lnTo>
                    <a:pt x="566" y="576"/>
                  </a:lnTo>
                  <a:lnTo>
                    <a:pt x="538" y="585"/>
                  </a:lnTo>
                  <a:lnTo>
                    <a:pt x="512" y="597"/>
                  </a:lnTo>
                  <a:lnTo>
                    <a:pt x="485" y="607"/>
                  </a:lnTo>
                  <a:lnTo>
                    <a:pt x="460" y="619"/>
                  </a:lnTo>
                  <a:lnTo>
                    <a:pt x="436" y="630"/>
                  </a:lnTo>
                  <a:lnTo>
                    <a:pt x="411" y="643"/>
                  </a:lnTo>
                  <a:lnTo>
                    <a:pt x="389" y="655"/>
                  </a:lnTo>
                  <a:lnTo>
                    <a:pt x="368" y="668"/>
                  </a:lnTo>
                  <a:lnTo>
                    <a:pt x="346" y="681"/>
                  </a:lnTo>
                  <a:lnTo>
                    <a:pt x="326" y="695"/>
                  </a:lnTo>
                  <a:lnTo>
                    <a:pt x="307" y="708"/>
                  </a:lnTo>
                  <a:lnTo>
                    <a:pt x="284" y="685"/>
                  </a:lnTo>
                  <a:lnTo>
                    <a:pt x="263" y="662"/>
                  </a:lnTo>
                  <a:lnTo>
                    <a:pt x="246" y="638"/>
                  </a:lnTo>
                  <a:lnTo>
                    <a:pt x="232" y="614"/>
                  </a:lnTo>
                  <a:lnTo>
                    <a:pt x="220" y="591"/>
                  </a:lnTo>
                  <a:lnTo>
                    <a:pt x="212" y="567"/>
                  </a:lnTo>
                  <a:lnTo>
                    <a:pt x="206" y="541"/>
                  </a:lnTo>
                  <a:lnTo>
                    <a:pt x="205" y="517"/>
                  </a:lnTo>
                  <a:lnTo>
                    <a:pt x="206" y="494"/>
                  </a:lnTo>
                  <a:lnTo>
                    <a:pt x="211" y="471"/>
                  </a:lnTo>
                  <a:lnTo>
                    <a:pt x="218" y="448"/>
                  </a:lnTo>
                  <a:lnTo>
                    <a:pt x="227" y="425"/>
                  </a:lnTo>
                  <a:lnTo>
                    <a:pt x="239" y="403"/>
                  </a:lnTo>
                  <a:lnTo>
                    <a:pt x="254" y="381"/>
                  </a:lnTo>
                  <a:lnTo>
                    <a:pt x="271" y="359"/>
                  </a:lnTo>
                  <a:lnTo>
                    <a:pt x="292" y="338"/>
                  </a:lnTo>
                  <a:lnTo>
                    <a:pt x="308" y="323"/>
                  </a:lnTo>
                  <a:lnTo>
                    <a:pt x="325" y="308"/>
                  </a:lnTo>
                  <a:lnTo>
                    <a:pt x="343" y="293"/>
                  </a:lnTo>
                  <a:lnTo>
                    <a:pt x="362" y="279"/>
                  </a:lnTo>
                  <a:lnTo>
                    <a:pt x="383" y="265"/>
                  </a:lnTo>
                  <a:lnTo>
                    <a:pt x="404" y="251"/>
                  </a:lnTo>
                  <a:lnTo>
                    <a:pt x="426" y="239"/>
                  </a:lnTo>
                  <a:lnTo>
                    <a:pt x="449" y="226"/>
                  </a:lnTo>
                  <a:lnTo>
                    <a:pt x="474" y="213"/>
                  </a:lnTo>
                  <a:lnTo>
                    <a:pt x="499" y="202"/>
                  </a:lnTo>
                  <a:lnTo>
                    <a:pt x="524" y="190"/>
                  </a:lnTo>
                  <a:lnTo>
                    <a:pt x="552" y="180"/>
                  </a:lnTo>
                  <a:lnTo>
                    <a:pt x="578" y="169"/>
                  </a:lnTo>
                  <a:lnTo>
                    <a:pt x="607" y="159"/>
                  </a:lnTo>
                  <a:lnTo>
                    <a:pt x="636" y="150"/>
                  </a:lnTo>
                  <a:lnTo>
                    <a:pt x="666" y="141"/>
                  </a:lnTo>
                  <a:lnTo>
                    <a:pt x="696" y="131"/>
                  </a:lnTo>
                  <a:lnTo>
                    <a:pt x="727" y="123"/>
                  </a:lnTo>
                  <a:lnTo>
                    <a:pt x="759" y="116"/>
                  </a:lnTo>
                  <a:lnTo>
                    <a:pt x="792" y="110"/>
                  </a:lnTo>
                  <a:lnTo>
                    <a:pt x="824" y="103"/>
                  </a:lnTo>
                  <a:lnTo>
                    <a:pt x="857" y="97"/>
                  </a:lnTo>
                  <a:lnTo>
                    <a:pt x="892" y="91"/>
                  </a:lnTo>
                  <a:lnTo>
                    <a:pt x="925" y="87"/>
                  </a:lnTo>
                  <a:lnTo>
                    <a:pt x="961" y="82"/>
                  </a:lnTo>
                  <a:lnTo>
                    <a:pt x="995" y="77"/>
                  </a:lnTo>
                  <a:lnTo>
                    <a:pt x="1031" y="75"/>
                  </a:lnTo>
                  <a:lnTo>
                    <a:pt x="1067" y="72"/>
                  </a:lnTo>
                  <a:lnTo>
                    <a:pt x="1103" y="69"/>
                  </a:lnTo>
                  <a:lnTo>
                    <a:pt x="1139" y="68"/>
                  </a:lnTo>
                  <a:lnTo>
                    <a:pt x="1176" y="67"/>
                  </a:lnTo>
                  <a:lnTo>
                    <a:pt x="1213" y="67"/>
                  </a:lnTo>
                  <a:lnTo>
                    <a:pt x="1250" y="67"/>
                  </a:lnTo>
                  <a:lnTo>
                    <a:pt x="1287" y="68"/>
                  </a:lnTo>
                  <a:lnTo>
                    <a:pt x="1324" y="69"/>
                  </a:lnTo>
                  <a:lnTo>
                    <a:pt x="1359" y="72"/>
                  </a:lnTo>
                  <a:lnTo>
                    <a:pt x="1396" y="75"/>
                  </a:lnTo>
                  <a:lnTo>
                    <a:pt x="1431" y="77"/>
                  </a:lnTo>
                  <a:lnTo>
                    <a:pt x="1467" y="82"/>
                  </a:lnTo>
                  <a:lnTo>
                    <a:pt x="1501" y="87"/>
                  </a:lnTo>
                  <a:lnTo>
                    <a:pt x="1536" y="91"/>
                  </a:lnTo>
                  <a:lnTo>
                    <a:pt x="1570" y="97"/>
                  </a:lnTo>
                  <a:lnTo>
                    <a:pt x="1604" y="103"/>
                  </a:lnTo>
                  <a:lnTo>
                    <a:pt x="1636" y="110"/>
                  </a:lnTo>
                  <a:lnTo>
                    <a:pt x="1668" y="116"/>
                  </a:lnTo>
                  <a:lnTo>
                    <a:pt x="1700" y="123"/>
                  </a:lnTo>
                  <a:lnTo>
                    <a:pt x="1731" y="131"/>
                  </a:lnTo>
                  <a:lnTo>
                    <a:pt x="1761" y="141"/>
                  </a:lnTo>
                  <a:lnTo>
                    <a:pt x="1791" y="150"/>
                  </a:lnTo>
                  <a:lnTo>
                    <a:pt x="1820" y="159"/>
                  </a:lnTo>
                  <a:lnTo>
                    <a:pt x="1849" y="169"/>
                  </a:lnTo>
                  <a:lnTo>
                    <a:pt x="1877" y="180"/>
                  </a:lnTo>
                  <a:lnTo>
                    <a:pt x="1903" y="190"/>
                  </a:lnTo>
                  <a:lnTo>
                    <a:pt x="1930" y="202"/>
                  </a:lnTo>
                  <a:lnTo>
                    <a:pt x="1954" y="213"/>
                  </a:lnTo>
                  <a:lnTo>
                    <a:pt x="1978" y="226"/>
                  </a:lnTo>
                  <a:lnTo>
                    <a:pt x="2001" y="239"/>
                  </a:lnTo>
                  <a:lnTo>
                    <a:pt x="2024" y="251"/>
                  </a:lnTo>
                  <a:lnTo>
                    <a:pt x="2045" y="265"/>
                  </a:lnTo>
                  <a:lnTo>
                    <a:pt x="2066" y="279"/>
                  </a:lnTo>
                  <a:lnTo>
                    <a:pt x="2085" y="293"/>
                  </a:lnTo>
                  <a:lnTo>
                    <a:pt x="2102" y="308"/>
                  </a:lnTo>
                  <a:lnTo>
                    <a:pt x="2120" y="323"/>
                  </a:lnTo>
                  <a:lnTo>
                    <a:pt x="2136" y="338"/>
                  </a:lnTo>
                  <a:lnTo>
                    <a:pt x="2157" y="359"/>
                  </a:lnTo>
                  <a:lnTo>
                    <a:pt x="2174" y="381"/>
                  </a:lnTo>
                  <a:lnTo>
                    <a:pt x="2189" y="403"/>
                  </a:lnTo>
                  <a:lnTo>
                    <a:pt x="2200" y="425"/>
                  </a:lnTo>
                  <a:lnTo>
                    <a:pt x="2210" y="448"/>
                  </a:lnTo>
                  <a:lnTo>
                    <a:pt x="2216" y="471"/>
                  </a:lnTo>
                  <a:lnTo>
                    <a:pt x="2221" y="494"/>
                  </a:lnTo>
                  <a:lnTo>
                    <a:pt x="2222" y="517"/>
                  </a:lnTo>
                  <a:lnTo>
                    <a:pt x="2221" y="541"/>
                  </a:lnTo>
                  <a:lnTo>
                    <a:pt x="2215" y="567"/>
                  </a:lnTo>
                  <a:lnTo>
                    <a:pt x="2207" y="591"/>
                  </a:lnTo>
                  <a:lnTo>
                    <a:pt x="2197" y="614"/>
                  </a:lnTo>
                  <a:lnTo>
                    <a:pt x="2182" y="638"/>
                  </a:lnTo>
                  <a:lnTo>
                    <a:pt x="2165" y="662"/>
                  </a:lnTo>
                  <a:lnTo>
                    <a:pt x="2144" y="685"/>
                  </a:lnTo>
                  <a:lnTo>
                    <a:pt x="2121" y="708"/>
                  </a:lnTo>
                  <a:lnTo>
                    <a:pt x="2102" y="696"/>
                  </a:lnTo>
                  <a:lnTo>
                    <a:pt x="2084" y="682"/>
                  </a:lnTo>
                  <a:lnTo>
                    <a:pt x="2063" y="669"/>
                  </a:lnTo>
                  <a:lnTo>
                    <a:pt x="2044" y="658"/>
                  </a:lnTo>
                  <a:lnTo>
                    <a:pt x="2022" y="645"/>
                  </a:lnTo>
                  <a:lnTo>
                    <a:pt x="1999" y="634"/>
                  </a:lnTo>
                  <a:lnTo>
                    <a:pt x="1976" y="622"/>
                  </a:lnTo>
                  <a:lnTo>
                    <a:pt x="1953" y="612"/>
                  </a:lnTo>
                  <a:lnTo>
                    <a:pt x="1927" y="601"/>
                  </a:lnTo>
                  <a:lnTo>
                    <a:pt x="1903" y="591"/>
                  </a:lnTo>
                  <a:lnTo>
                    <a:pt x="1877" y="581"/>
                  </a:lnTo>
                  <a:lnTo>
                    <a:pt x="1850" y="571"/>
                  </a:lnTo>
                  <a:lnTo>
                    <a:pt x="1822" y="562"/>
                  </a:lnTo>
                  <a:lnTo>
                    <a:pt x="1795" y="553"/>
                  </a:lnTo>
                  <a:lnTo>
                    <a:pt x="1766" y="545"/>
                  </a:lnTo>
                  <a:lnTo>
                    <a:pt x="1737" y="537"/>
                  </a:lnTo>
                  <a:lnTo>
                    <a:pt x="1735" y="608"/>
                  </a:lnTo>
                  <a:lnTo>
                    <a:pt x="1765" y="616"/>
                  </a:lnTo>
                  <a:lnTo>
                    <a:pt x="1793" y="624"/>
                  </a:lnTo>
                  <a:lnTo>
                    <a:pt x="1820" y="634"/>
                  </a:lnTo>
                  <a:lnTo>
                    <a:pt x="1848" y="643"/>
                  </a:lnTo>
                  <a:lnTo>
                    <a:pt x="1873" y="652"/>
                  </a:lnTo>
                  <a:lnTo>
                    <a:pt x="1897" y="661"/>
                  </a:lnTo>
                  <a:lnTo>
                    <a:pt x="1922" y="670"/>
                  </a:lnTo>
                  <a:lnTo>
                    <a:pt x="1945" y="681"/>
                  </a:lnTo>
                  <a:lnTo>
                    <a:pt x="1968" y="692"/>
                  </a:lnTo>
                  <a:lnTo>
                    <a:pt x="1988" y="703"/>
                  </a:lnTo>
                  <a:lnTo>
                    <a:pt x="2009" y="714"/>
                  </a:lnTo>
                  <a:lnTo>
                    <a:pt x="2029" y="726"/>
                  </a:lnTo>
                  <a:lnTo>
                    <a:pt x="2048" y="738"/>
                  </a:lnTo>
                  <a:lnTo>
                    <a:pt x="2067" y="751"/>
                  </a:lnTo>
                  <a:lnTo>
                    <a:pt x="2084" y="764"/>
                  </a:lnTo>
                  <a:lnTo>
                    <a:pt x="2101" y="778"/>
                  </a:lnTo>
                  <a:lnTo>
                    <a:pt x="2123" y="796"/>
                  </a:lnTo>
                  <a:lnTo>
                    <a:pt x="2144" y="778"/>
                  </a:lnTo>
                  <a:lnTo>
                    <a:pt x="2177" y="748"/>
                  </a:lnTo>
                  <a:lnTo>
                    <a:pt x="2207" y="716"/>
                  </a:lnTo>
                  <a:lnTo>
                    <a:pt x="2231" y="684"/>
                  </a:lnTo>
                  <a:lnTo>
                    <a:pt x="2252" y="652"/>
                  </a:lnTo>
                  <a:lnTo>
                    <a:pt x="2268" y="619"/>
                  </a:lnTo>
                  <a:lnTo>
                    <a:pt x="2280" y="585"/>
                  </a:lnTo>
                  <a:lnTo>
                    <a:pt x="2287" y="552"/>
                  </a:lnTo>
                  <a:lnTo>
                    <a:pt x="2289" y="517"/>
                  </a:lnTo>
                  <a:lnTo>
                    <a:pt x="2288" y="487"/>
                  </a:lnTo>
                  <a:lnTo>
                    <a:pt x="2282" y="457"/>
                  </a:lnTo>
                  <a:lnTo>
                    <a:pt x="2274" y="429"/>
                  </a:lnTo>
                  <a:lnTo>
                    <a:pt x="2263" y="400"/>
                  </a:lnTo>
                  <a:lnTo>
                    <a:pt x="2248" y="372"/>
                  </a:lnTo>
                  <a:lnTo>
                    <a:pt x="2230" y="344"/>
                  </a:lnTo>
                  <a:lnTo>
                    <a:pt x="2208" y="317"/>
                  </a:lnTo>
                  <a:lnTo>
                    <a:pt x="2183" y="290"/>
                  </a:lnTo>
                  <a:lnTo>
                    <a:pt x="2166" y="274"/>
                  </a:lnTo>
                  <a:lnTo>
                    <a:pt x="2147" y="257"/>
                  </a:lnTo>
                  <a:lnTo>
                    <a:pt x="2128" y="242"/>
                  </a:lnTo>
                  <a:lnTo>
                    <a:pt x="2107" y="226"/>
                  </a:lnTo>
                  <a:lnTo>
                    <a:pt x="2086" y="211"/>
                  </a:lnTo>
                  <a:lnTo>
                    <a:pt x="2063" y="197"/>
                  </a:lnTo>
                  <a:lnTo>
                    <a:pt x="2039" y="183"/>
                  </a:lnTo>
                  <a:lnTo>
                    <a:pt x="2015" y="169"/>
                  </a:lnTo>
                  <a:lnTo>
                    <a:pt x="1990" y="156"/>
                  </a:lnTo>
                  <a:lnTo>
                    <a:pt x="1963" y="143"/>
                  </a:lnTo>
                  <a:lnTo>
                    <a:pt x="1937" y="131"/>
                  </a:lnTo>
                  <a:lnTo>
                    <a:pt x="1908" y="120"/>
                  </a:lnTo>
                  <a:lnTo>
                    <a:pt x="1879" y="108"/>
                  </a:lnTo>
                  <a:lnTo>
                    <a:pt x="1850" y="98"/>
                  </a:lnTo>
                  <a:lnTo>
                    <a:pt x="1819" y="88"/>
                  </a:lnTo>
                  <a:lnTo>
                    <a:pt x="1788" y="77"/>
                  </a:lnTo>
                  <a:lnTo>
                    <a:pt x="1757" y="69"/>
                  </a:lnTo>
                  <a:lnTo>
                    <a:pt x="1725" y="60"/>
                  </a:lnTo>
                  <a:lnTo>
                    <a:pt x="1691" y="52"/>
                  </a:lnTo>
                  <a:lnTo>
                    <a:pt x="1658" y="45"/>
                  </a:lnTo>
                  <a:lnTo>
                    <a:pt x="1623" y="38"/>
                  </a:lnTo>
                  <a:lnTo>
                    <a:pt x="1587" y="31"/>
                  </a:lnTo>
                  <a:lnTo>
                    <a:pt x="1553" y="25"/>
                  </a:lnTo>
                  <a:lnTo>
                    <a:pt x="1516" y="20"/>
                  </a:lnTo>
                  <a:lnTo>
                    <a:pt x="1480" y="15"/>
                  </a:lnTo>
                  <a:lnTo>
                    <a:pt x="1443" y="12"/>
                  </a:lnTo>
                  <a:lnTo>
                    <a:pt x="1405" y="8"/>
                  </a:lnTo>
                  <a:lnTo>
                    <a:pt x="1367" y="5"/>
                  </a:lnTo>
                  <a:lnTo>
                    <a:pt x="1329" y="4"/>
                  </a:lnTo>
                  <a:lnTo>
                    <a:pt x="1291" y="1"/>
                  </a:lnTo>
                  <a:lnTo>
                    <a:pt x="1252" y="0"/>
                  </a:lnTo>
                  <a:lnTo>
                    <a:pt x="1213" y="0"/>
                  </a:lnTo>
                  <a:lnTo>
                    <a:pt x="1157" y="1"/>
                  </a:lnTo>
                  <a:lnTo>
                    <a:pt x="1101" y="2"/>
                  </a:lnTo>
                  <a:lnTo>
                    <a:pt x="1047" y="6"/>
                  </a:lnTo>
                  <a:lnTo>
                    <a:pt x="994" y="11"/>
                  </a:lnTo>
                  <a:lnTo>
                    <a:pt x="941" y="16"/>
                  </a:lnTo>
                  <a:lnTo>
                    <a:pt x="891" y="23"/>
                  </a:lnTo>
                  <a:lnTo>
                    <a:pt x="840" y="31"/>
                  </a:lnTo>
                  <a:lnTo>
                    <a:pt x="792" y="40"/>
                  </a:lnTo>
                  <a:lnTo>
                    <a:pt x="743" y="51"/>
                  </a:lnTo>
                  <a:lnTo>
                    <a:pt x="697" y="61"/>
                  </a:lnTo>
                  <a:lnTo>
                    <a:pt x="652" y="74"/>
                  </a:lnTo>
                  <a:lnTo>
                    <a:pt x="608" y="88"/>
                  </a:lnTo>
                  <a:lnTo>
                    <a:pt x="566" y="101"/>
                  </a:lnTo>
                  <a:lnTo>
                    <a:pt x="525" y="116"/>
                  </a:lnTo>
                  <a:lnTo>
                    <a:pt x="487" y="133"/>
                  </a:lnTo>
                  <a:lnTo>
                    <a:pt x="449" y="150"/>
                  </a:lnTo>
                  <a:lnTo>
                    <a:pt x="415" y="168"/>
                  </a:lnTo>
                  <a:lnTo>
                    <a:pt x="381" y="187"/>
                  </a:lnTo>
                  <a:lnTo>
                    <a:pt x="349" y="206"/>
                  </a:lnTo>
                  <a:lnTo>
                    <a:pt x="319" y="226"/>
                  </a:lnTo>
                  <a:lnTo>
                    <a:pt x="292" y="247"/>
                  </a:lnTo>
                  <a:lnTo>
                    <a:pt x="266" y="268"/>
                  </a:lnTo>
                  <a:lnTo>
                    <a:pt x="243" y="292"/>
                  </a:lnTo>
                  <a:lnTo>
                    <a:pt x="221" y="315"/>
                  </a:lnTo>
                  <a:lnTo>
                    <a:pt x="203" y="338"/>
                  </a:lnTo>
                  <a:lnTo>
                    <a:pt x="186" y="362"/>
                  </a:lnTo>
                  <a:lnTo>
                    <a:pt x="172" y="386"/>
                  </a:lnTo>
                  <a:lnTo>
                    <a:pt x="160" y="411"/>
                  </a:lnTo>
                  <a:lnTo>
                    <a:pt x="151" y="438"/>
                  </a:lnTo>
                  <a:lnTo>
                    <a:pt x="144" y="463"/>
                  </a:lnTo>
                  <a:lnTo>
                    <a:pt x="140" y="491"/>
                  </a:lnTo>
                  <a:lnTo>
                    <a:pt x="138" y="517"/>
                  </a:lnTo>
                  <a:lnTo>
                    <a:pt x="140" y="544"/>
                  </a:lnTo>
                  <a:lnTo>
                    <a:pt x="144" y="570"/>
                  </a:lnTo>
                  <a:lnTo>
                    <a:pt x="151" y="596"/>
                  </a:lnTo>
                  <a:lnTo>
                    <a:pt x="160" y="621"/>
                  </a:lnTo>
                  <a:lnTo>
                    <a:pt x="142" y="639"/>
                  </a:lnTo>
                  <a:lnTo>
                    <a:pt x="119" y="665"/>
                  </a:lnTo>
                  <a:lnTo>
                    <a:pt x="92" y="696"/>
                  </a:lnTo>
                  <a:lnTo>
                    <a:pt x="66" y="731"/>
                  </a:lnTo>
                  <a:lnTo>
                    <a:pt x="42" y="773"/>
                  </a:lnTo>
                  <a:lnTo>
                    <a:pt x="21" y="817"/>
                  </a:lnTo>
                  <a:lnTo>
                    <a:pt x="6" y="863"/>
                  </a:lnTo>
                  <a:lnTo>
                    <a:pt x="0" y="910"/>
                  </a:lnTo>
                  <a:lnTo>
                    <a:pt x="1" y="931"/>
                  </a:lnTo>
                  <a:lnTo>
                    <a:pt x="4" y="951"/>
                  </a:lnTo>
                  <a:lnTo>
                    <a:pt x="8" y="972"/>
                  </a:lnTo>
                  <a:lnTo>
                    <a:pt x="16" y="991"/>
                  </a:lnTo>
                  <a:lnTo>
                    <a:pt x="25" y="1009"/>
                  </a:lnTo>
                  <a:lnTo>
                    <a:pt x="37" y="1027"/>
                  </a:lnTo>
                  <a:lnTo>
                    <a:pt x="50" y="1045"/>
                  </a:lnTo>
                  <a:lnTo>
                    <a:pt x="66" y="1061"/>
                  </a:lnTo>
                  <a:lnTo>
                    <a:pt x="87" y="1078"/>
                  </a:lnTo>
                  <a:lnTo>
                    <a:pt x="108" y="1094"/>
                  </a:lnTo>
                  <a:lnTo>
                    <a:pt x="130" y="1107"/>
                  </a:lnTo>
                  <a:lnTo>
                    <a:pt x="153" y="1118"/>
                  </a:lnTo>
                  <a:lnTo>
                    <a:pt x="176" y="1128"/>
                  </a:lnTo>
                  <a:lnTo>
                    <a:pt x="201" y="1136"/>
                  </a:lnTo>
                  <a:lnTo>
                    <a:pt x="225" y="1141"/>
                  </a:lnTo>
                  <a:lnTo>
                    <a:pt x="249" y="1145"/>
                  </a:lnTo>
                  <a:lnTo>
                    <a:pt x="273" y="1147"/>
                  </a:lnTo>
                  <a:lnTo>
                    <a:pt x="297" y="1149"/>
                  </a:lnTo>
                  <a:lnTo>
                    <a:pt x="322" y="1149"/>
                  </a:lnTo>
                  <a:lnTo>
                    <a:pt x="345" y="1148"/>
                  </a:lnTo>
                  <a:lnTo>
                    <a:pt x="368" y="1147"/>
                  </a:lnTo>
                  <a:lnTo>
                    <a:pt x="391" y="1144"/>
                  </a:lnTo>
                  <a:lnTo>
                    <a:pt x="413" y="1140"/>
                  </a:lnTo>
                  <a:lnTo>
                    <a:pt x="433" y="1137"/>
                  </a:lnTo>
                  <a:lnTo>
                    <a:pt x="438" y="10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0" name="Freeform 9"/>
            <p:cNvSpPr/>
            <p:nvPr/>
          </p:nvSpPr>
          <p:spPr>
            <a:xfrm>
              <a:off x="2859120" y="4316400"/>
              <a:ext cx="1163520" cy="860400"/>
            </a:xfrm>
            <a:custGeom>
              <a:avLst/>
              <a:gdLst>
                <a:gd name="textAreaLeft" fmla="*/ 0 w 1163520"/>
                <a:gd name="textAreaRight" fmla="*/ 1163880 w 1163520"/>
                <a:gd name="textAreaTop" fmla="*/ 0 h 860400"/>
                <a:gd name="textAreaBottom" fmla="*/ 860760 h 860400"/>
              </a:gdLst>
              <a:ahLst/>
              <a:rect l="textAreaLeft" t="textAreaTop" r="textAreaRight" b="textAreaBottom"/>
              <a:pathLst>
                <a:path w="1467" h="1084">
                  <a:moveTo>
                    <a:pt x="0" y="984"/>
                  </a:moveTo>
                  <a:lnTo>
                    <a:pt x="18" y="980"/>
                  </a:lnTo>
                  <a:lnTo>
                    <a:pt x="35" y="976"/>
                  </a:lnTo>
                  <a:lnTo>
                    <a:pt x="51" y="972"/>
                  </a:lnTo>
                  <a:lnTo>
                    <a:pt x="66" y="968"/>
                  </a:lnTo>
                  <a:lnTo>
                    <a:pt x="79" y="963"/>
                  </a:lnTo>
                  <a:lnTo>
                    <a:pt x="91" y="960"/>
                  </a:lnTo>
                  <a:lnTo>
                    <a:pt x="103" y="955"/>
                  </a:lnTo>
                  <a:lnTo>
                    <a:pt x="113" y="952"/>
                  </a:lnTo>
                  <a:lnTo>
                    <a:pt x="113" y="1084"/>
                  </a:lnTo>
                  <a:lnTo>
                    <a:pt x="1467" y="1084"/>
                  </a:lnTo>
                  <a:lnTo>
                    <a:pt x="1467" y="743"/>
                  </a:lnTo>
                  <a:lnTo>
                    <a:pt x="1250" y="500"/>
                  </a:lnTo>
                  <a:lnTo>
                    <a:pt x="1204" y="0"/>
                  </a:lnTo>
                  <a:lnTo>
                    <a:pt x="1040" y="0"/>
                  </a:lnTo>
                  <a:lnTo>
                    <a:pt x="1016" y="90"/>
                  </a:lnTo>
                  <a:lnTo>
                    <a:pt x="1007" y="88"/>
                  </a:lnTo>
                  <a:lnTo>
                    <a:pt x="997" y="86"/>
                  </a:lnTo>
                  <a:lnTo>
                    <a:pt x="985" y="83"/>
                  </a:lnTo>
                  <a:lnTo>
                    <a:pt x="974" y="81"/>
                  </a:lnTo>
                  <a:lnTo>
                    <a:pt x="961" y="77"/>
                  </a:lnTo>
                  <a:lnTo>
                    <a:pt x="947" y="75"/>
                  </a:lnTo>
                  <a:lnTo>
                    <a:pt x="933" y="73"/>
                  </a:lnTo>
                  <a:lnTo>
                    <a:pt x="918" y="71"/>
                  </a:lnTo>
                  <a:lnTo>
                    <a:pt x="903" y="68"/>
                  </a:lnTo>
                  <a:lnTo>
                    <a:pt x="888" y="66"/>
                  </a:lnTo>
                  <a:lnTo>
                    <a:pt x="873" y="64"/>
                  </a:lnTo>
                  <a:lnTo>
                    <a:pt x="857" y="63"/>
                  </a:lnTo>
                  <a:lnTo>
                    <a:pt x="841" y="61"/>
                  </a:lnTo>
                  <a:lnTo>
                    <a:pt x="825" y="60"/>
                  </a:lnTo>
                  <a:lnTo>
                    <a:pt x="809" y="59"/>
                  </a:lnTo>
                  <a:lnTo>
                    <a:pt x="793" y="59"/>
                  </a:lnTo>
                  <a:lnTo>
                    <a:pt x="777" y="59"/>
                  </a:lnTo>
                  <a:lnTo>
                    <a:pt x="761" y="60"/>
                  </a:lnTo>
                  <a:lnTo>
                    <a:pt x="744" y="61"/>
                  </a:lnTo>
                  <a:lnTo>
                    <a:pt x="728" y="63"/>
                  </a:lnTo>
                  <a:lnTo>
                    <a:pt x="712" y="64"/>
                  </a:lnTo>
                  <a:lnTo>
                    <a:pt x="696" y="66"/>
                  </a:lnTo>
                  <a:lnTo>
                    <a:pt x="680" y="68"/>
                  </a:lnTo>
                  <a:lnTo>
                    <a:pt x="664" y="71"/>
                  </a:lnTo>
                  <a:lnTo>
                    <a:pt x="648" y="73"/>
                  </a:lnTo>
                  <a:lnTo>
                    <a:pt x="633" y="76"/>
                  </a:lnTo>
                  <a:lnTo>
                    <a:pt x="618" y="79"/>
                  </a:lnTo>
                  <a:lnTo>
                    <a:pt x="604" y="81"/>
                  </a:lnTo>
                  <a:lnTo>
                    <a:pt x="591" y="84"/>
                  </a:lnTo>
                  <a:lnTo>
                    <a:pt x="579" y="87"/>
                  </a:lnTo>
                  <a:lnTo>
                    <a:pt x="567" y="89"/>
                  </a:lnTo>
                  <a:lnTo>
                    <a:pt x="557" y="91"/>
                  </a:lnTo>
                  <a:lnTo>
                    <a:pt x="541" y="11"/>
                  </a:lnTo>
                  <a:lnTo>
                    <a:pt x="367" y="11"/>
                  </a:lnTo>
                  <a:lnTo>
                    <a:pt x="329" y="501"/>
                  </a:lnTo>
                  <a:lnTo>
                    <a:pt x="113" y="743"/>
                  </a:lnTo>
                  <a:lnTo>
                    <a:pt x="113" y="880"/>
                  </a:lnTo>
                  <a:lnTo>
                    <a:pt x="109" y="882"/>
                  </a:lnTo>
                  <a:lnTo>
                    <a:pt x="100" y="885"/>
                  </a:lnTo>
                  <a:lnTo>
                    <a:pt x="90" y="889"/>
                  </a:lnTo>
                  <a:lnTo>
                    <a:pt x="76" y="893"/>
                  </a:lnTo>
                  <a:lnTo>
                    <a:pt x="61" y="899"/>
                  </a:lnTo>
                  <a:lnTo>
                    <a:pt x="44" y="903"/>
                  </a:lnTo>
                  <a:lnTo>
                    <a:pt x="26" y="909"/>
                  </a:lnTo>
                  <a:lnTo>
                    <a:pt x="5" y="914"/>
                  </a:lnTo>
                  <a:lnTo>
                    <a:pt x="0" y="9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1" name="Freeform 10"/>
            <p:cNvSpPr/>
            <p:nvPr/>
          </p:nvSpPr>
          <p:spPr>
            <a:xfrm>
              <a:off x="3002040" y="4370400"/>
              <a:ext cx="966600" cy="754200"/>
            </a:xfrm>
            <a:custGeom>
              <a:avLst/>
              <a:gdLst>
                <a:gd name="textAreaLeft" fmla="*/ 0 w 966600"/>
                <a:gd name="textAreaRight" fmla="*/ 966960 w 966600"/>
                <a:gd name="textAreaTop" fmla="*/ 0 h 754200"/>
                <a:gd name="textAreaBottom" fmla="*/ 754560 h 754200"/>
              </a:gdLst>
              <a:ahLst/>
              <a:rect l="textAreaLeft" t="textAreaTop" r="textAreaRight" b="textAreaBottom"/>
              <a:pathLst>
                <a:path w="1219" h="950">
                  <a:moveTo>
                    <a:pt x="214" y="462"/>
                  </a:moveTo>
                  <a:lnTo>
                    <a:pt x="249" y="10"/>
                  </a:lnTo>
                  <a:lnTo>
                    <a:pt x="306" y="10"/>
                  </a:lnTo>
                  <a:lnTo>
                    <a:pt x="326" y="106"/>
                  </a:lnTo>
                  <a:lnTo>
                    <a:pt x="359" y="97"/>
                  </a:lnTo>
                  <a:lnTo>
                    <a:pt x="362" y="97"/>
                  </a:lnTo>
                  <a:lnTo>
                    <a:pt x="366" y="96"/>
                  </a:lnTo>
                  <a:lnTo>
                    <a:pt x="374" y="93"/>
                  </a:lnTo>
                  <a:lnTo>
                    <a:pt x="385" y="91"/>
                  </a:lnTo>
                  <a:lnTo>
                    <a:pt x="397" y="88"/>
                  </a:lnTo>
                  <a:lnTo>
                    <a:pt x="412" y="85"/>
                  </a:lnTo>
                  <a:lnTo>
                    <a:pt x="430" y="82"/>
                  </a:lnTo>
                  <a:lnTo>
                    <a:pt x="447" y="77"/>
                  </a:lnTo>
                  <a:lnTo>
                    <a:pt x="466" y="74"/>
                  </a:lnTo>
                  <a:lnTo>
                    <a:pt x="486" y="70"/>
                  </a:lnTo>
                  <a:lnTo>
                    <a:pt x="508" y="68"/>
                  </a:lnTo>
                  <a:lnTo>
                    <a:pt x="529" y="65"/>
                  </a:lnTo>
                  <a:lnTo>
                    <a:pt x="551" y="62"/>
                  </a:lnTo>
                  <a:lnTo>
                    <a:pt x="571" y="60"/>
                  </a:lnTo>
                  <a:lnTo>
                    <a:pt x="592" y="59"/>
                  </a:lnTo>
                  <a:lnTo>
                    <a:pt x="613" y="59"/>
                  </a:lnTo>
                  <a:lnTo>
                    <a:pt x="634" y="59"/>
                  </a:lnTo>
                  <a:lnTo>
                    <a:pt x="654" y="60"/>
                  </a:lnTo>
                  <a:lnTo>
                    <a:pt x="675" y="62"/>
                  </a:lnTo>
                  <a:lnTo>
                    <a:pt x="696" y="65"/>
                  </a:lnTo>
                  <a:lnTo>
                    <a:pt x="716" y="68"/>
                  </a:lnTo>
                  <a:lnTo>
                    <a:pt x="736" y="70"/>
                  </a:lnTo>
                  <a:lnTo>
                    <a:pt x="754" y="74"/>
                  </a:lnTo>
                  <a:lnTo>
                    <a:pt x="772" y="77"/>
                  </a:lnTo>
                  <a:lnTo>
                    <a:pt x="788" y="82"/>
                  </a:lnTo>
                  <a:lnTo>
                    <a:pt x="803" y="85"/>
                  </a:lnTo>
                  <a:lnTo>
                    <a:pt x="817" y="88"/>
                  </a:lnTo>
                  <a:lnTo>
                    <a:pt x="828" y="91"/>
                  </a:lnTo>
                  <a:lnTo>
                    <a:pt x="837" y="93"/>
                  </a:lnTo>
                  <a:lnTo>
                    <a:pt x="844" y="96"/>
                  </a:lnTo>
                  <a:lnTo>
                    <a:pt x="849" y="97"/>
                  </a:lnTo>
                  <a:lnTo>
                    <a:pt x="850" y="97"/>
                  </a:lnTo>
                  <a:lnTo>
                    <a:pt x="882" y="106"/>
                  </a:lnTo>
                  <a:lnTo>
                    <a:pt x="912" y="0"/>
                  </a:lnTo>
                  <a:lnTo>
                    <a:pt x="963" y="0"/>
                  </a:lnTo>
                  <a:lnTo>
                    <a:pt x="1006" y="462"/>
                  </a:lnTo>
                  <a:lnTo>
                    <a:pt x="1219" y="701"/>
                  </a:lnTo>
                  <a:lnTo>
                    <a:pt x="1219" y="950"/>
                  </a:lnTo>
                  <a:lnTo>
                    <a:pt x="0" y="950"/>
                  </a:lnTo>
                  <a:lnTo>
                    <a:pt x="0" y="722"/>
                  </a:lnTo>
                  <a:lnTo>
                    <a:pt x="797" y="722"/>
                  </a:lnTo>
                  <a:lnTo>
                    <a:pt x="797" y="655"/>
                  </a:lnTo>
                  <a:lnTo>
                    <a:pt x="41" y="655"/>
                  </a:lnTo>
                  <a:lnTo>
                    <a:pt x="214" y="46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2" name="Freeform 11"/>
            <p:cNvSpPr/>
            <p:nvPr/>
          </p:nvSpPr>
          <p:spPr>
            <a:xfrm>
              <a:off x="3068640" y="3772080"/>
              <a:ext cx="271440" cy="355320"/>
            </a:xfrm>
            <a:custGeom>
              <a:avLst/>
              <a:gdLst>
                <a:gd name="textAreaLeft" fmla="*/ 0 w 271440"/>
                <a:gd name="textAreaRight" fmla="*/ 271800 w 271440"/>
                <a:gd name="textAreaTop" fmla="*/ 0 h 355320"/>
                <a:gd name="textAreaBottom" fmla="*/ 355680 h 355320"/>
              </a:gdLst>
              <a:ahLst/>
              <a:rect l="textAreaLeft" t="textAreaTop" r="textAreaRight" b="textAreaBottom"/>
              <a:pathLst>
                <a:path w="342" h="448">
                  <a:moveTo>
                    <a:pt x="342" y="410"/>
                  </a:moveTo>
                  <a:lnTo>
                    <a:pt x="54" y="0"/>
                  </a:lnTo>
                  <a:lnTo>
                    <a:pt x="0" y="38"/>
                  </a:lnTo>
                  <a:lnTo>
                    <a:pt x="287" y="448"/>
                  </a:lnTo>
                  <a:lnTo>
                    <a:pt x="34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3" name="Rectangle 12"/>
            <p:cNvSpPr/>
            <p:nvPr/>
          </p:nvSpPr>
          <p:spPr>
            <a:xfrm>
              <a:off x="3454560" y="3657600"/>
              <a:ext cx="52200" cy="3967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Freeform 13"/>
            <p:cNvSpPr/>
            <p:nvPr/>
          </p:nvSpPr>
          <p:spPr>
            <a:xfrm>
              <a:off x="3625920" y="3759120"/>
              <a:ext cx="271440" cy="357120"/>
            </a:xfrm>
            <a:custGeom>
              <a:avLst/>
              <a:gdLst>
                <a:gd name="textAreaLeft" fmla="*/ 0 w 271440"/>
                <a:gd name="textAreaRight" fmla="*/ 271800 w 271440"/>
                <a:gd name="textAreaTop" fmla="*/ 0 h 357120"/>
                <a:gd name="textAreaBottom" fmla="*/ 357120 h 357120"/>
              </a:gdLst>
              <a:ahLst/>
              <a:rect l="textAreaLeft" t="textAreaTop" r="textAreaRight" b="textAreaBottom"/>
              <a:pathLst>
                <a:path w="342" h="449">
                  <a:moveTo>
                    <a:pt x="342" y="39"/>
                  </a:moveTo>
                  <a:lnTo>
                    <a:pt x="287" y="0"/>
                  </a:lnTo>
                  <a:lnTo>
                    <a:pt x="0" y="410"/>
                  </a:lnTo>
                  <a:lnTo>
                    <a:pt x="54" y="449"/>
                  </a:lnTo>
                  <a:lnTo>
                    <a:pt x="34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5" name="Freeform 14"/>
            <p:cNvSpPr/>
            <p:nvPr/>
          </p:nvSpPr>
          <p:spPr>
            <a:xfrm>
              <a:off x="3262320" y="4487760"/>
              <a:ext cx="460440" cy="319320"/>
            </a:xfrm>
            <a:custGeom>
              <a:avLst/>
              <a:gdLst>
                <a:gd name="textAreaLeft" fmla="*/ 0 w 460440"/>
                <a:gd name="textAreaRight" fmla="*/ 460440 w 460440"/>
                <a:gd name="textAreaTop" fmla="*/ 0 h 319320"/>
                <a:gd name="textAreaBottom" fmla="*/ 319680 h 319320"/>
              </a:gdLst>
              <a:ahLst/>
              <a:rect l="textAreaLeft" t="textAreaTop" r="textAreaRight" b="textAreaBottom"/>
              <a:pathLst>
                <a:path w="581" h="403">
                  <a:moveTo>
                    <a:pt x="291" y="403"/>
                  </a:moveTo>
                  <a:lnTo>
                    <a:pt x="320" y="402"/>
                  </a:lnTo>
                  <a:lnTo>
                    <a:pt x="349" y="398"/>
                  </a:lnTo>
                  <a:lnTo>
                    <a:pt x="377" y="394"/>
                  </a:lnTo>
                  <a:lnTo>
                    <a:pt x="403" y="387"/>
                  </a:lnTo>
                  <a:lnTo>
                    <a:pt x="429" y="379"/>
                  </a:lnTo>
                  <a:lnTo>
                    <a:pt x="453" y="368"/>
                  </a:lnTo>
                  <a:lnTo>
                    <a:pt x="475" y="357"/>
                  </a:lnTo>
                  <a:lnTo>
                    <a:pt x="496" y="343"/>
                  </a:lnTo>
                  <a:lnTo>
                    <a:pt x="514" y="329"/>
                  </a:lnTo>
                  <a:lnTo>
                    <a:pt x="531" y="314"/>
                  </a:lnTo>
                  <a:lnTo>
                    <a:pt x="546" y="297"/>
                  </a:lnTo>
                  <a:lnTo>
                    <a:pt x="558" y="280"/>
                  </a:lnTo>
                  <a:lnTo>
                    <a:pt x="568" y="261"/>
                  </a:lnTo>
                  <a:lnTo>
                    <a:pt x="575" y="242"/>
                  </a:lnTo>
                  <a:lnTo>
                    <a:pt x="580" y="222"/>
                  </a:lnTo>
                  <a:lnTo>
                    <a:pt x="581" y="201"/>
                  </a:lnTo>
                  <a:lnTo>
                    <a:pt x="580" y="180"/>
                  </a:lnTo>
                  <a:lnTo>
                    <a:pt x="575" y="161"/>
                  </a:lnTo>
                  <a:lnTo>
                    <a:pt x="568" y="141"/>
                  </a:lnTo>
                  <a:lnTo>
                    <a:pt x="558" y="123"/>
                  </a:lnTo>
                  <a:lnTo>
                    <a:pt x="546" y="104"/>
                  </a:lnTo>
                  <a:lnTo>
                    <a:pt x="531" y="88"/>
                  </a:lnTo>
                  <a:lnTo>
                    <a:pt x="514" y="73"/>
                  </a:lnTo>
                  <a:lnTo>
                    <a:pt x="496" y="58"/>
                  </a:lnTo>
                  <a:lnTo>
                    <a:pt x="475" y="46"/>
                  </a:lnTo>
                  <a:lnTo>
                    <a:pt x="453" y="34"/>
                  </a:lnTo>
                  <a:lnTo>
                    <a:pt x="429" y="24"/>
                  </a:lnTo>
                  <a:lnTo>
                    <a:pt x="403" y="16"/>
                  </a:lnTo>
                  <a:lnTo>
                    <a:pt x="377" y="9"/>
                  </a:lnTo>
                  <a:lnTo>
                    <a:pt x="349" y="4"/>
                  </a:lnTo>
                  <a:lnTo>
                    <a:pt x="320" y="1"/>
                  </a:lnTo>
                  <a:lnTo>
                    <a:pt x="291" y="0"/>
                  </a:lnTo>
                  <a:lnTo>
                    <a:pt x="261" y="1"/>
                  </a:lnTo>
                  <a:lnTo>
                    <a:pt x="232" y="4"/>
                  </a:lnTo>
                  <a:lnTo>
                    <a:pt x="204" y="9"/>
                  </a:lnTo>
                  <a:lnTo>
                    <a:pt x="178" y="16"/>
                  </a:lnTo>
                  <a:lnTo>
                    <a:pt x="152" y="24"/>
                  </a:lnTo>
                  <a:lnTo>
                    <a:pt x="128" y="34"/>
                  </a:lnTo>
                  <a:lnTo>
                    <a:pt x="105" y="46"/>
                  </a:lnTo>
                  <a:lnTo>
                    <a:pt x="86" y="58"/>
                  </a:lnTo>
                  <a:lnTo>
                    <a:pt x="66" y="73"/>
                  </a:lnTo>
                  <a:lnTo>
                    <a:pt x="50" y="88"/>
                  </a:lnTo>
                  <a:lnTo>
                    <a:pt x="35" y="104"/>
                  </a:lnTo>
                  <a:lnTo>
                    <a:pt x="23" y="123"/>
                  </a:lnTo>
                  <a:lnTo>
                    <a:pt x="13" y="141"/>
                  </a:lnTo>
                  <a:lnTo>
                    <a:pt x="6" y="161"/>
                  </a:lnTo>
                  <a:lnTo>
                    <a:pt x="1" y="180"/>
                  </a:lnTo>
                  <a:lnTo>
                    <a:pt x="0" y="201"/>
                  </a:lnTo>
                  <a:lnTo>
                    <a:pt x="1" y="222"/>
                  </a:lnTo>
                  <a:lnTo>
                    <a:pt x="6" y="242"/>
                  </a:lnTo>
                  <a:lnTo>
                    <a:pt x="13" y="261"/>
                  </a:lnTo>
                  <a:lnTo>
                    <a:pt x="23" y="280"/>
                  </a:lnTo>
                  <a:lnTo>
                    <a:pt x="35" y="297"/>
                  </a:lnTo>
                  <a:lnTo>
                    <a:pt x="50" y="314"/>
                  </a:lnTo>
                  <a:lnTo>
                    <a:pt x="66" y="329"/>
                  </a:lnTo>
                  <a:lnTo>
                    <a:pt x="86" y="343"/>
                  </a:lnTo>
                  <a:lnTo>
                    <a:pt x="105" y="357"/>
                  </a:lnTo>
                  <a:lnTo>
                    <a:pt x="128" y="368"/>
                  </a:lnTo>
                  <a:lnTo>
                    <a:pt x="152" y="379"/>
                  </a:lnTo>
                  <a:lnTo>
                    <a:pt x="178" y="387"/>
                  </a:lnTo>
                  <a:lnTo>
                    <a:pt x="204" y="394"/>
                  </a:lnTo>
                  <a:lnTo>
                    <a:pt x="232" y="398"/>
                  </a:lnTo>
                  <a:lnTo>
                    <a:pt x="261" y="402"/>
                  </a:lnTo>
                  <a:lnTo>
                    <a:pt x="291"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56" name="Freeform 15"/>
            <p:cNvSpPr/>
            <p:nvPr/>
          </p:nvSpPr>
          <p:spPr>
            <a:xfrm>
              <a:off x="3421080" y="4586400"/>
              <a:ext cx="142920" cy="98280"/>
            </a:xfrm>
            <a:custGeom>
              <a:avLst/>
              <a:gdLst>
                <a:gd name="textAreaLeft" fmla="*/ 0 w 142920"/>
                <a:gd name="textAreaRight" fmla="*/ 143280 w 142920"/>
                <a:gd name="textAreaTop" fmla="*/ 0 h 98280"/>
                <a:gd name="textAreaBottom" fmla="*/ 98640 h 98280"/>
              </a:gdLst>
              <a:ahLst/>
              <a:rect l="textAreaLeft" t="textAreaTop" r="textAreaRight" b="textAreaBottom"/>
              <a:pathLst>
                <a:path w="180" h="124">
                  <a:moveTo>
                    <a:pt x="91" y="124"/>
                  </a:moveTo>
                  <a:lnTo>
                    <a:pt x="109" y="123"/>
                  </a:lnTo>
                  <a:lnTo>
                    <a:pt x="125" y="120"/>
                  </a:lnTo>
                  <a:lnTo>
                    <a:pt x="141" y="114"/>
                  </a:lnTo>
                  <a:lnTo>
                    <a:pt x="154" y="107"/>
                  </a:lnTo>
                  <a:lnTo>
                    <a:pt x="165" y="98"/>
                  </a:lnTo>
                  <a:lnTo>
                    <a:pt x="173" y="88"/>
                  </a:lnTo>
                  <a:lnTo>
                    <a:pt x="178" y="76"/>
                  </a:lnTo>
                  <a:lnTo>
                    <a:pt x="180" y="63"/>
                  </a:lnTo>
                  <a:lnTo>
                    <a:pt x="178" y="51"/>
                  </a:lnTo>
                  <a:lnTo>
                    <a:pt x="173" y="38"/>
                  </a:lnTo>
                  <a:lnTo>
                    <a:pt x="165" y="28"/>
                  </a:lnTo>
                  <a:lnTo>
                    <a:pt x="154" y="18"/>
                  </a:lnTo>
                  <a:lnTo>
                    <a:pt x="141" y="10"/>
                  </a:lnTo>
                  <a:lnTo>
                    <a:pt x="125" y="5"/>
                  </a:lnTo>
                  <a:lnTo>
                    <a:pt x="109" y="1"/>
                  </a:lnTo>
                  <a:lnTo>
                    <a:pt x="91" y="0"/>
                  </a:lnTo>
                  <a:lnTo>
                    <a:pt x="72" y="1"/>
                  </a:lnTo>
                  <a:lnTo>
                    <a:pt x="55" y="5"/>
                  </a:lnTo>
                  <a:lnTo>
                    <a:pt x="40" y="10"/>
                  </a:lnTo>
                  <a:lnTo>
                    <a:pt x="26" y="18"/>
                  </a:lnTo>
                  <a:lnTo>
                    <a:pt x="15" y="28"/>
                  </a:lnTo>
                  <a:lnTo>
                    <a:pt x="6" y="38"/>
                  </a:lnTo>
                  <a:lnTo>
                    <a:pt x="2" y="51"/>
                  </a:lnTo>
                  <a:lnTo>
                    <a:pt x="0" y="63"/>
                  </a:lnTo>
                  <a:lnTo>
                    <a:pt x="2" y="76"/>
                  </a:lnTo>
                  <a:lnTo>
                    <a:pt x="6" y="88"/>
                  </a:lnTo>
                  <a:lnTo>
                    <a:pt x="15" y="98"/>
                  </a:lnTo>
                  <a:lnTo>
                    <a:pt x="26" y="107"/>
                  </a:lnTo>
                  <a:lnTo>
                    <a:pt x="40" y="114"/>
                  </a:lnTo>
                  <a:lnTo>
                    <a:pt x="55" y="120"/>
                  </a:lnTo>
                  <a:lnTo>
                    <a:pt x="72" y="123"/>
                  </a:lnTo>
                  <a:lnTo>
                    <a:pt x="91"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258"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Understand the objectives and design of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Understand expectations of our student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AutoShape 12"/>
          <p:cNvSpPr/>
          <p:nvPr/>
        </p:nvSpPr>
        <p:spPr>
          <a:xfrm rot="5400000">
            <a:off x="-50760" y="165096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I Measurement Curriculum by Audience</a:t>
            </a:r>
            <a:endParaRPr b="1" lang="en-US" sz="2800" spc="-1" strike="noStrike">
              <a:solidFill>
                <a:srgbClr val="000000"/>
              </a:solidFill>
              <a:latin typeface="Arial"/>
            </a:endParaRPr>
          </a:p>
        </p:txBody>
      </p:sp>
      <p:graphicFrame>
        <p:nvGraphicFramePr>
          <p:cNvPr id="261" name=""/>
          <p:cNvGraphicFramePr/>
          <p:nvPr/>
        </p:nvGraphicFramePr>
        <p:xfrm>
          <a:off x="380880" y="1219320"/>
          <a:ext cx="8458200" cy="5013360"/>
        </p:xfrm>
        <a:graphic>
          <a:graphicData uri="http://schemas.openxmlformats.org/drawingml/2006/table">
            <a:tbl>
              <a:tblPr/>
              <a:tblGrid>
                <a:gridCol w="2170080"/>
                <a:gridCol w="6288120"/>
              </a:tblGrid>
              <a:tr h="38124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45720" marR="45720">
                    <a:lnL>
                      <a:noFill/>
                    </a:lnL>
                    <a:lnR>
                      <a:noFill/>
                    </a:lnR>
                    <a:lnT>
                      <a:noFill/>
                    </a:lnT>
                    <a:lnB w="9360">
                      <a:solidFill>
                        <a:srgbClr val="9a9a9a"/>
                      </a:solidFill>
                    </a:lnB>
                    <a:noFill/>
                  </a:tcPr>
                </a:tc>
                <a:tc>
                  <a:txBody>
                    <a:bodyPr lIns="45720" rIns="4572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rse Title</a:t>
                      </a:r>
                      <a:endParaRPr b="1" lang="en-US" sz="2000" spc="-1" strike="noStrike">
                        <a:solidFill>
                          <a:srgbClr val="000000"/>
                        </a:solidFill>
                        <a:latin typeface="Arial"/>
                      </a:endParaRPr>
                    </a:p>
                  </a:txBody>
                  <a:tcPr anchor="ctr" marL="45720" marR="45720">
                    <a:lnL>
                      <a:noFill/>
                    </a:lnL>
                    <a:lnR>
                      <a:noFill/>
                    </a:lnR>
                    <a:lnT>
                      <a:noFill/>
                    </a:lnT>
                    <a:lnB w="9360">
                      <a:solidFill>
                        <a:srgbClr val="9a9a9a"/>
                      </a:solidFill>
                    </a:lnB>
                    <a:solidFill>
                      <a:srgbClr val="7f7f7f"/>
                    </a:solidFill>
                  </a:tcPr>
                </a:tc>
              </a:tr>
              <a:tr h="69984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ves</a:t>
                      </a:r>
                      <a:endParaRPr b="1" lang="en-US" sz="2000" spc="-1" strike="noStrike">
                        <a:solidFill>
                          <a:srgbClr val="000000"/>
                        </a:solidFill>
                        <a:latin typeface="Arial"/>
                      </a:endParaRPr>
                    </a:p>
                  </a:txBody>
                  <a:tcPr anchor="t" marL="45720" marR="45720">
                    <a:lnL>
                      <a:noFill/>
                    </a:lnL>
                    <a:lnR w="5760">
                      <a:solidFill>
                        <a:srgbClr val="000000"/>
                      </a:solidFill>
                    </a:lnR>
                    <a:lnT w="9360">
                      <a:solidFill>
                        <a:srgbClr val="9a9a9a"/>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txBody>
                  <a:tcPr anchor="t" marL="45720" marR="45720">
                    <a:lnL w="5760">
                      <a:solidFill>
                        <a:srgbClr val="000000"/>
                      </a:solidFill>
                    </a:lnL>
                    <a:lnR>
                      <a:noFill/>
                    </a:lnR>
                    <a:lnT w="9360">
                      <a:solidFill>
                        <a:srgbClr val="9a9a9a"/>
                      </a:solidFill>
                    </a:lnT>
                    <a:lnB w="5760">
                      <a:solidFill>
                        <a:srgbClr val="c0c0c0"/>
                      </a:solidFill>
                    </a:lnB>
                    <a:noFill/>
                  </a:tcPr>
                </a:tc>
              </a:tr>
              <a:tr h="161460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G memb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 </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igning Products and Processes Using Six Sigma</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w="5760">
                      <a:solidFill>
                        <a:srgbClr val="c0c0c0"/>
                      </a:solidFill>
                    </a:lnB>
                    <a:noFill/>
                  </a:tcPr>
                </a:tc>
              </a:tr>
              <a:tr h="161640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anag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w="5760">
                      <a:solidFill>
                        <a:srgbClr val="c0c0c0"/>
                      </a:solidFill>
                    </a:lnB>
                    <a:noFill/>
                  </a:tcPr>
                </a:tc>
                <a:tc>
                  <a:txBody>
                    <a:bodyPr lIns="45720" rIns="45720" anchor="t">
                      <a:noAutofit/>
                    </a:bodyPr>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Designing Products and Processes Using Six Sigma</a:t>
                      </a:r>
                      <a:endParaRPr b="1" lang="en-US" sz="2000" spc="-1" strike="noStrike">
                        <a:solidFill>
                          <a:srgbClr val="000000"/>
                        </a:solidFill>
                        <a:latin typeface="Arial"/>
                      </a:endParaRPr>
                    </a:p>
                    <a:p>
                      <a:pPr marL="285840" indent="-119160">
                        <a:buClr>
                          <a:srgbClr val="000000"/>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roduction to Personal Software Process</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w="5760">
                      <a:solidFill>
                        <a:srgbClr val="c0c0c0"/>
                      </a:solidFill>
                    </a:lnB>
                    <a:noFill/>
                  </a:tcPr>
                </a:tc>
              </a:tr>
              <a:tr h="701640">
                <a:tc>
                  <a:txBody>
                    <a:bodyPr lIns="45720" rIns="4572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s</a:t>
                      </a:r>
                      <a:endParaRPr b="1" lang="en-US" sz="2000" spc="-1" strike="noStrike">
                        <a:solidFill>
                          <a:srgbClr val="000000"/>
                        </a:solidFill>
                        <a:latin typeface="Arial"/>
                      </a:endParaRPr>
                    </a:p>
                  </a:txBody>
                  <a:tcPr anchor="t" marL="45720" marR="45720">
                    <a:lnL>
                      <a:noFill/>
                    </a:lnL>
                    <a:lnR w="5760">
                      <a:solidFill>
                        <a:srgbClr val="000000"/>
                      </a:solidFill>
                    </a:lnR>
                    <a:lnT w="5760">
                      <a:solidFill>
                        <a:srgbClr val="c0c0c0"/>
                      </a:solidFill>
                    </a:lnT>
                    <a:lnB>
                      <a:noFill/>
                    </a:lnB>
                    <a:noFill/>
                  </a:tcPr>
                </a:tc>
                <a:tc>
                  <a:txBody>
                    <a:bodyPr lIns="45720" rIns="45720" anchor="t">
                      <a:noAutofit/>
                    </a:bodyPr>
                    <a:p>
                      <a:pPr marL="285840" indent="-119160">
                        <a:buClr>
                          <a:srgbClr val="000000"/>
                        </a:buClr>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000000"/>
                        </a:solidFill>
                        <a:latin typeface="Arial"/>
                      </a:endParaRPr>
                    </a:p>
                    <a:p>
                      <a:pPr marL="285840" indent="-119160">
                        <a:buClr>
                          <a:srgbClr val="000000"/>
                        </a:buClr>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SP for Engineers</a:t>
                      </a:r>
                      <a:endParaRPr b="1" lang="en-US" sz="2000" spc="-1" strike="noStrike">
                        <a:solidFill>
                          <a:srgbClr val="000000"/>
                        </a:solidFill>
                        <a:latin typeface="Arial"/>
                      </a:endParaRPr>
                    </a:p>
                  </a:txBody>
                  <a:tcPr anchor="t" marL="45720" marR="45720">
                    <a:lnL w="5760">
                      <a:solidFill>
                        <a:srgbClr val="000000"/>
                      </a:solidFill>
                    </a:lnL>
                    <a:lnR>
                      <a:noFill/>
                    </a:lnR>
                    <a:lnT w="5760">
                      <a:solidFill>
                        <a:srgbClr val="c0c0c0"/>
                      </a:solidFill>
                    </a:lnT>
                    <a:lnB>
                      <a:no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s and Preparation</a:t>
            </a:r>
            <a:endParaRPr b="1" lang="en-US" sz="2800" spc="-1" strike="noStrike">
              <a:solidFill>
                <a:srgbClr val="000000"/>
              </a:solidFill>
              <a:latin typeface="Arial"/>
            </a:endParaRPr>
          </a:p>
        </p:txBody>
      </p:sp>
      <p:sp>
        <p:nvSpPr>
          <p:cNvPr id="263"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ity with measurement infrastructure</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e will briefly review terminology from the SEI’s Goal-Driven Measurement methodology.</a:t>
            </a:r>
            <a:endParaRPr b="0" lang="en-US" sz="2000" spc="-1" strike="noStrike">
              <a:solidFill>
                <a:srgbClr val="000000"/>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Workstation requirements</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mo/student version of JMP (ensure students have installed the software successfully)</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D drive, USB port, or network acces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obe Acrobat</a:t>
            </a:r>
            <a:r>
              <a:rPr b="0" lang="en-US" sz="2000" spc="-1" strike="noStrike" baseline="30000">
                <a:solidFill>
                  <a:srgbClr val="3c4f82"/>
                </a:solidFill>
                <a:latin typeface="Symbol"/>
                <a:ea typeface="Symbol"/>
              </a:rPr>
              <a:t></a:t>
            </a:r>
            <a:r>
              <a:rPr b="0" lang="en-US" sz="2000" spc="-1" strike="noStrike">
                <a:solidFill>
                  <a:srgbClr val="3c4f82"/>
                </a:solidFill>
                <a:latin typeface="Arial"/>
              </a:rPr>
              <a:t> Reader</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icrosoft Excel</a:t>
            </a:r>
            <a:endParaRPr b="0" lang="en-US" sz="2000" spc="-1" strike="noStrike">
              <a:solidFill>
                <a:srgbClr val="3c4f82"/>
              </a:solidFill>
              <a:latin typeface="Arial"/>
            </a:endParaRPr>
          </a:p>
          <a:p>
            <a:pPr lvl="1" marL="284040" indent="-169560">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does not assume any statistical knowledge or expertise with statistical packages. The use of statistics and a statistical package will be taught in the context of problem solving.</a:t>
            </a:r>
            <a:endParaRPr b="0" lang="en-US" sz="2000" spc="-1" strike="noStrike">
              <a:solidFill>
                <a:srgbClr val="000000"/>
              </a:solidFill>
              <a:latin typeface="Arial"/>
            </a:endParaRPr>
          </a:p>
          <a:p>
            <a:pPr lvl="1" marL="284040" indent="-169560">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traight Connector 6"/>
          <p:cNvSpPr/>
          <p:nvPr/>
        </p:nvSpPr>
        <p:spPr>
          <a:xfrm>
            <a:off x="457200" y="4952880"/>
            <a:ext cx="8305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266" name=""/>
          <p:cNvSpPr txBox="1"/>
          <p:nvPr/>
        </p:nvSpPr>
        <p:spPr>
          <a:xfrm>
            <a:off x="533520" y="1294920"/>
            <a:ext cx="807696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ourse, you will </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earn how to plan and manage performance-driven, measurable improvements </a:t>
            </a:r>
            <a:r>
              <a:rPr b="0" lang="en-US" sz="2000" spc="-1" strike="noStrike">
                <a:solidFill>
                  <a:srgbClr val="3c4f82"/>
                </a:solidFill>
                <a:latin typeface="Arial"/>
              </a:rPr>
              <a:t>using the Six Sigma Define-Measure-Analyze-Improve-Control (DMAIC) methodology</a:t>
            </a: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understand, through practice</a:t>
            </a:r>
            <a:r>
              <a:rPr b="0" lang="en-US" sz="2000" spc="-1" strike="noStrike">
                <a:solidFill>
                  <a:srgbClr val="3c4f82"/>
                </a:solidFill>
                <a:latin typeface="Arial"/>
              </a:rPr>
              <a:t>, which graphical methods should be used during data exploration, root cause analysis, process improvement verification and control</a:t>
            </a: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understand and interpret statistical output </a:t>
            </a:r>
            <a:r>
              <a:rPr b="0" lang="en-US" sz="2000" spc="-1" strike="noStrike">
                <a:solidFill>
                  <a:srgbClr val="3c4f82"/>
                </a:solidFill>
                <a:latin typeface="Arial"/>
              </a:rPr>
              <a:t>of various methods to drive key decisions during process improvement</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pproach</a:t>
            </a:r>
            <a:endParaRPr b="1" lang="en-US" sz="2800" spc="-1" strike="noStrike">
              <a:solidFill>
                <a:srgbClr val="000000"/>
              </a:solidFill>
              <a:latin typeface="Arial"/>
            </a:endParaRPr>
          </a:p>
        </p:txBody>
      </p:sp>
      <p:sp>
        <p:nvSpPr>
          <p:cNvPr id="268" name=""/>
          <p:cNvSpPr txBox="1"/>
          <p:nvPr/>
        </p:nvSpPr>
        <p:spPr>
          <a:xfrm>
            <a:off x="533520" y="1294920"/>
            <a:ext cx="8237520" cy="4953240"/>
          </a:xfrm>
          <a:prstGeom prst="rect">
            <a:avLst/>
          </a:prstGeom>
          <a:noFill/>
          <a:ln w="0">
            <a:noFill/>
          </a:ln>
        </p:spPr>
        <p:txBody>
          <a:bodyPr lIns="0" rIns="0" tIns="0" bIns="0" anchor="t">
            <a:normAutofit/>
          </a:bodyPr>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Review statistical core concepts needed.</a:t>
            </a:r>
            <a:endParaRPr b="0" lang="en-US" sz="2000" spc="-1" strike="noStrike">
              <a:solidFill>
                <a:srgbClr val="000000"/>
              </a:solidFill>
              <a:latin typeface="Arial"/>
            </a:endParaRPr>
          </a:p>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Learn statistical methods and tools in the context of the following real-life case studies</a:t>
            </a:r>
            <a:endParaRPr b="0" lang="en-US" sz="2000" spc="-1" strike="noStrike">
              <a:solidFill>
                <a:srgbClr val="000000"/>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call center operation</a:t>
            </a:r>
            <a:endParaRPr b="0" lang="en-US" sz="2000" spc="-1" strike="noStrike">
              <a:solidFill>
                <a:srgbClr val="3c4f82"/>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software defect removal improvement project</a:t>
            </a:r>
            <a:endParaRPr b="0" lang="en-US" sz="2000" spc="-1" strike="noStrike">
              <a:solidFill>
                <a:srgbClr val="3c4f82"/>
              </a:solidFill>
              <a:latin typeface="Arial"/>
            </a:endParaRPr>
          </a:p>
          <a:p>
            <a:pPr lvl="1" marL="628560" indent="-171360">
              <a:lnSpc>
                <a:spcPct val="95000"/>
              </a:lnSpc>
              <a:spcBef>
                <a:spcPts val="1250"/>
              </a:spcBef>
              <a:spcAft>
                <a:spcPts val="1199"/>
              </a:spcAft>
              <a:buClr>
                <a:srgbClr val="3c4f82"/>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project management cost and schedule improvement project</a:t>
            </a:r>
            <a:endParaRPr b="0" lang="en-US" sz="2000" spc="-1" strike="noStrike">
              <a:solidFill>
                <a:srgbClr val="3c4f82"/>
              </a:solidFill>
              <a:latin typeface="Arial"/>
            </a:endParaRPr>
          </a:p>
          <a:p>
            <a:pPr marL="166680" indent="-166680">
              <a:lnSpc>
                <a:spcPct val="95000"/>
              </a:lnSpc>
              <a:spcBef>
                <a:spcPts val="1250"/>
              </a:spcBef>
              <a:spcAft>
                <a:spcPts val="119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ractice using job aids to quickly discern what statistical graph or technique to use, in concert with a statistical package, to solve problems and drive significant software process improvement projects.</a:t>
            </a:r>
            <a:endParaRPr b="0" lang="en-US" sz="2000" spc="-1" strike="noStrike">
              <a:solidFill>
                <a:srgbClr val="000000"/>
              </a:solidFill>
              <a:latin typeface="Arial"/>
            </a:endParaRPr>
          </a:p>
          <a:p>
            <a:pPr marL="166680" indent="-166680">
              <a:lnSpc>
                <a:spcPct val="9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533160"/>
            <a:ext cx="8235720" cy="6858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f IPPSS and DPPSS</a:t>
            </a:r>
            <a:endParaRPr b="1" lang="en-US" sz="2800" spc="-1" strike="noStrike">
              <a:solidFill>
                <a:srgbClr val="000000"/>
              </a:solidFill>
              <a:latin typeface="Arial"/>
            </a:endParaRPr>
          </a:p>
        </p:txBody>
      </p:sp>
      <p:sp>
        <p:nvSpPr>
          <p:cNvPr id="270" name=""/>
          <p:cNvSpPr txBox="1"/>
          <p:nvPr/>
        </p:nvSpPr>
        <p:spPr>
          <a:xfrm>
            <a:off x="533160" y="1294920"/>
            <a:ext cx="838188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ing Process Performance Using Six Sigma</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Six Sigma and Goal-Driven Software Measurement. Learn key concepts in data analysis—including statistical thinking, the 7 Basic Tools, and root cause analysis—using real-life case studies and project data. </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ing Products and Processes Using Six Sigma</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Design-for-Six-Sigma methodology of DMADV (Define, Measure, Analyze, Design, Verify). More advanced and powerful analytical methods are introduced through short lectures and extensive hands-on practice sessions using problems traditionally faced by new product development teams.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AutoShape 62"/>
          <p:cNvSpPr/>
          <p:nvPr/>
        </p:nvSpPr>
        <p:spPr>
          <a:xfrm>
            <a:off x="6400800" y="2743200"/>
            <a:ext cx="2316240" cy="838080"/>
          </a:xfrm>
          <a:prstGeom prst="wedgeRoundRectCallout">
            <a:avLst>
              <a:gd name="adj1" fmla="val -70902"/>
              <a:gd name="adj2" fmla="val -52462"/>
              <a:gd name="adj3" fmla="val 16667"/>
            </a:avLst>
          </a:prstGeom>
          <a:solidFill>
            <a:srgbClr val="ffffcc"/>
          </a:solidFill>
          <a:ln w="9360">
            <a:solidFill>
              <a:srgbClr val="808080"/>
            </a:solidFill>
            <a:miter/>
          </a:ln>
        </p:spPr>
        <p:style>
          <a:lnRef idx="0"/>
          <a:fillRef idx="0"/>
          <a:effectRef idx="0"/>
          <a:fontRef idx="minor"/>
        </p:style>
        <p:txBody>
          <a:bodyPr lIns="86760" rIns="86760" tIns="43920" bIns="43920" anchor="ctr">
            <a:normAutofit fontScale="95000"/>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imilar to Six Sigma Green Belt training</a:t>
            </a:r>
            <a:endParaRPr b="1" lang="en-US" sz="1800" spc="-1" strike="noStrike">
              <a:solidFill>
                <a:srgbClr val="000000"/>
              </a:solidFill>
              <a:latin typeface="Arial"/>
            </a:endParaRPr>
          </a:p>
        </p:txBody>
      </p:sp>
      <p:sp>
        <p:nvSpPr>
          <p:cNvPr id="272" name="AutoShape 62"/>
          <p:cNvSpPr/>
          <p:nvPr/>
        </p:nvSpPr>
        <p:spPr>
          <a:xfrm>
            <a:off x="6324480" y="5562720"/>
            <a:ext cx="2316240" cy="761760"/>
          </a:xfrm>
          <a:prstGeom prst="wedgeRoundRectCallout">
            <a:avLst>
              <a:gd name="adj1" fmla="val -70629"/>
              <a:gd name="adj2" fmla="val -46666"/>
              <a:gd name="adj3" fmla="val 16667"/>
            </a:avLst>
          </a:prstGeom>
          <a:solidFill>
            <a:srgbClr val="ffffcc"/>
          </a:solidFill>
          <a:ln w="9360">
            <a:solidFill>
              <a:srgbClr val="808080"/>
            </a:solidFill>
            <a:miter/>
          </a:ln>
        </p:spPr>
        <p:style>
          <a:lnRef idx="0"/>
          <a:fillRef idx="0"/>
          <a:effectRef idx="0"/>
          <a:fontRef idx="minor"/>
        </p:style>
        <p:txBody>
          <a:bodyPr lIns="86760" rIns="86760" tIns="43920" bIns="43920" anchor="ctr">
            <a:normAutofit fontScale="90000"/>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ea typeface="MS PGothic"/>
              </a:rPr>
              <a:t>similar to Six Sigma Black Belt training</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1"/>
                                        </p:tgtEl>
                                        <p:attrNameLst>
                                          <p:attrName>style.visibility</p:attrName>
                                        </p:attrNameLst>
                                      </p:cBhvr>
                                      <p:to>
                                        <p:strVal val="visible"/>
                                      </p:to>
                                    </p:set>
                                    <p:anim calcmode="lin" valueType="num">
                                      <p:cBhvr additive="base">
                                        <p:cTn id="7" dur="500" fill="hold"/>
                                        <p:tgtEl>
                                          <p:spTgt spid="271"/>
                                        </p:tgtEl>
                                        <p:attrNameLst>
                                          <p:attrName>ppt_x</p:attrName>
                                        </p:attrNameLst>
                                      </p:cBhvr>
                                      <p:tavLst>
                                        <p:tav tm="0">
                                          <p:val>
                                            <p:strVal val="#ppt_x"/>
                                          </p:val>
                                        </p:tav>
                                        <p:tav tm="100000">
                                          <p:val>
                                            <p:strVal val="#ppt_x"/>
                                          </p:val>
                                        </p:tav>
                                      </p:tavLst>
                                    </p:anim>
                                    <p:anim calcmode="lin" valueType="num">
                                      <p:cBhvr additive="base">
                                        <p:cTn id="8"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72"/>
                                        </p:tgtEl>
                                        <p:attrNameLst>
                                          <p:attrName>style.visibility</p:attrName>
                                        </p:attrNameLst>
                                      </p:cBhvr>
                                      <p:to>
                                        <p:strVal val="visible"/>
                                      </p:to>
                                    </p:set>
                                    <p:anim calcmode="lin" valueType="num">
                                      <p:cBhvr additive="base">
                                        <p:cTn id="13" dur="500" fill="hold"/>
                                        <p:tgtEl>
                                          <p:spTgt spid="272"/>
                                        </p:tgtEl>
                                        <p:attrNameLst>
                                          <p:attrName>ppt_x</p:attrName>
                                        </p:attrNameLst>
                                      </p:cBhvr>
                                      <p:tavLst>
                                        <p:tav tm="0">
                                          <p:val>
                                            <p:strVal val="#ppt_x"/>
                                          </p:val>
                                        </p:tav>
                                        <p:tav tm="100000">
                                          <p:val>
                                            <p:strVal val="#ppt_x"/>
                                          </p:val>
                                        </p:tav>
                                      </p:tavLst>
                                    </p:anim>
                                    <p:anim calcmode="lin" valueType="num">
                                      <p:cBhvr additive="base">
                                        <p:cTn id="1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Real Life Project Form</a:t>
            </a:r>
            <a:endParaRPr b="1" lang="en-US" sz="2800" spc="-1" strike="noStrike">
              <a:solidFill>
                <a:srgbClr val="000000"/>
              </a:solidFill>
              <a:latin typeface="Arial"/>
            </a:endParaRPr>
          </a:p>
        </p:txBody>
      </p:sp>
      <p:sp>
        <p:nvSpPr>
          <p:cNvPr id="274" name=""/>
          <p:cNvSpPr txBox="1"/>
          <p:nvPr/>
        </p:nvSpPr>
        <p:spPr>
          <a:xfrm>
            <a:off x="533520" y="1294920"/>
            <a:ext cx="403848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your Real Life Project form</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ist 1-3 problems or projects from your work.</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ntinue using the form to note how the information you learn in the course can help you solve these problems. </a:t>
            </a:r>
            <a:endParaRPr b="0" lang="en-US" sz="2000" spc="-1" strike="noStrike">
              <a:solidFill>
                <a:srgbClr val="3c4f82"/>
              </a:solidFill>
              <a:latin typeface="Arial"/>
            </a:endParaRPr>
          </a:p>
        </p:txBody>
      </p:sp>
      <p:pic>
        <p:nvPicPr>
          <p:cNvPr id="275" name="Picture 14" descr="C:\Documents and Settings\eah\Local Settings\Temporary Internet Files\Content.IE5\8LM3092R\MPj04090090000[1].jpg"/>
          <p:cNvPicPr/>
          <p:nvPr/>
        </p:nvPicPr>
        <p:blipFill>
          <a:blip r:embed="rId1"/>
          <a:stretch/>
        </p:blipFill>
        <p:spPr>
          <a:xfrm>
            <a:off x="5867280" y="1295280"/>
            <a:ext cx="2957760" cy="2968920"/>
          </a:xfrm>
          <a:prstGeom prst="rect">
            <a:avLst/>
          </a:prstGeom>
          <a:ln w="0">
            <a:noFill/>
          </a:ln>
        </p:spPr>
      </p:pic>
      <p:sp>
        <p:nvSpPr>
          <p:cNvPr id="276" name="Rectangle 19"/>
          <p:cNvSpPr/>
          <p:nvPr/>
        </p:nvSpPr>
        <p:spPr>
          <a:xfrm>
            <a:off x="5867280" y="1295280"/>
            <a:ext cx="2960640" cy="2971800"/>
          </a:xfrm>
          <a:prstGeom prst="rect">
            <a:avLst/>
          </a:prstGeom>
          <a:noFill/>
          <a:ln w="12600">
            <a:solidFill>
              <a:srgbClr val="000000"/>
            </a:solidFill>
            <a:round/>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278"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Paradigms</a:t>
            </a:r>
            <a:endParaRPr b="0" lang="en-US" sz="2000" spc="-1" strike="noStrike">
              <a:solidFill>
                <a:srgbClr val="3c4f82"/>
              </a:solidFill>
              <a:latin typeface="Arial"/>
            </a:endParaRPr>
          </a:p>
          <a:p>
            <a:pPr lvl="2" marL="576360" indent="-17964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dentify different organizational contexts within which organizations use measurement and analysis</a:t>
            </a:r>
            <a:endParaRPr b="0" lang="en-US" sz="2000" spc="-1" strike="noStrike">
              <a:solidFill>
                <a:srgbClr val="3c4f82"/>
              </a:solidFill>
              <a:latin typeface="Arial"/>
            </a:endParaRPr>
          </a:p>
          <a:p>
            <a:pPr lvl="2" marL="576360" indent="-17964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dentify different reasons that organizations use measurement and analysi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AutoShape 12"/>
          <p:cNvSpPr/>
          <p:nvPr/>
        </p:nvSpPr>
        <p:spPr>
          <a:xfrm rot="5400000">
            <a:off x="-50760" y="19558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xt and illustrations in this material are licensed by Carnegie Mellon University under a Creative Commons Attribution 4.0 International License. The Creative Commons license does not extend to logos, trade marks, or service marks of Carnegie Mellon University.</a:t>
            </a: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Roles</a:t>
            </a:r>
            <a:endParaRPr b="1" lang="en-US" sz="2800" spc="-1" strike="noStrike">
              <a:solidFill>
                <a:srgbClr val="000000"/>
              </a:solidFill>
              <a:latin typeface="Arial"/>
            </a:endParaRPr>
          </a:p>
        </p:txBody>
      </p:sp>
      <p:sp>
        <p:nvSpPr>
          <p:cNvPr id="281"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share the responsibility for </a:t>
            </a:r>
            <a:r>
              <a:rPr b="1" lang="en-US" sz="2000" spc="-1" strike="noStrike">
                <a:solidFill>
                  <a:srgbClr val="000000"/>
                </a:solidFill>
                <a:latin typeface="Arial"/>
              </a:rPr>
              <a:t>deploying</a:t>
            </a:r>
            <a:r>
              <a:rPr b="0" lang="en-US" sz="2000" spc="-1" strike="noStrike">
                <a:solidFill>
                  <a:srgbClr val="000000"/>
                </a:solidFill>
                <a:latin typeface="Arial"/>
              </a:rPr>
              <a:t> </a:t>
            </a:r>
            <a:r>
              <a:rPr b="1" lang="en-US" sz="2000" spc="-1" strike="noStrike">
                <a:solidFill>
                  <a:srgbClr val="000000"/>
                </a:solidFill>
                <a:latin typeface="Arial"/>
              </a:rPr>
              <a:t>and supporting measurement and analysis.</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EPGs and improvement team member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measurement working group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evelopment/project team member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gram and project managers and team member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ponsor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hampion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rporate resources such as Six Sigma Belts </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rives Process Improvement?</a:t>
            </a:r>
            <a:endParaRPr b="1" lang="en-US" sz="2800" spc="-1" strike="noStrike">
              <a:solidFill>
                <a:srgbClr val="000000"/>
              </a:solidFill>
              <a:latin typeface="Arial"/>
            </a:endParaRPr>
          </a:p>
        </p:txBody>
      </p:sp>
      <p:sp>
        <p:nvSpPr>
          <p:cNvPr id="283"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ssues: product, project, and, eventually, process issues</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s and mandate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arbanes Oxley</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MMI Level 3 requirements to win contracts</a:t>
            </a:r>
            <a:br>
              <a:rPr sz="2000"/>
            </a:br>
            <a:r>
              <a:rPr b="0" lang="en-US" sz="2000" spc="-1" strike="noStrike">
                <a:solidFill>
                  <a:srgbClr val="3c4f82"/>
                </a:solidFill>
                <a:latin typeface="Arial"/>
              </a:rPr>
              <a:t> </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ssues and “burning platform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ost market share or contract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ntinuous cost, quality and cycle time improvement</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pitalizing on new opportuniti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84" name=""/>
          <p:cNvGraphicFramePr/>
          <p:nvPr/>
        </p:nvGraphicFramePr>
        <p:xfrm>
          <a:off x="533520" y="5364000"/>
          <a:ext cx="8229600" cy="1189080"/>
        </p:xfrm>
        <a:graphic>
          <a:graphicData uri="http://schemas.openxmlformats.org/drawingml/2006/table">
            <a:tbl>
              <a:tblPr/>
              <a:tblGrid>
                <a:gridCol w="3124080"/>
                <a:gridCol w="1143000"/>
                <a:gridCol w="396252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formance-driven improvement </a:t>
                      </a: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s. </a:t>
                      </a: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iance-driven improvem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85" name="Straight Connector 5"/>
          <p:cNvSpPr/>
          <p:nvPr/>
        </p:nvSpPr>
        <p:spPr>
          <a:xfrm>
            <a:off x="533520" y="5180040"/>
            <a:ext cx="8001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Content Placeholder 11" descr="hands.jpg"/>
          <p:cNvPicPr/>
          <p:nvPr/>
        </p:nvPicPr>
        <p:blipFill>
          <a:blip r:embed="rId1"/>
          <a:stretch/>
        </p:blipFill>
        <p:spPr>
          <a:xfrm>
            <a:off x="228600" y="1752480"/>
            <a:ext cx="3209760" cy="4953240"/>
          </a:xfrm>
          <a:prstGeom prst="rect">
            <a:avLst/>
          </a:prstGeom>
          <a:ln w="0">
            <a:noFill/>
          </a:ln>
        </p:spPr>
      </p:pic>
      <p:sp>
        <p:nvSpPr>
          <p:cNvPr id="28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Solutions</a:t>
            </a:r>
            <a:endParaRPr b="1" lang="en-US" sz="2800" spc="-1" strike="noStrike">
              <a:solidFill>
                <a:srgbClr val="000000"/>
              </a:solidFill>
              <a:latin typeface="Arial"/>
            </a:endParaRPr>
          </a:p>
        </p:txBody>
      </p:sp>
      <p:grpSp>
        <p:nvGrpSpPr>
          <p:cNvPr id="288" name="Group 35"/>
          <p:cNvGrpSpPr/>
          <p:nvPr/>
        </p:nvGrpSpPr>
        <p:grpSpPr>
          <a:xfrm>
            <a:off x="1066680" y="304920"/>
            <a:ext cx="7094160" cy="5424120"/>
            <a:chOff x="1066680" y="304920"/>
            <a:chExt cx="7094160" cy="5424120"/>
          </a:xfrm>
        </p:grpSpPr>
        <p:sp>
          <p:nvSpPr>
            <p:cNvPr id="289" name="Oval 7"/>
            <p:cNvSpPr/>
            <p:nvPr/>
          </p:nvSpPr>
          <p:spPr>
            <a:xfrm>
              <a:off x="1066680" y="1220040"/>
              <a:ext cx="1198440" cy="112248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Text Box 8"/>
            <p:cNvSpPr/>
            <p:nvPr/>
          </p:nvSpPr>
          <p:spPr>
            <a:xfrm>
              <a:off x="1218600" y="160128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CMMI</a:t>
              </a:r>
              <a:r>
                <a:rPr b="1" lang="en-US" sz="2000" spc="-1" strike="noStrike" baseline="30000">
                  <a:solidFill>
                    <a:srgbClr val="ffffff"/>
                  </a:solidFill>
                  <a:latin typeface="Arial Narrow"/>
                  <a:ea typeface="MS PGothic"/>
                </a:rPr>
                <a:t>®</a:t>
              </a:r>
              <a:endParaRPr b="1" lang="en-US" sz="2000" spc="-1" strike="noStrike">
                <a:solidFill>
                  <a:srgbClr val="000000"/>
                </a:solidFill>
                <a:latin typeface="Arial"/>
              </a:endParaRPr>
            </a:p>
          </p:txBody>
        </p:sp>
        <p:sp>
          <p:nvSpPr>
            <p:cNvPr id="291" name="Oval 9"/>
            <p:cNvSpPr/>
            <p:nvPr/>
          </p:nvSpPr>
          <p:spPr>
            <a:xfrm>
              <a:off x="3047040" y="3506040"/>
              <a:ext cx="127944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Text Box 10"/>
            <p:cNvSpPr/>
            <p:nvPr/>
          </p:nvSpPr>
          <p:spPr>
            <a:xfrm>
              <a:off x="3199320" y="396252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EIA 731</a:t>
              </a:r>
              <a:endParaRPr b="1" lang="en-US" sz="2000" spc="-1" strike="noStrike">
                <a:solidFill>
                  <a:srgbClr val="000000"/>
                </a:solidFill>
                <a:latin typeface="Arial"/>
              </a:endParaRPr>
            </a:p>
          </p:txBody>
        </p:sp>
        <p:sp>
          <p:nvSpPr>
            <p:cNvPr id="293" name="Oval 11"/>
            <p:cNvSpPr/>
            <p:nvPr/>
          </p:nvSpPr>
          <p:spPr>
            <a:xfrm>
              <a:off x="2742840" y="915480"/>
              <a:ext cx="127944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Oval 12"/>
            <p:cNvSpPr/>
            <p:nvPr/>
          </p:nvSpPr>
          <p:spPr>
            <a:xfrm>
              <a:off x="5485680" y="304920"/>
              <a:ext cx="1044360" cy="9223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Text Box 13"/>
            <p:cNvSpPr/>
            <p:nvPr/>
          </p:nvSpPr>
          <p:spPr>
            <a:xfrm>
              <a:off x="2962080" y="1335240"/>
              <a:ext cx="10425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TSP</a:t>
              </a:r>
              <a:r>
                <a:rPr b="1" lang="en-US" sz="2000" spc="-1" strike="noStrike" baseline="30000">
                  <a:solidFill>
                    <a:srgbClr val="ffffff"/>
                  </a:solidFill>
                  <a:latin typeface="Arial"/>
                  <a:ea typeface="MS PGothic"/>
                </a:rPr>
                <a:t>SM</a:t>
              </a:r>
              <a:endParaRPr b="1" lang="en-US" sz="2000" spc="-1" strike="noStrike">
                <a:solidFill>
                  <a:srgbClr val="000000"/>
                </a:solidFill>
                <a:latin typeface="Arial"/>
              </a:endParaRPr>
            </a:p>
          </p:txBody>
        </p:sp>
        <p:sp>
          <p:nvSpPr>
            <p:cNvPr id="296" name="Oval 14"/>
            <p:cNvSpPr/>
            <p:nvPr/>
          </p:nvSpPr>
          <p:spPr>
            <a:xfrm>
              <a:off x="5232960" y="283572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Text Box 15"/>
            <p:cNvSpPr/>
            <p:nvPr/>
          </p:nvSpPr>
          <p:spPr>
            <a:xfrm>
              <a:off x="5256720" y="3261600"/>
              <a:ext cx="12636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SO 12207</a:t>
              </a:r>
              <a:endParaRPr b="1" lang="en-US" sz="2000" spc="-1" strike="noStrike">
                <a:solidFill>
                  <a:srgbClr val="000000"/>
                </a:solidFill>
                <a:latin typeface="Arial"/>
              </a:endParaRPr>
            </a:p>
          </p:txBody>
        </p:sp>
        <p:sp>
          <p:nvSpPr>
            <p:cNvPr id="298" name="Oval 16"/>
            <p:cNvSpPr/>
            <p:nvPr/>
          </p:nvSpPr>
          <p:spPr>
            <a:xfrm>
              <a:off x="6476760" y="76284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Text Box 17"/>
            <p:cNvSpPr/>
            <p:nvPr/>
          </p:nvSpPr>
          <p:spPr>
            <a:xfrm>
              <a:off x="6492600" y="1009800"/>
              <a:ext cx="12636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core-card</a:t>
              </a:r>
              <a:endParaRPr b="1" lang="en-US" sz="2000" spc="-1" strike="noStrike">
                <a:solidFill>
                  <a:srgbClr val="000000"/>
                </a:solidFill>
                <a:latin typeface="Arial"/>
              </a:endParaRPr>
            </a:p>
          </p:txBody>
        </p:sp>
        <p:sp>
          <p:nvSpPr>
            <p:cNvPr id="300" name="Oval 18"/>
            <p:cNvSpPr/>
            <p:nvPr/>
          </p:nvSpPr>
          <p:spPr>
            <a:xfrm>
              <a:off x="2284920" y="2209680"/>
              <a:ext cx="1279080" cy="123264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Text Box 19"/>
            <p:cNvSpPr/>
            <p:nvPr/>
          </p:nvSpPr>
          <p:spPr>
            <a:xfrm>
              <a:off x="2436840" y="2666160"/>
              <a:ext cx="12639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EIA 632</a:t>
              </a:r>
              <a:endParaRPr b="1" lang="en-US" sz="2000" spc="-1" strike="noStrike">
                <a:solidFill>
                  <a:srgbClr val="000000"/>
                </a:solidFill>
                <a:latin typeface="Arial"/>
              </a:endParaRPr>
            </a:p>
          </p:txBody>
        </p:sp>
        <p:sp>
          <p:nvSpPr>
            <p:cNvPr id="302" name="Oval 20"/>
            <p:cNvSpPr/>
            <p:nvPr/>
          </p:nvSpPr>
          <p:spPr>
            <a:xfrm>
              <a:off x="5256720" y="1448640"/>
              <a:ext cx="127908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Text Box 21"/>
            <p:cNvSpPr/>
            <p:nvPr/>
          </p:nvSpPr>
          <p:spPr>
            <a:xfrm>
              <a:off x="5256720" y="1830240"/>
              <a:ext cx="12636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SO 9000</a:t>
              </a:r>
              <a:endParaRPr b="1" lang="en-US" sz="2000" spc="-1" strike="noStrike">
                <a:solidFill>
                  <a:srgbClr val="000000"/>
                </a:solidFill>
                <a:latin typeface="Arial"/>
              </a:endParaRPr>
            </a:p>
          </p:txBody>
        </p:sp>
        <p:sp>
          <p:nvSpPr>
            <p:cNvPr id="304" name="Text Box 22"/>
            <p:cNvSpPr/>
            <p:nvPr/>
          </p:nvSpPr>
          <p:spPr>
            <a:xfrm>
              <a:off x="5722560" y="53172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ITIL</a:t>
              </a:r>
              <a:endParaRPr b="1" lang="en-US" sz="2000" spc="-1" strike="noStrike">
                <a:solidFill>
                  <a:srgbClr val="000000"/>
                </a:solidFill>
                <a:latin typeface="Arial"/>
              </a:endParaRPr>
            </a:p>
          </p:txBody>
        </p:sp>
        <p:sp>
          <p:nvSpPr>
            <p:cNvPr id="305" name="Oval 23"/>
            <p:cNvSpPr/>
            <p:nvPr/>
          </p:nvSpPr>
          <p:spPr>
            <a:xfrm>
              <a:off x="6780960" y="2209680"/>
              <a:ext cx="1152720" cy="1113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Text Box 24"/>
            <p:cNvSpPr/>
            <p:nvPr/>
          </p:nvSpPr>
          <p:spPr>
            <a:xfrm>
              <a:off x="6897240" y="2567880"/>
              <a:ext cx="1263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COBIT</a:t>
              </a:r>
              <a:endParaRPr b="1" lang="en-US" sz="2000" spc="-1" strike="noStrike">
                <a:solidFill>
                  <a:srgbClr val="000000"/>
                </a:solidFill>
                <a:latin typeface="Arial"/>
              </a:endParaRPr>
            </a:p>
          </p:txBody>
        </p:sp>
        <p:sp>
          <p:nvSpPr>
            <p:cNvPr id="307" name="Oval 25"/>
            <p:cNvSpPr/>
            <p:nvPr/>
          </p:nvSpPr>
          <p:spPr>
            <a:xfrm>
              <a:off x="4494240" y="3885840"/>
              <a:ext cx="1105920" cy="1032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Text Box 26"/>
            <p:cNvSpPr/>
            <p:nvPr/>
          </p:nvSpPr>
          <p:spPr>
            <a:xfrm>
              <a:off x="4739040" y="4207320"/>
              <a:ext cx="823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PSM </a:t>
              </a:r>
              <a:endParaRPr b="1" lang="en-US" sz="2000" spc="-1" strike="noStrike">
                <a:solidFill>
                  <a:srgbClr val="000000"/>
                </a:solidFill>
                <a:latin typeface="Arial"/>
              </a:endParaRPr>
            </a:p>
          </p:txBody>
        </p:sp>
        <p:sp>
          <p:nvSpPr>
            <p:cNvPr id="309" name="Oval 27"/>
            <p:cNvSpPr/>
            <p:nvPr/>
          </p:nvSpPr>
          <p:spPr>
            <a:xfrm>
              <a:off x="4038480" y="2590920"/>
              <a:ext cx="1125000" cy="106308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Text Box 28"/>
            <p:cNvSpPr/>
            <p:nvPr/>
          </p:nvSpPr>
          <p:spPr>
            <a:xfrm>
              <a:off x="4132800" y="2959200"/>
              <a:ext cx="12639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GQ(I)M</a:t>
              </a:r>
              <a:endParaRPr b="1" lang="en-US" sz="2000" spc="-1" strike="noStrike">
                <a:solidFill>
                  <a:srgbClr val="000000"/>
                </a:solidFill>
                <a:latin typeface="Arial"/>
              </a:endParaRPr>
            </a:p>
          </p:txBody>
        </p:sp>
        <p:sp>
          <p:nvSpPr>
            <p:cNvPr id="311" name="Oval 29"/>
            <p:cNvSpPr/>
            <p:nvPr/>
          </p:nvSpPr>
          <p:spPr>
            <a:xfrm>
              <a:off x="3996720" y="1564560"/>
              <a:ext cx="1002960" cy="97056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Text Box 30"/>
            <p:cNvSpPr/>
            <p:nvPr/>
          </p:nvSpPr>
          <p:spPr>
            <a:xfrm>
              <a:off x="4226040" y="1869120"/>
              <a:ext cx="1042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RUP</a:t>
              </a:r>
              <a:endParaRPr b="1" lang="en-US" sz="2000" spc="-1" strike="noStrike">
                <a:solidFill>
                  <a:srgbClr val="000000"/>
                </a:solidFill>
                <a:latin typeface="Arial"/>
              </a:endParaRPr>
            </a:p>
          </p:txBody>
        </p:sp>
        <p:sp>
          <p:nvSpPr>
            <p:cNvPr id="313" name="Oval 31"/>
            <p:cNvSpPr/>
            <p:nvPr/>
          </p:nvSpPr>
          <p:spPr>
            <a:xfrm>
              <a:off x="4494240" y="609120"/>
              <a:ext cx="943560" cy="92412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Text Box 32"/>
            <p:cNvSpPr/>
            <p:nvPr/>
          </p:nvSpPr>
          <p:spPr>
            <a:xfrm>
              <a:off x="4646520" y="915480"/>
              <a:ext cx="1042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Agile</a:t>
              </a:r>
              <a:endParaRPr b="1" lang="en-US" sz="2000" spc="-1" strike="noStrike">
                <a:solidFill>
                  <a:srgbClr val="000000"/>
                </a:solidFill>
                <a:latin typeface="Arial"/>
              </a:endParaRPr>
            </a:p>
          </p:txBody>
        </p:sp>
        <p:sp>
          <p:nvSpPr>
            <p:cNvPr id="315" name="Oval 33"/>
            <p:cNvSpPr/>
            <p:nvPr/>
          </p:nvSpPr>
          <p:spPr>
            <a:xfrm>
              <a:off x="1370520" y="4496040"/>
              <a:ext cx="1279440" cy="1233000"/>
            </a:xfrm>
            <a:prstGeom prst="ellipse">
              <a:avLst/>
            </a:prstGeom>
            <a:solidFill>
              <a:srgbClr val="85a3ff"/>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Text Box 34"/>
            <p:cNvSpPr/>
            <p:nvPr/>
          </p:nvSpPr>
          <p:spPr>
            <a:xfrm>
              <a:off x="1447560" y="4800600"/>
              <a:ext cx="112968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EI IDEAL</a:t>
              </a:r>
              <a:endParaRPr b="1" lang="en-US" sz="2000" spc="-1" strike="noStrike">
                <a:solidFill>
                  <a:srgbClr val="000000"/>
                </a:solidFill>
                <a:latin typeface="Arial"/>
              </a:endParaRPr>
            </a:p>
          </p:txBody>
        </p:sp>
      </p:grpSp>
      <p:sp>
        <p:nvSpPr>
          <p:cNvPr id="317" name="Rectangle 33"/>
          <p:cNvSpPr/>
          <p:nvPr/>
        </p:nvSpPr>
        <p:spPr>
          <a:xfrm>
            <a:off x="5334120" y="5181480"/>
            <a:ext cx="3504960" cy="13370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What solutions is your organization implementing? </a:t>
            </a:r>
            <a:endParaRPr b="1" lang="en-US" sz="2000" spc="-1" strike="noStrike">
              <a:solidFill>
                <a:srgbClr val="000000"/>
              </a:solidFill>
              <a:latin typeface="Arial"/>
            </a:endParaRPr>
          </a:p>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How do they support your organization’s mission?</a:t>
            </a:r>
            <a:endParaRPr b="1" lang="en-US" sz="2000" spc="-1" strike="noStrike">
              <a:solidFill>
                <a:srgbClr val="000000"/>
              </a:solidFill>
              <a:latin typeface="Arial"/>
            </a:endParaRPr>
          </a:p>
        </p:txBody>
      </p:sp>
      <p:sp>
        <p:nvSpPr>
          <p:cNvPr id="318" name="Straight Connector 57"/>
          <p:cNvSpPr/>
          <p:nvPr/>
        </p:nvSpPr>
        <p:spPr>
          <a:xfrm>
            <a:off x="4191120" y="5105520"/>
            <a:ext cx="434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grpSp>
        <p:nvGrpSpPr>
          <p:cNvPr id="319" name="Group 22"/>
          <p:cNvGrpSpPr/>
          <p:nvPr/>
        </p:nvGrpSpPr>
        <p:grpSpPr>
          <a:xfrm>
            <a:off x="3962520" y="5040360"/>
            <a:ext cx="1218600" cy="1207800"/>
            <a:chOff x="3962520" y="5040360"/>
            <a:chExt cx="1218600" cy="1207800"/>
          </a:xfrm>
        </p:grpSpPr>
        <p:sp>
          <p:nvSpPr>
            <p:cNvPr id="320" name="AutoShape 21"/>
            <p:cNvSpPr/>
            <p:nvPr/>
          </p:nvSpPr>
          <p:spPr>
            <a:xfrm>
              <a:off x="3962520" y="5040360"/>
              <a:ext cx="121860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1" name="Freeform 26"/>
            <p:cNvSpPr/>
            <p:nvPr/>
          </p:nvSpPr>
          <p:spPr>
            <a:xfrm>
              <a:off x="4127400" y="5239080"/>
              <a:ext cx="837000" cy="787680"/>
            </a:xfrm>
            <a:custGeom>
              <a:avLst/>
              <a:gdLst>
                <a:gd name="textAreaLeft" fmla="*/ 0 w 837000"/>
                <a:gd name="textAreaRight" fmla="*/ 837360 w 83700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2" name="Freeform 27"/>
            <p:cNvSpPr/>
            <p:nvPr/>
          </p:nvSpPr>
          <p:spPr>
            <a:xfrm>
              <a:off x="4294800" y="527724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3" name="Freeform 28"/>
            <p:cNvSpPr/>
            <p:nvPr/>
          </p:nvSpPr>
          <p:spPr>
            <a:xfrm>
              <a:off x="4457880" y="581544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24" name="Freeform 29"/>
            <p:cNvSpPr/>
            <p:nvPr/>
          </p:nvSpPr>
          <p:spPr>
            <a:xfrm>
              <a:off x="4502520" y="551160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325" name="Freeform 30"/>
            <p:cNvSpPr/>
            <p:nvPr/>
          </p:nvSpPr>
          <p:spPr>
            <a:xfrm>
              <a:off x="4837320" y="55051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326" name="Freeform 32"/>
            <p:cNvSpPr/>
            <p:nvPr/>
          </p:nvSpPr>
          <p:spPr>
            <a:xfrm>
              <a:off x="4837320" y="548028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327" name="Freeform 34"/>
            <p:cNvSpPr/>
            <p:nvPr/>
          </p:nvSpPr>
          <p:spPr>
            <a:xfrm>
              <a:off x="4502520" y="544680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328" name="Rectangle 35"/>
            <p:cNvSpPr/>
            <p:nvPr/>
          </p:nvSpPr>
          <p:spPr>
            <a:xfrm>
              <a:off x="4272480" y="553392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Freeform 38"/>
            <p:cNvSpPr/>
            <p:nvPr/>
          </p:nvSpPr>
          <p:spPr>
            <a:xfrm>
              <a:off x="4837320" y="548928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330" name="Freeform 40"/>
            <p:cNvSpPr/>
            <p:nvPr/>
          </p:nvSpPr>
          <p:spPr>
            <a:xfrm>
              <a:off x="4421880" y="5466960"/>
              <a:ext cx="182880" cy="285480"/>
            </a:xfrm>
            <a:custGeom>
              <a:avLst/>
              <a:gdLst>
                <a:gd name="textAreaLeft" fmla="*/ 0 w 182880"/>
                <a:gd name="textAreaRight" fmla="*/ 183240 w 18288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1" name="Freeform 41"/>
            <p:cNvSpPr/>
            <p:nvPr/>
          </p:nvSpPr>
          <p:spPr>
            <a:xfrm>
              <a:off x="4584960" y="546912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332" name="Freeform 42"/>
            <p:cNvSpPr/>
            <p:nvPr/>
          </p:nvSpPr>
          <p:spPr>
            <a:xfrm>
              <a:off x="4421880" y="5551560"/>
              <a:ext cx="66960" cy="200880"/>
            </a:xfrm>
            <a:custGeom>
              <a:avLst/>
              <a:gdLst>
                <a:gd name="textAreaLeft" fmla="*/ 0 w 66960"/>
                <a:gd name="textAreaRight" fmla="*/ 67320 w 6696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3" name="Freeform 43"/>
            <p:cNvSpPr/>
            <p:nvPr/>
          </p:nvSpPr>
          <p:spPr>
            <a:xfrm>
              <a:off x="4522680" y="5473440"/>
              <a:ext cx="64440" cy="60120"/>
            </a:xfrm>
            <a:custGeom>
              <a:avLst/>
              <a:gdLst>
                <a:gd name="textAreaLeft" fmla="*/ 0 w 64440"/>
                <a:gd name="textAreaRight" fmla="*/ 64800 w 6444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334" name="Freeform 44"/>
            <p:cNvSpPr/>
            <p:nvPr/>
          </p:nvSpPr>
          <p:spPr>
            <a:xfrm>
              <a:off x="4489200" y="553392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335" name="Freeform 45"/>
            <p:cNvSpPr/>
            <p:nvPr/>
          </p:nvSpPr>
          <p:spPr>
            <a:xfrm>
              <a:off x="4489200" y="553392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336" name="Freeform 46"/>
            <p:cNvSpPr/>
            <p:nvPr/>
          </p:nvSpPr>
          <p:spPr>
            <a:xfrm>
              <a:off x="4500360" y="583776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37" name="Freeform 47"/>
            <p:cNvSpPr/>
            <p:nvPr/>
          </p:nvSpPr>
          <p:spPr>
            <a:xfrm>
              <a:off x="4323600" y="530388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8">
                                  <p:stCondLst>
                                    <p:cond delay="0"/>
                                  </p:stCondLst>
                                  <p:childTnLst>
                                    <p:animRot by="21600000">
                                      <p:cBhvr>
                                        <p:cTn id="20" dur="500" fill="hold"/>
                                        <p:tgtEl>
                                          <p:spTgt spid="2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1" lang="en-US" sz="2800" spc="-1" strike="noStrike">
              <a:solidFill>
                <a:srgbClr val="000000"/>
              </a:solidFill>
              <a:latin typeface="Arial"/>
            </a:endParaRPr>
          </a:p>
        </p:txBody>
      </p:sp>
      <p:sp>
        <p:nvSpPr>
          <p:cNvPr id="339" name=""/>
          <p:cNvSpPr txBox="1"/>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derstand the objectives and design of this course</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derstand expectations of our student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2" marL="576360" indent="-17964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This is the method used for the case studies in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AutoShape 12"/>
          <p:cNvSpPr/>
          <p:nvPr/>
        </p:nvSpPr>
        <p:spPr>
          <a:xfrm rot="5400000">
            <a:off x="-50760" y="30988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eneral-Purpose Problem Solving Methodology: DMAIC</a:t>
            </a:r>
            <a:endParaRPr b="1" lang="en-US" sz="2800" spc="-1" strike="noStrike">
              <a:solidFill>
                <a:srgbClr val="000000"/>
              </a:solidFill>
              <a:latin typeface="Arial"/>
            </a:endParaRPr>
          </a:p>
        </p:txBody>
      </p:sp>
      <p:sp>
        <p:nvSpPr>
          <p:cNvPr id="342" name="Rectangle 3"/>
          <p:cNvSpPr/>
          <p:nvPr/>
        </p:nvSpPr>
        <p:spPr>
          <a:xfrm>
            <a:off x="474840" y="246708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Rectangle 4"/>
          <p:cNvSpPr/>
          <p:nvPr/>
        </p:nvSpPr>
        <p:spPr>
          <a:xfrm>
            <a:off x="557640" y="2585880"/>
            <a:ext cx="94356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D</a:t>
            </a:r>
            <a:r>
              <a:rPr b="1" lang="en-US" sz="2000" spc="-1" strike="noStrike">
                <a:solidFill>
                  <a:srgbClr val="c00000"/>
                </a:solidFill>
                <a:latin typeface="Arial"/>
                <a:ea typeface="MS PGothic"/>
              </a:rPr>
              <a:t>efine</a:t>
            </a:r>
            <a:endParaRPr b="1" lang="en-US" sz="2000" spc="-1" strike="noStrike">
              <a:solidFill>
                <a:srgbClr val="000000"/>
              </a:solidFill>
              <a:latin typeface="Arial"/>
            </a:endParaRPr>
          </a:p>
        </p:txBody>
      </p:sp>
      <p:sp>
        <p:nvSpPr>
          <p:cNvPr id="344" name="Text Box 5"/>
          <p:cNvSpPr/>
          <p:nvPr/>
        </p:nvSpPr>
        <p:spPr>
          <a:xfrm>
            <a:off x="736560" y="1523880"/>
            <a:ext cx="7148520" cy="396720"/>
          </a:xfrm>
          <a:prstGeom prst="rect">
            <a:avLst/>
          </a:prstGeom>
          <a:noFill/>
          <a:ln w="0">
            <a:noFill/>
          </a:ln>
        </p:spPr>
        <p:style>
          <a:lnRef idx="0"/>
          <a:fillRef idx="0"/>
          <a:effectRef idx="0"/>
          <a:fontRef idx="minor"/>
        </p:style>
        <p:txBody>
          <a:bodyPr anchor="t">
            <a:spAutoFit/>
          </a:bodyPr>
          <a:p>
            <a:pPr marL="57240" indent="-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blem or goal statement  (Y)</a:t>
            </a:r>
            <a:r>
              <a:rPr b="1" lang="en-US" sz="1600" spc="-1" strike="noStrike">
                <a:solidFill>
                  <a:srgbClr val="000000"/>
                </a:solidFill>
                <a:latin typeface="Arial"/>
                <a:ea typeface="MS PGothic"/>
              </a:rPr>
              <a:t>   </a:t>
            </a:r>
            <a:endParaRPr b="1" lang="en-US" sz="1600" spc="-1" strike="noStrike">
              <a:solidFill>
                <a:srgbClr val="000000"/>
              </a:solidFill>
              <a:latin typeface="Arial"/>
            </a:endParaRPr>
          </a:p>
        </p:txBody>
      </p:sp>
      <p:grpSp>
        <p:nvGrpSpPr>
          <p:cNvPr id="345" name="Group 6"/>
          <p:cNvGrpSpPr/>
          <p:nvPr/>
        </p:nvGrpSpPr>
        <p:grpSpPr>
          <a:xfrm>
            <a:off x="1652760" y="2482920"/>
            <a:ext cx="6265800" cy="649080"/>
            <a:chOff x="1652760" y="2482920"/>
            <a:chExt cx="6265800" cy="649080"/>
          </a:xfrm>
        </p:grpSpPr>
        <p:sp>
          <p:nvSpPr>
            <p:cNvPr id="346" name="Rectangle 7"/>
            <p:cNvSpPr/>
            <p:nvPr/>
          </p:nvSpPr>
          <p:spPr>
            <a:xfrm>
              <a:off x="680436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8"/>
            <p:cNvSpPr/>
            <p:nvPr/>
          </p:nvSpPr>
          <p:spPr>
            <a:xfrm>
              <a:off x="6816240" y="2614320"/>
              <a:ext cx="106992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C</a:t>
              </a:r>
              <a:r>
                <a:rPr b="1" lang="en-US" sz="2000" spc="-1" strike="noStrike">
                  <a:solidFill>
                    <a:srgbClr val="c00000"/>
                  </a:solidFill>
                  <a:latin typeface="Arial"/>
                  <a:ea typeface="MS PGothic"/>
                </a:rPr>
                <a:t>ontrol</a:t>
              </a:r>
              <a:endParaRPr b="1" lang="en-US" sz="2000" spc="-1" strike="noStrike">
                <a:solidFill>
                  <a:srgbClr val="000000"/>
                </a:solidFill>
                <a:latin typeface="Arial"/>
              </a:endParaRPr>
            </a:p>
          </p:txBody>
        </p:sp>
        <p:sp>
          <p:nvSpPr>
            <p:cNvPr id="348" name="Line 9"/>
            <p:cNvSpPr/>
            <p:nvPr/>
          </p:nvSpPr>
          <p:spPr>
            <a:xfrm>
              <a:off x="1652760" y="28080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49" name="Rectangle 10"/>
            <p:cNvSpPr/>
            <p:nvPr/>
          </p:nvSpPr>
          <p:spPr>
            <a:xfrm>
              <a:off x="3699000" y="2482920"/>
              <a:ext cx="111456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Rectangle 11"/>
            <p:cNvSpPr/>
            <p:nvPr/>
          </p:nvSpPr>
          <p:spPr>
            <a:xfrm>
              <a:off x="3701160" y="2614320"/>
              <a:ext cx="11278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A</a:t>
              </a:r>
              <a:r>
                <a:rPr b="1" lang="en-US" sz="2000" spc="-1" strike="noStrike">
                  <a:solidFill>
                    <a:srgbClr val="c00000"/>
                  </a:solidFill>
                  <a:latin typeface="Arial"/>
                  <a:ea typeface="MS PGothic"/>
                </a:rPr>
                <a:t>nalyze</a:t>
              </a:r>
              <a:endParaRPr b="1" lang="en-US" sz="2000" spc="-1" strike="noStrike">
                <a:solidFill>
                  <a:srgbClr val="000000"/>
                </a:solidFill>
                <a:latin typeface="Arial"/>
              </a:endParaRPr>
            </a:p>
          </p:txBody>
        </p:sp>
        <p:sp>
          <p:nvSpPr>
            <p:cNvPr id="351" name="Rectangle 12"/>
            <p:cNvSpPr/>
            <p:nvPr/>
          </p:nvSpPr>
          <p:spPr>
            <a:xfrm>
              <a:off x="524232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Rectangle 13"/>
            <p:cNvSpPr/>
            <p:nvPr/>
          </p:nvSpPr>
          <p:spPr>
            <a:xfrm>
              <a:off x="5236560" y="2614320"/>
              <a:ext cx="115416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I</a:t>
              </a:r>
              <a:r>
                <a:rPr b="1" lang="en-US" sz="2000" spc="-1" strike="noStrike">
                  <a:solidFill>
                    <a:srgbClr val="c00000"/>
                  </a:solidFill>
                  <a:latin typeface="Arial"/>
                  <a:ea typeface="MS PGothic"/>
                </a:rPr>
                <a:t>mprove</a:t>
              </a:r>
              <a:endParaRPr b="1" lang="en-US" sz="2000" spc="-1" strike="noStrike">
                <a:solidFill>
                  <a:srgbClr val="000000"/>
                </a:solidFill>
                <a:latin typeface="Arial"/>
              </a:endParaRPr>
            </a:p>
          </p:txBody>
        </p:sp>
        <p:sp>
          <p:nvSpPr>
            <p:cNvPr id="353" name="Rectangle 14"/>
            <p:cNvSpPr/>
            <p:nvPr/>
          </p:nvSpPr>
          <p:spPr>
            <a:xfrm>
              <a:off x="2073600" y="2482920"/>
              <a:ext cx="1114200" cy="64908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Rectangle 15"/>
            <p:cNvSpPr/>
            <p:nvPr/>
          </p:nvSpPr>
          <p:spPr>
            <a:xfrm>
              <a:off x="2046960" y="2614320"/>
              <a:ext cx="1198080" cy="3873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c00000"/>
                  </a:solidFill>
                  <a:uFillTx/>
                  <a:latin typeface="Arial"/>
                  <a:ea typeface="MS PGothic"/>
                </a:rPr>
                <a:t>M</a:t>
              </a:r>
              <a:r>
                <a:rPr b="1" lang="en-US" sz="2000" spc="-1" strike="noStrike">
                  <a:solidFill>
                    <a:srgbClr val="c00000"/>
                  </a:solidFill>
                  <a:latin typeface="Arial"/>
                  <a:ea typeface="MS PGothic"/>
                </a:rPr>
                <a:t>easure</a:t>
              </a:r>
              <a:endParaRPr b="1" lang="en-US" sz="2000" spc="-1" strike="noStrike">
                <a:solidFill>
                  <a:srgbClr val="000000"/>
                </a:solidFill>
                <a:latin typeface="Arial"/>
              </a:endParaRPr>
            </a:p>
          </p:txBody>
        </p:sp>
        <p:sp>
          <p:nvSpPr>
            <p:cNvPr id="355" name="Line 16"/>
            <p:cNvSpPr/>
            <p:nvPr/>
          </p:nvSpPr>
          <p:spPr>
            <a:xfrm>
              <a:off x="3252960" y="28080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6" name="Line 17"/>
            <p:cNvSpPr/>
            <p:nvPr/>
          </p:nvSpPr>
          <p:spPr>
            <a:xfrm>
              <a:off x="4853160" y="2820600"/>
              <a:ext cx="3938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7" name="Line 18"/>
            <p:cNvSpPr/>
            <p:nvPr/>
          </p:nvSpPr>
          <p:spPr>
            <a:xfrm>
              <a:off x="6377400" y="2833560"/>
              <a:ext cx="39348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58" name="Text Box 19"/>
          <p:cNvSpPr/>
          <p:nvPr/>
        </p:nvSpPr>
        <p:spPr>
          <a:xfrm>
            <a:off x="3067200" y="3887640"/>
            <a:ext cx="4940280" cy="1311480"/>
          </a:xfrm>
          <a:prstGeom prst="rect">
            <a:avLst/>
          </a:prstGeom>
          <a:noFill/>
          <a:ln w="0">
            <a:noFill/>
          </a:ln>
        </p:spPr>
        <p:style>
          <a:lnRef idx="0"/>
          <a:fillRef idx="0"/>
          <a:effectRef idx="0"/>
          <a:fontRef idx="minor"/>
        </p:style>
        <p:txBody>
          <a:bodyPr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improvement journey to achieve goals and resolve problems by discovering and understanding relationships between process inputs and outputs, such as</a:t>
            </a:r>
            <a:endParaRPr b="1" lang="en-US" sz="2000" spc="-1" strike="noStrike">
              <a:solidFill>
                <a:srgbClr val="000000"/>
              </a:solidFill>
              <a:latin typeface="Arial"/>
            </a:endParaRPr>
          </a:p>
        </p:txBody>
      </p:sp>
      <p:sp>
        <p:nvSpPr>
          <p:cNvPr id="359" name="Text Box 20"/>
          <p:cNvSpPr/>
          <p:nvPr/>
        </p:nvSpPr>
        <p:spPr>
          <a:xfrm>
            <a:off x="3429000" y="5181480"/>
            <a:ext cx="5105520" cy="8604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Y = f(defect profile, yield) </a:t>
            </a:r>
            <a:endParaRPr b="1" lang="en-US" sz="2000" spc="-1" strike="noStrike">
              <a:solidFill>
                <a:srgbClr val="000000"/>
              </a:solidFill>
              <a:latin typeface="Arial"/>
            </a:endParaRPr>
          </a:p>
          <a:p>
            <a:pPr>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f(review rate, method, complexity, etc)</a:t>
            </a:r>
            <a:endParaRPr b="1" lang="en-US" sz="2000" spc="-1" strike="noStrike">
              <a:solidFill>
                <a:srgbClr val="000000"/>
              </a:solidFill>
              <a:latin typeface="Arial"/>
            </a:endParaRPr>
          </a:p>
        </p:txBody>
      </p:sp>
      <p:sp>
        <p:nvSpPr>
          <p:cNvPr id="360" name="Line 21"/>
          <p:cNvSpPr/>
          <p:nvPr/>
        </p:nvSpPr>
        <p:spPr>
          <a:xfrm>
            <a:off x="915840" y="3213000"/>
            <a:ext cx="9720" cy="47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1" name="Text Box 22"/>
          <p:cNvSpPr/>
          <p:nvPr/>
        </p:nvSpPr>
        <p:spPr>
          <a:xfrm>
            <a:off x="414360" y="3860640"/>
            <a:ext cx="2543040" cy="1838520"/>
          </a:xfrm>
          <a:prstGeom prst="rect">
            <a:avLst/>
          </a:prstGeom>
          <a:noFill/>
          <a:ln w="0">
            <a:noFill/>
          </a:ln>
        </p:spPr>
        <p:style>
          <a:lnRef idx="0"/>
          <a:fillRef idx="0"/>
          <a:effectRef idx="0"/>
          <a:fontRef idx="minor"/>
        </p:style>
        <p:txBody>
          <a:bodyPr anchor="t">
            <a:spAutoFit/>
          </a:bodyPr>
          <a:p>
            <a:pPr marL="173160" indent="-173160">
              <a:lnSpc>
                <a:spcPct val="100000"/>
              </a:lnSpc>
              <a:spcBef>
                <a:spcPts val="1250"/>
              </a:spcBef>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fine problem &amp; goal statements</a:t>
            </a:r>
            <a:endParaRPr b="1" lang="en-US" sz="2000" spc="-1" strike="noStrike">
              <a:solidFill>
                <a:srgbClr val="000000"/>
              </a:solidFill>
              <a:latin typeface="Arial"/>
            </a:endParaRPr>
          </a:p>
          <a:p>
            <a:pPr marL="173160" indent="-173160">
              <a:lnSpc>
                <a:spcPct val="100000"/>
              </a:lnSpc>
              <a:spcBef>
                <a:spcPts val="1250"/>
              </a:spcBef>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fine project scope &amp; boundaries</a:t>
            </a:r>
            <a:endParaRPr b="1" lang="en-US" sz="2000" spc="-1" strike="noStrike">
              <a:solidFill>
                <a:srgbClr val="000000"/>
              </a:solidFill>
              <a:latin typeface="Arial"/>
            </a:endParaRPr>
          </a:p>
        </p:txBody>
      </p:sp>
      <p:sp>
        <p:nvSpPr>
          <p:cNvPr id="362" name="Line 23"/>
          <p:cNvSpPr/>
          <p:nvPr/>
        </p:nvSpPr>
        <p:spPr>
          <a:xfrm>
            <a:off x="915840" y="1917720"/>
            <a:ext cx="9720" cy="47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363" name="Group 24"/>
          <p:cNvGrpSpPr/>
          <p:nvPr/>
        </p:nvGrpSpPr>
        <p:grpSpPr>
          <a:xfrm>
            <a:off x="2220840" y="3213000"/>
            <a:ext cx="5486400" cy="627120"/>
            <a:chOff x="2220840" y="3213000"/>
            <a:chExt cx="5486400" cy="627120"/>
          </a:xfrm>
        </p:grpSpPr>
        <p:sp>
          <p:nvSpPr>
            <p:cNvPr id="364" name="AutoShape 25"/>
            <p:cNvSpPr/>
            <p:nvPr/>
          </p:nvSpPr>
          <p:spPr>
            <a:xfrm rot="5400000">
              <a:off x="4792320" y="641160"/>
              <a:ext cx="343080" cy="5486400"/>
            </a:xfrm>
            <a:custGeom>
              <a:avLst/>
              <a:gdLst>
                <a:gd name="textAreaLeft" fmla="*/ 0 w 343080"/>
                <a:gd name="textAreaRight" fmla="*/ 123840 w 3430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Line 26"/>
            <p:cNvSpPr/>
            <p:nvPr/>
          </p:nvSpPr>
          <p:spPr>
            <a:xfrm flipH="1">
              <a:off x="4963680" y="3530520"/>
              <a:ext cx="1800" cy="3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362"/>
                                        </p:tgtEl>
                                        <p:attrNameLst>
                                          <p:attrName>style.visibility</p:attrName>
                                        </p:attrNameLst>
                                      </p:cBhvr>
                                      <p:to>
                                        <p:strVal val="visible"/>
                                      </p:to>
                                    </p:set>
                                    <p:animEffect filter="wipe(up)" transition="in">
                                      <p:cBhvr additive="repl">
                                        <p:cTn id="27" dur="500"/>
                                        <p:tgtEl>
                                          <p:spTgt spid="362"/>
                                        </p:tgtEl>
                                      </p:cBhvr>
                                    </p:animEffect>
                                  </p:childTnLst>
                                </p:cTn>
                              </p:par>
                            </p:childTnLst>
                          </p:cTn>
                        </p:par>
                        <p:par>
                          <p:cTn id="28" nodeType="afterEffect" fill="hold">
                            <p:stCondLst>
                              <p:cond delay="500"/>
                            </p:stCondLst>
                            <p:childTnLst>
                              <p:par>
                                <p:cTn id="29" nodeType="afterEffect" fill="hold" presetClass="entr" presetID="22" presetSubtype="1">
                                  <p:stCondLst>
                                    <p:cond delay="0"/>
                                  </p:stCondLst>
                                  <p:childTnLst>
                                    <p:set>
                                      <p:cBhvr>
                                        <p:cTn id="30" dur="1" fill="hold">
                                          <p:stCondLst>
                                            <p:cond delay="0"/>
                                          </p:stCondLst>
                                        </p:cTn>
                                        <p:tgtEl>
                                          <p:spTgt spid="360"/>
                                        </p:tgtEl>
                                        <p:attrNameLst>
                                          <p:attrName>style.visibility</p:attrName>
                                        </p:attrNameLst>
                                      </p:cBhvr>
                                      <p:to>
                                        <p:strVal val="visible"/>
                                      </p:to>
                                    </p:set>
                                    <p:animEffect filter="wipe(up)" transition="in">
                                      <p:cBhvr additive="repl">
                                        <p:cTn id="31" dur="500"/>
                                        <p:tgtEl>
                                          <p:spTgt spid="360"/>
                                        </p:tgtEl>
                                      </p:cBhvr>
                                    </p:animEffect>
                                  </p:childTnLst>
                                </p:cTn>
                              </p:par>
                            </p:childTnLst>
                          </p:cTn>
                        </p:par>
                        <p:par>
                          <p:cTn id="32" nodeType="afterEffect" fill="hold">
                            <p:stCondLst>
                              <p:cond delay="1000"/>
                            </p:stCondLst>
                            <p:childTnLst>
                              <p:par>
                                <p:cTn id="33" nodeType="afterEffect" fill="hold" presetClass="entr" presetID="22" presetSubtype="1">
                                  <p:stCondLst>
                                    <p:cond delay="0"/>
                                  </p:stCondLst>
                                  <p:childTnLst>
                                    <p:set>
                                      <p:cBhvr>
                                        <p:cTn id="34" dur="1" fill="hold">
                                          <p:stCondLst>
                                            <p:cond delay="0"/>
                                          </p:stCondLst>
                                        </p:cTn>
                                        <p:tgtEl>
                                          <p:spTgt spid="361"/>
                                        </p:tgtEl>
                                        <p:attrNameLst>
                                          <p:attrName>style.visibility</p:attrName>
                                        </p:attrNameLst>
                                      </p:cBhvr>
                                      <p:to>
                                        <p:strVal val="visible"/>
                                      </p:to>
                                    </p:set>
                                    <p:animEffect filter="wipe(up)" transition="in">
                                      <p:cBhvr additive="repl">
                                        <p:cTn id="35" dur="500"/>
                                        <p:tgtEl>
                                          <p:spTgt spid="36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363"/>
                                        </p:tgtEl>
                                        <p:attrNameLst>
                                          <p:attrName>style.visibility</p:attrName>
                                        </p:attrNameLst>
                                      </p:cBhvr>
                                      <p:to>
                                        <p:strVal val="visible"/>
                                      </p:to>
                                    </p:set>
                                    <p:animEffect filter="wipe(up)" transition="in">
                                      <p:cBhvr additive="repl">
                                        <p:cTn id="40" dur="500"/>
                                        <p:tgtEl>
                                          <p:spTgt spid="363"/>
                                        </p:tgtEl>
                                      </p:cBhvr>
                                    </p:animEffect>
                                  </p:childTnLst>
                                </p:cTn>
                              </p:par>
                            </p:childTnLst>
                          </p:cTn>
                        </p:par>
                        <p:par>
                          <p:cTn id="41" nodeType="afterEffect" fill="hold">
                            <p:stCondLst>
                              <p:cond delay="500"/>
                            </p:stCondLst>
                            <p:childTnLst>
                              <p:par>
                                <p:cTn id="42" nodeType="afterEffect" fill="hold" presetClass="entr" presetID="16" presetSubtype="37">
                                  <p:stCondLst>
                                    <p:cond delay="0"/>
                                  </p:stCondLst>
                                  <p:childTnLst>
                                    <p:set>
                                      <p:cBhvr>
                                        <p:cTn id="43" dur="1" fill="hold">
                                          <p:stCondLst>
                                            <p:cond delay="0"/>
                                          </p:stCondLst>
                                        </p:cTn>
                                        <p:tgtEl>
                                          <p:spTgt spid="358"/>
                                        </p:tgtEl>
                                        <p:attrNameLst>
                                          <p:attrName>style.visibility</p:attrName>
                                        </p:attrNameLst>
                                      </p:cBhvr>
                                      <p:to>
                                        <p:strVal val="visible"/>
                                      </p:to>
                                    </p:set>
                                    <p:animEffect filter="barn(outVertical)" transition="in">
                                      <p:cBhvr additive="repl">
                                        <p:cTn id="44" dur="500"/>
                                        <p:tgtEl>
                                          <p:spTgt spid="358"/>
                                        </p:tgtEl>
                                      </p:cBhvr>
                                    </p:animEffect>
                                  </p:childTnLst>
                                </p:cTn>
                              </p:par>
                              <p:par>
                                <p:cTn id="45" nodeType="withEffect" fill="hold" presetClass="entr" presetID="16" presetSubtype="37">
                                  <p:stCondLst>
                                    <p:cond delay="0"/>
                                  </p:stCondLst>
                                  <p:childTnLst>
                                    <p:set>
                                      <p:cBhvr>
                                        <p:cTn id="46" dur="1" fill="hold">
                                          <p:stCondLst>
                                            <p:cond delay="0"/>
                                          </p:stCondLst>
                                        </p:cTn>
                                        <p:tgtEl>
                                          <p:spTgt spid="359"/>
                                        </p:tgtEl>
                                        <p:attrNameLst>
                                          <p:attrName>style.visibility</p:attrName>
                                        </p:attrNameLst>
                                      </p:cBhvr>
                                      <p:to>
                                        <p:strVal val="visible"/>
                                      </p:to>
                                    </p:set>
                                    <p:animEffect filter="barn(outVertical)" transition="in">
                                      <p:cBhvr additive="repl">
                                        <p:cTn id="47" dur="500"/>
                                        <p:tgtEl>
                                          <p:spTgt spid="359"/>
                                        </p:tgtEl>
                                      </p:cBhvr>
                                    </p:animEffect>
                                  </p:childTnLst>
                                </p:cTn>
                              </p:par>
                              <p:par>
                                <p:cTn id="48" nodeType="withEffect" fill="hold" presetClass="entr" presetID="16" presetSubtype="37">
                                  <p:stCondLst>
                                    <p:cond delay="0"/>
                                  </p:stCondLst>
                                  <p:childTnLst>
                                    <p:set>
                                      <p:cBhvr>
                                        <p:cTn id="49" dur="1" fill="hold">
                                          <p:stCondLst>
                                            <p:cond delay="0"/>
                                          </p:stCondLst>
                                        </p:cTn>
                                        <p:tgtEl>
                                          <p:spTgt spid="359"/>
                                        </p:tgtEl>
                                        <p:attrNameLst>
                                          <p:attrName>style.visibility</p:attrName>
                                        </p:attrNameLst>
                                      </p:cBhvr>
                                      <p:to>
                                        <p:strVal val="visible"/>
                                      </p:to>
                                    </p:set>
                                    <p:animEffect filter="barn(outVertical)" transition="in">
                                      <p:cBhvr additive="repl">
                                        <p:cTn id="50"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Origin and Relevance</a:t>
            </a:r>
            <a:endParaRPr b="1" lang="en-US" sz="2800" spc="-1" strike="noStrike">
              <a:solidFill>
                <a:srgbClr val="000000"/>
              </a:solidFill>
              <a:latin typeface="Arial"/>
            </a:endParaRPr>
          </a:p>
        </p:txBody>
      </p:sp>
      <p:sp>
        <p:nvSpPr>
          <p:cNvPr id="367"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s </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lan-Do-Check-Ac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reative problem solving literature</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Total Quality Management</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ix Sigma</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dified method in use across many industries</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specificity</a:t>
            </a:r>
            <a:endParaRPr b="0" lang="en-US" sz="2000" spc="-1" strike="noStrike">
              <a:solidFill>
                <a:srgbClr val="000000"/>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dded in aspects of GQ(I)M, and Software Engineering to make the “domain independent” methodologies more relevant to the software and system engineering domains </a:t>
            </a:r>
            <a:endParaRPr b="0" lang="en-US" sz="2000" spc="-1" strike="noStrike">
              <a:solidFill>
                <a:srgbClr val="3c4f82"/>
              </a:solidFill>
              <a:latin typeface="Arial"/>
            </a:endParaRPr>
          </a:p>
          <a:p>
            <a:pPr lvl="1" marL="284040" indent="-169560">
              <a:lnSpc>
                <a:spcPct val="90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esenting domain-specific case studie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elevance &amp; Robustness</a:t>
            </a:r>
            <a:endParaRPr b="1" lang="en-US" sz="2800" spc="-1" strike="noStrike">
              <a:solidFill>
                <a:srgbClr val="000000"/>
              </a:solidFill>
              <a:latin typeface="Arial"/>
            </a:endParaRPr>
          </a:p>
        </p:txBody>
      </p:sp>
      <p:sp>
        <p:nvSpPr>
          <p:cNvPr id="369"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and evaluate relevant information to refine the problem or goal statement</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and evaluate more information to reach a proposed solution robust of expected environmental/external factor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lement the solution</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ther data to monitor success</a:t>
            </a: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371" name="Group 1537"/>
          <p:cNvGrpSpPr/>
          <p:nvPr/>
        </p:nvGrpSpPr>
        <p:grpSpPr>
          <a:xfrm>
            <a:off x="152280" y="2286000"/>
            <a:ext cx="1447920" cy="914400"/>
            <a:chOff x="152280" y="2286000"/>
            <a:chExt cx="1447920" cy="914400"/>
          </a:xfrm>
        </p:grpSpPr>
        <p:sp>
          <p:nvSpPr>
            <p:cNvPr id="372"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374" name="Group 1538"/>
          <p:cNvGrpSpPr/>
          <p:nvPr/>
        </p:nvGrpSpPr>
        <p:grpSpPr>
          <a:xfrm>
            <a:off x="152280" y="3352680"/>
            <a:ext cx="1752840" cy="1067040"/>
            <a:chOff x="152280" y="3352680"/>
            <a:chExt cx="1752840" cy="1067040"/>
          </a:xfrm>
        </p:grpSpPr>
        <p:sp>
          <p:nvSpPr>
            <p:cNvPr id="375"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377" name="Text Box 60"/>
          <p:cNvSpPr/>
          <p:nvPr/>
        </p:nvSpPr>
        <p:spPr>
          <a:xfrm>
            <a:off x="685800" y="6400800"/>
            <a:ext cx="2514600" cy="3045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c4f82"/>
                </a:solidFill>
                <a:latin typeface="Arial"/>
              </a:rPr>
              <a:t>= Phase Exit Review</a:t>
            </a:r>
            <a:endParaRPr b="1" lang="en-US" sz="1600" spc="-1" strike="noStrike">
              <a:solidFill>
                <a:srgbClr val="000000"/>
              </a:solidFill>
              <a:latin typeface="Arial"/>
            </a:endParaRPr>
          </a:p>
        </p:txBody>
      </p:sp>
      <p:grpSp>
        <p:nvGrpSpPr>
          <p:cNvPr id="378" name="Group 1460"/>
          <p:cNvGrpSpPr/>
          <p:nvPr/>
        </p:nvGrpSpPr>
        <p:grpSpPr>
          <a:xfrm>
            <a:off x="7143840" y="1042920"/>
            <a:ext cx="331560" cy="371520"/>
            <a:chOff x="7143840" y="1042920"/>
            <a:chExt cx="331560" cy="371520"/>
          </a:xfrm>
        </p:grpSpPr>
        <p:sp>
          <p:nvSpPr>
            <p:cNvPr id="379" name="Freeform 107"/>
            <p:cNvSpPr/>
            <p:nvPr/>
          </p:nvSpPr>
          <p:spPr>
            <a:xfrm>
              <a:off x="7143840" y="10429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Freeform 108"/>
            <p:cNvSpPr/>
            <p:nvPr/>
          </p:nvSpPr>
          <p:spPr>
            <a:xfrm>
              <a:off x="7149960" y="10490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Freeform 109"/>
            <p:cNvSpPr/>
            <p:nvPr/>
          </p:nvSpPr>
          <p:spPr>
            <a:xfrm>
              <a:off x="7391520" y="11952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82" name="Freeform 110"/>
            <p:cNvSpPr/>
            <p:nvPr/>
          </p:nvSpPr>
          <p:spPr>
            <a:xfrm>
              <a:off x="7391520" y="10825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383" name="Freeform 111"/>
            <p:cNvSpPr/>
            <p:nvPr/>
          </p:nvSpPr>
          <p:spPr>
            <a:xfrm>
              <a:off x="7162560" y="10825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84" name="Freeform 112"/>
            <p:cNvSpPr/>
            <p:nvPr/>
          </p:nvSpPr>
          <p:spPr>
            <a:xfrm>
              <a:off x="7162560" y="11952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385" name="Freeform 113"/>
            <p:cNvSpPr/>
            <p:nvPr/>
          </p:nvSpPr>
          <p:spPr>
            <a:xfrm>
              <a:off x="7162560" y="13032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386" name="Freeform 114"/>
            <p:cNvSpPr/>
            <p:nvPr/>
          </p:nvSpPr>
          <p:spPr>
            <a:xfrm>
              <a:off x="7391520" y="13032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387" name="Rectangle 115"/>
            <p:cNvSpPr/>
            <p:nvPr/>
          </p:nvSpPr>
          <p:spPr>
            <a:xfrm>
              <a:off x="7240680" y="10587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Freeform 116"/>
            <p:cNvSpPr/>
            <p:nvPr/>
          </p:nvSpPr>
          <p:spPr>
            <a:xfrm>
              <a:off x="7254720" y="10666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9" name="Freeform 117"/>
            <p:cNvSpPr/>
            <p:nvPr/>
          </p:nvSpPr>
          <p:spPr>
            <a:xfrm>
              <a:off x="7265880" y="10760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390" name="Freeform 118"/>
            <p:cNvSpPr/>
            <p:nvPr/>
          </p:nvSpPr>
          <p:spPr>
            <a:xfrm>
              <a:off x="7275600" y="10760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391" name="Freeform 119"/>
            <p:cNvSpPr/>
            <p:nvPr/>
          </p:nvSpPr>
          <p:spPr>
            <a:xfrm>
              <a:off x="7254720" y="11793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2" name="Freeform 120"/>
            <p:cNvSpPr/>
            <p:nvPr/>
          </p:nvSpPr>
          <p:spPr>
            <a:xfrm>
              <a:off x="7265880" y="11890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393" name="Freeform 121"/>
            <p:cNvSpPr/>
            <p:nvPr/>
          </p:nvSpPr>
          <p:spPr>
            <a:xfrm>
              <a:off x="7280280" y="1189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394" name="Freeform 122"/>
            <p:cNvSpPr/>
            <p:nvPr/>
          </p:nvSpPr>
          <p:spPr>
            <a:xfrm>
              <a:off x="7254720" y="12873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5" name="Freeform 123"/>
            <p:cNvSpPr/>
            <p:nvPr/>
          </p:nvSpPr>
          <p:spPr>
            <a:xfrm>
              <a:off x="7265880" y="12970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396" name="Freeform 124"/>
            <p:cNvSpPr/>
            <p:nvPr/>
          </p:nvSpPr>
          <p:spPr>
            <a:xfrm>
              <a:off x="7275600" y="12970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
        <p:nvSpPr>
          <p:cNvPr id="397"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sp>
        <p:nvSpPr>
          <p:cNvPr id="399"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00"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402"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sp>
        <p:nvSpPr>
          <p:cNvPr id="404"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sp>
        <p:nvSpPr>
          <p:cNvPr id="406"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408"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09"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10"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411" name="Group 1542"/>
          <p:cNvGrpSpPr/>
          <p:nvPr/>
        </p:nvGrpSpPr>
        <p:grpSpPr>
          <a:xfrm>
            <a:off x="1981080" y="2286000"/>
            <a:ext cx="1447920" cy="914400"/>
            <a:chOff x="1981080" y="2286000"/>
            <a:chExt cx="1447920" cy="914400"/>
          </a:xfrm>
        </p:grpSpPr>
        <p:sp>
          <p:nvSpPr>
            <p:cNvPr id="412"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414" name="Group 1541"/>
          <p:cNvGrpSpPr/>
          <p:nvPr/>
        </p:nvGrpSpPr>
        <p:grpSpPr>
          <a:xfrm>
            <a:off x="1981080" y="3352680"/>
            <a:ext cx="1447920" cy="685800"/>
            <a:chOff x="1981080" y="3352680"/>
            <a:chExt cx="1447920" cy="685800"/>
          </a:xfrm>
        </p:grpSpPr>
        <p:sp>
          <p:nvSpPr>
            <p:cNvPr id="415"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417" name="Group 1540"/>
          <p:cNvGrpSpPr/>
          <p:nvPr/>
        </p:nvGrpSpPr>
        <p:grpSpPr>
          <a:xfrm>
            <a:off x="1981080" y="4267080"/>
            <a:ext cx="1447920" cy="685800"/>
            <a:chOff x="1981080" y="4267080"/>
            <a:chExt cx="1447920" cy="685800"/>
          </a:xfrm>
        </p:grpSpPr>
        <p:sp>
          <p:nvSpPr>
            <p:cNvPr id="418"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420" name="Group 1539"/>
          <p:cNvGrpSpPr/>
          <p:nvPr/>
        </p:nvGrpSpPr>
        <p:grpSpPr>
          <a:xfrm>
            <a:off x="1981080" y="5105520"/>
            <a:ext cx="1447920" cy="914400"/>
            <a:chOff x="1981080" y="5105520"/>
            <a:chExt cx="1447920" cy="914400"/>
          </a:xfrm>
        </p:grpSpPr>
        <p:sp>
          <p:nvSpPr>
            <p:cNvPr id="421"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423" name="Group 1543"/>
          <p:cNvGrpSpPr/>
          <p:nvPr/>
        </p:nvGrpSpPr>
        <p:grpSpPr>
          <a:xfrm>
            <a:off x="3809880" y="2286000"/>
            <a:ext cx="1447920" cy="609480"/>
            <a:chOff x="3809880" y="2286000"/>
            <a:chExt cx="1447920" cy="609480"/>
          </a:xfrm>
        </p:grpSpPr>
        <p:sp>
          <p:nvSpPr>
            <p:cNvPr id="424"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426" name="Group 1544"/>
          <p:cNvGrpSpPr/>
          <p:nvPr/>
        </p:nvGrpSpPr>
        <p:grpSpPr>
          <a:xfrm>
            <a:off x="3809880" y="3124080"/>
            <a:ext cx="1524240" cy="914400"/>
            <a:chOff x="3809880" y="3124080"/>
            <a:chExt cx="1524240" cy="914400"/>
          </a:xfrm>
        </p:grpSpPr>
        <p:sp>
          <p:nvSpPr>
            <p:cNvPr id="427"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429" name="Group 1545"/>
          <p:cNvGrpSpPr/>
          <p:nvPr/>
        </p:nvGrpSpPr>
        <p:grpSpPr>
          <a:xfrm>
            <a:off x="3809880" y="4191120"/>
            <a:ext cx="1600200" cy="1451160"/>
            <a:chOff x="3809880" y="4191120"/>
            <a:chExt cx="1600200" cy="1451160"/>
          </a:xfrm>
        </p:grpSpPr>
        <p:sp>
          <p:nvSpPr>
            <p:cNvPr id="430"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432" name="Group 1549"/>
          <p:cNvGrpSpPr/>
          <p:nvPr/>
        </p:nvGrpSpPr>
        <p:grpSpPr>
          <a:xfrm>
            <a:off x="5638680" y="2286000"/>
            <a:ext cx="1447920" cy="914400"/>
            <a:chOff x="5638680" y="2286000"/>
            <a:chExt cx="1447920" cy="914400"/>
          </a:xfrm>
        </p:grpSpPr>
        <p:sp>
          <p:nvSpPr>
            <p:cNvPr id="433"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435" name="Group 1548"/>
          <p:cNvGrpSpPr/>
          <p:nvPr/>
        </p:nvGrpSpPr>
        <p:grpSpPr>
          <a:xfrm>
            <a:off x="5638680" y="3352680"/>
            <a:ext cx="1447920" cy="762120"/>
            <a:chOff x="5638680" y="3352680"/>
            <a:chExt cx="1447920" cy="762120"/>
          </a:xfrm>
        </p:grpSpPr>
        <p:sp>
          <p:nvSpPr>
            <p:cNvPr id="436"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438" name="Group 1547"/>
          <p:cNvGrpSpPr/>
          <p:nvPr/>
        </p:nvGrpSpPr>
        <p:grpSpPr>
          <a:xfrm>
            <a:off x="5638680" y="4267080"/>
            <a:ext cx="1447920" cy="914400"/>
            <a:chOff x="5638680" y="4267080"/>
            <a:chExt cx="1447920" cy="914400"/>
          </a:xfrm>
        </p:grpSpPr>
        <p:sp>
          <p:nvSpPr>
            <p:cNvPr id="439"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441" name="Group 1546"/>
          <p:cNvGrpSpPr/>
          <p:nvPr/>
        </p:nvGrpSpPr>
        <p:grpSpPr>
          <a:xfrm>
            <a:off x="5638680" y="5257800"/>
            <a:ext cx="1447920" cy="457200"/>
            <a:chOff x="5638680" y="5257800"/>
            <a:chExt cx="1447920" cy="457200"/>
          </a:xfrm>
        </p:grpSpPr>
        <p:sp>
          <p:nvSpPr>
            <p:cNvPr id="442"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3"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444" name="Group 1550"/>
          <p:cNvGrpSpPr/>
          <p:nvPr/>
        </p:nvGrpSpPr>
        <p:grpSpPr>
          <a:xfrm>
            <a:off x="7467480" y="2286000"/>
            <a:ext cx="1447920" cy="914400"/>
            <a:chOff x="7467480" y="2286000"/>
            <a:chExt cx="1447920" cy="914400"/>
          </a:xfrm>
        </p:grpSpPr>
        <p:sp>
          <p:nvSpPr>
            <p:cNvPr id="445"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6"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447" name="Group 1551"/>
          <p:cNvGrpSpPr/>
          <p:nvPr/>
        </p:nvGrpSpPr>
        <p:grpSpPr>
          <a:xfrm>
            <a:off x="7467480" y="3352680"/>
            <a:ext cx="1447920" cy="533520"/>
            <a:chOff x="7467480" y="3352680"/>
            <a:chExt cx="1447920" cy="533520"/>
          </a:xfrm>
        </p:grpSpPr>
        <p:sp>
          <p:nvSpPr>
            <p:cNvPr id="448"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450" name="Group 1552"/>
          <p:cNvGrpSpPr/>
          <p:nvPr/>
        </p:nvGrpSpPr>
        <p:grpSpPr>
          <a:xfrm>
            <a:off x="7467480" y="4038480"/>
            <a:ext cx="1447920" cy="457200"/>
            <a:chOff x="7467480" y="4038480"/>
            <a:chExt cx="1447920" cy="457200"/>
          </a:xfrm>
        </p:grpSpPr>
        <p:sp>
          <p:nvSpPr>
            <p:cNvPr id="451"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grpSp>
        <p:nvGrpSpPr>
          <p:cNvPr id="453" name="Group 1461"/>
          <p:cNvGrpSpPr/>
          <p:nvPr/>
        </p:nvGrpSpPr>
        <p:grpSpPr>
          <a:xfrm>
            <a:off x="5257800" y="1031760"/>
            <a:ext cx="331920" cy="371520"/>
            <a:chOff x="5257800" y="1031760"/>
            <a:chExt cx="331920" cy="371520"/>
          </a:xfrm>
        </p:grpSpPr>
        <p:sp>
          <p:nvSpPr>
            <p:cNvPr id="454" name="Freeform 107"/>
            <p:cNvSpPr/>
            <p:nvPr/>
          </p:nvSpPr>
          <p:spPr>
            <a:xfrm>
              <a:off x="5257800" y="103176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5" name="Freeform 108"/>
            <p:cNvSpPr/>
            <p:nvPr/>
          </p:nvSpPr>
          <p:spPr>
            <a:xfrm>
              <a:off x="5263920" y="103788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6" name="Freeform 109"/>
            <p:cNvSpPr/>
            <p:nvPr/>
          </p:nvSpPr>
          <p:spPr>
            <a:xfrm>
              <a:off x="5505480" y="118404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57" name="Freeform 110"/>
            <p:cNvSpPr/>
            <p:nvPr/>
          </p:nvSpPr>
          <p:spPr>
            <a:xfrm>
              <a:off x="5505480" y="10713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58" name="Freeform 111"/>
            <p:cNvSpPr/>
            <p:nvPr/>
          </p:nvSpPr>
          <p:spPr>
            <a:xfrm>
              <a:off x="5276520" y="10713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59" name="Freeform 112"/>
            <p:cNvSpPr/>
            <p:nvPr/>
          </p:nvSpPr>
          <p:spPr>
            <a:xfrm>
              <a:off x="5276520" y="118404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60" name="Freeform 113"/>
            <p:cNvSpPr/>
            <p:nvPr/>
          </p:nvSpPr>
          <p:spPr>
            <a:xfrm>
              <a:off x="5276520" y="129204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61" name="Freeform 114"/>
            <p:cNvSpPr/>
            <p:nvPr/>
          </p:nvSpPr>
          <p:spPr>
            <a:xfrm>
              <a:off x="5505480" y="129204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462" name="Rectangle 115"/>
            <p:cNvSpPr/>
            <p:nvPr/>
          </p:nvSpPr>
          <p:spPr>
            <a:xfrm>
              <a:off x="5354640" y="104760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Freeform 116"/>
            <p:cNvSpPr/>
            <p:nvPr/>
          </p:nvSpPr>
          <p:spPr>
            <a:xfrm>
              <a:off x="5369040" y="10555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4" name="Freeform 117"/>
            <p:cNvSpPr/>
            <p:nvPr/>
          </p:nvSpPr>
          <p:spPr>
            <a:xfrm>
              <a:off x="5380200" y="106488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465" name="Freeform 118"/>
            <p:cNvSpPr/>
            <p:nvPr/>
          </p:nvSpPr>
          <p:spPr>
            <a:xfrm>
              <a:off x="5389560" y="1064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466" name="Freeform 119"/>
            <p:cNvSpPr/>
            <p:nvPr/>
          </p:nvSpPr>
          <p:spPr>
            <a:xfrm>
              <a:off x="5369040" y="116820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Freeform 120"/>
            <p:cNvSpPr/>
            <p:nvPr/>
          </p:nvSpPr>
          <p:spPr>
            <a:xfrm>
              <a:off x="5380200" y="117792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468" name="Freeform 121"/>
            <p:cNvSpPr/>
            <p:nvPr/>
          </p:nvSpPr>
          <p:spPr>
            <a:xfrm>
              <a:off x="5394240" y="11779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469" name="Freeform 122"/>
            <p:cNvSpPr/>
            <p:nvPr/>
          </p:nvSpPr>
          <p:spPr>
            <a:xfrm>
              <a:off x="5369040" y="127620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0" name="Freeform 123"/>
            <p:cNvSpPr/>
            <p:nvPr/>
          </p:nvSpPr>
          <p:spPr>
            <a:xfrm>
              <a:off x="5380200" y="128592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471" name="Freeform 124"/>
            <p:cNvSpPr/>
            <p:nvPr/>
          </p:nvSpPr>
          <p:spPr>
            <a:xfrm>
              <a:off x="5389560" y="128592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472" name="Group 1480"/>
          <p:cNvGrpSpPr/>
          <p:nvPr/>
        </p:nvGrpSpPr>
        <p:grpSpPr>
          <a:xfrm>
            <a:off x="3478320" y="1017720"/>
            <a:ext cx="331560" cy="371520"/>
            <a:chOff x="3478320" y="1017720"/>
            <a:chExt cx="331560" cy="371520"/>
          </a:xfrm>
        </p:grpSpPr>
        <p:sp>
          <p:nvSpPr>
            <p:cNvPr id="473" name="Freeform 107"/>
            <p:cNvSpPr/>
            <p:nvPr/>
          </p:nvSpPr>
          <p:spPr>
            <a:xfrm>
              <a:off x="3478320" y="101772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4" name="Freeform 108"/>
            <p:cNvSpPr/>
            <p:nvPr/>
          </p:nvSpPr>
          <p:spPr>
            <a:xfrm>
              <a:off x="3484440" y="102384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5" name="Freeform 109"/>
            <p:cNvSpPr/>
            <p:nvPr/>
          </p:nvSpPr>
          <p:spPr>
            <a:xfrm>
              <a:off x="3726000" y="117000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76" name="Freeform 110"/>
            <p:cNvSpPr/>
            <p:nvPr/>
          </p:nvSpPr>
          <p:spPr>
            <a:xfrm>
              <a:off x="3726000" y="105732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77" name="Freeform 111"/>
            <p:cNvSpPr/>
            <p:nvPr/>
          </p:nvSpPr>
          <p:spPr>
            <a:xfrm>
              <a:off x="3497040" y="105732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78" name="Freeform 112"/>
            <p:cNvSpPr/>
            <p:nvPr/>
          </p:nvSpPr>
          <p:spPr>
            <a:xfrm>
              <a:off x="3497040" y="117000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79" name="Freeform 113"/>
            <p:cNvSpPr/>
            <p:nvPr/>
          </p:nvSpPr>
          <p:spPr>
            <a:xfrm>
              <a:off x="3497040" y="127800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80" name="Freeform 114"/>
            <p:cNvSpPr/>
            <p:nvPr/>
          </p:nvSpPr>
          <p:spPr>
            <a:xfrm>
              <a:off x="3726000" y="127800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481" name="Rectangle 115"/>
            <p:cNvSpPr/>
            <p:nvPr/>
          </p:nvSpPr>
          <p:spPr>
            <a:xfrm>
              <a:off x="3575160" y="103356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Freeform 116"/>
            <p:cNvSpPr/>
            <p:nvPr/>
          </p:nvSpPr>
          <p:spPr>
            <a:xfrm>
              <a:off x="3589200" y="104148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3" name="Freeform 117"/>
            <p:cNvSpPr/>
            <p:nvPr/>
          </p:nvSpPr>
          <p:spPr>
            <a:xfrm>
              <a:off x="3600360" y="105084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484" name="Freeform 118"/>
            <p:cNvSpPr/>
            <p:nvPr/>
          </p:nvSpPr>
          <p:spPr>
            <a:xfrm>
              <a:off x="3610080" y="10508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485" name="Freeform 119"/>
            <p:cNvSpPr/>
            <p:nvPr/>
          </p:nvSpPr>
          <p:spPr>
            <a:xfrm>
              <a:off x="3589200" y="115416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6" name="Freeform 120"/>
            <p:cNvSpPr/>
            <p:nvPr/>
          </p:nvSpPr>
          <p:spPr>
            <a:xfrm>
              <a:off x="3600360" y="116388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487" name="Freeform 121"/>
            <p:cNvSpPr/>
            <p:nvPr/>
          </p:nvSpPr>
          <p:spPr>
            <a:xfrm>
              <a:off x="3614760" y="11638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488" name="Freeform 122"/>
            <p:cNvSpPr/>
            <p:nvPr/>
          </p:nvSpPr>
          <p:spPr>
            <a:xfrm>
              <a:off x="3589200" y="126216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89" name="Freeform 123"/>
            <p:cNvSpPr/>
            <p:nvPr/>
          </p:nvSpPr>
          <p:spPr>
            <a:xfrm>
              <a:off x="3600360" y="127188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490" name="Freeform 124"/>
            <p:cNvSpPr/>
            <p:nvPr/>
          </p:nvSpPr>
          <p:spPr>
            <a:xfrm>
              <a:off x="3610080" y="127188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491" name="Group 1499"/>
          <p:cNvGrpSpPr/>
          <p:nvPr/>
        </p:nvGrpSpPr>
        <p:grpSpPr>
          <a:xfrm>
            <a:off x="1600200" y="1014480"/>
            <a:ext cx="331920" cy="371520"/>
            <a:chOff x="1600200" y="1014480"/>
            <a:chExt cx="331920" cy="371520"/>
          </a:xfrm>
        </p:grpSpPr>
        <p:sp>
          <p:nvSpPr>
            <p:cNvPr id="492" name="Freeform 107"/>
            <p:cNvSpPr/>
            <p:nvPr/>
          </p:nvSpPr>
          <p:spPr>
            <a:xfrm>
              <a:off x="1600200" y="1014480"/>
              <a:ext cx="331920" cy="371520"/>
            </a:xfrm>
            <a:custGeom>
              <a:avLst/>
              <a:gdLst>
                <a:gd name="textAreaLeft" fmla="*/ 0 w 331920"/>
                <a:gd name="textAreaRight" fmla="*/ 332280 w 33192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3" name="Freeform 108"/>
            <p:cNvSpPr/>
            <p:nvPr/>
          </p:nvSpPr>
          <p:spPr>
            <a:xfrm>
              <a:off x="1606320" y="1020600"/>
              <a:ext cx="317880" cy="358920"/>
            </a:xfrm>
            <a:custGeom>
              <a:avLst/>
              <a:gdLst>
                <a:gd name="textAreaLeft" fmla="*/ 0 w 317880"/>
                <a:gd name="textAreaRight" fmla="*/ 318240 w 31788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94" name="Freeform 109"/>
            <p:cNvSpPr/>
            <p:nvPr/>
          </p:nvSpPr>
          <p:spPr>
            <a:xfrm>
              <a:off x="1847880" y="116676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95" name="Freeform 110"/>
            <p:cNvSpPr/>
            <p:nvPr/>
          </p:nvSpPr>
          <p:spPr>
            <a:xfrm>
              <a:off x="1847880" y="1054080"/>
              <a:ext cx="65160" cy="41040"/>
            </a:xfrm>
            <a:custGeom>
              <a:avLst/>
              <a:gdLst>
                <a:gd name="textAreaLeft" fmla="*/ 0 w 65160"/>
                <a:gd name="textAreaRight" fmla="*/ 65520 w 6516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496" name="Freeform 111"/>
            <p:cNvSpPr/>
            <p:nvPr/>
          </p:nvSpPr>
          <p:spPr>
            <a:xfrm>
              <a:off x="1618920" y="105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97" name="Freeform 112"/>
            <p:cNvSpPr/>
            <p:nvPr/>
          </p:nvSpPr>
          <p:spPr>
            <a:xfrm>
              <a:off x="1618920" y="116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498" name="Freeform 113"/>
            <p:cNvSpPr/>
            <p:nvPr/>
          </p:nvSpPr>
          <p:spPr>
            <a:xfrm>
              <a:off x="1618920" y="127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499" name="Freeform 114"/>
            <p:cNvSpPr/>
            <p:nvPr/>
          </p:nvSpPr>
          <p:spPr>
            <a:xfrm>
              <a:off x="1847880" y="127476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500" name="Rectangle 115"/>
            <p:cNvSpPr/>
            <p:nvPr/>
          </p:nvSpPr>
          <p:spPr>
            <a:xfrm>
              <a:off x="1697040" y="103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1" name="Freeform 116"/>
            <p:cNvSpPr/>
            <p:nvPr/>
          </p:nvSpPr>
          <p:spPr>
            <a:xfrm>
              <a:off x="1711440" y="103824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2" name="Freeform 117"/>
            <p:cNvSpPr/>
            <p:nvPr/>
          </p:nvSpPr>
          <p:spPr>
            <a:xfrm>
              <a:off x="1722600" y="104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503" name="Freeform 118"/>
            <p:cNvSpPr/>
            <p:nvPr/>
          </p:nvSpPr>
          <p:spPr>
            <a:xfrm>
              <a:off x="1731960" y="104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504" name="Freeform 119"/>
            <p:cNvSpPr/>
            <p:nvPr/>
          </p:nvSpPr>
          <p:spPr>
            <a:xfrm>
              <a:off x="1711440" y="1150920"/>
              <a:ext cx="111240" cy="101520"/>
            </a:xfrm>
            <a:custGeom>
              <a:avLst/>
              <a:gdLst>
                <a:gd name="textAreaLeft" fmla="*/ 0 w 111240"/>
                <a:gd name="textAreaRight" fmla="*/ 111600 w 11124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5" name="Freeform 120"/>
            <p:cNvSpPr/>
            <p:nvPr/>
          </p:nvSpPr>
          <p:spPr>
            <a:xfrm>
              <a:off x="1722600" y="116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506" name="Freeform 121"/>
            <p:cNvSpPr/>
            <p:nvPr/>
          </p:nvSpPr>
          <p:spPr>
            <a:xfrm>
              <a:off x="1736640" y="116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507" name="Freeform 122"/>
            <p:cNvSpPr/>
            <p:nvPr/>
          </p:nvSpPr>
          <p:spPr>
            <a:xfrm>
              <a:off x="1711440" y="1258920"/>
              <a:ext cx="111240" cy="100080"/>
            </a:xfrm>
            <a:custGeom>
              <a:avLst/>
              <a:gdLst>
                <a:gd name="textAreaLeft" fmla="*/ 0 w 111240"/>
                <a:gd name="textAreaRight" fmla="*/ 111600 w 11124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8" name="Freeform 123"/>
            <p:cNvSpPr/>
            <p:nvPr/>
          </p:nvSpPr>
          <p:spPr>
            <a:xfrm>
              <a:off x="1722600" y="126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509" name="Freeform 124"/>
            <p:cNvSpPr/>
            <p:nvPr/>
          </p:nvSpPr>
          <p:spPr>
            <a:xfrm>
              <a:off x="1731960" y="126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grpSp>
        <p:nvGrpSpPr>
          <p:cNvPr id="510" name="Group 1518"/>
          <p:cNvGrpSpPr/>
          <p:nvPr/>
        </p:nvGrpSpPr>
        <p:grpSpPr>
          <a:xfrm>
            <a:off x="304920" y="6324480"/>
            <a:ext cx="331560" cy="371520"/>
            <a:chOff x="304920" y="6324480"/>
            <a:chExt cx="331560" cy="371520"/>
          </a:xfrm>
        </p:grpSpPr>
        <p:sp>
          <p:nvSpPr>
            <p:cNvPr id="511" name="Freeform 107"/>
            <p:cNvSpPr/>
            <p:nvPr/>
          </p:nvSpPr>
          <p:spPr>
            <a:xfrm>
              <a:off x="304920" y="6324480"/>
              <a:ext cx="331560" cy="371520"/>
            </a:xfrm>
            <a:custGeom>
              <a:avLst/>
              <a:gdLst>
                <a:gd name="textAreaLeft" fmla="*/ 0 w 331560"/>
                <a:gd name="textAreaRight" fmla="*/ 331920 w 331560"/>
                <a:gd name="textAreaTop" fmla="*/ 0 h 371520"/>
                <a:gd name="textAreaBottom" fmla="*/ 371880 h 3715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2" name="Freeform 108"/>
            <p:cNvSpPr/>
            <p:nvPr/>
          </p:nvSpPr>
          <p:spPr>
            <a:xfrm>
              <a:off x="311040" y="6330600"/>
              <a:ext cx="317520" cy="358920"/>
            </a:xfrm>
            <a:custGeom>
              <a:avLst/>
              <a:gdLst>
                <a:gd name="textAreaLeft" fmla="*/ 0 w 317520"/>
                <a:gd name="textAreaRight" fmla="*/ 317880 w 317520"/>
                <a:gd name="textAreaTop" fmla="*/ 0 h 358920"/>
                <a:gd name="textAreaBottom" fmla="*/ 358920 h 3589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3" name="Freeform 109"/>
            <p:cNvSpPr/>
            <p:nvPr/>
          </p:nvSpPr>
          <p:spPr>
            <a:xfrm>
              <a:off x="552600" y="647676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514" name="Freeform 110"/>
            <p:cNvSpPr/>
            <p:nvPr/>
          </p:nvSpPr>
          <p:spPr>
            <a:xfrm>
              <a:off x="552600" y="6364080"/>
              <a:ext cx="64800" cy="41040"/>
            </a:xfrm>
            <a:custGeom>
              <a:avLst/>
              <a:gdLst>
                <a:gd name="textAreaLeft" fmla="*/ 0 w 64800"/>
                <a:gd name="textAreaRight" fmla="*/ 65160 w 64800"/>
                <a:gd name="textAreaTop" fmla="*/ 0 h 41040"/>
                <a:gd name="textAreaBottom" fmla="*/ 41400 h 410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515" name="Freeform 111"/>
            <p:cNvSpPr/>
            <p:nvPr/>
          </p:nvSpPr>
          <p:spPr>
            <a:xfrm>
              <a:off x="323640" y="636408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516" name="Freeform 112"/>
            <p:cNvSpPr/>
            <p:nvPr/>
          </p:nvSpPr>
          <p:spPr>
            <a:xfrm>
              <a:off x="323640" y="6476760"/>
              <a:ext cx="66600" cy="44280"/>
            </a:xfrm>
            <a:custGeom>
              <a:avLst/>
              <a:gdLst>
                <a:gd name="textAreaLeft" fmla="*/ 0 w 66600"/>
                <a:gd name="textAreaRight" fmla="*/ 66600 w 66600"/>
                <a:gd name="textAreaTop" fmla="*/ 0 h 44280"/>
                <a:gd name="textAreaBottom" fmla="*/ 44640 h 442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2160" bIns="-2160" anchor="t">
              <a:noAutofit/>
            </a:bodyPr>
            <a:p>
              <a:endParaRPr b="1" lang="en-US" sz="2000" spc="-1" strike="noStrike">
                <a:solidFill>
                  <a:srgbClr val="000000"/>
                </a:solidFill>
                <a:latin typeface="Arial"/>
              </a:endParaRPr>
            </a:p>
          </p:txBody>
        </p:sp>
        <p:sp>
          <p:nvSpPr>
            <p:cNvPr id="517" name="Freeform 113"/>
            <p:cNvSpPr/>
            <p:nvPr/>
          </p:nvSpPr>
          <p:spPr>
            <a:xfrm>
              <a:off x="323640" y="6584760"/>
              <a:ext cx="66600" cy="46080"/>
            </a:xfrm>
            <a:custGeom>
              <a:avLst/>
              <a:gdLst>
                <a:gd name="textAreaLeft" fmla="*/ 0 w 66600"/>
                <a:gd name="textAreaRight" fmla="*/ 66600 w 66600"/>
                <a:gd name="textAreaTop" fmla="*/ 0 h 46080"/>
                <a:gd name="textAreaBottom" fmla="*/ 46440 h 4608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2000" spc="-1" strike="noStrike">
                <a:solidFill>
                  <a:srgbClr val="000000"/>
                </a:solidFill>
                <a:latin typeface="Arial"/>
              </a:endParaRPr>
            </a:p>
          </p:txBody>
        </p:sp>
        <p:sp>
          <p:nvSpPr>
            <p:cNvPr id="518" name="Freeform 114"/>
            <p:cNvSpPr/>
            <p:nvPr/>
          </p:nvSpPr>
          <p:spPr>
            <a:xfrm>
              <a:off x="552600" y="6584760"/>
              <a:ext cx="64800" cy="42840"/>
            </a:xfrm>
            <a:custGeom>
              <a:avLst/>
              <a:gdLst>
                <a:gd name="textAreaLeft" fmla="*/ 0 w 64800"/>
                <a:gd name="textAreaRight" fmla="*/ 65160 w 64800"/>
                <a:gd name="textAreaTop" fmla="*/ 0 h 42840"/>
                <a:gd name="textAreaBottom" fmla="*/ 42840 h 428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519" name="Rectangle 115"/>
            <p:cNvSpPr/>
            <p:nvPr/>
          </p:nvSpPr>
          <p:spPr>
            <a:xfrm>
              <a:off x="401760" y="6340320"/>
              <a:ext cx="139680" cy="3398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Freeform 116"/>
            <p:cNvSpPr/>
            <p:nvPr/>
          </p:nvSpPr>
          <p:spPr>
            <a:xfrm>
              <a:off x="415800" y="634824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1" name="Freeform 117"/>
            <p:cNvSpPr/>
            <p:nvPr/>
          </p:nvSpPr>
          <p:spPr>
            <a:xfrm>
              <a:off x="426960" y="6357600"/>
              <a:ext cx="88920" cy="81000"/>
            </a:xfrm>
            <a:custGeom>
              <a:avLst/>
              <a:gdLst>
                <a:gd name="textAreaLeft" fmla="*/ 0 w 88920"/>
                <a:gd name="textAreaRight" fmla="*/ 89280 w 88920"/>
                <a:gd name="textAreaTop" fmla="*/ 0 h 81000"/>
                <a:gd name="textAreaBottom" fmla="*/ 81360 h 8100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4560" bIns="34560" anchor="t">
              <a:noAutofit/>
            </a:bodyPr>
            <a:p>
              <a:endParaRPr b="1" lang="en-US" sz="2000" spc="-1" strike="noStrike">
                <a:solidFill>
                  <a:srgbClr val="000000"/>
                </a:solidFill>
                <a:latin typeface="Arial"/>
              </a:endParaRPr>
            </a:p>
          </p:txBody>
        </p:sp>
        <p:sp>
          <p:nvSpPr>
            <p:cNvPr id="522" name="Freeform 118"/>
            <p:cNvSpPr/>
            <p:nvPr/>
          </p:nvSpPr>
          <p:spPr>
            <a:xfrm>
              <a:off x="436680" y="63576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523" name="Freeform 119"/>
            <p:cNvSpPr/>
            <p:nvPr/>
          </p:nvSpPr>
          <p:spPr>
            <a:xfrm>
              <a:off x="415800" y="6460920"/>
              <a:ext cx="110880" cy="101520"/>
            </a:xfrm>
            <a:custGeom>
              <a:avLst/>
              <a:gdLst>
                <a:gd name="textAreaLeft" fmla="*/ 0 w 110880"/>
                <a:gd name="textAreaRight" fmla="*/ 111240 w 110880"/>
                <a:gd name="textAreaTop" fmla="*/ 0 h 101520"/>
                <a:gd name="textAreaBottom" fmla="*/ 101880 h 1015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4" name="Freeform 120"/>
            <p:cNvSpPr/>
            <p:nvPr/>
          </p:nvSpPr>
          <p:spPr>
            <a:xfrm>
              <a:off x="426960" y="6470640"/>
              <a:ext cx="88920" cy="82440"/>
            </a:xfrm>
            <a:custGeom>
              <a:avLst/>
              <a:gdLst>
                <a:gd name="textAreaLeft" fmla="*/ 0 w 88920"/>
                <a:gd name="textAreaRight" fmla="*/ 89280 w 88920"/>
                <a:gd name="textAreaTop" fmla="*/ 0 h 82440"/>
                <a:gd name="textAreaBottom" fmla="*/ 82440 h 8244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5640" bIns="35640" anchor="t">
              <a:noAutofit/>
            </a:bodyPr>
            <a:p>
              <a:endParaRPr b="1" lang="en-US" sz="2000" spc="-1" strike="noStrike">
                <a:solidFill>
                  <a:srgbClr val="000000"/>
                </a:solidFill>
                <a:latin typeface="Arial"/>
              </a:endParaRPr>
            </a:p>
          </p:txBody>
        </p:sp>
        <p:sp>
          <p:nvSpPr>
            <p:cNvPr id="525" name="Freeform 121"/>
            <p:cNvSpPr/>
            <p:nvPr/>
          </p:nvSpPr>
          <p:spPr>
            <a:xfrm>
              <a:off x="441360" y="6470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526" name="Freeform 122"/>
            <p:cNvSpPr/>
            <p:nvPr/>
          </p:nvSpPr>
          <p:spPr>
            <a:xfrm>
              <a:off x="415800" y="6568920"/>
              <a:ext cx="110880" cy="100080"/>
            </a:xfrm>
            <a:custGeom>
              <a:avLst/>
              <a:gdLst>
                <a:gd name="textAreaLeft" fmla="*/ 0 w 110880"/>
                <a:gd name="textAreaRight" fmla="*/ 111240 w 110880"/>
                <a:gd name="textAreaTop" fmla="*/ 0 h 100080"/>
                <a:gd name="textAreaBottom" fmla="*/ 100440 h 1000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7" name="Freeform 123"/>
            <p:cNvSpPr/>
            <p:nvPr/>
          </p:nvSpPr>
          <p:spPr>
            <a:xfrm>
              <a:off x="426960" y="6578640"/>
              <a:ext cx="88920" cy="81000"/>
            </a:xfrm>
            <a:custGeom>
              <a:avLst/>
              <a:gdLst>
                <a:gd name="textAreaLeft" fmla="*/ 0 w 88920"/>
                <a:gd name="textAreaRight" fmla="*/ 89280 w 88920"/>
                <a:gd name="textAreaTop" fmla="*/ 0 h 81000"/>
                <a:gd name="textAreaBottom" fmla="*/ 81000 h 8100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4200" bIns="34200" anchor="t">
              <a:noAutofit/>
            </a:bodyPr>
            <a:p>
              <a:endParaRPr b="1" lang="en-US" sz="2000" spc="-1" strike="noStrike">
                <a:solidFill>
                  <a:srgbClr val="000000"/>
                </a:solidFill>
                <a:latin typeface="Arial"/>
              </a:endParaRPr>
            </a:p>
          </p:txBody>
        </p:sp>
        <p:sp>
          <p:nvSpPr>
            <p:cNvPr id="528" name="Freeform 124"/>
            <p:cNvSpPr/>
            <p:nvPr/>
          </p:nvSpPr>
          <p:spPr>
            <a:xfrm>
              <a:off x="436680" y="657864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grpSp>
        <p:nvGrpSpPr>
          <p:cNvPr id="530" name="Group 146"/>
          <p:cNvGrpSpPr/>
          <p:nvPr/>
        </p:nvGrpSpPr>
        <p:grpSpPr>
          <a:xfrm>
            <a:off x="1981080" y="1371600"/>
            <a:ext cx="6934320" cy="4648320"/>
            <a:chOff x="1981080" y="1371600"/>
            <a:chExt cx="6934320" cy="4648320"/>
          </a:xfrm>
        </p:grpSpPr>
        <p:sp>
          <p:nvSpPr>
            <p:cNvPr id="531" name="Rectangle 8"/>
            <p:cNvSpPr/>
            <p:nvPr/>
          </p:nvSpPr>
          <p:spPr>
            <a:xfrm>
              <a:off x="746784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Rectangle 9"/>
            <p:cNvSpPr/>
            <p:nvPr/>
          </p:nvSpPr>
          <p:spPr>
            <a:xfrm>
              <a:off x="739152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533" name="Rectangle 8"/>
            <p:cNvSpPr/>
            <p:nvPr/>
          </p:nvSpPr>
          <p:spPr>
            <a:xfrm>
              <a:off x="56386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Rectangle 9"/>
            <p:cNvSpPr/>
            <p:nvPr/>
          </p:nvSpPr>
          <p:spPr>
            <a:xfrm>
              <a:off x="56386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535" name="Rectangle 8"/>
            <p:cNvSpPr/>
            <p:nvPr/>
          </p:nvSpPr>
          <p:spPr>
            <a:xfrm>
              <a:off x="38098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6" name="Rectangle 9"/>
            <p:cNvSpPr/>
            <p:nvPr/>
          </p:nvSpPr>
          <p:spPr>
            <a:xfrm>
              <a:off x="38098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537" name="Rectangle 8"/>
            <p:cNvSpPr/>
            <p:nvPr/>
          </p:nvSpPr>
          <p:spPr>
            <a:xfrm>
              <a:off x="1981080" y="1371600"/>
              <a:ext cx="144756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8" name="Rectangle 9"/>
            <p:cNvSpPr/>
            <p:nvPr/>
          </p:nvSpPr>
          <p:spPr>
            <a:xfrm>
              <a:off x="1981080" y="159048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539" name="Line 10"/>
            <p:cNvSpPr/>
            <p:nvPr/>
          </p:nvSpPr>
          <p:spPr>
            <a:xfrm>
              <a:off x="342864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0" name="Line 10"/>
            <p:cNvSpPr/>
            <p:nvPr/>
          </p:nvSpPr>
          <p:spPr>
            <a:xfrm>
              <a:off x="52578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1"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2" name="AutoShape 24"/>
            <p:cNvSpPr/>
            <p:nvPr/>
          </p:nvSpPr>
          <p:spPr>
            <a:xfrm>
              <a:off x="19810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Rectangle 119"/>
            <p:cNvSpPr/>
            <p:nvPr/>
          </p:nvSpPr>
          <p:spPr>
            <a:xfrm>
              <a:off x="19936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544" name="AutoShape 24"/>
            <p:cNvSpPr/>
            <p:nvPr/>
          </p:nvSpPr>
          <p:spPr>
            <a:xfrm>
              <a:off x="1981080" y="335268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Rectangle 25"/>
            <p:cNvSpPr/>
            <p:nvPr/>
          </p:nvSpPr>
          <p:spPr>
            <a:xfrm>
              <a:off x="19936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546" name="AutoShape 24"/>
            <p:cNvSpPr/>
            <p:nvPr/>
          </p:nvSpPr>
          <p:spPr>
            <a:xfrm>
              <a:off x="1981080" y="4267440"/>
              <a:ext cx="144756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Rectangle 25"/>
            <p:cNvSpPr/>
            <p:nvPr/>
          </p:nvSpPr>
          <p:spPr>
            <a:xfrm>
              <a:off x="199368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548" name="AutoShape 24"/>
            <p:cNvSpPr/>
            <p:nvPr/>
          </p:nvSpPr>
          <p:spPr>
            <a:xfrm>
              <a:off x="1981080" y="510552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9" name="Rectangle 25"/>
            <p:cNvSpPr/>
            <p:nvPr/>
          </p:nvSpPr>
          <p:spPr>
            <a:xfrm>
              <a:off x="1993680" y="515016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550" name="AutoShape 24"/>
            <p:cNvSpPr/>
            <p:nvPr/>
          </p:nvSpPr>
          <p:spPr>
            <a:xfrm>
              <a:off x="3809880" y="2286000"/>
              <a:ext cx="144756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Rectangle 25"/>
            <p:cNvSpPr/>
            <p:nvPr/>
          </p:nvSpPr>
          <p:spPr>
            <a:xfrm>
              <a:off x="382248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552" name="AutoShape 24"/>
            <p:cNvSpPr/>
            <p:nvPr/>
          </p:nvSpPr>
          <p:spPr>
            <a:xfrm>
              <a:off x="3809880" y="312408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3" name="Rectangle 25"/>
            <p:cNvSpPr/>
            <p:nvPr/>
          </p:nvSpPr>
          <p:spPr>
            <a:xfrm>
              <a:off x="382248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554" name="AutoShape 24"/>
            <p:cNvSpPr/>
            <p:nvPr/>
          </p:nvSpPr>
          <p:spPr>
            <a:xfrm>
              <a:off x="3809880" y="4191120"/>
              <a:ext cx="144756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Rectangle 25"/>
            <p:cNvSpPr/>
            <p:nvPr/>
          </p:nvSpPr>
          <p:spPr>
            <a:xfrm>
              <a:off x="3822480" y="424512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556" name="AutoShape 24"/>
            <p:cNvSpPr/>
            <p:nvPr/>
          </p:nvSpPr>
          <p:spPr>
            <a:xfrm>
              <a:off x="563868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Rectangle 25"/>
            <p:cNvSpPr/>
            <p:nvPr/>
          </p:nvSpPr>
          <p:spPr>
            <a:xfrm>
              <a:off x="565128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558" name="AutoShape 24"/>
            <p:cNvSpPr/>
            <p:nvPr/>
          </p:nvSpPr>
          <p:spPr>
            <a:xfrm>
              <a:off x="5638680" y="3352680"/>
              <a:ext cx="1447560" cy="7617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9" name="Rectangle 25"/>
            <p:cNvSpPr/>
            <p:nvPr/>
          </p:nvSpPr>
          <p:spPr>
            <a:xfrm>
              <a:off x="565128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560" name="AutoShape 24"/>
            <p:cNvSpPr/>
            <p:nvPr/>
          </p:nvSpPr>
          <p:spPr>
            <a:xfrm>
              <a:off x="5638680" y="426744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1" name="Rectangle 25"/>
            <p:cNvSpPr/>
            <p:nvPr/>
          </p:nvSpPr>
          <p:spPr>
            <a:xfrm>
              <a:off x="5651280" y="426744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562" name="AutoShape 24"/>
            <p:cNvSpPr/>
            <p:nvPr/>
          </p:nvSpPr>
          <p:spPr>
            <a:xfrm>
              <a:off x="5638680" y="525816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Rectangle 25"/>
            <p:cNvSpPr/>
            <p:nvPr/>
          </p:nvSpPr>
          <p:spPr>
            <a:xfrm>
              <a:off x="5651280" y="530244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564" name="AutoShape 24"/>
            <p:cNvSpPr/>
            <p:nvPr/>
          </p:nvSpPr>
          <p:spPr>
            <a:xfrm>
              <a:off x="7467840" y="2286000"/>
              <a:ext cx="144756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5"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566" name="AutoShape 24"/>
            <p:cNvSpPr/>
            <p:nvPr/>
          </p:nvSpPr>
          <p:spPr>
            <a:xfrm>
              <a:off x="7467840" y="3352680"/>
              <a:ext cx="1447560" cy="53316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568" name="AutoShape 24"/>
            <p:cNvSpPr/>
            <p:nvPr/>
          </p:nvSpPr>
          <p:spPr>
            <a:xfrm>
              <a:off x="7467840" y="4038840"/>
              <a:ext cx="144756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9"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grpSp>
      <p:grpSp>
        <p:nvGrpSpPr>
          <p:cNvPr id="570" name="Group 147"/>
          <p:cNvGrpSpPr/>
          <p:nvPr/>
        </p:nvGrpSpPr>
        <p:grpSpPr>
          <a:xfrm>
            <a:off x="152280" y="2286000"/>
            <a:ext cx="1447920" cy="914400"/>
            <a:chOff x="152280" y="2286000"/>
            <a:chExt cx="1447920" cy="914400"/>
          </a:xfrm>
        </p:grpSpPr>
        <p:sp>
          <p:nvSpPr>
            <p:cNvPr id="571" name="AutoShape 24"/>
            <p:cNvSpPr/>
            <p:nvPr/>
          </p:nvSpPr>
          <p:spPr>
            <a:xfrm>
              <a:off x="1522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2" name="Rectangle 25"/>
            <p:cNvSpPr/>
            <p:nvPr/>
          </p:nvSpPr>
          <p:spPr>
            <a:xfrm>
              <a:off x="1648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project scope</a:t>
              </a:r>
              <a:endParaRPr b="1" lang="en-US" sz="1800" spc="-1" strike="noStrike">
                <a:solidFill>
                  <a:srgbClr val="000000"/>
                </a:solidFill>
                <a:latin typeface="Arial"/>
              </a:endParaRPr>
            </a:p>
          </p:txBody>
        </p:sp>
      </p:grpSp>
      <p:grpSp>
        <p:nvGrpSpPr>
          <p:cNvPr id="573" name="Group 150"/>
          <p:cNvGrpSpPr/>
          <p:nvPr/>
        </p:nvGrpSpPr>
        <p:grpSpPr>
          <a:xfrm>
            <a:off x="152280" y="3352680"/>
            <a:ext cx="1752840" cy="1067040"/>
            <a:chOff x="152280" y="3352680"/>
            <a:chExt cx="1752840" cy="1067040"/>
          </a:xfrm>
        </p:grpSpPr>
        <p:sp>
          <p:nvSpPr>
            <p:cNvPr id="574" name="AutoShape 27"/>
            <p:cNvSpPr/>
            <p:nvPr/>
          </p:nvSpPr>
          <p:spPr>
            <a:xfrm>
              <a:off x="152280" y="3352680"/>
              <a:ext cx="1440000" cy="106704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Rectangle 28"/>
            <p:cNvSpPr/>
            <p:nvPr/>
          </p:nvSpPr>
          <p:spPr>
            <a:xfrm>
              <a:off x="180720" y="3428640"/>
              <a:ext cx="1724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stablish formal </a:t>
              </a:r>
              <a:br>
                <a:rPr sz="1800"/>
              </a:br>
              <a:r>
                <a:rPr b="0" lang="en-US" sz="1800" spc="-1" strike="noStrike">
                  <a:solidFill>
                    <a:srgbClr val="000000"/>
                  </a:solidFill>
                  <a:latin typeface="Arial"/>
                </a:rPr>
                <a:t>project</a:t>
              </a:r>
              <a:endParaRPr b="1" lang="en-US" sz="1800" spc="-1" strike="noStrike">
                <a:solidFill>
                  <a:srgbClr val="000000"/>
                </a:solidFill>
                <a:latin typeface="Arial"/>
              </a:endParaRPr>
            </a:p>
          </p:txBody>
        </p:sp>
      </p:grpSp>
      <p:sp>
        <p:nvSpPr>
          <p:cNvPr id="576"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77" name="Rectangle 8"/>
          <p:cNvSpPr/>
          <p:nvPr/>
        </p:nvSpPr>
        <p:spPr>
          <a:xfrm>
            <a:off x="1522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D</a:t>
            </a:r>
            <a:r>
              <a:rPr b="1" lang="en-US" sz="2000" spc="-1" strike="noStrike">
                <a:solidFill>
                  <a:srgbClr val="000000"/>
                </a:solidFill>
                <a:latin typeface="Arial"/>
              </a:rPr>
              <a:t>efine</a:t>
            </a:r>
            <a:endParaRPr b="1" lang="en-US" sz="2000" spc="-1" strike="noStrike">
              <a:solidFill>
                <a:srgbClr val="000000"/>
              </a:solidFill>
              <a:latin typeface="Arial"/>
            </a:endParaRPr>
          </a:p>
        </p:txBody>
      </p:sp>
      <p:sp>
        <p:nvSpPr>
          <p:cNvPr id="579" name="AutoShape 58"/>
          <p:cNvSpPr/>
          <p:nvPr/>
        </p:nvSpPr>
        <p:spPr>
          <a:xfrm>
            <a:off x="1982880" y="2232000"/>
            <a:ext cx="7008840" cy="1882800"/>
          </a:xfrm>
          <a:prstGeom prst="wedgeRectCallout">
            <a:avLst>
              <a:gd name="adj1" fmla="val -63944"/>
              <a:gd name="adj2" fmla="val -13768"/>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urrent problem to be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goals, improvement targets, &amp; success criteria?</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usiness case, potential savings, or benefit that will be realized when the problem is solved?</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 stakeholders? The customers?</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levant processes and who owns them?</a:t>
            </a:r>
            <a:endParaRPr b="1" lang="en-US" sz="1800" spc="-1" strike="noStrike">
              <a:solidFill>
                <a:srgbClr val="000000"/>
              </a:solidFill>
              <a:latin typeface="Arial"/>
            </a:endParaRPr>
          </a:p>
        </p:txBody>
      </p:sp>
      <p:sp>
        <p:nvSpPr>
          <p:cNvPr id="580" name="AutoShape 59"/>
          <p:cNvSpPr/>
          <p:nvPr/>
        </p:nvSpPr>
        <p:spPr>
          <a:xfrm>
            <a:off x="1981080" y="4343400"/>
            <a:ext cx="7010640" cy="1371600"/>
          </a:xfrm>
          <a:prstGeom prst="wedgeRectCallout">
            <a:avLst>
              <a:gd name="adj1" fmla="val -64874"/>
              <a:gd name="adj2" fmla="val -56407"/>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akeholders agreed to the project charter or contract?</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ject plan, including the resource plan and progress tracking?</a:t>
            </a:r>
            <a:endParaRPr b="1" lang="en-US" sz="1800" spc="-1" strike="noStrike">
              <a:solidFill>
                <a:srgbClr val="000000"/>
              </a:solidFill>
              <a:latin typeface="Arial"/>
            </a:endParaRPr>
          </a:p>
          <a:p>
            <a:pPr marL="117360" indent="-117360">
              <a:lnSpc>
                <a:spcPts val="22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he project progress be communicated?</a:t>
            </a:r>
            <a:endParaRPr b="1"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70"/>
                                        </p:tgtEl>
                                        <p:attrNameLst>
                                          <p:attrName>style.visibility</p:attrName>
                                        </p:attrNameLst>
                                      </p:cBhvr>
                                      <p:to>
                                        <p:strVal val="visible"/>
                                      </p:to>
                                    </p:set>
                                    <p:animEffect filter="wipe(down)" transition="in">
                                      <p:cBhvr additive="repl">
                                        <p:cTn id="57" dur="500"/>
                                        <p:tgtEl>
                                          <p:spTgt spid="570"/>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579"/>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573"/>
                                        </p:tgtEl>
                                        <p:attrNameLst>
                                          <p:attrName>style.visibility</p:attrName>
                                        </p:attrNameLst>
                                      </p:cBhvr>
                                      <p:to>
                                        <p:strVal val="visible"/>
                                      </p:to>
                                    </p:set>
                                    <p:animEffect filter="wipe(down)" transition="in">
                                      <p:cBhvr additive="repl">
                                        <p:cTn id="66" dur="500"/>
                                        <p:tgtEl>
                                          <p:spTgt spid="573"/>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asur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582"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584"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5"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586"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7"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588"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9"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590"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1"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592"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3"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594"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5"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6"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7"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8"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599"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0"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601"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2"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603"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4"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605"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6"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607"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8"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609"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611"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613"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615"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6"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617" name="Rectangle 8"/>
          <p:cNvSpPr/>
          <p:nvPr/>
        </p:nvSpPr>
        <p:spPr>
          <a:xfrm>
            <a:off x="19810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8"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M</a:t>
            </a:r>
            <a:r>
              <a:rPr b="1" lang="en-US" sz="2000" spc="-1" strike="noStrike">
                <a:solidFill>
                  <a:srgbClr val="000000"/>
                </a:solidFill>
                <a:latin typeface="Arial"/>
              </a:rPr>
              <a:t>easure</a:t>
            </a:r>
            <a:endParaRPr b="1" lang="en-US" sz="2000" spc="-1" strike="noStrike">
              <a:solidFill>
                <a:srgbClr val="000000"/>
              </a:solidFill>
              <a:latin typeface="Arial"/>
            </a:endParaRPr>
          </a:p>
        </p:txBody>
      </p:sp>
      <p:grpSp>
        <p:nvGrpSpPr>
          <p:cNvPr id="619" name="Group 170"/>
          <p:cNvGrpSpPr/>
          <p:nvPr/>
        </p:nvGrpSpPr>
        <p:grpSpPr>
          <a:xfrm>
            <a:off x="1981080" y="2286000"/>
            <a:ext cx="1447920" cy="914400"/>
            <a:chOff x="1981080" y="2286000"/>
            <a:chExt cx="1447920" cy="914400"/>
          </a:xfrm>
        </p:grpSpPr>
        <p:sp>
          <p:nvSpPr>
            <p:cNvPr id="620" name="AutoShape 24"/>
            <p:cNvSpPr/>
            <p:nvPr/>
          </p:nvSpPr>
          <p:spPr>
            <a:xfrm>
              <a:off x="19810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1" name="Rectangle 25"/>
            <p:cNvSpPr/>
            <p:nvPr/>
          </p:nvSpPr>
          <p:spPr>
            <a:xfrm>
              <a:off x="19936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needed data</a:t>
              </a:r>
              <a:endParaRPr b="1" lang="en-US" sz="1800" spc="-1" strike="noStrike">
                <a:solidFill>
                  <a:srgbClr val="000000"/>
                </a:solidFill>
                <a:latin typeface="Arial"/>
              </a:endParaRPr>
            </a:p>
          </p:txBody>
        </p:sp>
      </p:grpSp>
      <p:grpSp>
        <p:nvGrpSpPr>
          <p:cNvPr id="622" name="Group 173"/>
          <p:cNvGrpSpPr/>
          <p:nvPr/>
        </p:nvGrpSpPr>
        <p:grpSpPr>
          <a:xfrm>
            <a:off x="1981080" y="3352680"/>
            <a:ext cx="1447920" cy="685800"/>
            <a:chOff x="1981080" y="3352680"/>
            <a:chExt cx="1447920" cy="685800"/>
          </a:xfrm>
        </p:grpSpPr>
        <p:sp>
          <p:nvSpPr>
            <p:cNvPr id="623" name="AutoShape 24"/>
            <p:cNvSpPr/>
            <p:nvPr/>
          </p:nvSpPr>
          <p:spPr>
            <a:xfrm>
              <a:off x="1981080" y="33526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Rectangle 25"/>
            <p:cNvSpPr/>
            <p:nvPr/>
          </p:nvSpPr>
          <p:spPr>
            <a:xfrm>
              <a:off x="19936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btain </a:t>
              </a:r>
              <a:br>
                <a:rPr sz="1800"/>
              </a:br>
              <a:r>
                <a:rPr b="0" lang="en-US" sz="1800" spc="-1" strike="noStrike">
                  <a:solidFill>
                    <a:srgbClr val="000000"/>
                  </a:solidFill>
                  <a:latin typeface="Arial"/>
                </a:rPr>
                <a:t>data set</a:t>
              </a:r>
              <a:endParaRPr b="1" lang="en-US" sz="1800" spc="-1" strike="noStrike">
                <a:solidFill>
                  <a:srgbClr val="000000"/>
                </a:solidFill>
                <a:latin typeface="Arial"/>
              </a:endParaRPr>
            </a:p>
          </p:txBody>
        </p:sp>
      </p:grpSp>
      <p:grpSp>
        <p:nvGrpSpPr>
          <p:cNvPr id="625" name="Group 176"/>
          <p:cNvGrpSpPr/>
          <p:nvPr/>
        </p:nvGrpSpPr>
        <p:grpSpPr>
          <a:xfrm>
            <a:off x="1981080" y="4267080"/>
            <a:ext cx="1447920" cy="685800"/>
            <a:chOff x="1981080" y="4267080"/>
            <a:chExt cx="1447920" cy="685800"/>
          </a:xfrm>
        </p:grpSpPr>
        <p:sp>
          <p:nvSpPr>
            <p:cNvPr id="626" name="AutoShape 24"/>
            <p:cNvSpPr/>
            <p:nvPr/>
          </p:nvSpPr>
          <p:spPr>
            <a:xfrm>
              <a:off x="1981080" y="4267080"/>
              <a:ext cx="1447920" cy="6858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Rectangle 25"/>
            <p:cNvSpPr/>
            <p:nvPr/>
          </p:nvSpPr>
          <p:spPr>
            <a:xfrm>
              <a:off x="1993680" y="43113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 data quality</a:t>
              </a:r>
              <a:endParaRPr b="1" lang="en-US" sz="1800" spc="-1" strike="noStrike">
                <a:solidFill>
                  <a:srgbClr val="000000"/>
                </a:solidFill>
                <a:latin typeface="Arial"/>
              </a:endParaRPr>
            </a:p>
          </p:txBody>
        </p:sp>
      </p:grpSp>
      <p:grpSp>
        <p:nvGrpSpPr>
          <p:cNvPr id="628" name="Group 179"/>
          <p:cNvGrpSpPr/>
          <p:nvPr/>
        </p:nvGrpSpPr>
        <p:grpSpPr>
          <a:xfrm>
            <a:off x="1981080" y="5105520"/>
            <a:ext cx="1447920" cy="914400"/>
            <a:chOff x="1981080" y="5105520"/>
            <a:chExt cx="1447920" cy="914400"/>
          </a:xfrm>
        </p:grpSpPr>
        <p:sp>
          <p:nvSpPr>
            <p:cNvPr id="629" name="AutoShape 24"/>
            <p:cNvSpPr/>
            <p:nvPr/>
          </p:nvSpPr>
          <p:spPr>
            <a:xfrm>
              <a:off x="1981080" y="510552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Rectangle 25"/>
            <p:cNvSpPr/>
            <p:nvPr/>
          </p:nvSpPr>
          <p:spPr>
            <a:xfrm>
              <a:off x="1993680" y="514980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mmarize &amp; baseline data</a:t>
              </a:r>
              <a:endParaRPr b="1" lang="en-US" sz="1800" spc="-1" strike="noStrike">
                <a:solidFill>
                  <a:srgbClr val="000000"/>
                </a:solidFill>
                <a:latin typeface="Arial"/>
              </a:endParaRPr>
            </a:p>
          </p:txBody>
        </p:sp>
      </p:grpSp>
      <p:grpSp>
        <p:nvGrpSpPr>
          <p:cNvPr id="631" name="Group 204"/>
          <p:cNvGrpSpPr/>
          <p:nvPr/>
        </p:nvGrpSpPr>
        <p:grpSpPr>
          <a:xfrm>
            <a:off x="3483000" y="920880"/>
            <a:ext cx="5791320" cy="2282760"/>
            <a:chOff x="3483000" y="920880"/>
            <a:chExt cx="5791320" cy="2282760"/>
          </a:xfrm>
        </p:grpSpPr>
        <p:sp>
          <p:nvSpPr>
            <p:cNvPr id="632" name="AutoShape 57"/>
            <p:cNvSpPr/>
            <p:nvPr/>
          </p:nvSpPr>
          <p:spPr>
            <a:xfrm>
              <a:off x="3483000" y="920880"/>
              <a:ext cx="5492880" cy="2016360"/>
            </a:xfrm>
            <a:prstGeom prst="wedgeRectCallout">
              <a:avLst>
                <a:gd name="adj1" fmla="val -53791"/>
                <a:gd name="adj2" fmla="val 3052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3" name="Text Box 58"/>
            <p:cNvSpPr/>
            <p:nvPr/>
          </p:nvSpPr>
          <p:spPr>
            <a:xfrm>
              <a:off x="3558960" y="920880"/>
              <a:ext cx="571536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outputs and performance measure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 is needed to understand relationships between inputs and outputs? Among inpu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nformation is needed to monitor the </a:t>
              </a:r>
              <a:br>
                <a:rPr sz="1800"/>
              </a:br>
              <a:r>
                <a:rPr b="0" lang="en-US" sz="1800" spc="-1" strike="noStrike">
                  <a:solidFill>
                    <a:srgbClr val="000000"/>
                  </a:solidFill>
                  <a:latin typeface="Arial"/>
                  <a:ea typeface="MS PGothic"/>
                </a:rPr>
                <a:t>progress of this improvement projec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34" name="Group 207"/>
          <p:cNvGrpSpPr/>
          <p:nvPr/>
        </p:nvGrpSpPr>
        <p:grpSpPr>
          <a:xfrm>
            <a:off x="3505320" y="3048120"/>
            <a:ext cx="5638680" cy="714240"/>
            <a:chOff x="3505320" y="3048120"/>
            <a:chExt cx="5638680" cy="714240"/>
          </a:xfrm>
        </p:grpSpPr>
        <p:sp>
          <p:nvSpPr>
            <p:cNvPr id="635" name="AutoShape 62"/>
            <p:cNvSpPr/>
            <p:nvPr/>
          </p:nvSpPr>
          <p:spPr>
            <a:xfrm>
              <a:off x="3505320" y="3048120"/>
              <a:ext cx="5486400" cy="714240"/>
            </a:xfrm>
            <a:prstGeom prst="wedgeRectCallout">
              <a:avLst>
                <a:gd name="adj1" fmla="val -53930"/>
                <a:gd name="adj2" fmla="val 2319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Text Box 63"/>
            <p:cNvSpPr/>
            <p:nvPr/>
          </p:nvSpPr>
          <p:spPr>
            <a:xfrm>
              <a:off x="3505320" y="3048120"/>
              <a:ext cx="5638680" cy="6368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needed measurement infrastructure in place?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data being collected and stored? </a:t>
              </a:r>
              <a:endParaRPr b="1" lang="en-US" sz="1800" spc="-1" strike="noStrike">
                <a:solidFill>
                  <a:srgbClr val="000000"/>
                </a:solidFill>
                <a:latin typeface="Arial"/>
              </a:endParaRPr>
            </a:p>
          </p:txBody>
        </p:sp>
      </p:grpSp>
      <p:grpSp>
        <p:nvGrpSpPr>
          <p:cNvPr id="637" name="Group 208"/>
          <p:cNvGrpSpPr/>
          <p:nvPr/>
        </p:nvGrpSpPr>
        <p:grpSpPr>
          <a:xfrm>
            <a:off x="3481560" y="3821040"/>
            <a:ext cx="5603760" cy="2939040"/>
            <a:chOff x="3481560" y="3821040"/>
            <a:chExt cx="5603760" cy="2939040"/>
          </a:xfrm>
        </p:grpSpPr>
        <p:sp>
          <p:nvSpPr>
            <p:cNvPr id="638" name="AutoShape 66"/>
            <p:cNvSpPr/>
            <p:nvPr/>
          </p:nvSpPr>
          <p:spPr>
            <a:xfrm>
              <a:off x="3481560" y="3821040"/>
              <a:ext cx="5518080" cy="2787840"/>
            </a:xfrm>
            <a:prstGeom prst="wedgeRectCallout">
              <a:avLst>
                <a:gd name="adj1" fmla="val -52745"/>
                <a:gd name="adj2" fmla="val 10393"/>
              </a:avLst>
            </a:prstGeom>
            <a:solidFill>
              <a:srgbClr val="ffffcc"/>
            </a:solidFill>
            <a:ln w="9360">
              <a:solidFill>
                <a:srgbClr val="39536b"/>
              </a:solidFill>
              <a:miter/>
            </a:ln>
          </p:spPr>
          <p:style>
            <a:lnRef idx="0"/>
            <a:fillRef idx="0"/>
            <a:effectRef idx="0"/>
            <a:fontRef idx="minor"/>
          </p:style>
          <p:txBody>
            <a:bodyPr anchor="t">
              <a:norm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
          <p:nvSpPr>
            <p:cNvPr id="639" name="Text Box 67"/>
            <p:cNvSpPr/>
            <p:nvPr/>
          </p:nvSpPr>
          <p:spPr>
            <a:xfrm>
              <a:off x="3598920" y="3928680"/>
              <a:ext cx="5486400" cy="28314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does the data look like upon initial assessment? Is it what we expec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overall performance of the proces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o we have measures for all significant factors, </a:t>
              </a:r>
              <a:br>
                <a:rPr sz="1800"/>
              </a:br>
              <a:r>
                <a:rPr b="0" lang="en-US" sz="1800" spc="-1" strike="noStrike">
                  <a:solidFill>
                    <a:srgbClr val="000000"/>
                  </a:solidFill>
                  <a:latin typeface="Arial"/>
                  <a:ea typeface="MS PGothic"/>
                </a:rPr>
                <a:t>as best we know them?</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there data to be added to the process map?</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re any urgently needed improvements reveal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ssumptions have been made about the process and data?</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40" name="Group 209"/>
          <p:cNvGrpSpPr/>
          <p:nvPr/>
        </p:nvGrpSpPr>
        <p:grpSpPr>
          <a:xfrm>
            <a:off x="96840" y="1447920"/>
            <a:ext cx="1841400" cy="5008320"/>
            <a:chOff x="96840" y="1447920"/>
            <a:chExt cx="1841400" cy="5008320"/>
          </a:xfrm>
        </p:grpSpPr>
        <p:sp>
          <p:nvSpPr>
            <p:cNvPr id="641" name="Line 10"/>
            <p:cNvSpPr/>
            <p:nvPr/>
          </p:nvSpPr>
          <p:spPr>
            <a:xfrm>
              <a:off x="1544760" y="160488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2" name="AutoShape 53"/>
            <p:cNvSpPr/>
            <p:nvPr/>
          </p:nvSpPr>
          <p:spPr>
            <a:xfrm>
              <a:off x="96840" y="1447920"/>
              <a:ext cx="1752840" cy="5008320"/>
            </a:xfrm>
            <a:prstGeom prst="wedgeRectCallout">
              <a:avLst>
                <a:gd name="adj1" fmla="val 60467"/>
                <a:gd name="adj2" fmla="val 7504"/>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measurement system yield accurate, precise, and reproducible data?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rgently needed improvements reveal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risk of proceeding in the absence of 100% valid data been articulated?</a:t>
              </a:r>
              <a:endParaRPr b="1" lang="en-US" sz="1800" spc="-1" strike="noStrike">
                <a:solidFill>
                  <a:srgbClr val="000000"/>
                </a:solidFill>
                <a:latin typeface="Arial"/>
              </a:endParaRPr>
            </a:p>
          </p:txBody>
        </p:sp>
      </p:gr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619"/>
                                        </p:tgtEl>
                                        <p:attrNameLst>
                                          <p:attrName>style.visibility</p:attrName>
                                        </p:attrNameLst>
                                      </p:cBhvr>
                                      <p:to>
                                        <p:strVal val="visible"/>
                                      </p:to>
                                    </p:set>
                                    <p:animEffect filter="wipe(down)" transition="in">
                                      <p:cBhvr additive="repl">
                                        <p:cTn id="77" dur="500"/>
                                        <p:tgtEl>
                                          <p:spTgt spid="61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31"/>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22"/>
                                        </p:tgtEl>
                                        <p:attrNameLst>
                                          <p:attrName>style.visibility</p:attrName>
                                        </p:attrNameLst>
                                      </p:cBhvr>
                                      <p:to>
                                        <p:strVal val="visible"/>
                                      </p:to>
                                    </p:set>
                                    <p:animEffect filter="wipe(down)" transition="in">
                                      <p:cBhvr additive="repl">
                                        <p:cTn id="86" dur="500"/>
                                        <p:tgtEl>
                                          <p:spTgt spid="62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625"/>
                                        </p:tgtEl>
                                        <p:attrNameLst>
                                          <p:attrName>style.visibility</p:attrName>
                                        </p:attrNameLst>
                                      </p:cBhvr>
                                      <p:to>
                                        <p:strVal val="visible"/>
                                      </p:to>
                                    </p:set>
                                    <p:animEffect filter="wipe(down)" transition="in">
                                      <p:cBhvr additive="repl">
                                        <p:cTn id="95" dur="500"/>
                                        <p:tgtEl>
                                          <p:spTgt spid="625"/>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640"/>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28"/>
                                        </p:tgtEl>
                                        <p:attrNameLst>
                                          <p:attrName>style.visibility</p:attrName>
                                        </p:attrNameLst>
                                      </p:cBhvr>
                                      <p:to>
                                        <p:strVal val="visible"/>
                                      </p:to>
                                    </p:set>
                                    <p:animEffect filter="wipe(down)" transition="in">
                                      <p:cBhvr additive="repl">
                                        <p:cTn id="104" dur="500"/>
                                        <p:tgtEl>
                                          <p:spTgt spid="62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533160"/>
            <a:ext cx="8153280" cy="4683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emarks and Service Marks</a:t>
            </a:r>
            <a:endParaRPr b="1" lang="en-US" sz="2800" spc="-1" strike="noStrike">
              <a:solidFill>
                <a:srgbClr val="000000"/>
              </a:solidFill>
              <a:latin typeface="Arial"/>
            </a:endParaRPr>
          </a:p>
        </p:txBody>
      </p:sp>
      <p:sp>
        <p:nvSpPr>
          <p:cNvPr id="109" name="PlaceHolder 2"/>
          <p:cNvSpPr>
            <a:spLocks noGrp="1"/>
          </p:cNvSpPr>
          <p:nvPr>
            <p:ph/>
          </p:nvPr>
        </p:nvSpPr>
        <p:spPr>
          <a:xfrm>
            <a:off x="533520" y="1295280"/>
            <a:ext cx="8153280" cy="4727520"/>
          </a:xfrm>
          <a:prstGeom prst="rect">
            <a:avLst/>
          </a:prstGeom>
          <a:noFill/>
          <a:ln w="0">
            <a:noFill/>
          </a:ln>
        </p:spPr>
        <p:txBody>
          <a:bodyPr lIns="0" rIns="0" tIns="0" bIns="0" anchor="t">
            <a:normAutofit/>
          </a:bodyPr>
          <a:p>
            <a:pPr indent="0">
              <a:lnSpc>
                <a:spcPct val="95000"/>
              </a:lnSpc>
              <a:spcAft>
                <a:spcPts val="561"/>
              </a:spcAft>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5000"/>
              </a:lnSpc>
              <a:spcAft>
                <a:spcPts val="561"/>
              </a:spcAft>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t>
            </a:r>
            <a:r>
              <a:rPr b="0" lang="en-US" sz="1800" spc="-1" strike="noStrike">
                <a:solidFill>
                  <a:srgbClr val="000000"/>
                </a:solidFill>
                <a:latin typeface="Arial"/>
              </a:rPr>
              <a:t>	</a:t>
            </a:r>
            <a:r>
              <a:rPr b="0" lang="en-US" sz="1800" spc="-1" strike="noStrike">
                <a:solidFill>
                  <a:srgbClr val="000000"/>
                </a:solidFill>
                <a:latin typeface="Arial"/>
              </a:rPr>
              <a:t>Team Software Process and TSP are service marks of Carnegie Mellon </a:t>
            </a:r>
            <a:r>
              <a:rPr b="0" lang="en-US" sz="1800" spc="-1" strike="noStrike">
                <a:solidFill>
                  <a:srgbClr val="000000"/>
                </a:solidFill>
                <a:latin typeface="Arial"/>
              </a:rPr>
              <a:t>	</a:t>
            </a:r>
            <a:r>
              <a:rPr b="0" lang="en-US" sz="1800" spc="-1" strike="noStrike">
                <a:solidFill>
                  <a:srgbClr val="000000"/>
                </a:solidFill>
                <a:latin typeface="Arial"/>
              </a:rPr>
              <a:t>University.</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yz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644"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646"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648"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9"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650"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1"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2"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653"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655"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6"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657"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8"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9"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60"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1" name="Rectangle 128"/>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662"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3"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664"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5"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666"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7"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668"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9"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670"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1"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672"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674"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5"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676"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7"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678"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9"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680"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1"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682" name="Rectangle 8"/>
          <p:cNvSpPr/>
          <p:nvPr/>
        </p:nvSpPr>
        <p:spPr>
          <a:xfrm>
            <a:off x="38098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3"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A</a:t>
            </a:r>
            <a:r>
              <a:rPr b="1" lang="en-US" sz="2000" spc="-1" strike="noStrike">
                <a:solidFill>
                  <a:srgbClr val="000000"/>
                </a:solidFill>
                <a:latin typeface="Arial"/>
              </a:rPr>
              <a:t>nalyze</a:t>
            </a:r>
            <a:endParaRPr b="1" lang="en-US" sz="2000" spc="-1" strike="noStrike">
              <a:solidFill>
                <a:srgbClr val="000000"/>
              </a:solidFill>
              <a:latin typeface="Arial"/>
            </a:endParaRPr>
          </a:p>
        </p:txBody>
      </p:sp>
      <p:grpSp>
        <p:nvGrpSpPr>
          <p:cNvPr id="684" name="Group 151"/>
          <p:cNvGrpSpPr/>
          <p:nvPr/>
        </p:nvGrpSpPr>
        <p:grpSpPr>
          <a:xfrm>
            <a:off x="3809880" y="2286000"/>
            <a:ext cx="1447920" cy="609480"/>
            <a:chOff x="3809880" y="2286000"/>
            <a:chExt cx="1447920" cy="609480"/>
          </a:xfrm>
        </p:grpSpPr>
        <p:sp>
          <p:nvSpPr>
            <p:cNvPr id="685" name="AutoShape 24"/>
            <p:cNvSpPr/>
            <p:nvPr/>
          </p:nvSpPr>
          <p:spPr>
            <a:xfrm>
              <a:off x="3809880" y="2286000"/>
              <a:ext cx="1447920" cy="60948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6" name="Rectangle 25"/>
            <p:cNvSpPr/>
            <p:nvPr/>
          </p:nvSpPr>
          <p:spPr>
            <a:xfrm>
              <a:off x="3822480" y="233028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plore data</a:t>
              </a:r>
              <a:endParaRPr b="1" lang="en-US" sz="1800" spc="-1" strike="noStrike">
                <a:solidFill>
                  <a:srgbClr val="000000"/>
                </a:solidFill>
                <a:latin typeface="Arial"/>
              </a:endParaRPr>
            </a:p>
          </p:txBody>
        </p:sp>
      </p:grpSp>
      <p:grpSp>
        <p:nvGrpSpPr>
          <p:cNvPr id="687" name="Group 154"/>
          <p:cNvGrpSpPr/>
          <p:nvPr/>
        </p:nvGrpSpPr>
        <p:grpSpPr>
          <a:xfrm>
            <a:off x="3809880" y="3124080"/>
            <a:ext cx="1524240" cy="914400"/>
            <a:chOff x="3809880" y="3124080"/>
            <a:chExt cx="1524240" cy="914400"/>
          </a:xfrm>
        </p:grpSpPr>
        <p:sp>
          <p:nvSpPr>
            <p:cNvPr id="688" name="AutoShape 24"/>
            <p:cNvSpPr/>
            <p:nvPr/>
          </p:nvSpPr>
          <p:spPr>
            <a:xfrm>
              <a:off x="3809880" y="3124080"/>
              <a:ext cx="144828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9" name="Rectangle 25"/>
            <p:cNvSpPr/>
            <p:nvPr/>
          </p:nvSpPr>
          <p:spPr>
            <a:xfrm>
              <a:off x="3822480" y="3168360"/>
              <a:ext cx="15116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aracterize process &amp; problem</a:t>
              </a:r>
              <a:endParaRPr b="1" lang="en-US" sz="1800" spc="-1" strike="noStrike">
                <a:solidFill>
                  <a:srgbClr val="000000"/>
                </a:solidFill>
                <a:latin typeface="Arial"/>
              </a:endParaRPr>
            </a:p>
          </p:txBody>
        </p:sp>
      </p:grpSp>
      <p:grpSp>
        <p:nvGrpSpPr>
          <p:cNvPr id="690" name="Group 157"/>
          <p:cNvGrpSpPr/>
          <p:nvPr/>
        </p:nvGrpSpPr>
        <p:grpSpPr>
          <a:xfrm>
            <a:off x="3809880" y="4191120"/>
            <a:ext cx="1600200" cy="1451160"/>
            <a:chOff x="3809880" y="4191120"/>
            <a:chExt cx="1600200" cy="1451160"/>
          </a:xfrm>
        </p:grpSpPr>
        <p:sp>
          <p:nvSpPr>
            <p:cNvPr id="691" name="AutoShape 24"/>
            <p:cNvSpPr/>
            <p:nvPr/>
          </p:nvSpPr>
          <p:spPr>
            <a:xfrm>
              <a:off x="3809880" y="4191120"/>
              <a:ext cx="1447920" cy="145116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2" name="Rectangle 25"/>
            <p:cNvSpPr/>
            <p:nvPr/>
          </p:nvSpPr>
          <p:spPr>
            <a:xfrm>
              <a:off x="3822480" y="4244760"/>
              <a:ext cx="158760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date improvement project </a:t>
              </a:r>
              <a:br>
                <a:rPr sz="1800"/>
              </a:br>
              <a:r>
                <a:rPr b="0" lang="en-US" sz="1800" spc="-1" strike="noStrike">
                  <a:solidFill>
                    <a:srgbClr val="000000"/>
                  </a:solidFill>
                  <a:latin typeface="Arial"/>
                </a:rPr>
                <a:t>scope &amp; </a:t>
              </a:r>
              <a:br>
                <a:rPr sz="1800"/>
              </a:br>
              <a:r>
                <a:rPr b="0" lang="en-US" sz="1800" spc="-1" strike="noStrike">
                  <a:solidFill>
                    <a:srgbClr val="000000"/>
                  </a:solidFill>
                  <a:latin typeface="Arial"/>
                </a:rPr>
                <a:t>scale</a:t>
              </a:r>
              <a:endParaRPr b="1" lang="en-US" sz="1800" spc="-1" strike="noStrike">
                <a:solidFill>
                  <a:srgbClr val="000000"/>
                </a:solidFill>
                <a:latin typeface="Arial"/>
              </a:endParaRPr>
            </a:p>
          </p:txBody>
        </p:sp>
      </p:grpSp>
      <p:grpSp>
        <p:nvGrpSpPr>
          <p:cNvPr id="693" name="Group 173"/>
          <p:cNvGrpSpPr/>
          <p:nvPr/>
        </p:nvGrpSpPr>
        <p:grpSpPr>
          <a:xfrm>
            <a:off x="5486400" y="685800"/>
            <a:ext cx="3438360" cy="1981080"/>
            <a:chOff x="5486400" y="685800"/>
            <a:chExt cx="3438360" cy="1981080"/>
          </a:xfrm>
        </p:grpSpPr>
        <p:sp>
          <p:nvSpPr>
            <p:cNvPr id="694" name="AutoShape 70"/>
            <p:cNvSpPr/>
            <p:nvPr/>
          </p:nvSpPr>
          <p:spPr>
            <a:xfrm>
              <a:off x="5486400" y="685800"/>
              <a:ext cx="3438360" cy="1981080"/>
            </a:xfrm>
            <a:prstGeom prst="wedgeRectCallout">
              <a:avLst>
                <a:gd name="adj1" fmla="val -58509"/>
                <a:gd name="adj2" fmla="val 3425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5" name="Text Box 69"/>
            <p:cNvSpPr/>
            <p:nvPr/>
          </p:nvSpPr>
          <p:spPr>
            <a:xfrm>
              <a:off x="5486400" y="761760"/>
              <a:ext cx="3352680" cy="18759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data look lik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riving the variation?</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new baseline? </a:t>
              </a:r>
              <a:endParaRPr b="1" lang="en-US" sz="1800" spc="-1" strike="noStrike">
                <a:solidFill>
                  <a:srgbClr val="000000"/>
                </a:solidFill>
                <a:latin typeface="Arial"/>
              </a:endParaRPr>
            </a:p>
            <a:p>
              <a:pPr marL="171360" indent="-171360">
                <a:lnSpc>
                  <a:spcPts val="18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associated risks and assumptions associated with revised data set and baseline?</a:t>
              </a:r>
              <a:endParaRPr b="1" lang="en-US" sz="1800" spc="-1" strike="noStrike">
                <a:solidFill>
                  <a:srgbClr val="000000"/>
                </a:solidFill>
                <a:latin typeface="Arial"/>
              </a:endParaRPr>
            </a:p>
          </p:txBody>
        </p:sp>
      </p:grpSp>
      <p:grpSp>
        <p:nvGrpSpPr>
          <p:cNvPr id="696" name="Group 180"/>
          <p:cNvGrpSpPr/>
          <p:nvPr/>
        </p:nvGrpSpPr>
        <p:grpSpPr>
          <a:xfrm>
            <a:off x="5486400" y="2743200"/>
            <a:ext cx="3429000" cy="3733920"/>
            <a:chOff x="5486400" y="2743200"/>
            <a:chExt cx="3429000" cy="3733920"/>
          </a:xfrm>
        </p:grpSpPr>
        <p:sp>
          <p:nvSpPr>
            <p:cNvPr id="697" name="AutoShape 79"/>
            <p:cNvSpPr/>
            <p:nvPr/>
          </p:nvSpPr>
          <p:spPr>
            <a:xfrm>
              <a:off x="5486400" y="2743200"/>
              <a:ext cx="3429000" cy="3733920"/>
            </a:xfrm>
            <a:prstGeom prst="wedgeRectCallout">
              <a:avLst>
                <a:gd name="adj1" fmla="val -58092"/>
                <a:gd name="adj2" fmla="val 10953"/>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8" name="Text Box 78"/>
            <p:cNvSpPr/>
            <p:nvPr/>
          </p:nvSpPr>
          <p:spPr>
            <a:xfrm>
              <a:off x="5486400" y="2743200"/>
              <a:ext cx="3429000" cy="365436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improvement goal be upda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dditional data exploration, data decomposition, and/or process decomposition needed? Is additional data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 take action? Are there evident improvements and corrections to make? </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I updated the project tracking and communication mechanisms?</a:t>
              </a:r>
              <a:endParaRPr b="1" lang="en-US" sz="1800" spc="-1" strike="noStrike">
                <a:solidFill>
                  <a:srgbClr val="000000"/>
                </a:solidFill>
                <a:latin typeface="Arial"/>
              </a:endParaRPr>
            </a:p>
          </p:txBody>
        </p:sp>
      </p:grpSp>
      <p:grpSp>
        <p:nvGrpSpPr>
          <p:cNvPr id="699" name="Group 179"/>
          <p:cNvGrpSpPr/>
          <p:nvPr/>
        </p:nvGrpSpPr>
        <p:grpSpPr>
          <a:xfrm>
            <a:off x="304920" y="1219320"/>
            <a:ext cx="3084480" cy="3200760"/>
            <a:chOff x="304920" y="1219320"/>
            <a:chExt cx="3084480" cy="3200760"/>
          </a:xfrm>
        </p:grpSpPr>
        <p:sp>
          <p:nvSpPr>
            <p:cNvPr id="700" name="AutoShape 67"/>
            <p:cNvSpPr/>
            <p:nvPr/>
          </p:nvSpPr>
          <p:spPr>
            <a:xfrm>
              <a:off x="304920" y="1219320"/>
              <a:ext cx="3084480" cy="3200760"/>
            </a:xfrm>
            <a:prstGeom prst="wedgeRectCallout">
              <a:avLst>
                <a:gd name="adj1" fmla="val 65837"/>
                <a:gd name="adj2" fmla="val 2618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Text Box 66"/>
            <p:cNvSpPr/>
            <p:nvPr/>
          </p:nvSpPr>
          <p:spPr>
            <a:xfrm>
              <a:off x="304920" y="1295280"/>
              <a:ext cx="3048120" cy="3105720"/>
            </a:xfrm>
            <a:prstGeom prst="rect">
              <a:avLst/>
            </a:prstGeom>
            <a:noFill/>
            <a:ln w="0">
              <a:noFill/>
            </a:ln>
          </p:spPr>
          <p:style>
            <a:lnRef idx="0"/>
            <a:fillRef idx="0"/>
            <a:effectRef idx="0"/>
            <a:fontRef idx="minor"/>
          </p:style>
          <p:txBody>
            <a:bodyPr lIns="86760" rIns="86760" tIns="43920" bIns="4392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hypotheses that need to be test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al factors are driving or limiting the capability of this proces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ocess map updates are needed?</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any immediate issues to address? Any urgent and obvious needs for problem containment?</a:t>
              </a:r>
              <a:endParaRPr b="1" lang="en-US" sz="1800" spc="-1" strike="noStrike">
                <a:solidFill>
                  <a:srgbClr val="000000"/>
                </a:solidFill>
                <a:latin typeface="Arial"/>
              </a:endParaRPr>
            </a:p>
          </p:txBody>
        </p:sp>
      </p:gr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684"/>
                                        </p:tgtEl>
                                        <p:attrNameLst>
                                          <p:attrName>style.visibility</p:attrName>
                                        </p:attrNameLst>
                                      </p:cBhvr>
                                      <p:to>
                                        <p:strVal val="visible"/>
                                      </p:to>
                                    </p:set>
                                    <p:animEffect filter="wipe(down)" transition="in">
                                      <p:cBhvr additive="repl">
                                        <p:cTn id="115" dur="500"/>
                                        <p:tgtEl>
                                          <p:spTgt spid="68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693"/>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687"/>
                                        </p:tgtEl>
                                        <p:attrNameLst>
                                          <p:attrName>style.visibility</p:attrName>
                                        </p:attrNameLst>
                                      </p:cBhvr>
                                      <p:to>
                                        <p:strVal val="visible"/>
                                      </p:to>
                                    </p:set>
                                    <p:animEffect filter="wipe(down)" transition="in">
                                      <p:cBhvr additive="repl">
                                        <p:cTn id="124" dur="500"/>
                                        <p:tgtEl>
                                          <p:spTgt spid="68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9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90"/>
                                        </p:tgtEl>
                                        <p:attrNameLst>
                                          <p:attrName>style.visibility</p:attrName>
                                        </p:attrNameLst>
                                      </p:cBhvr>
                                      <p:to>
                                        <p:strVal val="visible"/>
                                      </p:to>
                                    </p:set>
                                    <p:animEffect filter="wipe(down)" transition="in">
                                      <p:cBhvr additive="repl">
                                        <p:cTn id="133" dur="500"/>
                                        <p:tgtEl>
                                          <p:spTgt spid="690"/>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rove</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703"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4"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705"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6"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707" name="Rectangle 8"/>
          <p:cNvSpPr/>
          <p:nvPr/>
        </p:nvSpPr>
        <p:spPr>
          <a:xfrm>
            <a:off x="74674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8"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C</a:t>
            </a:r>
            <a:r>
              <a:rPr b="1" lang="en-US" sz="2000" spc="-1" strike="noStrike">
                <a:solidFill>
                  <a:srgbClr val="7f7f7f"/>
                </a:solidFill>
                <a:latin typeface="Arial"/>
              </a:rPr>
              <a:t>ontrol</a:t>
            </a:r>
            <a:endParaRPr b="1" lang="en-US" sz="2000" spc="-1" strike="noStrike">
              <a:solidFill>
                <a:srgbClr val="000000"/>
              </a:solidFill>
              <a:latin typeface="Arial"/>
            </a:endParaRPr>
          </a:p>
        </p:txBody>
      </p:sp>
      <p:sp>
        <p:nvSpPr>
          <p:cNvPr id="709"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0"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1"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712"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3"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714"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5"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716"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7"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8"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Rectangle 92"/>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720"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1"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722"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3"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724"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5"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726"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7"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728"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9"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730"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1"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732" name="AutoShape 24"/>
          <p:cNvSpPr/>
          <p:nvPr/>
        </p:nvSpPr>
        <p:spPr>
          <a:xfrm>
            <a:off x="74674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3" name="Rectangle 25"/>
          <p:cNvSpPr/>
          <p:nvPr/>
        </p:nvSpPr>
        <p:spPr>
          <a:xfrm>
            <a:off x="74804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control method</a:t>
            </a:r>
            <a:endParaRPr b="1" lang="en-US" sz="1800" spc="-1" strike="noStrike">
              <a:solidFill>
                <a:srgbClr val="000000"/>
              </a:solidFill>
              <a:latin typeface="Arial"/>
            </a:endParaRPr>
          </a:p>
        </p:txBody>
      </p:sp>
      <p:sp>
        <p:nvSpPr>
          <p:cNvPr id="734" name="AutoShape 24"/>
          <p:cNvSpPr/>
          <p:nvPr/>
        </p:nvSpPr>
        <p:spPr>
          <a:xfrm>
            <a:off x="7467480" y="3352680"/>
            <a:ext cx="1447920" cy="5335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5" name="Rectangle 25"/>
          <p:cNvSpPr/>
          <p:nvPr/>
        </p:nvSpPr>
        <p:spPr>
          <a:xfrm>
            <a:off x="7480440" y="33973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a:t>
            </a:r>
            <a:endParaRPr b="1" lang="en-US" sz="1800" spc="-1" strike="noStrike">
              <a:solidFill>
                <a:srgbClr val="000000"/>
              </a:solidFill>
              <a:latin typeface="Arial"/>
            </a:endParaRPr>
          </a:p>
        </p:txBody>
      </p:sp>
      <p:sp>
        <p:nvSpPr>
          <p:cNvPr id="736" name="AutoShape 24"/>
          <p:cNvSpPr/>
          <p:nvPr/>
        </p:nvSpPr>
        <p:spPr>
          <a:xfrm>
            <a:off x="7467480" y="403848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7" name="Rectangle 25"/>
          <p:cNvSpPr/>
          <p:nvPr/>
        </p:nvSpPr>
        <p:spPr>
          <a:xfrm>
            <a:off x="7480440" y="408312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ocument</a:t>
            </a:r>
            <a:endParaRPr b="1" lang="en-US" sz="1800" spc="-1" strike="noStrike">
              <a:solidFill>
                <a:srgbClr val="000000"/>
              </a:solidFill>
              <a:latin typeface="Arial"/>
            </a:endParaRPr>
          </a:p>
        </p:txBody>
      </p:sp>
      <p:sp>
        <p:nvSpPr>
          <p:cNvPr id="738" name="Rectangle 8"/>
          <p:cNvSpPr/>
          <p:nvPr/>
        </p:nvSpPr>
        <p:spPr>
          <a:xfrm>
            <a:off x="56386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9"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I</a:t>
            </a:r>
            <a:r>
              <a:rPr b="1" lang="en-US" sz="2000" spc="-1" strike="noStrike">
                <a:solidFill>
                  <a:srgbClr val="000000"/>
                </a:solidFill>
                <a:latin typeface="Arial"/>
              </a:rPr>
              <a:t>mprove</a:t>
            </a:r>
            <a:endParaRPr b="1" lang="en-US" sz="2000" spc="-1" strike="noStrike">
              <a:solidFill>
                <a:srgbClr val="000000"/>
              </a:solidFill>
              <a:latin typeface="Arial"/>
            </a:endParaRPr>
          </a:p>
        </p:txBody>
      </p:sp>
      <p:sp>
        <p:nvSpPr>
          <p:cNvPr id="740"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741" name="Group 114"/>
          <p:cNvGrpSpPr/>
          <p:nvPr/>
        </p:nvGrpSpPr>
        <p:grpSpPr>
          <a:xfrm>
            <a:off x="5638680" y="2286000"/>
            <a:ext cx="1447920" cy="914400"/>
            <a:chOff x="5638680" y="2286000"/>
            <a:chExt cx="1447920" cy="914400"/>
          </a:xfrm>
        </p:grpSpPr>
        <p:sp>
          <p:nvSpPr>
            <p:cNvPr id="742" name="AutoShape 24"/>
            <p:cNvSpPr/>
            <p:nvPr/>
          </p:nvSpPr>
          <p:spPr>
            <a:xfrm>
              <a:off x="56386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3" name="Rectangle 25"/>
            <p:cNvSpPr/>
            <p:nvPr/>
          </p:nvSpPr>
          <p:spPr>
            <a:xfrm>
              <a:off x="56512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entify possible solutions</a:t>
              </a:r>
              <a:endParaRPr b="1" lang="en-US" sz="1800" spc="-1" strike="noStrike">
                <a:solidFill>
                  <a:srgbClr val="000000"/>
                </a:solidFill>
                <a:latin typeface="Arial"/>
              </a:endParaRPr>
            </a:p>
          </p:txBody>
        </p:sp>
      </p:grpSp>
      <p:grpSp>
        <p:nvGrpSpPr>
          <p:cNvPr id="744" name="Group 117"/>
          <p:cNvGrpSpPr/>
          <p:nvPr/>
        </p:nvGrpSpPr>
        <p:grpSpPr>
          <a:xfrm>
            <a:off x="5638680" y="3352680"/>
            <a:ext cx="1447920" cy="762120"/>
            <a:chOff x="5638680" y="3352680"/>
            <a:chExt cx="1447920" cy="762120"/>
          </a:xfrm>
        </p:grpSpPr>
        <p:sp>
          <p:nvSpPr>
            <p:cNvPr id="745" name="AutoShape 24"/>
            <p:cNvSpPr/>
            <p:nvPr/>
          </p:nvSpPr>
          <p:spPr>
            <a:xfrm>
              <a:off x="5638680" y="3352680"/>
              <a:ext cx="1447920" cy="7621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Rectangle 25"/>
            <p:cNvSpPr/>
            <p:nvPr/>
          </p:nvSpPr>
          <p:spPr>
            <a:xfrm>
              <a:off x="5651280" y="3396960"/>
              <a:ext cx="137340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lect solution</a:t>
              </a:r>
              <a:endParaRPr b="1" lang="en-US" sz="1800" spc="-1" strike="noStrike">
                <a:solidFill>
                  <a:srgbClr val="000000"/>
                </a:solidFill>
                <a:latin typeface="Arial"/>
              </a:endParaRPr>
            </a:p>
          </p:txBody>
        </p:sp>
      </p:grpSp>
      <p:grpSp>
        <p:nvGrpSpPr>
          <p:cNvPr id="747" name="Group 120"/>
          <p:cNvGrpSpPr/>
          <p:nvPr/>
        </p:nvGrpSpPr>
        <p:grpSpPr>
          <a:xfrm>
            <a:off x="5638680" y="4267080"/>
            <a:ext cx="1447920" cy="914400"/>
            <a:chOff x="5638680" y="4267080"/>
            <a:chExt cx="1447920" cy="914400"/>
          </a:xfrm>
        </p:grpSpPr>
        <p:sp>
          <p:nvSpPr>
            <p:cNvPr id="748" name="AutoShape 24"/>
            <p:cNvSpPr/>
            <p:nvPr/>
          </p:nvSpPr>
          <p:spPr>
            <a:xfrm>
              <a:off x="5638680" y="426708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9" name="Rectangle 25"/>
            <p:cNvSpPr/>
            <p:nvPr/>
          </p:nvSpPr>
          <p:spPr>
            <a:xfrm>
              <a:off x="5651280" y="42670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 (pilot as needed)</a:t>
              </a:r>
              <a:endParaRPr b="1" lang="en-US" sz="1800" spc="-1" strike="noStrike">
                <a:solidFill>
                  <a:srgbClr val="000000"/>
                </a:solidFill>
                <a:latin typeface="Arial"/>
              </a:endParaRPr>
            </a:p>
          </p:txBody>
        </p:sp>
      </p:grpSp>
      <p:grpSp>
        <p:nvGrpSpPr>
          <p:cNvPr id="750" name="Group 123"/>
          <p:cNvGrpSpPr/>
          <p:nvPr/>
        </p:nvGrpSpPr>
        <p:grpSpPr>
          <a:xfrm>
            <a:off x="5638680" y="5257800"/>
            <a:ext cx="1447920" cy="457200"/>
            <a:chOff x="5638680" y="5257800"/>
            <a:chExt cx="1447920" cy="457200"/>
          </a:xfrm>
        </p:grpSpPr>
        <p:sp>
          <p:nvSpPr>
            <p:cNvPr id="751" name="AutoShape 24"/>
            <p:cNvSpPr/>
            <p:nvPr/>
          </p:nvSpPr>
          <p:spPr>
            <a:xfrm>
              <a:off x="5638680" y="525780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2" name="Rectangle 25"/>
            <p:cNvSpPr/>
            <p:nvPr/>
          </p:nvSpPr>
          <p:spPr>
            <a:xfrm>
              <a:off x="5651280" y="530208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aluate</a:t>
              </a:r>
              <a:endParaRPr b="1" lang="en-US" sz="1800" spc="-1" strike="noStrike">
                <a:solidFill>
                  <a:srgbClr val="000000"/>
                </a:solidFill>
                <a:latin typeface="Arial"/>
              </a:endParaRPr>
            </a:p>
          </p:txBody>
        </p:sp>
      </p:grpSp>
      <p:grpSp>
        <p:nvGrpSpPr>
          <p:cNvPr id="753" name="Group 131"/>
          <p:cNvGrpSpPr/>
          <p:nvPr/>
        </p:nvGrpSpPr>
        <p:grpSpPr>
          <a:xfrm>
            <a:off x="7010280" y="2133720"/>
            <a:ext cx="1981440" cy="4071600"/>
            <a:chOff x="7010280" y="2133720"/>
            <a:chExt cx="1981440" cy="4071600"/>
          </a:xfrm>
        </p:grpSpPr>
        <p:sp>
          <p:nvSpPr>
            <p:cNvPr id="754" name="AutoShape 74"/>
            <p:cNvSpPr/>
            <p:nvPr/>
          </p:nvSpPr>
          <p:spPr>
            <a:xfrm>
              <a:off x="7010280" y="2133720"/>
              <a:ext cx="1981440" cy="3741840"/>
            </a:xfrm>
            <a:prstGeom prst="wedgeRectCallout">
              <a:avLst>
                <a:gd name="adj1" fmla="val -62796"/>
                <a:gd name="adj2" fmla="val -10416"/>
              </a:avLst>
            </a:prstGeom>
            <a:solidFill>
              <a:srgbClr val="ffffcc"/>
            </a:solidFill>
            <a:ln w="9360">
              <a:solidFill>
                <a:srgbClr val="000000"/>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5" name="Text Box 75"/>
            <p:cNvSpPr/>
            <p:nvPr/>
          </p:nvSpPr>
          <p:spPr>
            <a:xfrm>
              <a:off x="7010280" y="2133720"/>
              <a:ext cx="1943640" cy="40716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relative impacts and benefit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relevant technical and logistical factors?</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potential risks, issues, and unintended consequences?</a:t>
              </a:r>
              <a:endParaRPr b="1" lang="en-US" sz="1800" spc="-1" strike="noStrike">
                <a:solidFill>
                  <a:srgbClr val="000000"/>
                </a:solidFill>
                <a:latin typeface="Arial"/>
              </a:endParaRPr>
            </a:p>
            <a:p>
              <a:pPr marL="114480" indent="-114480">
                <a:lnSpc>
                  <a:spcPct val="100000"/>
                </a:lnSpc>
                <a:spcBef>
                  <a:spcPts val="1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56" name="Group 138"/>
          <p:cNvGrpSpPr/>
          <p:nvPr/>
        </p:nvGrpSpPr>
        <p:grpSpPr>
          <a:xfrm>
            <a:off x="228600" y="990720"/>
            <a:ext cx="5257800" cy="2282760"/>
            <a:chOff x="228600" y="990720"/>
            <a:chExt cx="5257800" cy="2282760"/>
          </a:xfrm>
        </p:grpSpPr>
        <p:sp>
          <p:nvSpPr>
            <p:cNvPr id="757" name="AutoShape 65"/>
            <p:cNvSpPr/>
            <p:nvPr/>
          </p:nvSpPr>
          <p:spPr>
            <a:xfrm>
              <a:off x="228600" y="990720"/>
              <a:ext cx="5105520" cy="1981440"/>
            </a:xfrm>
            <a:prstGeom prst="wedgeRectCallout">
              <a:avLst>
                <a:gd name="adj1" fmla="val 56916"/>
                <a:gd name="adj2" fmla="val 30319"/>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8" name="Text Box 66"/>
            <p:cNvSpPr/>
            <p:nvPr/>
          </p:nvSpPr>
          <p:spPr>
            <a:xfrm>
              <a:off x="228600" y="990720"/>
              <a:ext cx="5257800" cy="228276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type of improvement is need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solution alternatives to address urgent issues and root causes of identified problems?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are the process factors to be adjusted?</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viability of each potential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projected impact or effect of each viable solution?</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59" name="Group 139"/>
          <p:cNvGrpSpPr/>
          <p:nvPr/>
        </p:nvGrpSpPr>
        <p:grpSpPr>
          <a:xfrm>
            <a:off x="228600" y="3124080"/>
            <a:ext cx="5105520" cy="1459800"/>
            <a:chOff x="228600" y="3124080"/>
            <a:chExt cx="5105520" cy="1459800"/>
          </a:xfrm>
        </p:grpSpPr>
        <p:sp>
          <p:nvSpPr>
            <p:cNvPr id="760" name="AutoShape 68"/>
            <p:cNvSpPr/>
            <p:nvPr/>
          </p:nvSpPr>
          <p:spPr>
            <a:xfrm>
              <a:off x="228600" y="3124080"/>
              <a:ext cx="5105520" cy="1219320"/>
            </a:xfrm>
            <a:prstGeom prst="wedgeRectCallout">
              <a:avLst>
                <a:gd name="adj1" fmla="val 55087"/>
                <a:gd name="adj2" fmla="val 62615"/>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1" name="Text Box 69"/>
            <p:cNvSpPr/>
            <p:nvPr/>
          </p:nvSpPr>
          <p:spPr>
            <a:xfrm>
              <a:off x="228600" y="3124080"/>
              <a:ext cx="5105520" cy="1459800"/>
            </a:xfrm>
            <a:prstGeom prst="rect">
              <a:avLst/>
            </a:prstGeom>
            <a:noFill/>
            <a:ln w="0">
              <a:noFill/>
            </a:ln>
          </p:spPr>
          <p:style>
            <a:lnRef idx="0"/>
            <a:fillRef idx="0"/>
            <a:effectRef idx="0"/>
            <a:fontRef idx="minor"/>
          </p:style>
          <p:txBody>
            <a:bodyPr lIns="86760" rIns="86760" tIns="43920" bIns="43920" anchor="t">
              <a:spAutoFit/>
            </a:bodyPr>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is the action plan with roles, responsibilities, timeline and estimated benefit?</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s piloting needed prior to widespread implementation? </a:t>
              </a:r>
              <a:endParaRPr b="1" lang="en-US" sz="1800" spc="-1" strike="noStrike">
                <a:solidFill>
                  <a:srgbClr val="000000"/>
                </a:solidFill>
                <a:latin typeface="Arial"/>
              </a:endParaRPr>
            </a:p>
            <a:p>
              <a:pPr marL="114480" indent="-1144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62" name="Group 140"/>
          <p:cNvGrpSpPr/>
          <p:nvPr/>
        </p:nvGrpSpPr>
        <p:grpSpPr>
          <a:xfrm>
            <a:off x="216000" y="4560840"/>
            <a:ext cx="5105160" cy="2050920"/>
            <a:chOff x="216000" y="4560840"/>
            <a:chExt cx="5105160" cy="2050920"/>
          </a:xfrm>
        </p:grpSpPr>
        <p:sp>
          <p:nvSpPr>
            <p:cNvPr id="763" name="AutoShape 71"/>
            <p:cNvSpPr/>
            <p:nvPr/>
          </p:nvSpPr>
          <p:spPr>
            <a:xfrm>
              <a:off x="228600" y="4571640"/>
              <a:ext cx="5092560" cy="2040120"/>
            </a:xfrm>
            <a:prstGeom prst="wedgeRectCallout">
              <a:avLst>
                <a:gd name="adj1" fmla="val 54805"/>
                <a:gd name="adj2" fmla="val 486"/>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algn="ctr">
                <a:lnSpc>
                  <a:spcPct val="89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4" name="Text Box 72"/>
            <p:cNvSpPr/>
            <p:nvPr/>
          </p:nvSpPr>
          <p:spPr>
            <a:xfrm>
              <a:off x="216000" y="4560840"/>
              <a:ext cx="5014800" cy="2008440"/>
            </a:xfrm>
            <a:prstGeom prst="rect">
              <a:avLst/>
            </a:prstGeom>
            <a:noFill/>
            <a:ln w="0">
              <a:noFill/>
            </a:ln>
          </p:spPr>
          <p:style>
            <a:lnRef idx="0"/>
            <a:fillRef idx="0"/>
            <a:effectRef idx="0"/>
            <a:fontRef idx="minor"/>
          </p:style>
          <p:txBody>
            <a:bodyPr lIns="86760" rIns="86760" tIns="43920" bIns="4392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d the solution yield the desired impact?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the goal been achieved?</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iloted, are adjustments needed to the solution prior to widespread rollout? Is additional piloting needed? </a:t>
              </a:r>
              <a:endParaRPr b="1"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baselines, dashboards, and other analyses change?</a:t>
              </a:r>
              <a:endParaRPr b="1" lang="en-US" sz="1800" spc="-1" strike="noStrike">
                <a:solidFill>
                  <a:srgbClr val="000000"/>
                </a:solidFill>
                <a:latin typeface="Arial"/>
              </a:endParaRPr>
            </a:p>
          </p:txBody>
        </p:sp>
      </p:gr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741"/>
                                        </p:tgtEl>
                                        <p:attrNameLst>
                                          <p:attrName>style.visibility</p:attrName>
                                        </p:attrNameLst>
                                      </p:cBhvr>
                                      <p:to>
                                        <p:strVal val="visible"/>
                                      </p:to>
                                    </p:set>
                                    <p:animEffect filter="wipe(down)" transition="in">
                                      <p:cBhvr additive="repl">
                                        <p:cTn id="144" dur="500"/>
                                        <p:tgtEl>
                                          <p:spTgt spid="74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56"/>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744"/>
                                        </p:tgtEl>
                                        <p:attrNameLst>
                                          <p:attrName>style.visibility</p:attrName>
                                        </p:attrNameLst>
                                      </p:cBhvr>
                                      <p:to>
                                        <p:strVal val="visible"/>
                                      </p:to>
                                    </p:set>
                                    <p:animEffect filter="wipe(down)" transition="in">
                                      <p:cBhvr additive="repl">
                                        <p:cTn id="153" dur="500"/>
                                        <p:tgtEl>
                                          <p:spTgt spid="74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753"/>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747"/>
                                        </p:tgtEl>
                                        <p:attrNameLst>
                                          <p:attrName>style.visibility</p:attrName>
                                        </p:attrNameLst>
                                      </p:cBhvr>
                                      <p:to>
                                        <p:strVal val="visible"/>
                                      </p:to>
                                    </p:set>
                                    <p:animEffect filter="wipe(down)" transition="in">
                                      <p:cBhvr additive="repl">
                                        <p:cTn id="162" dur="500"/>
                                        <p:tgtEl>
                                          <p:spTgt spid="7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59"/>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750"/>
                                        </p:tgtEl>
                                        <p:attrNameLst>
                                          <p:attrName>style.visibility</p:attrName>
                                        </p:attrNameLst>
                                      </p:cBhvr>
                                      <p:to>
                                        <p:strVal val="visible"/>
                                      </p:to>
                                    </p:set>
                                    <p:animEffect filter="wipe(down)" transition="in">
                                      <p:cBhvr additive="repl">
                                        <p:cTn id="171" dur="500"/>
                                        <p:tgtEl>
                                          <p:spTgt spid="75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trol</a:t>
            </a:r>
            <a:r>
              <a:rPr b="1" lang="en-US" sz="2800" spc="-1" strike="noStrike">
                <a:solidFill>
                  <a:srgbClr val="000000"/>
                </a:solidFill>
                <a:latin typeface="Arial"/>
              </a:rPr>
              <a:t> Guidance Questions</a:t>
            </a:r>
            <a:endParaRPr b="1" lang="en-US" sz="2800" spc="-1" strike="noStrike">
              <a:solidFill>
                <a:srgbClr val="000000"/>
              </a:solidFill>
              <a:latin typeface="Arial"/>
            </a:endParaRPr>
          </a:p>
        </p:txBody>
      </p:sp>
      <p:sp>
        <p:nvSpPr>
          <p:cNvPr id="766" name="AutoShape 24"/>
          <p:cNvSpPr/>
          <p:nvPr/>
        </p:nvSpPr>
        <p:spPr>
          <a:xfrm>
            <a:off x="1522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Rectangle 25"/>
          <p:cNvSpPr/>
          <p:nvPr/>
        </p:nvSpPr>
        <p:spPr>
          <a:xfrm>
            <a:off x="1652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Define project scope</a:t>
            </a:r>
            <a:endParaRPr b="1" lang="en-US" sz="1800" spc="-1" strike="noStrike">
              <a:solidFill>
                <a:srgbClr val="000000"/>
              </a:solidFill>
              <a:latin typeface="Arial"/>
            </a:endParaRPr>
          </a:p>
        </p:txBody>
      </p:sp>
      <p:sp>
        <p:nvSpPr>
          <p:cNvPr id="768" name="AutoShape 27"/>
          <p:cNvSpPr/>
          <p:nvPr/>
        </p:nvSpPr>
        <p:spPr>
          <a:xfrm>
            <a:off x="152280" y="3352680"/>
            <a:ext cx="1440000" cy="106704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Rectangle 28"/>
          <p:cNvSpPr/>
          <p:nvPr/>
        </p:nvSpPr>
        <p:spPr>
          <a:xfrm>
            <a:off x="181080" y="3429000"/>
            <a:ext cx="1724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stablish formal </a:t>
            </a:r>
            <a:br>
              <a:rPr sz="1800"/>
            </a:br>
            <a:r>
              <a:rPr b="0" lang="en-US" sz="1800" spc="-1" strike="noStrike">
                <a:solidFill>
                  <a:srgbClr val="7f7f7f"/>
                </a:solidFill>
                <a:latin typeface="Arial"/>
              </a:rPr>
              <a:t>project</a:t>
            </a:r>
            <a:endParaRPr b="1" lang="en-US" sz="1800" spc="-1" strike="noStrike">
              <a:solidFill>
                <a:srgbClr val="000000"/>
              </a:solidFill>
              <a:latin typeface="Arial"/>
            </a:endParaRPr>
          </a:p>
        </p:txBody>
      </p:sp>
      <p:sp>
        <p:nvSpPr>
          <p:cNvPr id="770" name="Line 10"/>
          <p:cNvSpPr/>
          <p:nvPr/>
        </p:nvSpPr>
        <p:spPr>
          <a:xfrm>
            <a:off x="16002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1" name="Rectangle 8"/>
          <p:cNvSpPr/>
          <p:nvPr/>
        </p:nvSpPr>
        <p:spPr>
          <a:xfrm>
            <a:off x="56386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2" name="Rectangle 9"/>
          <p:cNvSpPr/>
          <p:nvPr/>
        </p:nvSpPr>
        <p:spPr>
          <a:xfrm>
            <a:off x="56386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I</a:t>
            </a:r>
            <a:r>
              <a:rPr b="1" lang="en-US" sz="2000" spc="-1" strike="noStrike">
                <a:solidFill>
                  <a:srgbClr val="7f7f7f"/>
                </a:solidFill>
                <a:latin typeface="Arial"/>
              </a:rPr>
              <a:t>mprove</a:t>
            </a:r>
            <a:endParaRPr b="1" lang="en-US" sz="2000" spc="-1" strike="noStrike">
              <a:solidFill>
                <a:srgbClr val="000000"/>
              </a:solidFill>
              <a:latin typeface="Arial"/>
            </a:endParaRPr>
          </a:p>
        </p:txBody>
      </p:sp>
      <p:sp>
        <p:nvSpPr>
          <p:cNvPr id="773" name="Rectangle 8"/>
          <p:cNvSpPr/>
          <p:nvPr/>
        </p:nvSpPr>
        <p:spPr>
          <a:xfrm>
            <a:off x="38098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4" name="Rectangle 9"/>
          <p:cNvSpPr/>
          <p:nvPr/>
        </p:nvSpPr>
        <p:spPr>
          <a:xfrm>
            <a:off x="38098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A</a:t>
            </a:r>
            <a:r>
              <a:rPr b="1" lang="en-US" sz="2000" spc="-1" strike="noStrike">
                <a:solidFill>
                  <a:srgbClr val="7f7f7f"/>
                </a:solidFill>
                <a:latin typeface="Arial"/>
              </a:rPr>
              <a:t>nalyze</a:t>
            </a:r>
            <a:endParaRPr b="1" lang="en-US" sz="2000" spc="-1" strike="noStrike">
              <a:solidFill>
                <a:srgbClr val="000000"/>
              </a:solidFill>
              <a:latin typeface="Arial"/>
            </a:endParaRPr>
          </a:p>
        </p:txBody>
      </p:sp>
      <p:sp>
        <p:nvSpPr>
          <p:cNvPr id="775" name="Rectangle 8"/>
          <p:cNvSpPr/>
          <p:nvPr/>
        </p:nvSpPr>
        <p:spPr>
          <a:xfrm>
            <a:off x="1981080" y="1371600"/>
            <a:ext cx="1447920" cy="801720"/>
          </a:xfrm>
          <a:prstGeom prst="rect">
            <a:avLst/>
          </a:prstGeom>
          <a:solidFill>
            <a:srgbClr val="e6e6e6"/>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6" name="Rectangle 9"/>
          <p:cNvSpPr/>
          <p:nvPr/>
        </p:nvSpPr>
        <p:spPr>
          <a:xfrm>
            <a:off x="19810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M</a:t>
            </a:r>
            <a:r>
              <a:rPr b="1" lang="en-US" sz="2000" spc="-1" strike="noStrike">
                <a:solidFill>
                  <a:srgbClr val="7f7f7f"/>
                </a:solidFill>
                <a:latin typeface="Arial"/>
              </a:rPr>
              <a:t>easure</a:t>
            </a:r>
            <a:endParaRPr b="1" lang="en-US" sz="2000" spc="-1" strike="noStrike">
              <a:solidFill>
                <a:srgbClr val="000000"/>
              </a:solidFill>
              <a:latin typeface="Arial"/>
            </a:endParaRPr>
          </a:p>
        </p:txBody>
      </p:sp>
      <p:sp>
        <p:nvSpPr>
          <p:cNvPr id="777" name="Rectangle 8"/>
          <p:cNvSpPr/>
          <p:nvPr/>
        </p:nvSpPr>
        <p:spPr>
          <a:xfrm>
            <a:off x="152280" y="1371600"/>
            <a:ext cx="1447920" cy="801720"/>
          </a:xfrm>
          <a:prstGeom prst="rect">
            <a:avLst/>
          </a:prstGeom>
          <a:solidFill>
            <a:srgbClr val="d9d9d9"/>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8" name="Rectangle 9"/>
          <p:cNvSpPr/>
          <p:nvPr/>
        </p:nvSpPr>
        <p:spPr>
          <a:xfrm>
            <a:off x="15228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7f7f7f"/>
                </a:solidFill>
                <a:uFillTx/>
                <a:latin typeface="Arial"/>
              </a:rPr>
              <a:t>D</a:t>
            </a:r>
            <a:r>
              <a:rPr b="1" lang="en-US" sz="2000" spc="-1" strike="noStrike">
                <a:solidFill>
                  <a:srgbClr val="7f7f7f"/>
                </a:solidFill>
                <a:latin typeface="Arial"/>
              </a:rPr>
              <a:t>efine</a:t>
            </a:r>
            <a:endParaRPr b="1" lang="en-US" sz="2000" spc="-1" strike="noStrike">
              <a:solidFill>
                <a:srgbClr val="000000"/>
              </a:solidFill>
              <a:latin typeface="Arial"/>
            </a:endParaRPr>
          </a:p>
        </p:txBody>
      </p:sp>
      <p:sp>
        <p:nvSpPr>
          <p:cNvPr id="779" name="Line 10"/>
          <p:cNvSpPr/>
          <p:nvPr/>
        </p:nvSpPr>
        <p:spPr>
          <a:xfrm>
            <a:off x="34290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0" name="Line 10"/>
          <p:cNvSpPr/>
          <p:nvPr/>
        </p:nvSpPr>
        <p:spPr>
          <a:xfrm>
            <a:off x="5257800" y="1828800"/>
            <a:ext cx="39384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1" name="Line 10"/>
          <p:cNvSpPr/>
          <p:nvPr/>
        </p:nvSpPr>
        <p:spPr>
          <a:xfrm>
            <a:off x="7074000" y="1828800"/>
            <a:ext cx="393480" cy="0"/>
          </a:xfrm>
          <a:prstGeom prst="line">
            <a:avLst/>
          </a:prstGeom>
          <a:ln w="9360">
            <a:solidFill>
              <a:srgbClr val="39536b"/>
            </a:solidFill>
            <a:miter/>
            <a:tailEnd len="lg" type="stealth" w="lg"/>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2" name="AutoShape 24"/>
          <p:cNvSpPr/>
          <p:nvPr/>
        </p:nvSpPr>
        <p:spPr>
          <a:xfrm>
            <a:off x="19810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3" name="Rectangle 85"/>
          <p:cNvSpPr/>
          <p:nvPr/>
        </p:nvSpPr>
        <p:spPr>
          <a:xfrm>
            <a:off x="19940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needed data</a:t>
            </a:r>
            <a:endParaRPr b="1" lang="en-US" sz="1800" spc="-1" strike="noStrike">
              <a:solidFill>
                <a:srgbClr val="000000"/>
              </a:solidFill>
              <a:latin typeface="Arial"/>
            </a:endParaRPr>
          </a:p>
        </p:txBody>
      </p:sp>
      <p:sp>
        <p:nvSpPr>
          <p:cNvPr id="784" name="AutoShape 24"/>
          <p:cNvSpPr/>
          <p:nvPr/>
        </p:nvSpPr>
        <p:spPr>
          <a:xfrm>
            <a:off x="1981080" y="33526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5" name="Rectangle 25"/>
          <p:cNvSpPr/>
          <p:nvPr/>
        </p:nvSpPr>
        <p:spPr>
          <a:xfrm>
            <a:off x="19940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Obtain </a:t>
            </a:r>
            <a:br>
              <a:rPr sz="1800"/>
            </a:br>
            <a:r>
              <a:rPr b="0" lang="en-US" sz="1800" spc="-1" strike="noStrike">
                <a:solidFill>
                  <a:srgbClr val="7f7f7f"/>
                </a:solidFill>
                <a:latin typeface="Arial"/>
              </a:rPr>
              <a:t>data set</a:t>
            </a:r>
            <a:endParaRPr b="1" lang="en-US" sz="1800" spc="-1" strike="noStrike">
              <a:solidFill>
                <a:srgbClr val="000000"/>
              </a:solidFill>
              <a:latin typeface="Arial"/>
            </a:endParaRPr>
          </a:p>
        </p:txBody>
      </p:sp>
      <p:sp>
        <p:nvSpPr>
          <p:cNvPr id="786" name="AutoShape 24"/>
          <p:cNvSpPr/>
          <p:nvPr/>
        </p:nvSpPr>
        <p:spPr>
          <a:xfrm>
            <a:off x="1981080" y="4267080"/>
            <a:ext cx="1447920" cy="685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7" name="Rectangle 25"/>
          <p:cNvSpPr/>
          <p:nvPr/>
        </p:nvSpPr>
        <p:spPr>
          <a:xfrm>
            <a:off x="1994040" y="43117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 data quality</a:t>
            </a:r>
            <a:endParaRPr b="1" lang="en-US" sz="1800" spc="-1" strike="noStrike">
              <a:solidFill>
                <a:srgbClr val="000000"/>
              </a:solidFill>
              <a:latin typeface="Arial"/>
            </a:endParaRPr>
          </a:p>
        </p:txBody>
      </p:sp>
      <p:sp>
        <p:nvSpPr>
          <p:cNvPr id="788" name="AutoShape 24"/>
          <p:cNvSpPr/>
          <p:nvPr/>
        </p:nvSpPr>
        <p:spPr>
          <a:xfrm>
            <a:off x="1981080" y="510552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9" name="Rectangle 25"/>
          <p:cNvSpPr/>
          <p:nvPr/>
        </p:nvSpPr>
        <p:spPr>
          <a:xfrm>
            <a:off x="1994040" y="514980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ummarize &amp; baseline data</a:t>
            </a:r>
            <a:endParaRPr b="1" lang="en-US" sz="1800" spc="-1" strike="noStrike">
              <a:solidFill>
                <a:srgbClr val="000000"/>
              </a:solidFill>
              <a:latin typeface="Arial"/>
            </a:endParaRPr>
          </a:p>
        </p:txBody>
      </p:sp>
      <p:sp>
        <p:nvSpPr>
          <p:cNvPr id="790" name="AutoShape 24"/>
          <p:cNvSpPr/>
          <p:nvPr/>
        </p:nvSpPr>
        <p:spPr>
          <a:xfrm>
            <a:off x="3809880" y="2286000"/>
            <a:ext cx="1447920" cy="60948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1" name="Rectangle 25"/>
          <p:cNvSpPr/>
          <p:nvPr/>
        </p:nvSpPr>
        <p:spPr>
          <a:xfrm>
            <a:off x="3822840" y="233028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xplore data</a:t>
            </a:r>
            <a:endParaRPr b="1" lang="en-US" sz="1800" spc="-1" strike="noStrike">
              <a:solidFill>
                <a:srgbClr val="000000"/>
              </a:solidFill>
              <a:latin typeface="Arial"/>
            </a:endParaRPr>
          </a:p>
        </p:txBody>
      </p:sp>
      <p:sp>
        <p:nvSpPr>
          <p:cNvPr id="792" name="AutoShape 24"/>
          <p:cNvSpPr/>
          <p:nvPr/>
        </p:nvSpPr>
        <p:spPr>
          <a:xfrm>
            <a:off x="3809880" y="3124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3" name="Rectangle 25"/>
          <p:cNvSpPr/>
          <p:nvPr/>
        </p:nvSpPr>
        <p:spPr>
          <a:xfrm>
            <a:off x="3822840" y="3168720"/>
            <a:ext cx="151128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Characterize process &amp; problem</a:t>
            </a:r>
            <a:endParaRPr b="1" lang="en-US" sz="1800" spc="-1" strike="noStrike">
              <a:solidFill>
                <a:srgbClr val="000000"/>
              </a:solidFill>
              <a:latin typeface="Arial"/>
            </a:endParaRPr>
          </a:p>
        </p:txBody>
      </p:sp>
      <p:sp>
        <p:nvSpPr>
          <p:cNvPr id="794" name="AutoShape 24"/>
          <p:cNvSpPr/>
          <p:nvPr/>
        </p:nvSpPr>
        <p:spPr>
          <a:xfrm>
            <a:off x="3809880" y="4191120"/>
            <a:ext cx="1447920" cy="14508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5" name="Rectangle 25"/>
          <p:cNvSpPr/>
          <p:nvPr/>
        </p:nvSpPr>
        <p:spPr>
          <a:xfrm>
            <a:off x="3822840" y="4245120"/>
            <a:ext cx="1587240" cy="12254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Update improvement project </a:t>
            </a:r>
            <a:br>
              <a:rPr sz="1800"/>
            </a:br>
            <a:r>
              <a:rPr b="0" lang="en-US" sz="1800" spc="-1" strike="noStrike">
                <a:solidFill>
                  <a:srgbClr val="7f7f7f"/>
                </a:solidFill>
                <a:latin typeface="Arial"/>
              </a:rPr>
              <a:t>scope &amp; </a:t>
            </a:r>
            <a:br>
              <a:rPr sz="1800"/>
            </a:br>
            <a:r>
              <a:rPr b="0" lang="en-US" sz="1800" spc="-1" strike="noStrike">
                <a:solidFill>
                  <a:srgbClr val="7f7f7f"/>
                </a:solidFill>
                <a:latin typeface="Arial"/>
              </a:rPr>
              <a:t>scale</a:t>
            </a:r>
            <a:endParaRPr b="1" lang="en-US" sz="1800" spc="-1" strike="noStrike">
              <a:solidFill>
                <a:srgbClr val="000000"/>
              </a:solidFill>
              <a:latin typeface="Arial"/>
            </a:endParaRPr>
          </a:p>
        </p:txBody>
      </p:sp>
      <p:sp>
        <p:nvSpPr>
          <p:cNvPr id="796" name="AutoShape 24"/>
          <p:cNvSpPr/>
          <p:nvPr/>
        </p:nvSpPr>
        <p:spPr>
          <a:xfrm>
            <a:off x="5638680" y="228600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7" name="Rectangle 25"/>
          <p:cNvSpPr/>
          <p:nvPr/>
        </p:nvSpPr>
        <p:spPr>
          <a:xfrm>
            <a:off x="5651640" y="23302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dentify possible solutions</a:t>
            </a:r>
            <a:endParaRPr b="1" lang="en-US" sz="1800" spc="-1" strike="noStrike">
              <a:solidFill>
                <a:srgbClr val="000000"/>
              </a:solidFill>
              <a:latin typeface="Arial"/>
            </a:endParaRPr>
          </a:p>
        </p:txBody>
      </p:sp>
      <p:sp>
        <p:nvSpPr>
          <p:cNvPr id="798" name="AutoShape 24"/>
          <p:cNvSpPr/>
          <p:nvPr/>
        </p:nvSpPr>
        <p:spPr>
          <a:xfrm>
            <a:off x="5638680" y="3352680"/>
            <a:ext cx="1447920" cy="76212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9" name="Rectangle 25"/>
          <p:cNvSpPr/>
          <p:nvPr/>
        </p:nvSpPr>
        <p:spPr>
          <a:xfrm>
            <a:off x="5651640" y="3397320"/>
            <a:ext cx="1373040" cy="5396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Select solution</a:t>
            </a:r>
            <a:endParaRPr b="1" lang="en-US" sz="1800" spc="-1" strike="noStrike">
              <a:solidFill>
                <a:srgbClr val="000000"/>
              </a:solidFill>
              <a:latin typeface="Arial"/>
            </a:endParaRPr>
          </a:p>
        </p:txBody>
      </p:sp>
      <p:sp>
        <p:nvSpPr>
          <p:cNvPr id="800" name="AutoShape 24"/>
          <p:cNvSpPr/>
          <p:nvPr/>
        </p:nvSpPr>
        <p:spPr>
          <a:xfrm>
            <a:off x="5638680" y="4267080"/>
            <a:ext cx="1447920" cy="9144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1" name="Rectangle 25"/>
          <p:cNvSpPr/>
          <p:nvPr/>
        </p:nvSpPr>
        <p:spPr>
          <a:xfrm>
            <a:off x="5651640" y="4267080"/>
            <a:ext cx="137304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Implement (pilot as needed)</a:t>
            </a:r>
            <a:endParaRPr b="1" lang="en-US" sz="1800" spc="-1" strike="noStrike">
              <a:solidFill>
                <a:srgbClr val="000000"/>
              </a:solidFill>
              <a:latin typeface="Arial"/>
            </a:endParaRPr>
          </a:p>
        </p:txBody>
      </p:sp>
      <p:sp>
        <p:nvSpPr>
          <p:cNvPr id="802" name="AutoShape 24"/>
          <p:cNvSpPr/>
          <p:nvPr/>
        </p:nvSpPr>
        <p:spPr>
          <a:xfrm>
            <a:off x="5638680" y="5257800"/>
            <a:ext cx="1447920" cy="457200"/>
          </a:xfrm>
          <a:prstGeom prst="flowChartDocument">
            <a:avLst/>
          </a:prstGeom>
          <a:solidFill>
            <a:srgbClr val="e6e6e6"/>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3" name="Rectangle 25"/>
          <p:cNvSpPr/>
          <p:nvPr/>
        </p:nvSpPr>
        <p:spPr>
          <a:xfrm>
            <a:off x="5651640" y="5302080"/>
            <a:ext cx="137304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7f7f7f"/>
                </a:solidFill>
                <a:latin typeface="Arial"/>
              </a:rPr>
              <a:t>Evaluate</a:t>
            </a:r>
            <a:endParaRPr b="1" lang="en-US" sz="1800" spc="-1" strike="noStrike">
              <a:solidFill>
                <a:srgbClr val="000000"/>
              </a:solidFill>
              <a:latin typeface="Arial"/>
            </a:endParaRPr>
          </a:p>
        </p:txBody>
      </p:sp>
      <p:sp>
        <p:nvSpPr>
          <p:cNvPr id="804" name="Rectangle 8"/>
          <p:cNvSpPr/>
          <p:nvPr/>
        </p:nvSpPr>
        <p:spPr>
          <a:xfrm>
            <a:off x="7467480" y="1371600"/>
            <a:ext cx="1447920" cy="801720"/>
          </a:xfrm>
          <a:prstGeom prst="rect">
            <a:avLst/>
          </a:prstGeom>
          <a:solidFill>
            <a:srgbClr val="d6e0ff"/>
          </a:solid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5" name="Rectangle 9"/>
          <p:cNvSpPr/>
          <p:nvPr/>
        </p:nvSpPr>
        <p:spPr>
          <a:xfrm>
            <a:off x="7391520" y="1590840"/>
            <a:ext cx="1457280" cy="38736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9c2108"/>
                </a:solidFill>
                <a:uFillTx/>
                <a:latin typeface="Arial"/>
              </a:rPr>
              <a:t>C</a:t>
            </a:r>
            <a:r>
              <a:rPr b="1" lang="en-US" sz="2000" spc="-1" strike="noStrike">
                <a:solidFill>
                  <a:srgbClr val="000000"/>
                </a:solidFill>
                <a:latin typeface="Arial"/>
              </a:rPr>
              <a:t>ontrol</a:t>
            </a:r>
            <a:endParaRPr b="1" lang="en-US" sz="2000" spc="-1" strike="noStrike">
              <a:solidFill>
                <a:srgbClr val="000000"/>
              </a:solidFill>
              <a:latin typeface="Arial"/>
            </a:endParaRPr>
          </a:p>
        </p:txBody>
      </p:sp>
      <p:grpSp>
        <p:nvGrpSpPr>
          <p:cNvPr id="806" name="Group 108"/>
          <p:cNvGrpSpPr/>
          <p:nvPr/>
        </p:nvGrpSpPr>
        <p:grpSpPr>
          <a:xfrm>
            <a:off x="7467480" y="2286000"/>
            <a:ext cx="1447920" cy="914400"/>
            <a:chOff x="7467480" y="2286000"/>
            <a:chExt cx="1447920" cy="914400"/>
          </a:xfrm>
        </p:grpSpPr>
        <p:sp>
          <p:nvSpPr>
            <p:cNvPr id="807" name="AutoShape 24"/>
            <p:cNvSpPr/>
            <p:nvPr/>
          </p:nvSpPr>
          <p:spPr>
            <a:xfrm>
              <a:off x="7467480" y="2286000"/>
              <a:ext cx="1447920" cy="9144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Rectangle 25"/>
            <p:cNvSpPr/>
            <p:nvPr/>
          </p:nvSpPr>
          <p:spPr>
            <a:xfrm>
              <a:off x="7480080" y="2330280"/>
              <a:ext cx="1373400" cy="7682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fine control method</a:t>
              </a:r>
              <a:endParaRPr b="1" lang="en-US" sz="1800" spc="-1" strike="noStrike">
                <a:solidFill>
                  <a:srgbClr val="000000"/>
                </a:solidFill>
                <a:latin typeface="Arial"/>
              </a:endParaRPr>
            </a:p>
          </p:txBody>
        </p:sp>
      </p:grpSp>
      <p:grpSp>
        <p:nvGrpSpPr>
          <p:cNvPr id="809" name="Group 111"/>
          <p:cNvGrpSpPr/>
          <p:nvPr/>
        </p:nvGrpSpPr>
        <p:grpSpPr>
          <a:xfrm>
            <a:off x="7467480" y="3352680"/>
            <a:ext cx="1447920" cy="533520"/>
            <a:chOff x="7467480" y="3352680"/>
            <a:chExt cx="1447920" cy="533520"/>
          </a:xfrm>
        </p:grpSpPr>
        <p:sp>
          <p:nvSpPr>
            <p:cNvPr id="810" name="AutoShape 24"/>
            <p:cNvSpPr/>
            <p:nvPr/>
          </p:nvSpPr>
          <p:spPr>
            <a:xfrm>
              <a:off x="7467480" y="3352680"/>
              <a:ext cx="1447920" cy="53352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1" name="Rectangle 25"/>
            <p:cNvSpPr/>
            <p:nvPr/>
          </p:nvSpPr>
          <p:spPr>
            <a:xfrm>
              <a:off x="7480080" y="33969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a:t>
              </a:r>
              <a:endParaRPr b="1" lang="en-US" sz="1800" spc="-1" strike="noStrike">
                <a:solidFill>
                  <a:srgbClr val="000000"/>
                </a:solidFill>
                <a:latin typeface="Arial"/>
              </a:endParaRPr>
            </a:p>
          </p:txBody>
        </p:sp>
      </p:grpSp>
      <p:grpSp>
        <p:nvGrpSpPr>
          <p:cNvPr id="812" name="Group 114"/>
          <p:cNvGrpSpPr/>
          <p:nvPr/>
        </p:nvGrpSpPr>
        <p:grpSpPr>
          <a:xfrm>
            <a:off x="7467480" y="4038480"/>
            <a:ext cx="1447920" cy="457200"/>
            <a:chOff x="7467480" y="4038480"/>
            <a:chExt cx="1447920" cy="457200"/>
          </a:xfrm>
        </p:grpSpPr>
        <p:sp>
          <p:nvSpPr>
            <p:cNvPr id="813" name="AutoShape 24"/>
            <p:cNvSpPr/>
            <p:nvPr/>
          </p:nvSpPr>
          <p:spPr>
            <a:xfrm>
              <a:off x="7467480" y="4038480"/>
              <a:ext cx="1447920" cy="457200"/>
            </a:xfrm>
            <a:prstGeom prst="flowChartDocument">
              <a:avLst/>
            </a:prstGeom>
            <a:solidFill>
              <a:srgbClr val="d6e0ff"/>
            </a:solidFill>
            <a:ln w="9360">
              <a:solidFill>
                <a:srgbClr val="d0dce6"/>
              </a:solidFill>
              <a:miter/>
            </a:ln>
          </p:spPr>
          <p:style>
            <a:lnRef idx="0"/>
            <a:fillRef idx="0"/>
            <a:effectRef idx="0"/>
            <a:fontRef idx="minor"/>
          </p:style>
          <p:txBody>
            <a:bodyPr wrap="none" lIns="90000" rIns="8676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4" name="Rectangle 25"/>
            <p:cNvSpPr/>
            <p:nvPr/>
          </p:nvSpPr>
          <p:spPr>
            <a:xfrm>
              <a:off x="7480080" y="4082760"/>
              <a:ext cx="1373400" cy="311040"/>
            </a:xfrm>
            <a:prstGeom prst="rect">
              <a:avLst/>
            </a:prstGeom>
            <a:noFill/>
            <a:ln w="0">
              <a:noFill/>
            </a:ln>
          </p:spPr>
          <p:style>
            <a:lnRef idx="0"/>
            <a:fillRef idx="0"/>
            <a:effectRef idx="0"/>
            <a:fontRef idx="minor"/>
          </p:style>
          <p:txBody>
            <a:bodyPr rIns="82080" tIns="41040" bIns="41040" anchor="t">
              <a:spAutoFit/>
            </a:bodyPr>
            <a:p>
              <a:pPr>
                <a:lnSpc>
                  <a:spcPts val="18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cument</a:t>
              </a:r>
              <a:endParaRPr b="1" lang="en-US" sz="1800" spc="-1" strike="noStrike">
                <a:solidFill>
                  <a:srgbClr val="000000"/>
                </a:solidFill>
                <a:latin typeface="Arial"/>
              </a:endParaRPr>
            </a:p>
          </p:txBody>
        </p:sp>
      </p:grpSp>
      <p:sp>
        <p:nvSpPr>
          <p:cNvPr id="815" name="AutoShape 66"/>
          <p:cNvSpPr/>
          <p:nvPr/>
        </p:nvSpPr>
        <p:spPr>
          <a:xfrm>
            <a:off x="685800" y="1752480"/>
            <a:ext cx="6553080" cy="685800"/>
          </a:xfrm>
          <a:prstGeom prst="wedgeRectCallout">
            <a:avLst>
              <a:gd name="adj1" fmla="val 53819"/>
              <a:gd name="adj2" fmla="val 48601"/>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ata be compared to a range? If so, which range?</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procedural adherence need to be monitored?</a:t>
            </a:r>
            <a:endParaRPr b="1" lang="en-US" sz="1800" spc="-1" strike="noStrike">
              <a:solidFill>
                <a:srgbClr val="000000"/>
              </a:solidFill>
              <a:latin typeface="Arial"/>
            </a:endParaRPr>
          </a:p>
        </p:txBody>
      </p:sp>
      <p:sp>
        <p:nvSpPr>
          <p:cNvPr id="816" name="AutoShape 67"/>
          <p:cNvSpPr/>
          <p:nvPr/>
        </p:nvSpPr>
        <p:spPr>
          <a:xfrm>
            <a:off x="685800" y="2590920"/>
            <a:ext cx="6553080" cy="1828800"/>
          </a:xfrm>
          <a:prstGeom prst="wedgeRectCallout">
            <a:avLst>
              <a:gd name="adj1" fmla="val 53509"/>
              <a:gd name="adj2" fmla="val -9990"/>
            </a:avLst>
          </a:prstGeom>
          <a:solidFill>
            <a:srgbClr val="ffffcc"/>
          </a:solidFill>
          <a:ln w="9360">
            <a:solidFill>
              <a:srgbClr val="39536b"/>
            </a:solidFill>
            <a:miter/>
          </a:ln>
        </p:spPr>
        <p:style>
          <a:lnRef idx="0"/>
          <a:fillRef idx="0"/>
          <a:effectRef idx="0"/>
          <a:fontRef idx="minor"/>
        </p:style>
        <p:txBody>
          <a:bodyPr lIns="86760" rIns="86760" tIns="43920" bIns="43920" anchor="t">
            <a:normAutofit/>
          </a:bodyPr>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updates are needed in the measurement infrastructure?</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process documentation needs to be updat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at new processes or procedures need to be established? </a:t>
            </a:r>
            <a:endParaRPr b="1" lang="en-US" sz="1800" spc="-1" strike="noStrike">
              <a:solidFill>
                <a:srgbClr val="000000"/>
              </a:solidFill>
              <a:latin typeface="Arial"/>
            </a:endParaRPr>
          </a:p>
          <a:p>
            <a:pPr marL="171360" indent="-17136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o is the process or measurement owner who will be taking responsibility for maintaining the control scheme?</a:t>
            </a:r>
            <a:endParaRPr b="1" lang="en-US" sz="1800" spc="-1" strike="noStrike">
              <a:solidFill>
                <a:srgbClr val="000000"/>
              </a:solidFill>
              <a:latin typeface="Arial"/>
            </a:endParaRPr>
          </a:p>
          <a:p>
            <a:pPr marL="171360" indent="-17136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7" name="AutoShape 68"/>
          <p:cNvSpPr/>
          <p:nvPr/>
        </p:nvSpPr>
        <p:spPr>
          <a:xfrm>
            <a:off x="685800" y="4572000"/>
            <a:ext cx="6553080" cy="2028960"/>
          </a:xfrm>
          <a:prstGeom prst="wedgeRectCallout">
            <a:avLst>
              <a:gd name="adj1" fmla="val 55685"/>
              <a:gd name="adj2" fmla="val -50273"/>
            </a:avLst>
          </a:prstGeom>
          <a:solidFill>
            <a:srgbClr val="ffffcc"/>
          </a:solidFill>
          <a:ln w="9360">
            <a:solidFill>
              <a:srgbClr val="39536b"/>
            </a:solidFill>
            <a:miter/>
          </a:ln>
        </p:spPr>
        <p:style>
          <a:lnRef idx="0"/>
          <a:fillRef idx="0"/>
          <a:effectRef idx="0"/>
          <a:fontRef idx="minor"/>
        </p:style>
        <p:txBody>
          <a:bodyPr lIns="86760" rIns="86760" tIns="43920" bIns="4392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we documented improvement projects for verification, sustainment, and organizational learning?</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ealized benefits?</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roject documented or archived in the organization asset library?</a:t>
            </a:r>
            <a:endParaRPr b="1"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documentation and responsibility been transferred to process or measurement owner?</a:t>
            </a:r>
            <a:endParaRPr b="1"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806"/>
                                        </p:tgtEl>
                                        <p:attrNameLst>
                                          <p:attrName>style.visibility</p:attrName>
                                        </p:attrNameLst>
                                      </p:cBhvr>
                                      <p:to>
                                        <p:strVal val="visible"/>
                                      </p:to>
                                    </p:set>
                                    <p:animEffect filter="wipe(down)" transition="in">
                                      <p:cBhvr additive="repl">
                                        <p:cTn id="182" dur="500"/>
                                        <p:tgtEl>
                                          <p:spTgt spid="80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5"/>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809"/>
                                        </p:tgtEl>
                                        <p:attrNameLst>
                                          <p:attrName>style.visibility</p:attrName>
                                        </p:attrNameLst>
                                      </p:cBhvr>
                                      <p:to>
                                        <p:strVal val="visible"/>
                                      </p:to>
                                    </p:set>
                                    <p:animEffect filter="wipe(down)" transition="in">
                                      <p:cBhvr additive="repl">
                                        <p:cTn id="191" dur="500"/>
                                        <p:tgtEl>
                                          <p:spTgt spid="80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16"/>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812"/>
                                        </p:tgtEl>
                                        <p:attrNameLst>
                                          <p:attrName>style.visibility</p:attrName>
                                        </p:attrNameLst>
                                      </p:cBhvr>
                                      <p:to>
                                        <p:strVal val="visible"/>
                                      </p:to>
                                    </p:set>
                                    <p:animEffect filter="wipe(down)" transition="in">
                                      <p:cBhvr additive="repl">
                                        <p:cTn id="200" dur="500"/>
                                        <p:tgtEl>
                                          <p:spTgt spid="81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lowchart: Process 87"/>
          <p:cNvSpPr/>
          <p:nvPr/>
        </p:nvSpPr>
        <p:spPr>
          <a:xfrm>
            <a:off x="7093080" y="3394080"/>
            <a:ext cx="1635120" cy="463680"/>
          </a:xfrm>
          <a:prstGeom prst="flowChartProcess">
            <a:avLst/>
          </a:prstGeom>
          <a:solidFill>
            <a:srgbClr val="cccccc"/>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9" name="Flowchart: Process 84"/>
          <p:cNvSpPr/>
          <p:nvPr/>
        </p:nvSpPr>
        <p:spPr>
          <a:xfrm>
            <a:off x="7086600" y="1752480"/>
            <a:ext cx="1635120" cy="463680"/>
          </a:xfrm>
          <a:prstGeom prst="flowChartProcess">
            <a:avLst/>
          </a:prstGeom>
          <a:solidFill>
            <a:srgbClr val="cccccc"/>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kit</a:t>
            </a:r>
            <a:endParaRPr b="1" lang="en-US" sz="2800" spc="-1" strike="noStrike">
              <a:solidFill>
                <a:srgbClr val="000000"/>
              </a:solidFill>
              <a:latin typeface="Arial"/>
            </a:endParaRPr>
          </a:p>
        </p:txBody>
      </p:sp>
      <p:sp>
        <p:nvSpPr>
          <p:cNvPr id="821" name="Rectangle 2"/>
          <p:cNvSpPr/>
          <p:nvPr/>
        </p:nvSpPr>
        <p:spPr>
          <a:xfrm>
            <a:off x="304920" y="1539720"/>
            <a:ext cx="1704960" cy="419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2" name="Rectangle 3"/>
          <p:cNvSpPr/>
          <p:nvPr/>
        </p:nvSpPr>
        <p:spPr>
          <a:xfrm>
            <a:off x="2057400" y="1577880"/>
            <a:ext cx="1641600" cy="4197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3" name="Rectangle 5"/>
          <p:cNvSpPr/>
          <p:nvPr/>
        </p:nvSpPr>
        <p:spPr>
          <a:xfrm>
            <a:off x="7086600" y="1600200"/>
            <a:ext cx="1646280" cy="419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4" name="Rectangle 7"/>
          <p:cNvSpPr/>
          <p:nvPr/>
        </p:nvSpPr>
        <p:spPr>
          <a:xfrm>
            <a:off x="7086600" y="1143000"/>
            <a:ext cx="1647720" cy="45072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5" name="Rectangle 8"/>
          <p:cNvSpPr/>
          <p:nvPr/>
        </p:nvSpPr>
        <p:spPr>
          <a:xfrm>
            <a:off x="5410080" y="1143000"/>
            <a:ext cx="164160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6" name="Rectangle 9"/>
          <p:cNvSpPr/>
          <p:nvPr/>
        </p:nvSpPr>
        <p:spPr>
          <a:xfrm>
            <a:off x="3733920" y="1143000"/>
            <a:ext cx="164916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7" name="Rectangle 10"/>
          <p:cNvSpPr/>
          <p:nvPr/>
        </p:nvSpPr>
        <p:spPr>
          <a:xfrm>
            <a:off x="2057400" y="1143000"/>
            <a:ext cx="1643040" cy="4539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8" name="Rectangle 11"/>
          <p:cNvSpPr/>
          <p:nvPr/>
        </p:nvSpPr>
        <p:spPr>
          <a:xfrm>
            <a:off x="7086600" y="1752480"/>
            <a:ext cx="1600200" cy="3518280"/>
          </a:xfrm>
          <a:prstGeom prst="rect">
            <a:avLst/>
          </a:prstGeom>
          <a:noFill/>
          <a:ln w="0">
            <a:noFill/>
          </a:ln>
        </p:spPr>
        <p:style>
          <a:lnRef idx="0"/>
          <a:fillRef idx="0"/>
          <a:effectRef idx="0"/>
          <a:fontRef idx="minor"/>
        </p:style>
        <p:txBody>
          <a:bodyPr lIns="82080" rIns="82080" tIns="41040" bIns="41040" anchor="t">
            <a:spAutoFit/>
          </a:bodyPr>
          <a:p>
            <a:pPr>
              <a:lnSpc>
                <a:spcPts val="1698"/>
              </a:lnSpc>
              <a:spcBef>
                <a:spcPts val="201"/>
              </a:spcBef>
              <a:spcAft>
                <a:spcPts val="88"/>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Statistical Controls:</a:t>
            </a:r>
            <a:r>
              <a:rPr b="1" lang="en-US" sz="1600" spc="-1" strike="noStrike">
                <a:solidFill>
                  <a:srgbClr val="040608"/>
                </a:solidFill>
                <a:latin typeface="Arial"/>
                <a:ea typeface="MS PGothic"/>
              </a:rPr>
              <a:t> </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1" lang="en-US" sz="1600" spc="-1" strike="noStrike" u="sng">
                <a:solidFill>
                  <a:srgbClr val="39536b"/>
                </a:solidFill>
                <a:uFillTx/>
                <a:latin typeface="Arial"/>
                <a:ea typeface="MS PGothic"/>
              </a:rPr>
              <a:t>Control </a:t>
            </a:r>
            <a:br>
              <a:rPr sz="1600"/>
            </a:br>
            <a:r>
              <a:rPr b="1" lang="en-US" sz="1600" spc="-1" strike="noStrike">
                <a:solidFill>
                  <a:srgbClr val="39536b"/>
                </a:solidFill>
                <a:latin typeface="Arial"/>
                <a:ea typeface="MS PGothic"/>
              </a:rPr>
              <a:t>   </a:t>
            </a:r>
            <a:r>
              <a:rPr b="1" lang="en-US" sz="1600" spc="-1" strike="noStrike" u="sng">
                <a:solidFill>
                  <a:srgbClr val="39536b"/>
                </a:solidFill>
                <a:uFillTx/>
                <a:latin typeface="Arial"/>
                <a:ea typeface="MS PGothic"/>
              </a:rPr>
              <a:t>Chart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0" lang="en-US" sz="1600" spc="-1" strike="noStrike">
                <a:solidFill>
                  <a:srgbClr val="39536b"/>
                </a:solidFill>
                <a:latin typeface="Arial"/>
                <a:ea typeface="MS PGothic"/>
              </a:rPr>
              <a:t>Time series </a:t>
            </a:r>
            <a:br>
              <a:rPr sz="1600"/>
            </a:br>
            <a:r>
              <a:rPr b="0" lang="en-US" sz="1600" spc="-1" strike="noStrike">
                <a:solidFill>
                  <a:srgbClr val="39536b"/>
                </a:solidFill>
                <a:latin typeface="Arial"/>
                <a:ea typeface="MS PGothic"/>
              </a:rPr>
              <a:t>   method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a:lnSpc>
                <a:spcPts val="1698"/>
              </a:lnSpc>
              <a:spcBef>
                <a:spcPts val="201"/>
              </a:spcBef>
              <a:spcAft>
                <a:spcPts val="88"/>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Non-Statistical Controls:</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39536b"/>
                </a:solidFill>
                <a:latin typeface="Arial"/>
                <a:ea typeface="MS PGothic"/>
              </a:rPr>
              <a:t> </a:t>
            </a:r>
            <a:r>
              <a:rPr b="0" lang="en-US" sz="1600" spc="-1" strike="noStrike">
                <a:solidFill>
                  <a:srgbClr val="39536b"/>
                </a:solidFill>
                <a:latin typeface="Arial"/>
                <a:ea typeface="MS PGothic"/>
              </a:rPr>
              <a:t>Procedural </a:t>
            </a:r>
            <a:br>
              <a:rPr sz="1600"/>
            </a:br>
            <a:r>
              <a:rPr b="0" lang="en-US" sz="1600" spc="-1" strike="noStrike">
                <a:solidFill>
                  <a:srgbClr val="39536b"/>
                </a:solidFill>
                <a:latin typeface="Arial"/>
                <a:ea typeface="MS PGothic"/>
              </a:rPr>
              <a:t>   adherence</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ea typeface="MS PGothic"/>
              </a:rPr>
              <a:t> </a:t>
            </a:r>
            <a:r>
              <a:rPr b="0" lang="en-US" sz="1600" spc="-1" strike="noStrike">
                <a:solidFill>
                  <a:srgbClr val="39536b"/>
                </a:solidFill>
                <a:latin typeface="Arial"/>
                <a:ea typeface="MS PGothic"/>
              </a:rPr>
              <a:t>Performance </a:t>
            </a:r>
            <a:br>
              <a:rPr sz="1600"/>
            </a:br>
            <a:r>
              <a:rPr b="0" lang="en-US" sz="1600" spc="-1" strike="noStrike">
                <a:solidFill>
                  <a:srgbClr val="39536b"/>
                </a:solidFill>
                <a:latin typeface="Arial"/>
                <a:ea typeface="MS PGothic"/>
              </a:rPr>
              <a:t>   Mgmt</a:t>
            </a:r>
            <a:endParaRPr b="1" lang="en-US" sz="1600" spc="-1" strike="noStrike">
              <a:solidFill>
                <a:srgbClr val="000000"/>
              </a:solidFill>
              <a:latin typeface="Arial"/>
            </a:endParaRPr>
          </a:p>
          <a:p>
            <a:pPr>
              <a:lnSpc>
                <a:spcPts val="1698"/>
              </a:lnSpc>
              <a:spcBef>
                <a:spcPts val="201"/>
              </a:spcBef>
              <a:buClr>
                <a:srgbClr val="39536b"/>
              </a:buClr>
              <a:buSzPct val="7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ea typeface="MS PGothic"/>
              </a:rPr>
              <a:t> </a:t>
            </a:r>
            <a:r>
              <a:rPr b="0" lang="en-US" sz="1600" spc="-1" strike="noStrike">
                <a:solidFill>
                  <a:srgbClr val="39536b"/>
                </a:solidFill>
                <a:latin typeface="Arial"/>
                <a:ea typeface="MS PGothic"/>
              </a:rPr>
              <a:t>Preventive </a:t>
            </a:r>
            <a:br>
              <a:rPr sz="1600"/>
            </a:br>
            <a:r>
              <a:rPr b="0" lang="en-US" sz="1600" spc="-1" strike="noStrike">
                <a:solidFill>
                  <a:srgbClr val="39536b"/>
                </a:solidFill>
                <a:latin typeface="Arial"/>
                <a:ea typeface="MS PGothic"/>
              </a:rPr>
              <a:t>   measures </a:t>
            </a:r>
            <a:endParaRPr b="1" lang="en-US" sz="1600" spc="-1" strike="noStrike">
              <a:solidFill>
                <a:srgbClr val="000000"/>
              </a:solidFill>
              <a:latin typeface="Arial"/>
            </a:endParaRPr>
          </a:p>
        </p:txBody>
      </p:sp>
      <p:sp>
        <p:nvSpPr>
          <p:cNvPr id="829" name="Rectangle 12"/>
          <p:cNvSpPr/>
          <p:nvPr/>
        </p:nvSpPr>
        <p:spPr>
          <a:xfrm>
            <a:off x="5486400" y="1676520"/>
            <a:ext cx="1523880" cy="3559680"/>
          </a:xfrm>
          <a:prstGeom prst="rect">
            <a:avLst/>
          </a:prstGeom>
          <a:noFill/>
          <a:ln w="0">
            <a:noFill/>
          </a:ln>
        </p:spPr>
        <p:style>
          <a:lnRef idx="0"/>
          <a:fillRef idx="0"/>
          <a:effectRef idx="0"/>
          <a:fontRef idx="minor"/>
        </p:style>
        <p:txBody>
          <a:bodyPr lIns="82080" rIns="0" tIns="41040" bIns="41040" anchor="t">
            <a:spAutoFit/>
          </a:bodyPr>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Design of Experiments </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Model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ANOVA</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Toleranc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Robust Design</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Systems Thinking</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Decision &amp; Risk Analysis</a:t>
            </a:r>
            <a:endParaRPr b="1" lang="en-US" sz="1600" spc="-1" strike="noStrike">
              <a:solidFill>
                <a:srgbClr val="000000"/>
              </a:solidFill>
              <a:latin typeface="Arial"/>
            </a:endParaRPr>
          </a:p>
          <a:p>
            <a:pPr>
              <a:lnSpc>
                <a:spcPts val="1698"/>
              </a:lnSpc>
              <a:spcBef>
                <a:spcPts val="201"/>
              </a:spcBef>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PSM Perform Analysis Model</a:t>
            </a:r>
            <a:endParaRPr b="1" lang="en-US" sz="1600" spc="-1" strike="noStrike">
              <a:solidFill>
                <a:srgbClr val="000000"/>
              </a:solidFill>
              <a:latin typeface="Arial"/>
            </a:endParaRPr>
          </a:p>
        </p:txBody>
      </p:sp>
      <p:sp>
        <p:nvSpPr>
          <p:cNvPr id="830" name="Rectangle 13"/>
          <p:cNvSpPr/>
          <p:nvPr/>
        </p:nvSpPr>
        <p:spPr>
          <a:xfrm>
            <a:off x="3809880" y="1600200"/>
            <a:ext cx="1602000" cy="3824640"/>
          </a:xfrm>
          <a:prstGeom prst="rect">
            <a:avLst/>
          </a:prstGeom>
          <a:noFill/>
          <a:ln w="0">
            <a:noFill/>
          </a:ln>
        </p:spPr>
        <p:style>
          <a:lnRef idx="0"/>
          <a:fillRef idx="0"/>
          <a:effectRef idx="0"/>
          <a:fontRef idx="minor"/>
        </p:style>
        <p:txBody>
          <a:bodyPr lIns="82080" rIns="82080" tIns="41040" bIns="41040" anchor="t">
            <a:spAutoFit/>
          </a:bodyPr>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Cause &amp; Effect Diagrams/ Matrix</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Failure Modes &amp; Effects Analysi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Statistical Inference</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Reliability Analysi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Root Cause Analysis, incl 5 Why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Hypothesis Test</a:t>
            </a:r>
            <a:endParaRPr b="1" lang="en-US" sz="1600" spc="-1" strike="noStrike">
              <a:solidFill>
                <a:srgbClr val="000000"/>
              </a:solidFill>
              <a:latin typeface="Arial"/>
            </a:endParaRPr>
          </a:p>
        </p:txBody>
      </p:sp>
      <p:sp>
        <p:nvSpPr>
          <p:cNvPr id="831" name="Rectangle 14"/>
          <p:cNvSpPr/>
          <p:nvPr/>
        </p:nvSpPr>
        <p:spPr>
          <a:xfrm>
            <a:off x="2133720" y="1676520"/>
            <a:ext cx="1447560" cy="2475720"/>
          </a:xfrm>
          <a:prstGeom prst="rect">
            <a:avLst/>
          </a:prstGeom>
          <a:noFill/>
          <a:ln w="0">
            <a:noFill/>
          </a:ln>
        </p:spPr>
        <p:style>
          <a:lnRef idx="0"/>
          <a:fillRef idx="0"/>
          <a:effectRef idx="0"/>
          <a:fontRef idx="minor"/>
        </p:style>
        <p:txBody>
          <a:bodyPr lIns="82080" rIns="0" tIns="41040" bIns="41040" anchor="t">
            <a:spAutoFit/>
          </a:bodyPr>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GQ(I)M and Indicator Templates</a:t>
            </a:r>
            <a:endParaRPr b="1" lang="en-US" sz="1600" spc="-1" strike="noStrike">
              <a:solidFill>
                <a:srgbClr val="000000"/>
              </a:solidFill>
              <a:latin typeface="Arial"/>
            </a:endParaRPr>
          </a:p>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39536b"/>
                </a:solidFill>
                <a:latin typeface="Arial"/>
              </a:rPr>
              <a:t>Data Collection Methods</a:t>
            </a:r>
            <a:endParaRPr b="1" lang="en-US" sz="1600" spc="-1" strike="noStrike">
              <a:solidFill>
                <a:srgbClr val="000000"/>
              </a:solidFill>
              <a:latin typeface="Arial"/>
            </a:endParaRPr>
          </a:p>
          <a:p>
            <a:pPr>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Measurement System Evaluation</a:t>
            </a:r>
            <a:endParaRPr b="1" lang="en-US" sz="1600" spc="-1" strike="noStrike">
              <a:solidFill>
                <a:srgbClr val="000000"/>
              </a:solidFill>
              <a:latin typeface="Arial"/>
            </a:endParaRPr>
          </a:p>
        </p:txBody>
      </p:sp>
      <p:grpSp>
        <p:nvGrpSpPr>
          <p:cNvPr id="832" name="Group 15"/>
          <p:cNvGrpSpPr/>
          <p:nvPr/>
        </p:nvGrpSpPr>
        <p:grpSpPr>
          <a:xfrm>
            <a:off x="299880" y="1154160"/>
            <a:ext cx="1714320" cy="439560"/>
            <a:chOff x="299880" y="1154160"/>
            <a:chExt cx="1714320" cy="439560"/>
          </a:xfrm>
        </p:grpSpPr>
        <p:sp>
          <p:nvSpPr>
            <p:cNvPr id="833" name="Rectangle 16"/>
            <p:cNvSpPr/>
            <p:nvPr/>
          </p:nvSpPr>
          <p:spPr>
            <a:xfrm>
              <a:off x="299880" y="1154160"/>
              <a:ext cx="1707480" cy="439560"/>
            </a:xfrm>
            <a:prstGeom prst="rect">
              <a:avLst/>
            </a:prstGeom>
            <a:solidFill>
              <a:srgbClr val="bfd2db"/>
            </a:solid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4" name="Rectangle 17"/>
            <p:cNvSpPr/>
            <p:nvPr/>
          </p:nvSpPr>
          <p:spPr>
            <a:xfrm>
              <a:off x="303480" y="1173240"/>
              <a:ext cx="1710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Define</a:t>
              </a:r>
              <a:endParaRPr b="1" lang="en-US" sz="2200" spc="-1" strike="noStrike">
                <a:solidFill>
                  <a:srgbClr val="000000"/>
                </a:solidFill>
                <a:latin typeface="Arial"/>
              </a:endParaRPr>
            </a:p>
          </p:txBody>
        </p:sp>
      </p:grpSp>
      <p:sp>
        <p:nvSpPr>
          <p:cNvPr id="835" name="Rectangle 18"/>
          <p:cNvSpPr/>
          <p:nvPr/>
        </p:nvSpPr>
        <p:spPr>
          <a:xfrm>
            <a:off x="316080" y="1676520"/>
            <a:ext cx="1876320" cy="2530800"/>
          </a:xfrm>
          <a:prstGeom prst="rect">
            <a:avLst/>
          </a:prstGeom>
          <a:noFill/>
          <a:ln w="0">
            <a:noFill/>
          </a:ln>
        </p:spPr>
        <p:style>
          <a:lnRef idx="0"/>
          <a:fillRef idx="0"/>
          <a:effectRef idx="0"/>
          <a:fontRef idx="minor"/>
        </p:style>
        <p:txBody>
          <a:bodyPr lIns="82080" rIns="82080" tIns="41040" bIns="41040" anchor="t">
            <a:spAutoFit/>
          </a:bodyPr>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Benchmark </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u="sng">
                <a:solidFill>
                  <a:srgbClr val="39536b"/>
                </a:solidFill>
                <a:uFillTx/>
                <a:latin typeface="Arial"/>
              </a:rPr>
              <a:t>Contract/Charter</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Kano Model</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Voice of the Customer</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Voice of the Business</a:t>
            </a:r>
            <a:endParaRPr b="1" lang="en-US" sz="1600" spc="-1" strike="noStrike">
              <a:solidFill>
                <a:srgbClr val="000000"/>
              </a:solidFill>
              <a:latin typeface="Arial"/>
            </a:endParaRPr>
          </a:p>
          <a:p>
            <a:pPr>
              <a:lnSpc>
                <a:spcPts val="1698"/>
              </a:lnSpc>
              <a:spcAft>
                <a:spcPts val="7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39536b"/>
                </a:solidFill>
                <a:uFillTx/>
                <a:latin typeface="Arial"/>
              </a:rPr>
              <a:t>Quality Function Deployment</a:t>
            </a:r>
            <a:endParaRPr b="1" lang="en-US" sz="1600" spc="-1" strike="noStrike">
              <a:solidFill>
                <a:srgbClr val="000000"/>
              </a:solidFill>
              <a:latin typeface="Arial"/>
            </a:endParaRPr>
          </a:p>
        </p:txBody>
      </p:sp>
      <p:sp>
        <p:nvSpPr>
          <p:cNvPr id="836" name="Rectangle 19"/>
          <p:cNvSpPr/>
          <p:nvPr/>
        </p:nvSpPr>
        <p:spPr>
          <a:xfrm>
            <a:off x="2120760" y="1162080"/>
            <a:ext cx="153684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Measure</a:t>
            </a:r>
            <a:endParaRPr b="1" lang="en-US" sz="2200" spc="-1" strike="noStrike">
              <a:solidFill>
                <a:srgbClr val="000000"/>
              </a:solidFill>
              <a:latin typeface="Arial"/>
            </a:endParaRPr>
          </a:p>
        </p:txBody>
      </p:sp>
      <p:sp>
        <p:nvSpPr>
          <p:cNvPr id="837" name="Rectangle 20"/>
          <p:cNvSpPr/>
          <p:nvPr/>
        </p:nvSpPr>
        <p:spPr>
          <a:xfrm>
            <a:off x="3733920" y="1160640"/>
            <a:ext cx="1647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Analyze</a:t>
            </a:r>
            <a:endParaRPr b="1" lang="en-US" sz="2200" spc="-1" strike="noStrike">
              <a:solidFill>
                <a:srgbClr val="000000"/>
              </a:solidFill>
              <a:latin typeface="Arial"/>
            </a:endParaRPr>
          </a:p>
        </p:txBody>
      </p:sp>
      <p:sp>
        <p:nvSpPr>
          <p:cNvPr id="838" name="Rectangle 21"/>
          <p:cNvSpPr/>
          <p:nvPr/>
        </p:nvSpPr>
        <p:spPr>
          <a:xfrm>
            <a:off x="5392800" y="1162080"/>
            <a:ext cx="165240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Improve</a:t>
            </a:r>
            <a:endParaRPr b="1" lang="en-US" sz="2200" spc="-1" strike="noStrike">
              <a:solidFill>
                <a:srgbClr val="000000"/>
              </a:solidFill>
              <a:latin typeface="Arial"/>
            </a:endParaRPr>
          </a:p>
        </p:txBody>
      </p:sp>
      <p:sp>
        <p:nvSpPr>
          <p:cNvPr id="839" name="Rectangle 22"/>
          <p:cNvSpPr/>
          <p:nvPr/>
        </p:nvSpPr>
        <p:spPr>
          <a:xfrm>
            <a:off x="7086600" y="1158840"/>
            <a:ext cx="164772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9c2108"/>
                </a:solidFill>
                <a:latin typeface="Tahoma"/>
              </a:rPr>
              <a:t>Control</a:t>
            </a:r>
            <a:endParaRPr b="1" lang="en-US" sz="2200" spc="-1" strike="noStrike">
              <a:solidFill>
                <a:srgbClr val="000000"/>
              </a:solidFill>
              <a:latin typeface="Arial"/>
            </a:endParaRPr>
          </a:p>
        </p:txBody>
      </p:sp>
      <p:sp>
        <p:nvSpPr>
          <p:cNvPr id="840" name="Rectangle 3"/>
          <p:cNvSpPr/>
          <p:nvPr/>
        </p:nvSpPr>
        <p:spPr>
          <a:xfrm>
            <a:off x="3738600" y="1593720"/>
            <a:ext cx="1647720" cy="4197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1" name="Rectangle 3"/>
          <p:cNvSpPr/>
          <p:nvPr/>
        </p:nvSpPr>
        <p:spPr>
          <a:xfrm>
            <a:off x="5410080" y="1598760"/>
            <a:ext cx="1644840" cy="419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2" name="Text Box 23"/>
          <p:cNvSpPr/>
          <p:nvPr/>
        </p:nvSpPr>
        <p:spPr>
          <a:xfrm>
            <a:off x="304920" y="5562720"/>
            <a:ext cx="8429400" cy="1061640"/>
          </a:xfrm>
          <a:prstGeom prst="rect">
            <a:avLst/>
          </a:prstGeom>
          <a:solidFill>
            <a:srgbClr val="d0dce6"/>
          </a:solidFill>
          <a:ln w="9360">
            <a:solidFill>
              <a:srgbClr val="39536b"/>
            </a:solidFill>
            <a:miter/>
          </a:ln>
        </p:spPr>
        <p:style>
          <a:lnRef idx="0"/>
          <a:fillRef idx="0"/>
          <a:effectRef idx="0"/>
          <a:fontRef idx="minor"/>
        </p:style>
        <p:txBody>
          <a:bodyPr lIns="86760" rIns="86760" tIns="43920" bIns="43920" anchor="t">
            <a:spAutoFit/>
          </a:bodyPr>
          <a:p>
            <a:pPr>
              <a:spcAft>
                <a:spcPts val="400"/>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9536b"/>
                </a:solidFill>
                <a:latin typeface="Arial"/>
              </a:rPr>
              <a:t>Basic Tools (Histogram, Scatter Plot, Run Chart, Flow Chart, Brainstorming, Pareto Chart), Control charts (for diagnostic purposes), Baseline, Process Flow Map, Project Management, Management by Fact, Sampling Techniques, Survey Methods, Defect Metrics</a:t>
            </a:r>
            <a:endParaRPr b="1" lang="en-US" sz="1600" spc="-1" strike="noStrike">
              <a:solidFill>
                <a:srgbClr val="000000"/>
              </a:solidFill>
              <a:latin typeface="Arial"/>
            </a:endParaRPr>
          </a:p>
        </p:txBody>
      </p:sp>
      <p:sp>
        <p:nvSpPr>
          <p:cNvPr id="843" name="AutoShape 62"/>
          <p:cNvSpPr/>
          <p:nvPr/>
        </p:nvSpPr>
        <p:spPr>
          <a:xfrm>
            <a:off x="152280" y="4724280"/>
            <a:ext cx="3505320" cy="627120"/>
          </a:xfrm>
          <a:prstGeom prst="wedgeRoundRectCallout">
            <a:avLst>
              <a:gd name="adj1" fmla="val 16486"/>
              <a:gd name="adj2" fmla="val -105189"/>
              <a:gd name="adj3" fmla="val 16667"/>
            </a:avLst>
          </a:prstGeom>
          <a:solidFill>
            <a:srgbClr val="ffffcc"/>
          </a:solidFill>
          <a:ln w="9360">
            <a:solidFill>
              <a:srgbClr val="969696"/>
            </a:solidFill>
            <a:miter/>
          </a:ln>
        </p:spPr>
        <p:style>
          <a:lnRef idx="0"/>
          <a:fillRef idx="0"/>
          <a:effectRef idx="0"/>
          <a:fontRef idx="minor"/>
        </p:style>
        <p:txBody>
          <a:bodyPr lIns="86760" rIns="86760" tIns="43920" bIns="4392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39536b"/>
                </a:solidFill>
                <a:latin typeface="Arial"/>
              </a:rPr>
              <a:t>IPPSS = bold underlined</a:t>
            </a:r>
            <a:endParaRPr b="1" lang="en-US" sz="18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39536b"/>
                </a:solidFill>
                <a:latin typeface="Arial"/>
              </a:rPr>
              <a:t>DPPSS = regular underlined</a:t>
            </a:r>
            <a:endParaRPr b="1"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43"/>
                                        </p:tgtEl>
                                        <p:attrNameLst>
                                          <p:attrName>style.visibility</p:attrName>
                                        </p:attrNameLst>
                                      </p:cBhvr>
                                      <p:to>
                                        <p:strVal val="visible"/>
                                      </p:to>
                                    </p:set>
                                    <p:anim calcmode="lin" valueType="num">
                                      <p:cBhvr additive="base">
                                        <p:cTn id="211" dur="500" fill="hold"/>
                                        <p:tgtEl>
                                          <p:spTgt spid="843"/>
                                        </p:tgtEl>
                                        <p:attrNameLst>
                                          <p:attrName>ppt_x</p:attrName>
                                        </p:attrNameLst>
                                      </p:cBhvr>
                                      <p:tavLst>
                                        <p:tav tm="0">
                                          <p:val>
                                            <p:strVal val="#ppt_x"/>
                                          </p:val>
                                        </p:tav>
                                        <p:tav tm="100000">
                                          <p:val>
                                            <p:strVal val="#ppt_x"/>
                                          </p:val>
                                        </p:tav>
                                      </p:tavLst>
                                    </p:anim>
                                    <p:anim calcmode="lin" valueType="num">
                                      <p:cBhvr additive="base">
                                        <p:cTn id="212"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SP Relationships with DMAIC</a:t>
            </a:r>
            <a:endParaRPr b="1" lang="en-US" sz="2800" spc="-1" strike="noStrike">
              <a:solidFill>
                <a:srgbClr val="000000"/>
              </a:solidFill>
              <a:latin typeface="Arial"/>
            </a:endParaRPr>
          </a:p>
        </p:txBody>
      </p:sp>
      <p:sp>
        <p:nvSpPr>
          <p:cNvPr id="845" name="Line 27"/>
          <p:cNvSpPr/>
          <p:nvPr/>
        </p:nvSpPr>
        <p:spPr>
          <a:xfrm flipV="1">
            <a:off x="3352680" y="2214720"/>
            <a:ext cx="3810240" cy="9144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846" name="Line 24"/>
          <p:cNvSpPr/>
          <p:nvPr/>
        </p:nvSpPr>
        <p:spPr>
          <a:xfrm>
            <a:off x="4038480" y="1447920"/>
            <a:ext cx="3124440" cy="30960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847" name="Text Box 4"/>
          <p:cNvSpPr/>
          <p:nvPr/>
        </p:nvSpPr>
        <p:spPr>
          <a:xfrm>
            <a:off x="7238880" y="1757520"/>
            <a:ext cx="1447920" cy="568440"/>
          </a:xfrm>
          <a:prstGeom prst="rect">
            <a:avLst/>
          </a:prstGeom>
          <a:solidFill>
            <a:srgbClr val="ffff99"/>
          </a:solidFill>
          <a:ln w="9360">
            <a:solidFill>
              <a:srgbClr val="39536b"/>
            </a:solidFill>
            <a:miter/>
          </a:ln>
        </p:spPr>
        <p:style>
          <a:lnRef idx="0"/>
          <a:fillRef idx="0"/>
          <a:effectRef idx="0"/>
          <a:fontRef idx="minor"/>
        </p:style>
        <p:txBody>
          <a:bodyPr lIns="81360" rIns="81360" tIns="40680" bIns="40680" anchor="t">
            <a:spAutoFit/>
          </a:bodyPr>
          <a:p>
            <a:pPr algn="ctr">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111921"/>
                </a:solidFill>
                <a:uFillTx/>
                <a:latin typeface="Arial"/>
              </a:rPr>
              <a:t>D</a:t>
            </a:r>
            <a:r>
              <a:rPr b="0" lang="en-US" sz="1600" spc="-1" strike="noStrike">
                <a:solidFill>
                  <a:srgbClr val="111921"/>
                </a:solidFill>
                <a:latin typeface="Arial"/>
              </a:rPr>
              <a:t>efine the Problem</a:t>
            </a:r>
            <a:endParaRPr b="1" lang="en-US" sz="1600" spc="-1" strike="noStrike">
              <a:solidFill>
                <a:srgbClr val="000000"/>
              </a:solidFill>
              <a:latin typeface="Arial"/>
            </a:endParaRPr>
          </a:p>
        </p:txBody>
      </p:sp>
      <p:sp>
        <p:nvSpPr>
          <p:cNvPr id="848" name="Text Box 8"/>
          <p:cNvSpPr/>
          <p:nvPr/>
        </p:nvSpPr>
        <p:spPr>
          <a:xfrm>
            <a:off x="457200" y="995400"/>
            <a:ext cx="5105520" cy="3395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Launch Process Step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Establish product business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Assign roles &amp; define team goal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oduce development strategy</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overall and next phase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Develop the quality pla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 detailed &amp; consolidated plan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risk assess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Prepare management briefing &amp; </a:t>
            </a:r>
            <a:br>
              <a:rPr sz="1700"/>
            </a:br>
            <a:r>
              <a:rPr b="0" lang="en-US" sz="1700" spc="-1" strike="noStrike">
                <a:solidFill>
                  <a:srgbClr val="000000"/>
                </a:solidFill>
                <a:latin typeface="Arial"/>
              </a:rPr>
              <a:t>launch repor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Hold management review</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Conduct launch postmortem</a:t>
            </a:r>
            <a:endParaRPr b="1" lang="en-US" sz="1700" spc="-1" strike="noStrike">
              <a:solidFill>
                <a:srgbClr val="000000"/>
              </a:solidFill>
              <a:latin typeface="Arial"/>
            </a:endParaRPr>
          </a:p>
        </p:txBody>
      </p:sp>
      <p:sp>
        <p:nvSpPr>
          <p:cNvPr id="849" name="Line 25"/>
          <p:cNvSpPr/>
          <p:nvPr/>
        </p:nvSpPr>
        <p:spPr>
          <a:xfrm flipV="1">
            <a:off x="3236760" y="2061720"/>
            <a:ext cx="3926160" cy="52884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850" name="Line 26"/>
          <p:cNvSpPr/>
          <p:nvPr/>
        </p:nvSpPr>
        <p:spPr>
          <a:xfrm>
            <a:off x="4038480" y="1752480"/>
            <a:ext cx="3124440" cy="1573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851" name="Line 28"/>
          <p:cNvSpPr/>
          <p:nvPr/>
        </p:nvSpPr>
        <p:spPr>
          <a:xfrm flipV="1">
            <a:off x="3657600" y="2366640"/>
            <a:ext cx="3505320" cy="1824120"/>
          </a:xfrm>
          <a:prstGeom prst="line">
            <a:avLst/>
          </a:prstGeom>
          <a:ln w="38160">
            <a:solidFill>
              <a:srgbClr val="9c2108"/>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852" name="Rectangle 26"/>
          <p:cNvSpPr/>
          <p:nvPr/>
        </p:nvSpPr>
        <p:spPr>
          <a:xfrm>
            <a:off x="5181480" y="1452600"/>
            <a:ext cx="1524240" cy="160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3" name="Text Box 11"/>
          <p:cNvSpPr/>
          <p:nvPr/>
        </p:nvSpPr>
        <p:spPr>
          <a:xfrm>
            <a:off x="5257800" y="1528920"/>
            <a:ext cx="1447920" cy="146052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Team Software Process launch steps may initiate DMAIC improvement projects</a:t>
            </a:r>
            <a:endParaRPr b="1" lang="en-US" sz="1600" spc="-1" strike="noStrike">
              <a:solidFill>
                <a:srgbClr val="000000"/>
              </a:solidFill>
              <a:latin typeface="Arial"/>
            </a:endParaRPr>
          </a:p>
        </p:txBody>
      </p:sp>
      <p:sp>
        <p:nvSpPr>
          <p:cNvPr id="854" name="Text Box 29"/>
          <p:cNvSpPr/>
          <p:nvPr/>
        </p:nvSpPr>
        <p:spPr>
          <a:xfrm>
            <a:off x="1108080" y="4641840"/>
            <a:ext cx="4822920" cy="1991160"/>
          </a:xfrm>
          <a:prstGeom prst="rect">
            <a:avLst/>
          </a:prstGeom>
          <a:noFill/>
          <a:ln w="0">
            <a:noFill/>
          </a:ln>
        </p:spPr>
        <p:style>
          <a:lnRef idx="0"/>
          <a:fillRef idx="0"/>
          <a:effectRef idx="0"/>
          <a:fontRef idx="minor"/>
        </p:style>
        <p:txBody>
          <a:bodyPr lIns="0" rIns="0" tIns="0" bIns="0" anchor="t">
            <a:spAutoFit/>
          </a:bodyPr>
          <a:p>
            <a:pPr marL="339840" indent="-339840">
              <a:lnSpc>
                <a:spcPts val="2460"/>
              </a:lnSpc>
              <a:spcBef>
                <a:spcPts val="26"/>
              </a:spcBef>
              <a:spcAft>
                <a:spcPts val="2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c4f82"/>
                </a:solidFill>
                <a:latin typeface="Arial"/>
              </a:rPr>
              <a:t>Team Software Process Core Competencies</a:t>
            </a:r>
            <a:endParaRPr b="1" lang="en-US" sz="18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Team Leadership &amp; Motivation</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Build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naging Teams</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Interfacing with and gaining support from upper management</a:t>
            </a:r>
            <a:endParaRPr b="1" lang="en-US" sz="1700" spc="-1" strike="noStrike">
              <a:solidFill>
                <a:srgbClr val="000000"/>
              </a:solidFill>
              <a:latin typeface="Arial"/>
            </a:endParaRPr>
          </a:p>
          <a:p>
            <a:pPr marL="339840" indent="-339840">
              <a:lnSpc>
                <a:spcPts val="2160"/>
              </a:lnSpc>
              <a:spcBef>
                <a:spcPts val="26"/>
              </a:spcBef>
              <a:spcAft>
                <a:spcPts val="26"/>
              </a:spcAft>
              <a:buClr>
                <a:srgbClr val="000000"/>
              </a:buClr>
              <a:buFont typeface="Arial"/>
              <a:buAutoNum type="arabicPeriod"/>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700" spc="-1" strike="noStrike">
                <a:solidFill>
                  <a:srgbClr val="000000"/>
                </a:solidFill>
                <a:latin typeface="Arial"/>
              </a:rPr>
              <a:t>Maintaining teams</a:t>
            </a:r>
            <a:endParaRPr b="1" lang="en-US" sz="1700" spc="-1" strike="noStrike">
              <a:solidFill>
                <a:srgbClr val="000000"/>
              </a:solidFill>
              <a:latin typeface="Arial"/>
            </a:endParaRPr>
          </a:p>
        </p:txBody>
      </p:sp>
      <p:sp>
        <p:nvSpPr>
          <p:cNvPr id="855" name="Text Box 30"/>
          <p:cNvSpPr/>
          <p:nvPr/>
        </p:nvSpPr>
        <p:spPr>
          <a:xfrm>
            <a:off x="6708600" y="5410080"/>
            <a:ext cx="2206800" cy="973800"/>
          </a:xfrm>
          <a:prstGeom prst="rect">
            <a:avLst/>
          </a:prstGeom>
          <a:solidFill>
            <a:srgbClr val="ffffff"/>
          </a:solidFill>
          <a:ln w="0">
            <a:noFill/>
          </a:ln>
        </p:spPr>
        <p:style>
          <a:lnRef idx="0"/>
          <a:fillRef idx="0"/>
          <a:effectRef idx="0"/>
          <a:fontRef idx="minor"/>
        </p:style>
        <p:txBody>
          <a:bodyPr lIns="0" rIns="0" tIns="0" bIns="0" anchor="t">
            <a:spAutoFit/>
          </a:bodyPr>
          <a:p>
            <a:pPr>
              <a:spcBef>
                <a:spcPts val="1001"/>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Excellent team competencies to be employed within DMAIC improvement teams</a:t>
            </a:r>
            <a:endParaRPr b="1" lang="en-US" sz="1600" spc="-1" strike="noStrike">
              <a:solidFill>
                <a:srgbClr val="000000"/>
              </a:solidFill>
              <a:latin typeface="Arial"/>
            </a:endParaRPr>
          </a:p>
        </p:txBody>
      </p:sp>
      <p:sp>
        <p:nvSpPr>
          <p:cNvPr id="856" name="AutoShape 31"/>
          <p:cNvSpPr/>
          <p:nvPr/>
        </p:nvSpPr>
        <p:spPr>
          <a:xfrm>
            <a:off x="5997600" y="5029200"/>
            <a:ext cx="479520" cy="1676520"/>
          </a:xfrm>
          <a:custGeom>
            <a:avLst/>
            <a:gdLst>
              <a:gd name="textAreaLeft" fmla="*/ 0 w 479520"/>
              <a:gd name="textAreaRight" fmla="*/ 173160 w 479520"/>
              <a:gd name="textAreaTop" fmla="*/ 41040 h 1676520"/>
              <a:gd name="textAreaBottom" fmla="*/ 1635480 h 1676520"/>
            </a:gdLst>
            <a:ahLst/>
            <a:rect l="textAreaLeft" t="textAreaTop" r="textAreaRight" b="textAreaBottom"/>
            <a:pathLst>
              <a:path w="21600" h="21600">
                <a:moveTo>
                  <a:pt x="0" y="0"/>
                </a:moveTo>
                <a:cubicBezTo>
                  <a:pt x="5400" y="0"/>
                  <a:pt x="10800" y="849"/>
                  <a:pt x="10800" y="1698"/>
                </a:cubicBezTo>
                <a:lnTo>
                  <a:pt x="10800" y="9102"/>
                </a:lnTo>
                <a:cubicBezTo>
                  <a:pt x="10800" y="9951"/>
                  <a:pt x="16200" y="10800"/>
                  <a:pt x="21600" y="10800"/>
                </a:cubicBezTo>
                <a:cubicBezTo>
                  <a:pt x="16200" y="10800"/>
                  <a:pt x="10800" y="11649"/>
                  <a:pt x="10800" y="12498"/>
                </a:cubicBezTo>
                <a:lnTo>
                  <a:pt x="10800" y="19902"/>
                </a:lnTo>
                <a:cubicBezTo>
                  <a:pt x="10800" y="20751"/>
                  <a:pt x="5400" y="21600"/>
                  <a:pt x="0" y="21600"/>
                </a:cubicBezTo>
              </a:path>
            </a:pathLst>
          </a:custGeom>
          <a:noFill/>
          <a:ln w="38160">
            <a:solidFill>
              <a:srgbClr val="36362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7" name="Straight Connector 29"/>
          <p:cNvSpPr/>
          <p:nvPr/>
        </p:nvSpPr>
        <p:spPr>
          <a:xfrm>
            <a:off x="228600" y="4495680"/>
            <a:ext cx="8686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itle 1"/>
          <p:cNvSpPr/>
          <p:nvPr/>
        </p:nvSpPr>
        <p:spPr>
          <a:xfrm>
            <a:off x="533520" y="533520"/>
            <a:ext cx="8235720" cy="8380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859" name="AutoShape 12"/>
          <p:cNvSpPr/>
          <p:nvPr/>
        </p:nvSpPr>
        <p:spPr>
          <a:xfrm rot="5400000">
            <a:off x="-50760" y="27622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0" name="Content Placeholder 2"/>
          <p:cNvSpPr/>
          <p:nvPr/>
        </p:nvSpPr>
        <p:spPr>
          <a:xfrm>
            <a:off x="685800" y="1447920"/>
            <a:ext cx="8237520" cy="4952880"/>
          </a:xfrm>
          <a:prstGeom prst="rect">
            <a:avLst/>
          </a:prstGeom>
          <a:noFill/>
          <a:ln w="0">
            <a:noFill/>
          </a:ln>
        </p:spPr>
        <p:style>
          <a:lnRef idx="0"/>
          <a:fillRef idx="0"/>
          <a:effectRef idx="0"/>
          <a:fontRef idx="minor"/>
        </p:style>
        <p:txBody>
          <a:bodyPr lIns="0" rIns="0" tIns="0" bIns="0" anchor="t">
            <a:normAutofit/>
          </a:bodyPr>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Introductions and logistics</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SEMA curriculum and this course</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Paradigms</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ea typeface="MS PGothic"/>
              </a:rPr>
              <a:t>DMAIC introduction &amp; roadmap</a:t>
            </a:r>
            <a:endParaRPr b="1"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c4f82"/>
                </a:solidFill>
                <a:latin typeface="Arial"/>
                <a:ea typeface="MS PGothic"/>
              </a:rPr>
              <a:t>Case preparation</a:t>
            </a:r>
            <a:endParaRPr b="1" lang="en-US" sz="1800" spc="-1" strike="noStrike">
              <a:solidFill>
                <a:srgbClr val="000000"/>
              </a:solidFill>
              <a:latin typeface="Arial"/>
            </a:endParaRPr>
          </a:p>
          <a:p>
            <a:pPr>
              <a:lnSpc>
                <a:spcPct val="95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Study Focus</a:t>
            </a:r>
            <a:endParaRPr b="1" lang="en-US" sz="2800" spc="-1" strike="noStrike">
              <a:solidFill>
                <a:srgbClr val="000000"/>
              </a:solidFill>
              <a:latin typeface="Arial"/>
            </a:endParaRPr>
          </a:p>
        </p:txBody>
      </p:sp>
      <p:sp>
        <p:nvSpPr>
          <p:cNvPr id="862"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uses case studies to help you build skills.</a:t>
            </a:r>
            <a:endParaRPr b="0" lang="en-US" sz="2000" spc="-1" strike="noStrike">
              <a:solidFill>
                <a:srgbClr val="000000"/>
              </a:solidFill>
              <a:latin typeface="Arial"/>
            </a:endParaRPr>
          </a:p>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Call Center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DMAIC approach and associated guidance questions on basic analytical methods</a:t>
            </a:r>
            <a:endParaRPr b="0" lang="en-US" sz="1800" spc="-1" strike="noStrike">
              <a:solidFill>
                <a:srgbClr val="3c4f82"/>
              </a:solidFill>
              <a:latin typeface="Arial"/>
            </a:endParaRPr>
          </a:p>
          <a:p>
            <a:pPr lvl="2" marL="576360" indent="-179640">
              <a:lnSpc>
                <a:spcPct val="90000"/>
              </a:lnSpc>
              <a:spcBef>
                <a:spcPts val="264"/>
              </a:spcBef>
              <a:spcAft>
                <a:spcPts val="26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Defect Containment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understanding variation, basic analytical methods, and SPC charts</a:t>
            </a:r>
            <a:endParaRPr b="0" lang="en-US" sz="1800" spc="-1" strike="noStrike">
              <a:solidFill>
                <a:srgbClr val="3c4f82"/>
              </a:solidFill>
              <a:latin typeface="Arial"/>
            </a:endParaRPr>
          </a:p>
          <a:p>
            <a:pPr lvl="2" marL="576360" indent="-179640">
              <a:lnSpc>
                <a:spcPct val="90000"/>
              </a:lnSpc>
              <a:spcBef>
                <a:spcPts val="264"/>
              </a:spcBef>
              <a:spcAft>
                <a:spcPts val="26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Cost Schedule Case focus</a:t>
            </a:r>
            <a:endParaRPr b="0" lang="en-US" sz="1800" spc="-1" strike="noStrike">
              <a:solidFill>
                <a:srgbClr val="3c4f82"/>
              </a:solidFill>
              <a:latin typeface="Arial"/>
            </a:endParaRPr>
          </a:p>
          <a:p>
            <a:pPr lvl="1" marL="284040" indent="-169560">
              <a:lnSpc>
                <a:spcPct val="9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	</a:t>
            </a:r>
            <a:r>
              <a:rPr b="0" lang="en-US" sz="1800" spc="-1" strike="noStrike">
                <a:solidFill>
                  <a:srgbClr val="000000"/>
                </a:solidFill>
                <a:latin typeface="Arial"/>
              </a:rPr>
              <a:t>tailoring the DMAIC approach, understanding variation, excluding data properly, presenting data analysis so that it is practical and useful</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Structural Overview</a:t>
            </a:r>
            <a:endParaRPr b="1" lang="en-US" sz="2800" spc="-1" strike="noStrike">
              <a:solidFill>
                <a:srgbClr val="000000"/>
              </a:solidFill>
              <a:latin typeface="Arial"/>
            </a:endParaRPr>
          </a:p>
        </p:txBody>
      </p:sp>
      <p:sp>
        <p:nvSpPr>
          <p:cNvPr id="864" name=""/>
          <p:cNvSpPr txBox="1"/>
          <p:nvPr/>
        </p:nvSpPr>
        <p:spPr>
          <a:xfrm>
            <a:off x="533520" y="1294920"/>
            <a:ext cx="8237520" cy="4953240"/>
          </a:xfrm>
          <a:prstGeom prst="rect">
            <a:avLst/>
          </a:prstGeom>
          <a:noFill/>
          <a:ln w="0">
            <a:noFill/>
          </a:ln>
        </p:spPr>
        <p:txBody>
          <a:bodyPr lIns="0" rIns="0" tIns="0" bIns="0" anchor="t">
            <a:normAutofit/>
          </a:bodyPr>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Components</a:t>
            </a:r>
            <a:endParaRPr b="0" lang="en-US" sz="2000" spc="-1" strike="noStrike">
              <a:solidFill>
                <a:srgbClr val="000000"/>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Lecture</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overview</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For each roadmap phase or groups of phase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hase strategy &amp; verification to roadmap</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details with “inline” lectures and exercise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hase summary</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Additional commentary and practical tips</a:t>
            </a:r>
            <a:endParaRPr b="0" lang="en-US" sz="1800" spc="-1" strike="noStrike">
              <a:solidFill>
                <a:srgbClr val="3c4f82"/>
              </a:solidFill>
              <a:latin typeface="Arial"/>
            </a:endParaRPr>
          </a:p>
          <a:p>
            <a:pPr lvl="1" marL="284040" indent="-16956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Case summary</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Key findings and results</a:t>
            </a:r>
            <a:endParaRPr b="0" lang="en-US" sz="1800" spc="-1" strike="noStrike">
              <a:solidFill>
                <a:srgbClr val="3c4f82"/>
              </a:solidFill>
              <a:latin typeface="Arial"/>
            </a:endParaRPr>
          </a:p>
          <a:p>
            <a:pPr lvl="2" marL="576360" indent="-179640">
              <a:lnSpc>
                <a:spcPct val="90000"/>
              </a:lnSpc>
              <a:spcBef>
                <a:spcPts val="337"/>
              </a:spcBef>
              <a:spcAft>
                <a:spcPts val="337"/>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Process and methods summary</a:t>
            </a: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end of Symbols</a:t>
            </a:r>
            <a:endParaRPr b="1" lang="en-US" sz="2800" spc="-1" strike="noStrike">
              <a:solidFill>
                <a:srgbClr val="000000"/>
              </a:solidFill>
              <a:latin typeface="Arial"/>
            </a:endParaRPr>
          </a:p>
        </p:txBody>
      </p:sp>
      <p:sp>
        <p:nvSpPr>
          <p:cNvPr id="866" name="Rectangle 3"/>
          <p:cNvSpPr/>
          <p:nvPr/>
        </p:nvSpPr>
        <p:spPr>
          <a:xfrm>
            <a:off x="2133720" y="4114800"/>
            <a:ext cx="5097240" cy="1335240"/>
          </a:xfrm>
          <a:prstGeom prst="rect">
            <a:avLst/>
          </a:prstGeom>
          <a:noFill/>
          <a:ln w="0">
            <a:noFill/>
          </a:ln>
        </p:spPr>
        <p:style>
          <a:lnRef idx="0"/>
          <a:fillRef idx="0"/>
          <a:effectRef idx="0"/>
          <a:fontRef idx="minor"/>
        </p:style>
        <p:txBody>
          <a:bodyPr lIns="0" rIns="0" tIns="0" bIns="0" anchor="t">
            <a:normAutofit/>
          </a:bodyPr>
          <a:p>
            <a:pPr lvl="1" marL="299880" indent="-185400">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000000"/>
              </a:solidFill>
              <a:latin typeface="Arial"/>
            </a:endParaRPr>
          </a:p>
        </p:txBody>
      </p:sp>
      <p:grpSp>
        <p:nvGrpSpPr>
          <p:cNvPr id="867" name="Group 4"/>
          <p:cNvGrpSpPr/>
          <p:nvPr/>
        </p:nvGrpSpPr>
        <p:grpSpPr>
          <a:xfrm>
            <a:off x="2046240" y="1295280"/>
            <a:ext cx="582480" cy="533160"/>
            <a:chOff x="2046240" y="1295280"/>
            <a:chExt cx="582480" cy="533160"/>
          </a:xfrm>
        </p:grpSpPr>
        <p:sp>
          <p:nvSpPr>
            <p:cNvPr id="868" name="Oval 5"/>
            <p:cNvSpPr/>
            <p:nvPr/>
          </p:nvSpPr>
          <p:spPr>
            <a:xfrm>
              <a:off x="2046240" y="1295280"/>
              <a:ext cx="582480" cy="533160"/>
            </a:xfrm>
            <a:prstGeom prst="ellipse">
              <a:avLst/>
            </a:prstGeom>
            <a:solidFill>
              <a:srgbClr val="d0dce6"/>
            </a:solidFill>
            <a:ln w="1260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869" name="Picture 6" descr="MCBS02023_0000[1]"/>
            <p:cNvPicPr/>
            <p:nvPr/>
          </p:nvPicPr>
          <p:blipFill>
            <a:blip r:embed="rId1"/>
            <a:stretch/>
          </p:blipFill>
          <p:spPr>
            <a:xfrm>
              <a:off x="2151720" y="1392480"/>
              <a:ext cx="380520" cy="335520"/>
            </a:xfrm>
            <a:prstGeom prst="rect">
              <a:avLst/>
            </a:prstGeom>
            <a:ln w="0">
              <a:noFill/>
            </a:ln>
          </p:spPr>
        </p:pic>
      </p:grpSp>
      <p:sp>
        <p:nvSpPr>
          <p:cNvPr id="870" name="Text Box 15"/>
          <p:cNvSpPr/>
          <p:nvPr/>
        </p:nvSpPr>
        <p:spPr>
          <a:xfrm>
            <a:off x="3317760" y="1143000"/>
            <a:ext cx="5064120" cy="6321960"/>
          </a:xfrm>
          <a:prstGeom prst="rect">
            <a:avLst/>
          </a:prstGeom>
          <a:noFill/>
          <a:ln w="0">
            <a:noFill/>
          </a:ln>
        </p:spPr>
        <p:style>
          <a:lnRef idx="0"/>
          <a:fillRef idx="0"/>
          <a:effectRef idx="0"/>
          <a:fontRef idx="minor"/>
        </p:style>
        <p:txBody>
          <a:bodyPr lIns="86760" rIns="86760" tIns="43920" bIns="43920" anchor="t">
            <a:spAutoFit/>
          </a:bodyPr>
          <a:p>
            <a:pPr marL="117360" indent="-117360">
              <a:lnSpc>
                <a:spcPct val="100000"/>
              </a:lnSpc>
              <a:spcAft>
                <a:spcPts val="99"/>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Guided Exercises </a:t>
            </a:r>
            <a:endParaRPr b="1" lang="en-US" sz="2000" spc="-1" strike="noStrike">
              <a:solidFill>
                <a:srgbClr val="000000"/>
              </a:solidFill>
              <a:latin typeface="Arial"/>
            </a:endParaRPr>
          </a:p>
          <a:p>
            <a:pPr marL="117360" indent="-117360">
              <a:lnSpc>
                <a:spcPct val="100000"/>
              </a:lnSpc>
              <a:buClr>
                <a:srgbClr val="39536b"/>
              </a:buClr>
              <a:buSzPct val="70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create graphs and charts shown on the slides as the lecture proceeds</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Interactive Questions &amp; Answers</a:t>
            </a:r>
            <a:endParaRPr b="1" lang="en-US" sz="2000" spc="-1" strike="noStrike">
              <a:solidFill>
                <a:srgbClr val="000000"/>
              </a:solidFill>
              <a:latin typeface="Arial"/>
            </a:endParaRPr>
          </a:p>
          <a:p>
            <a:pPr marL="117360" indent="-117360">
              <a:lnSpc>
                <a:spcPct val="100000"/>
              </a:lnSpc>
              <a:buClr>
                <a:srgbClr val="39536b"/>
              </a:buClr>
              <a:buSzPct val="70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we pose non-rhetorical questions</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spcAft>
                <a:spcPts val="99"/>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DMAIC key</a:t>
            </a:r>
            <a:endParaRPr b="1" lang="en-US" sz="2000" spc="-1" strike="noStrike">
              <a:solidFill>
                <a:srgbClr val="000000"/>
              </a:solidFill>
              <a:latin typeface="Arial"/>
            </a:endParaRPr>
          </a:p>
          <a:p>
            <a:pPr lvl="1" marL="117360" indent="-117360">
              <a:lnSpc>
                <a:spcPct val="100000"/>
              </a:lnSpc>
              <a:buClr>
                <a:srgbClr val="39536b"/>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39536b"/>
                </a:solidFill>
                <a:latin typeface="Arial"/>
                <a:ea typeface="MS PGothic"/>
              </a:rPr>
              <a:t>highlighted to show where we are</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ea typeface="MS PGothic"/>
              </a:rPr>
              <a:t>JMP file-naming convention</a:t>
            </a: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lvl="1" marL="117360" indent="-117360">
              <a:lnSpc>
                <a:spcPct val="100000"/>
              </a:lnSpc>
              <a:spcBef>
                <a:spcPts val="337"/>
              </a:spcBef>
              <a:spcAft>
                <a:spcPts val="337"/>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lvl="1" marL="117360" indent="-117360">
              <a:lnSpc>
                <a:spcPct val="100000"/>
              </a:lnSpc>
              <a:spcBef>
                <a:spcPts val="337"/>
              </a:spcBef>
              <a:spcAft>
                <a:spcPts val="337"/>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a:p>
            <a:pPr marL="117360" indent="-11736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sp>
        <p:nvSpPr>
          <p:cNvPr id="871" name="Text Box 18"/>
          <p:cNvSpPr/>
          <p:nvPr/>
        </p:nvSpPr>
        <p:spPr>
          <a:xfrm>
            <a:off x="495360" y="5478480"/>
            <a:ext cx="2781360" cy="768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ea typeface="MS PGothic"/>
              </a:rPr>
              <a:t>▼</a:t>
            </a:r>
            <a:r>
              <a:rPr b="0" i="1" lang="en-US" sz="2000" spc="-1" strike="noStrike">
                <a:solidFill>
                  <a:srgbClr val="002699"/>
                </a:solidFill>
                <a:latin typeface="Arial"/>
                <a:ea typeface="MS PGothic"/>
              </a:rPr>
              <a:t>JMP (filename)</a:t>
            </a:r>
            <a:endParaRPr b="1" lang="en-US" sz="2000" spc="-1" strike="noStrike">
              <a:solidFill>
                <a:srgbClr val="000000"/>
              </a:solidFill>
              <a:latin typeface="Arial"/>
            </a:endParaRPr>
          </a:p>
          <a:p>
            <a:pPr>
              <a:lnSpc>
                <a:spcPct val="100000"/>
              </a:lnSpc>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1" lang="en-US" sz="2000" spc="-1" strike="noStrike">
              <a:solidFill>
                <a:srgbClr val="000000"/>
              </a:solidFill>
              <a:latin typeface="Arial"/>
            </a:endParaRPr>
          </a:p>
        </p:txBody>
      </p:sp>
      <p:grpSp>
        <p:nvGrpSpPr>
          <p:cNvPr id="872" name="Group 22"/>
          <p:cNvGrpSpPr/>
          <p:nvPr/>
        </p:nvGrpSpPr>
        <p:grpSpPr>
          <a:xfrm>
            <a:off x="1790640" y="2438280"/>
            <a:ext cx="1218960" cy="1207800"/>
            <a:chOff x="1790640" y="2438280"/>
            <a:chExt cx="1218960" cy="1207800"/>
          </a:xfrm>
        </p:grpSpPr>
        <p:sp>
          <p:nvSpPr>
            <p:cNvPr id="873" name="AutoShape 21"/>
            <p:cNvSpPr/>
            <p:nvPr/>
          </p:nvSpPr>
          <p:spPr>
            <a:xfrm>
              <a:off x="1790640" y="2438280"/>
              <a:ext cx="1218960" cy="12078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4" name="Freeform 26"/>
            <p:cNvSpPr/>
            <p:nvPr/>
          </p:nvSpPr>
          <p:spPr>
            <a:xfrm>
              <a:off x="1955520" y="2637000"/>
              <a:ext cx="837360" cy="787680"/>
            </a:xfrm>
            <a:custGeom>
              <a:avLst/>
              <a:gdLst>
                <a:gd name="textAreaLeft" fmla="*/ 0 w 837360"/>
                <a:gd name="textAreaRight" fmla="*/ 837720 w 837360"/>
                <a:gd name="textAreaTop" fmla="*/ 0 h 787680"/>
                <a:gd name="textAreaBottom" fmla="*/ 788040 h 787680"/>
              </a:gdLst>
              <a:ahLst/>
              <a:rect l="textAreaLeft" t="textAreaTop" r="textAreaRight" b="textAreaBottom"/>
              <a:pathLst>
                <a:path w="748" h="706">
                  <a:moveTo>
                    <a:pt x="748" y="345"/>
                  </a:moveTo>
                  <a:lnTo>
                    <a:pt x="746" y="320"/>
                  </a:lnTo>
                  <a:lnTo>
                    <a:pt x="740" y="295"/>
                  </a:lnTo>
                  <a:lnTo>
                    <a:pt x="730" y="272"/>
                  </a:lnTo>
                  <a:lnTo>
                    <a:pt x="717" y="248"/>
                  </a:lnTo>
                  <a:lnTo>
                    <a:pt x="700" y="227"/>
                  </a:lnTo>
                  <a:lnTo>
                    <a:pt x="680" y="206"/>
                  </a:lnTo>
                  <a:lnTo>
                    <a:pt x="657" y="187"/>
                  </a:lnTo>
                  <a:lnTo>
                    <a:pt x="632" y="170"/>
                  </a:lnTo>
                  <a:lnTo>
                    <a:pt x="627" y="154"/>
                  </a:lnTo>
                  <a:lnTo>
                    <a:pt x="623" y="139"/>
                  </a:lnTo>
                  <a:lnTo>
                    <a:pt x="616" y="123"/>
                  </a:lnTo>
                  <a:lnTo>
                    <a:pt x="608" y="108"/>
                  </a:lnTo>
                  <a:lnTo>
                    <a:pt x="597" y="93"/>
                  </a:lnTo>
                  <a:lnTo>
                    <a:pt x="586" y="79"/>
                  </a:lnTo>
                  <a:lnTo>
                    <a:pt x="573" y="65"/>
                  </a:lnTo>
                  <a:lnTo>
                    <a:pt x="559" y="54"/>
                  </a:lnTo>
                  <a:lnTo>
                    <a:pt x="543" y="42"/>
                  </a:lnTo>
                  <a:lnTo>
                    <a:pt x="525" y="32"/>
                  </a:lnTo>
                  <a:lnTo>
                    <a:pt x="505" y="23"/>
                  </a:lnTo>
                  <a:lnTo>
                    <a:pt x="485" y="15"/>
                  </a:lnTo>
                  <a:lnTo>
                    <a:pt x="462" y="8"/>
                  </a:lnTo>
                  <a:lnTo>
                    <a:pt x="436" y="3"/>
                  </a:lnTo>
                  <a:lnTo>
                    <a:pt x="410" y="1"/>
                  </a:lnTo>
                  <a:lnTo>
                    <a:pt x="381" y="0"/>
                  </a:lnTo>
                  <a:lnTo>
                    <a:pt x="354" y="1"/>
                  </a:lnTo>
                  <a:lnTo>
                    <a:pt x="330" y="3"/>
                  </a:lnTo>
                  <a:lnTo>
                    <a:pt x="307" y="7"/>
                  </a:lnTo>
                  <a:lnTo>
                    <a:pt x="286" y="12"/>
                  </a:lnTo>
                  <a:lnTo>
                    <a:pt x="266" y="19"/>
                  </a:lnTo>
                  <a:lnTo>
                    <a:pt x="247" y="27"/>
                  </a:lnTo>
                  <a:lnTo>
                    <a:pt x="230" y="36"/>
                  </a:lnTo>
                  <a:lnTo>
                    <a:pt x="214" y="47"/>
                  </a:lnTo>
                  <a:lnTo>
                    <a:pt x="199" y="58"/>
                  </a:lnTo>
                  <a:lnTo>
                    <a:pt x="186" y="71"/>
                  </a:lnTo>
                  <a:lnTo>
                    <a:pt x="174" y="85"/>
                  </a:lnTo>
                  <a:lnTo>
                    <a:pt x="163" y="99"/>
                  </a:lnTo>
                  <a:lnTo>
                    <a:pt x="153" y="114"/>
                  </a:lnTo>
                  <a:lnTo>
                    <a:pt x="145" y="129"/>
                  </a:lnTo>
                  <a:lnTo>
                    <a:pt x="138" y="145"/>
                  </a:lnTo>
                  <a:lnTo>
                    <a:pt x="131" y="161"/>
                  </a:lnTo>
                  <a:lnTo>
                    <a:pt x="102" y="178"/>
                  </a:lnTo>
                  <a:lnTo>
                    <a:pt x="77" y="198"/>
                  </a:lnTo>
                  <a:lnTo>
                    <a:pt x="54" y="220"/>
                  </a:lnTo>
                  <a:lnTo>
                    <a:pt x="35" y="243"/>
                  </a:lnTo>
                  <a:lnTo>
                    <a:pt x="20" y="267"/>
                  </a:lnTo>
                  <a:lnTo>
                    <a:pt x="9" y="291"/>
                  </a:lnTo>
                  <a:lnTo>
                    <a:pt x="2" y="318"/>
                  </a:lnTo>
                  <a:lnTo>
                    <a:pt x="0" y="345"/>
                  </a:lnTo>
                  <a:lnTo>
                    <a:pt x="1" y="365"/>
                  </a:lnTo>
                  <a:lnTo>
                    <a:pt x="4" y="386"/>
                  </a:lnTo>
                  <a:lnTo>
                    <a:pt x="11" y="404"/>
                  </a:lnTo>
                  <a:lnTo>
                    <a:pt x="19" y="422"/>
                  </a:lnTo>
                  <a:lnTo>
                    <a:pt x="30" y="441"/>
                  </a:lnTo>
                  <a:lnTo>
                    <a:pt x="42" y="458"/>
                  </a:lnTo>
                  <a:lnTo>
                    <a:pt x="57" y="474"/>
                  </a:lnTo>
                  <a:lnTo>
                    <a:pt x="74" y="490"/>
                  </a:lnTo>
                  <a:lnTo>
                    <a:pt x="92" y="504"/>
                  </a:lnTo>
                  <a:lnTo>
                    <a:pt x="112" y="518"/>
                  </a:lnTo>
                  <a:lnTo>
                    <a:pt x="134" y="531"/>
                  </a:lnTo>
                  <a:lnTo>
                    <a:pt x="157" y="542"/>
                  </a:lnTo>
                  <a:lnTo>
                    <a:pt x="182" y="553"/>
                  </a:lnTo>
                  <a:lnTo>
                    <a:pt x="207" y="562"/>
                  </a:lnTo>
                  <a:lnTo>
                    <a:pt x="235" y="570"/>
                  </a:lnTo>
                  <a:lnTo>
                    <a:pt x="262" y="577"/>
                  </a:lnTo>
                  <a:lnTo>
                    <a:pt x="261" y="582"/>
                  </a:lnTo>
                  <a:lnTo>
                    <a:pt x="261" y="585"/>
                  </a:lnTo>
                  <a:lnTo>
                    <a:pt x="261" y="590"/>
                  </a:lnTo>
                  <a:lnTo>
                    <a:pt x="261" y="594"/>
                  </a:lnTo>
                  <a:lnTo>
                    <a:pt x="263" y="616"/>
                  </a:lnTo>
                  <a:lnTo>
                    <a:pt x="270" y="638"/>
                  </a:lnTo>
                  <a:lnTo>
                    <a:pt x="280" y="656"/>
                  </a:lnTo>
                  <a:lnTo>
                    <a:pt x="293" y="673"/>
                  </a:lnTo>
                  <a:lnTo>
                    <a:pt x="311" y="686"/>
                  </a:lnTo>
                  <a:lnTo>
                    <a:pt x="329" y="697"/>
                  </a:lnTo>
                  <a:lnTo>
                    <a:pt x="350" y="704"/>
                  </a:lnTo>
                  <a:lnTo>
                    <a:pt x="373" y="706"/>
                  </a:lnTo>
                  <a:lnTo>
                    <a:pt x="396" y="704"/>
                  </a:lnTo>
                  <a:lnTo>
                    <a:pt x="417" y="697"/>
                  </a:lnTo>
                  <a:lnTo>
                    <a:pt x="435" y="686"/>
                  </a:lnTo>
                  <a:lnTo>
                    <a:pt x="452" y="673"/>
                  </a:lnTo>
                  <a:lnTo>
                    <a:pt x="466" y="656"/>
                  </a:lnTo>
                  <a:lnTo>
                    <a:pt x="475" y="638"/>
                  </a:lnTo>
                  <a:lnTo>
                    <a:pt x="482" y="616"/>
                  </a:lnTo>
                  <a:lnTo>
                    <a:pt x="485" y="594"/>
                  </a:lnTo>
                  <a:lnTo>
                    <a:pt x="485" y="590"/>
                  </a:lnTo>
                  <a:lnTo>
                    <a:pt x="485" y="585"/>
                  </a:lnTo>
                  <a:lnTo>
                    <a:pt x="485" y="582"/>
                  </a:lnTo>
                  <a:lnTo>
                    <a:pt x="483" y="577"/>
                  </a:lnTo>
                  <a:lnTo>
                    <a:pt x="490" y="576"/>
                  </a:lnTo>
                  <a:lnTo>
                    <a:pt x="496" y="575"/>
                  </a:lnTo>
                  <a:lnTo>
                    <a:pt x="503" y="572"/>
                  </a:lnTo>
                  <a:lnTo>
                    <a:pt x="510" y="571"/>
                  </a:lnTo>
                  <a:lnTo>
                    <a:pt x="516" y="569"/>
                  </a:lnTo>
                  <a:lnTo>
                    <a:pt x="523" y="568"/>
                  </a:lnTo>
                  <a:lnTo>
                    <a:pt x="528" y="565"/>
                  </a:lnTo>
                  <a:lnTo>
                    <a:pt x="535" y="563"/>
                  </a:lnTo>
                  <a:lnTo>
                    <a:pt x="546" y="569"/>
                  </a:lnTo>
                  <a:lnTo>
                    <a:pt x="567" y="579"/>
                  </a:lnTo>
                  <a:lnTo>
                    <a:pt x="595" y="594"/>
                  </a:lnTo>
                  <a:lnTo>
                    <a:pt x="627" y="609"/>
                  </a:lnTo>
                  <a:lnTo>
                    <a:pt x="658" y="625"/>
                  </a:lnTo>
                  <a:lnTo>
                    <a:pt x="685" y="639"/>
                  </a:lnTo>
                  <a:lnTo>
                    <a:pt x="705" y="648"/>
                  </a:lnTo>
                  <a:lnTo>
                    <a:pt x="711" y="652"/>
                  </a:lnTo>
                  <a:lnTo>
                    <a:pt x="709" y="646"/>
                  </a:lnTo>
                  <a:lnTo>
                    <a:pt x="705" y="631"/>
                  </a:lnTo>
                  <a:lnTo>
                    <a:pt x="696" y="609"/>
                  </a:lnTo>
                  <a:lnTo>
                    <a:pt x="688" y="583"/>
                  </a:lnTo>
                  <a:lnTo>
                    <a:pt x="679" y="556"/>
                  </a:lnTo>
                  <a:lnTo>
                    <a:pt x="671" y="532"/>
                  </a:lnTo>
                  <a:lnTo>
                    <a:pt x="664" y="512"/>
                  </a:lnTo>
                  <a:lnTo>
                    <a:pt x="661" y="501"/>
                  </a:lnTo>
                  <a:lnTo>
                    <a:pt x="680" y="484"/>
                  </a:lnTo>
                  <a:lnTo>
                    <a:pt x="699" y="466"/>
                  </a:lnTo>
                  <a:lnTo>
                    <a:pt x="714" y="448"/>
                  </a:lnTo>
                  <a:lnTo>
                    <a:pt x="725" y="428"/>
                  </a:lnTo>
                  <a:lnTo>
                    <a:pt x="736" y="408"/>
                  </a:lnTo>
                  <a:lnTo>
                    <a:pt x="743" y="387"/>
                  </a:lnTo>
                  <a:lnTo>
                    <a:pt x="747" y="366"/>
                  </a:lnTo>
                  <a:lnTo>
                    <a:pt x="748" y="345"/>
                  </a:lnTo>
                  <a:close/>
                  <a:moveTo>
                    <a:pt x="160" y="181"/>
                  </a:moveTo>
                  <a:lnTo>
                    <a:pt x="163" y="170"/>
                  </a:lnTo>
                  <a:lnTo>
                    <a:pt x="168" y="160"/>
                  </a:lnTo>
                  <a:lnTo>
                    <a:pt x="172" y="149"/>
                  </a:lnTo>
                  <a:lnTo>
                    <a:pt x="178" y="139"/>
                  </a:lnTo>
                  <a:lnTo>
                    <a:pt x="184" y="129"/>
                  </a:lnTo>
                  <a:lnTo>
                    <a:pt x="191" y="119"/>
                  </a:lnTo>
                  <a:lnTo>
                    <a:pt x="198" y="109"/>
                  </a:lnTo>
                  <a:lnTo>
                    <a:pt x="206" y="100"/>
                  </a:lnTo>
                  <a:lnTo>
                    <a:pt x="215" y="91"/>
                  </a:lnTo>
                  <a:lnTo>
                    <a:pt x="224" y="81"/>
                  </a:lnTo>
                  <a:lnTo>
                    <a:pt x="236" y="73"/>
                  </a:lnTo>
                  <a:lnTo>
                    <a:pt x="247" y="65"/>
                  </a:lnTo>
                  <a:lnTo>
                    <a:pt x="260" y="58"/>
                  </a:lnTo>
                  <a:lnTo>
                    <a:pt x="274" y="53"/>
                  </a:lnTo>
                  <a:lnTo>
                    <a:pt x="289" y="47"/>
                  </a:lnTo>
                  <a:lnTo>
                    <a:pt x="305" y="42"/>
                  </a:lnTo>
                  <a:lnTo>
                    <a:pt x="322" y="38"/>
                  </a:lnTo>
                  <a:lnTo>
                    <a:pt x="341" y="35"/>
                  </a:lnTo>
                  <a:lnTo>
                    <a:pt x="360" y="34"/>
                  </a:lnTo>
                  <a:lnTo>
                    <a:pt x="381" y="33"/>
                  </a:lnTo>
                  <a:lnTo>
                    <a:pt x="403" y="34"/>
                  </a:lnTo>
                  <a:lnTo>
                    <a:pt x="423" y="35"/>
                  </a:lnTo>
                  <a:lnTo>
                    <a:pt x="443" y="39"/>
                  </a:lnTo>
                  <a:lnTo>
                    <a:pt x="460" y="42"/>
                  </a:lnTo>
                  <a:lnTo>
                    <a:pt x="478" y="47"/>
                  </a:lnTo>
                  <a:lnTo>
                    <a:pt x="493" y="53"/>
                  </a:lnTo>
                  <a:lnTo>
                    <a:pt x="508" y="60"/>
                  </a:lnTo>
                  <a:lnTo>
                    <a:pt x="521" y="68"/>
                  </a:lnTo>
                  <a:lnTo>
                    <a:pt x="533" y="76"/>
                  </a:lnTo>
                  <a:lnTo>
                    <a:pt x="544" y="84"/>
                  </a:lnTo>
                  <a:lnTo>
                    <a:pt x="555" y="94"/>
                  </a:lnTo>
                  <a:lnTo>
                    <a:pt x="564" y="103"/>
                  </a:lnTo>
                  <a:lnTo>
                    <a:pt x="572" y="114"/>
                  </a:lnTo>
                  <a:lnTo>
                    <a:pt x="579" y="125"/>
                  </a:lnTo>
                  <a:lnTo>
                    <a:pt x="585" y="136"/>
                  </a:lnTo>
                  <a:lnTo>
                    <a:pt x="591" y="147"/>
                  </a:lnTo>
                  <a:lnTo>
                    <a:pt x="594" y="157"/>
                  </a:lnTo>
                  <a:lnTo>
                    <a:pt x="597" y="168"/>
                  </a:lnTo>
                  <a:lnTo>
                    <a:pt x="600" y="178"/>
                  </a:lnTo>
                  <a:lnTo>
                    <a:pt x="601" y="189"/>
                  </a:lnTo>
                  <a:lnTo>
                    <a:pt x="602" y="192"/>
                  </a:lnTo>
                  <a:lnTo>
                    <a:pt x="602" y="195"/>
                  </a:lnTo>
                  <a:lnTo>
                    <a:pt x="603" y="199"/>
                  </a:lnTo>
                  <a:lnTo>
                    <a:pt x="603" y="202"/>
                  </a:lnTo>
                  <a:lnTo>
                    <a:pt x="601" y="232"/>
                  </a:lnTo>
                  <a:lnTo>
                    <a:pt x="596" y="257"/>
                  </a:lnTo>
                  <a:lnTo>
                    <a:pt x="587" y="276"/>
                  </a:lnTo>
                  <a:lnTo>
                    <a:pt x="576" y="292"/>
                  </a:lnTo>
                  <a:lnTo>
                    <a:pt x="562" y="306"/>
                  </a:lnTo>
                  <a:lnTo>
                    <a:pt x="547" y="318"/>
                  </a:lnTo>
                  <a:lnTo>
                    <a:pt x="528" y="327"/>
                  </a:lnTo>
                  <a:lnTo>
                    <a:pt x="510" y="337"/>
                  </a:lnTo>
                  <a:lnTo>
                    <a:pt x="489" y="348"/>
                  </a:lnTo>
                  <a:lnTo>
                    <a:pt x="475" y="356"/>
                  </a:lnTo>
                  <a:lnTo>
                    <a:pt x="464" y="364"/>
                  </a:lnTo>
                  <a:lnTo>
                    <a:pt x="455" y="373"/>
                  </a:lnTo>
                  <a:lnTo>
                    <a:pt x="447" y="382"/>
                  </a:lnTo>
                  <a:lnTo>
                    <a:pt x="441" y="391"/>
                  </a:lnTo>
                  <a:lnTo>
                    <a:pt x="436" y="402"/>
                  </a:lnTo>
                  <a:lnTo>
                    <a:pt x="433" y="414"/>
                  </a:lnTo>
                  <a:lnTo>
                    <a:pt x="432" y="427"/>
                  </a:lnTo>
                  <a:lnTo>
                    <a:pt x="420" y="427"/>
                  </a:lnTo>
                  <a:lnTo>
                    <a:pt x="404" y="427"/>
                  </a:lnTo>
                  <a:lnTo>
                    <a:pt x="384" y="427"/>
                  </a:lnTo>
                  <a:lnTo>
                    <a:pt x="365" y="427"/>
                  </a:lnTo>
                  <a:lnTo>
                    <a:pt x="344" y="427"/>
                  </a:lnTo>
                  <a:lnTo>
                    <a:pt x="324" y="427"/>
                  </a:lnTo>
                  <a:lnTo>
                    <a:pt x="308" y="427"/>
                  </a:lnTo>
                  <a:lnTo>
                    <a:pt x="297" y="427"/>
                  </a:lnTo>
                  <a:lnTo>
                    <a:pt x="297" y="425"/>
                  </a:lnTo>
                  <a:lnTo>
                    <a:pt x="297" y="422"/>
                  </a:lnTo>
                  <a:lnTo>
                    <a:pt x="297" y="420"/>
                  </a:lnTo>
                  <a:lnTo>
                    <a:pt x="297" y="418"/>
                  </a:lnTo>
                  <a:lnTo>
                    <a:pt x="297" y="403"/>
                  </a:lnTo>
                  <a:lnTo>
                    <a:pt x="299" y="387"/>
                  </a:lnTo>
                  <a:lnTo>
                    <a:pt x="301" y="371"/>
                  </a:lnTo>
                  <a:lnTo>
                    <a:pt x="306" y="355"/>
                  </a:lnTo>
                  <a:lnTo>
                    <a:pt x="313" y="340"/>
                  </a:lnTo>
                  <a:lnTo>
                    <a:pt x="323" y="325"/>
                  </a:lnTo>
                  <a:lnTo>
                    <a:pt x="336" y="312"/>
                  </a:lnTo>
                  <a:lnTo>
                    <a:pt x="352" y="300"/>
                  </a:lnTo>
                  <a:lnTo>
                    <a:pt x="356" y="299"/>
                  </a:lnTo>
                  <a:lnTo>
                    <a:pt x="361" y="296"/>
                  </a:lnTo>
                  <a:lnTo>
                    <a:pt x="368" y="292"/>
                  </a:lnTo>
                  <a:lnTo>
                    <a:pt x="371" y="291"/>
                  </a:lnTo>
                  <a:lnTo>
                    <a:pt x="383" y="285"/>
                  </a:lnTo>
                  <a:lnTo>
                    <a:pt x="395" y="280"/>
                  </a:lnTo>
                  <a:lnTo>
                    <a:pt x="407" y="273"/>
                  </a:lnTo>
                  <a:lnTo>
                    <a:pt x="419" y="263"/>
                  </a:lnTo>
                  <a:lnTo>
                    <a:pt x="429" y="254"/>
                  </a:lnTo>
                  <a:lnTo>
                    <a:pt x="437" y="243"/>
                  </a:lnTo>
                  <a:lnTo>
                    <a:pt x="442" y="230"/>
                  </a:lnTo>
                  <a:lnTo>
                    <a:pt x="444" y="215"/>
                  </a:lnTo>
                  <a:lnTo>
                    <a:pt x="443" y="201"/>
                  </a:lnTo>
                  <a:lnTo>
                    <a:pt x="440" y="190"/>
                  </a:lnTo>
                  <a:lnTo>
                    <a:pt x="434" y="178"/>
                  </a:lnTo>
                  <a:lnTo>
                    <a:pt x="426" y="170"/>
                  </a:lnTo>
                  <a:lnTo>
                    <a:pt x="415" y="162"/>
                  </a:lnTo>
                  <a:lnTo>
                    <a:pt x="404" y="157"/>
                  </a:lnTo>
                  <a:lnTo>
                    <a:pt x="390" y="154"/>
                  </a:lnTo>
                  <a:lnTo>
                    <a:pt x="375" y="153"/>
                  </a:lnTo>
                  <a:lnTo>
                    <a:pt x="367" y="153"/>
                  </a:lnTo>
                  <a:lnTo>
                    <a:pt x="359" y="154"/>
                  </a:lnTo>
                  <a:lnTo>
                    <a:pt x="352" y="156"/>
                  </a:lnTo>
                  <a:lnTo>
                    <a:pt x="345" y="159"/>
                  </a:lnTo>
                  <a:lnTo>
                    <a:pt x="339" y="161"/>
                  </a:lnTo>
                  <a:lnTo>
                    <a:pt x="334" y="166"/>
                  </a:lnTo>
                  <a:lnTo>
                    <a:pt x="328" y="169"/>
                  </a:lnTo>
                  <a:lnTo>
                    <a:pt x="322" y="175"/>
                  </a:lnTo>
                  <a:lnTo>
                    <a:pt x="314" y="186"/>
                  </a:lnTo>
                  <a:lnTo>
                    <a:pt x="307" y="199"/>
                  </a:lnTo>
                  <a:lnTo>
                    <a:pt x="304" y="213"/>
                  </a:lnTo>
                  <a:lnTo>
                    <a:pt x="301" y="229"/>
                  </a:lnTo>
                  <a:lnTo>
                    <a:pt x="289" y="229"/>
                  </a:lnTo>
                  <a:lnTo>
                    <a:pt x="271" y="229"/>
                  </a:lnTo>
                  <a:lnTo>
                    <a:pt x="250" y="229"/>
                  </a:lnTo>
                  <a:lnTo>
                    <a:pt x="227" y="229"/>
                  </a:lnTo>
                  <a:lnTo>
                    <a:pt x="203" y="229"/>
                  </a:lnTo>
                  <a:lnTo>
                    <a:pt x="182" y="229"/>
                  </a:lnTo>
                  <a:lnTo>
                    <a:pt x="163" y="229"/>
                  </a:lnTo>
                  <a:lnTo>
                    <a:pt x="149" y="229"/>
                  </a:lnTo>
                  <a:lnTo>
                    <a:pt x="150" y="219"/>
                  </a:lnTo>
                  <a:lnTo>
                    <a:pt x="153" y="206"/>
                  </a:lnTo>
                  <a:lnTo>
                    <a:pt x="156" y="194"/>
                  </a:lnTo>
                  <a:lnTo>
                    <a:pt x="160" y="181"/>
                  </a:lnTo>
                  <a:close/>
                  <a:moveTo>
                    <a:pt x="373" y="673"/>
                  </a:moveTo>
                  <a:lnTo>
                    <a:pt x="357" y="671"/>
                  </a:lnTo>
                  <a:lnTo>
                    <a:pt x="342" y="667"/>
                  </a:lnTo>
                  <a:lnTo>
                    <a:pt x="329" y="659"/>
                  </a:lnTo>
                  <a:lnTo>
                    <a:pt x="318" y="649"/>
                  </a:lnTo>
                  <a:lnTo>
                    <a:pt x="307" y="638"/>
                  </a:lnTo>
                  <a:lnTo>
                    <a:pt x="300" y="624"/>
                  </a:lnTo>
                  <a:lnTo>
                    <a:pt x="296" y="610"/>
                  </a:lnTo>
                  <a:lnTo>
                    <a:pt x="294" y="594"/>
                  </a:lnTo>
                  <a:lnTo>
                    <a:pt x="294" y="591"/>
                  </a:lnTo>
                  <a:lnTo>
                    <a:pt x="294" y="588"/>
                  </a:lnTo>
                  <a:lnTo>
                    <a:pt x="294" y="585"/>
                  </a:lnTo>
                  <a:lnTo>
                    <a:pt x="296" y="583"/>
                  </a:lnTo>
                  <a:lnTo>
                    <a:pt x="297" y="575"/>
                  </a:lnTo>
                  <a:lnTo>
                    <a:pt x="300" y="567"/>
                  </a:lnTo>
                  <a:lnTo>
                    <a:pt x="303" y="558"/>
                  </a:lnTo>
                  <a:lnTo>
                    <a:pt x="307" y="552"/>
                  </a:lnTo>
                  <a:lnTo>
                    <a:pt x="313" y="543"/>
                  </a:lnTo>
                  <a:lnTo>
                    <a:pt x="320" y="537"/>
                  </a:lnTo>
                  <a:lnTo>
                    <a:pt x="327" y="531"/>
                  </a:lnTo>
                  <a:lnTo>
                    <a:pt x="335" y="525"/>
                  </a:lnTo>
                  <a:lnTo>
                    <a:pt x="344" y="522"/>
                  </a:lnTo>
                  <a:lnTo>
                    <a:pt x="353" y="518"/>
                  </a:lnTo>
                  <a:lnTo>
                    <a:pt x="362" y="517"/>
                  </a:lnTo>
                  <a:lnTo>
                    <a:pt x="373" y="516"/>
                  </a:lnTo>
                  <a:lnTo>
                    <a:pt x="383" y="517"/>
                  </a:lnTo>
                  <a:lnTo>
                    <a:pt x="392" y="518"/>
                  </a:lnTo>
                  <a:lnTo>
                    <a:pt x="402" y="522"/>
                  </a:lnTo>
                  <a:lnTo>
                    <a:pt x="411" y="525"/>
                  </a:lnTo>
                  <a:lnTo>
                    <a:pt x="419" y="531"/>
                  </a:lnTo>
                  <a:lnTo>
                    <a:pt x="426" y="537"/>
                  </a:lnTo>
                  <a:lnTo>
                    <a:pt x="433" y="543"/>
                  </a:lnTo>
                  <a:lnTo>
                    <a:pt x="438" y="552"/>
                  </a:lnTo>
                  <a:lnTo>
                    <a:pt x="442" y="558"/>
                  </a:lnTo>
                  <a:lnTo>
                    <a:pt x="445" y="567"/>
                  </a:lnTo>
                  <a:lnTo>
                    <a:pt x="448" y="575"/>
                  </a:lnTo>
                  <a:lnTo>
                    <a:pt x="450" y="583"/>
                  </a:lnTo>
                  <a:lnTo>
                    <a:pt x="450" y="585"/>
                  </a:lnTo>
                  <a:lnTo>
                    <a:pt x="451" y="588"/>
                  </a:lnTo>
                  <a:lnTo>
                    <a:pt x="451" y="591"/>
                  </a:lnTo>
                  <a:lnTo>
                    <a:pt x="451" y="594"/>
                  </a:lnTo>
                  <a:lnTo>
                    <a:pt x="450" y="610"/>
                  </a:lnTo>
                  <a:lnTo>
                    <a:pt x="445" y="624"/>
                  </a:lnTo>
                  <a:lnTo>
                    <a:pt x="437" y="638"/>
                  </a:lnTo>
                  <a:lnTo>
                    <a:pt x="428" y="649"/>
                  </a:lnTo>
                  <a:lnTo>
                    <a:pt x="417" y="659"/>
                  </a:lnTo>
                  <a:lnTo>
                    <a:pt x="403" y="667"/>
                  </a:lnTo>
                  <a:lnTo>
                    <a:pt x="389" y="671"/>
                  </a:lnTo>
                  <a:lnTo>
                    <a:pt x="373" y="673"/>
                  </a:lnTo>
                  <a:close/>
                  <a:moveTo>
                    <a:pt x="539" y="530"/>
                  </a:moveTo>
                  <a:lnTo>
                    <a:pt x="532" y="531"/>
                  </a:lnTo>
                  <a:lnTo>
                    <a:pt x="525" y="533"/>
                  </a:lnTo>
                  <a:lnTo>
                    <a:pt x="518" y="535"/>
                  </a:lnTo>
                  <a:lnTo>
                    <a:pt x="511" y="538"/>
                  </a:lnTo>
                  <a:lnTo>
                    <a:pt x="503" y="540"/>
                  </a:lnTo>
                  <a:lnTo>
                    <a:pt x="496" y="541"/>
                  </a:lnTo>
                  <a:lnTo>
                    <a:pt x="489" y="543"/>
                  </a:lnTo>
                  <a:lnTo>
                    <a:pt x="481" y="545"/>
                  </a:lnTo>
                  <a:lnTo>
                    <a:pt x="474" y="546"/>
                  </a:lnTo>
                  <a:lnTo>
                    <a:pt x="466" y="532"/>
                  </a:lnTo>
                  <a:lnTo>
                    <a:pt x="457" y="519"/>
                  </a:lnTo>
                  <a:lnTo>
                    <a:pt x="445" y="509"/>
                  </a:lnTo>
                  <a:lnTo>
                    <a:pt x="434" y="500"/>
                  </a:lnTo>
                  <a:lnTo>
                    <a:pt x="420" y="493"/>
                  </a:lnTo>
                  <a:lnTo>
                    <a:pt x="405" y="487"/>
                  </a:lnTo>
                  <a:lnTo>
                    <a:pt x="389" y="484"/>
                  </a:lnTo>
                  <a:lnTo>
                    <a:pt x="373" y="482"/>
                  </a:lnTo>
                  <a:lnTo>
                    <a:pt x="357" y="484"/>
                  </a:lnTo>
                  <a:lnTo>
                    <a:pt x="341" y="487"/>
                  </a:lnTo>
                  <a:lnTo>
                    <a:pt x="326" y="493"/>
                  </a:lnTo>
                  <a:lnTo>
                    <a:pt x="312" y="500"/>
                  </a:lnTo>
                  <a:lnTo>
                    <a:pt x="300" y="509"/>
                  </a:lnTo>
                  <a:lnTo>
                    <a:pt x="289" y="519"/>
                  </a:lnTo>
                  <a:lnTo>
                    <a:pt x="280" y="532"/>
                  </a:lnTo>
                  <a:lnTo>
                    <a:pt x="271" y="546"/>
                  </a:lnTo>
                  <a:lnTo>
                    <a:pt x="246" y="540"/>
                  </a:lnTo>
                  <a:lnTo>
                    <a:pt x="221" y="533"/>
                  </a:lnTo>
                  <a:lnTo>
                    <a:pt x="198" y="525"/>
                  </a:lnTo>
                  <a:lnTo>
                    <a:pt x="175" y="517"/>
                  </a:lnTo>
                  <a:lnTo>
                    <a:pt x="154" y="507"/>
                  </a:lnTo>
                  <a:lnTo>
                    <a:pt x="134" y="495"/>
                  </a:lnTo>
                  <a:lnTo>
                    <a:pt x="116" y="484"/>
                  </a:lnTo>
                  <a:lnTo>
                    <a:pt x="99" y="471"/>
                  </a:lnTo>
                  <a:lnTo>
                    <a:pt x="84" y="457"/>
                  </a:lnTo>
                  <a:lnTo>
                    <a:pt x="70" y="443"/>
                  </a:lnTo>
                  <a:lnTo>
                    <a:pt x="58" y="428"/>
                  </a:lnTo>
                  <a:lnTo>
                    <a:pt x="49" y="413"/>
                  </a:lnTo>
                  <a:lnTo>
                    <a:pt x="41" y="397"/>
                  </a:lnTo>
                  <a:lnTo>
                    <a:pt x="35" y="380"/>
                  </a:lnTo>
                  <a:lnTo>
                    <a:pt x="32" y="363"/>
                  </a:lnTo>
                  <a:lnTo>
                    <a:pt x="31" y="345"/>
                  </a:lnTo>
                  <a:lnTo>
                    <a:pt x="32" y="326"/>
                  </a:lnTo>
                  <a:lnTo>
                    <a:pt x="36" y="306"/>
                  </a:lnTo>
                  <a:lnTo>
                    <a:pt x="45" y="287"/>
                  </a:lnTo>
                  <a:lnTo>
                    <a:pt x="55" y="268"/>
                  </a:lnTo>
                  <a:lnTo>
                    <a:pt x="68" y="251"/>
                  </a:lnTo>
                  <a:lnTo>
                    <a:pt x="83" y="235"/>
                  </a:lnTo>
                  <a:lnTo>
                    <a:pt x="100" y="220"/>
                  </a:lnTo>
                  <a:lnTo>
                    <a:pt x="119" y="205"/>
                  </a:lnTo>
                  <a:lnTo>
                    <a:pt x="117" y="215"/>
                  </a:lnTo>
                  <a:lnTo>
                    <a:pt x="116" y="224"/>
                  </a:lnTo>
                  <a:lnTo>
                    <a:pt x="115" y="235"/>
                  </a:lnTo>
                  <a:lnTo>
                    <a:pt x="114" y="245"/>
                  </a:lnTo>
                  <a:lnTo>
                    <a:pt x="112" y="262"/>
                  </a:lnTo>
                  <a:lnTo>
                    <a:pt x="337" y="262"/>
                  </a:lnTo>
                  <a:lnTo>
                    <a:pt x="336" y="244"/>
                  </a:lnTo>
                  <a:lnTo>
                    <a:pt x="336" y="230"/>
                  </a:lnTo>
                  <a:lnTo>
                    <a:pt x="337" y="217"/>
                  </a:lnTo>
                  <a:lnTo>
                    <a:pt x="342" y="206"/>
                  </a:lnTo>
                  <a:lnTo>
                    <a:pt x="347" y="198"/>
                  </a:lnTo>
                  <a:lnTo>
                    <a:pt x="353" y="192"/>
                  </a:lnTo>
                  <a:lnTo>
                    <a:pt x="360" y="189"/>
                  </a:lnTo>
                  <a:lnTo>
                    <a:pt x="367" y="187"/>
                  </a:lnTo>
                  <a:lnTo>
                    <a:pt x="375" y="186"/>
                  </a:lnTo>
                  <a:lnTo>
                    <a:pt x="385" y="187"/>
                  </a:lnTo>
                  <a:lnTo>
                    <a:pt x="394" y="189"/>
                  </a:lnTo>
                  <a:lnTo>
                    <a:pt x="400" y="192"/>
                  </a:lnTo>
                  <a:lnTo>
                    <a:pt x="405" y="195"/>
                  </a:lnTo>
                  <a:lnTo>
                    <a:pt x="407" y="200"/>
                  </a:lnTo>
                  <a:lnTo>
                    <a:pt x="410" y="205"/>
                  </a:lnTo>
                  <a:lnTo>
                    <a:pt x="411" y="209"/>
                  </a:lnTo>
                  <a:lnTo>
                    <a:pt x="411" y="215"/>
                  </a:lnTo>
                  <a:lnTo>
                    <a:pt x="410" y="222"/>
                  </a:lnTo>
                  <a:lnTo>
                    <a:pt x="406" y="229"/>
                  </a:lnTo>
                  <a:lnTo>
                    <a:pt x="402" y="235"/>
                  </a:lnTo>
                  <a:lnTo>
                    <a:pt x="396" y="239"/>
                  </a:lnTo>
                  <a:lnTo>
                    <a:pt x="388" y="245"/>
                  </a:lnTo>
                  <a:lnTo>
                    <a:pt x="379" y="250"/>
                  </a:lnTo>
                  <a:lnTo>
                    <a:pt x="368" y="255"/>
                  </a:lnTo>
                  <a:lnTo>
                    <a:pt x="357" y="260"/>
                  </a:lnTo>
                  <a:lnTo>
                    <a:pt x="336" y="270"/>
                  </a:lnTo>
                  <a:lnTo>
                    <a:pt x="311" y="289"/>
                  </a:lnTo>
                  <a:lnTo>
                    <a:pt x="291" y="311"/>
                  </a:lnTo>
                  <a:lnTo>
                    <a:pt x="278" y="335"/>
                  </a:lnTo>
                  <a:lnTo>
                    <a:pt x="270" y="359"/>
                  </a:lnTo>
                  <a:lnTo>
                    <a:pt x="266" y="383"/>
                  </a:lnTo>
                  <a:lnTo>
                    <a:pt x="263" y="406"/>
                  </a:lnTo>
                  <a:lnTo>
                    <a:pt x="263" y="427"/>
                  </a:lnTo>
                  <a:lnTo>
                    <a:pt x="265" y="444"/>
                  </a:lnTo>
                  <a:lnTo>
                    <a:pt x="265" y="459"/>
                  </a:lnTo>
                  <a:lnTo>
                    <a:pt x="281" y="461"/>
                  </a:lnTo>
                  <a:lnTo>
                    <a:pt x="464" y="461"/>
                  </a:lnTo>
                  <a:lnTo>
                    <a:pt x="464" y="443"/>
                  </a:lnTo>
                  <a:lnTo>
                    <a:pt x="464" y="432"/>
                  </a:lnTo>
                  <a:lnTo>
                    <a:pt x="465" y="421"/>
                  </a:lnTo>
                  <a:lnTo>
                    <a:pt x="467" y="413"/>
                  </a:lnTo>
                  <a:lnTo>
                    <a:pt x="471" y="405"/>
                  </a:lnTo>
                  <a:lnTo>
                    <a:pt x="476" y="398"/>
                  </a:lnTo>
                  <a:lnTo>
                    <a:pt x="483" y="391"/>
                  </a:lnTo>
                  <a:lnTo>
                    <a:pt x="494" y="384"/>
                  </a:lnTo>
                  <a:lnTo>
                    <a:pt x="505" y="378"/>
                  </a:lnTo>
                  <a:lnTo>
                    <a:pt x="509" y="376"/>
                  </a:lnTo>
                  <a:lnTo>
                    <a:pt x="516" y="372"/>
                  </a:lnTo>
                  <a:lnTo>
                    <a:pt x="523" y="368"/>
                  </a:lnTo>
                  <a:lnTo>
                    <a:pt x="526" y="367"/>
                  </a:lnTo>
                  <a:lnTo>
                    <a:pt x="546" y="357"/>
                  </a:lnTo>
                  <a:lnTo>
                    <a:pt x="565" y="345"/>
                  </a:lnTo>
                  <a:lnTo>
                    <a:pt x="584" y="333"/>
                  </a:lnTo>
                  <a:lnTo>
                    <a:pt x="600" y="316"/>
                  </a:lnTo>
                  <a:lnTo>
                    <a:pt x="614" y="297"/>
                  </a:lnTo>
                  <a:lnTo>
                    <a:pt x="625" y="274"/>
                  </a:lnTo>
                  <a:lnTo>
                    <a:pt x="633" y="245"/>
                  </a:lnTo>
                  <a:lnTo>
                    <a:pt x="637" y="210"/>
                  </a:lnTo>
                  <a:lnTo>
                    <a:pt x="654" y="224"/>
                  </a:lnTo>
                  <a:lnTo>
                    <a:pt x="670" y="239"/>
                  </a:lnTo>
                  <a:lnTo>
                    <a:pt x="684" y="255"/>
                  </a:lnTo>
                  <a:lnTo>
                    <a:pt x="695" y="273"/>
                  </a:lnTo>
                  <a:lnTo>
                    <a:pt x="705" y="290"/>
                  </a:lnTo>
                  <a:lnTo>
                    <a:pt x="710" y="307"/>
                  </a:lnTo>
                  <a:lnTo>
                    <a:pt x="715" y="326"/>
                  </a:lnTo>
                  <a:lnTo>
                    <a:pt x="716" y="345"/>
                  </a:lnTo>
                  <a:lnTo>
                    <a:pt x="715" y="364"/>
                  </a:lnTo>
                  <a:lnTo>
                    <a:pt x="710" y="382"/>
                  </a:lnTo>
                  <a:lnTo>
                    <a:pt x="703" y="401"/>
                  </a:lnTo>
                  <a:lnTo>
                    <a:pt x="694" y="418"/>
                  </a:lnTo>
                  <a:lnTo>
                    <a:pt x="683" y="434"/>
                  </a:lnTo>
                  <a:lnTo>
                    <a:pt x="669" y="451"/>
                  </a:lnTo>
                  <a:lnTo>
                    <a:pt x="652" y="466"/>
                  </a:lnTo>
                  <a:lnTo>
                    <a:pt x="633" y="481"/>
                  </a:lnTo>
                  <a:lnTo>
                    <a:pt x="624" y="488"/>
                  </a:lnTo>
                  <a:lnTo>
                    <a:pt x="627" y="499"/>
                  </a:lnTo>
                  <a:lnTo>
                    <a:pt x="635" y="524"/>
                  </a:lnTo>
                  <a:lnTo>
                    <a:pt x="646" y="557"/>
                  </a:lnTo>
                  <a:lnTo>
                    <a:pt x="656" y="588"/>
                  </a:lnTo>
                  <a:lnTo>
                    <a:pt x="640" y="580"/>
                  </a:lnTo>
                  <a:lnTo>
                    <a:pt x="620" y="571"/>
                  </a:lnTo>
                  <a:lnTo>
                    <a:pt x="601" y="561"/>
                  </a:lnTo>
                  <a:lnTo>
                    <a:pt x="582" y="552"/>
                  </a:lnTo>
                  <a:lnTo>
                    <a:pt x="565" y="543"/>
                  </a:lnTo>
                  <a:lnTo>
                    <a:pt x="551" y="537"/>
                  </a:lnTo>
                  <a:lnTo>
                    <a:pt x="542" y="531"/>
                  </a:lnTo>
                  <a:lnTo>
                    <a:pt x="539"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5" name="Freeform 27"/>
            <p:cNvSpPr/>
            <p:nvPr/>
          </p:nvSpPr>
          <p:spPr>
            <a:xfrm>
              <a:off x="2123280" y="2675160"/>
              <a:ext cx="506520" cy="439200"/>
            </a:xfrm>
            <a:custGeom>
              <a:avLst/>
              <a:gdLst>
                <a:gd name="textAreaLeft" fmla="*/ 0 w 506520"/>
                <a:gd name="textAreaRight" fmla="*/ 506880 w 506520"/>
                <a:gd name="textAreaTop" fmla="*/ 0 h 439200"/>
                <a:gd name="textAreaBottom" fmla="*/ 439560 h 439200"/>
              </a:gdLst>
              <a:ahLst/>
              <a:rect l="textAreaLeft" t="textAreaTop" r="textAreaRight" b="textAreaBottom"/>
              <a:pathLst>
                <a:path w="454" h="394">
                  <a:moveTo>
                    <a:pt x="173" y="142"/>
                  </a:moveTo>
                  <a:lnTo>
                    <a:pt x="179" y="136"/>
                  </a:lnTo>
                  <a:lnTo>
                    <a:pt x="185" y="133"/>
                  </a:lnTo>
                  <a:lnTo>
                    <a:pt x="190" y="128"/>
                  </a:lnTo>
                  <a:lnTo>
                    <a:pt x="196" y="126"/>
                  </a:lnTo>
                  <a:lnTo>
                    <a:pt x="203" y="123"/>
                  </a:lnTo>
                  <a:lnTo>
                    <a:pt x="210" y="121"/>
                  </a:lnTo>
                  <a:lnTo>
                    <a:pt x="218" y="120"/>
                  </a:lnTo>
                  <a:lnTo>
                    <a:pt x="226" y="120"/>
                  </a:lnTo>
                  <a:lnTo>
                    <a:pt x="241" y="121"/>
                  </a:lnTo>
                  <a:lnTo>
                    <a:pt x="255" y="124"/>
                  </a:lnTo>
                  <a:lnTo>
                    <a:pt x="266" y="129"/>
                  </a:lnTo>
                  <a:lnTo>
                    <a:pt x="277" y="137"/>
                  </a:lnTo>
                  <a:lnTo>
                    <a:pt x="285" y="145"/>
                  </a:lnTo>
                  <a:lnTo>
                    <a:pt x="291" y="157"/>
                  </a:lnTo>
                  <a:lnTo>
                    <a:pt x="294" y="168"/>
                  </a:lnTo>
                  <a:lnTo>
                    <a:pt x="295" y="182"/>
                  </a:lnTo>
                  <a:lnTo>
                    <a:pt x="293" y="197"/>
                  </a:lnTo>
                  <a:lnTo>
                    <a:pt x="288" y="210"/>
                  </a:lnTo>
                  <a:lnTo>
                    <a:pt x="280" y="221"/>
                  </a:lnTo>
                  <a:lnTo>
                    <a:pt x="270" y="230"/>
                  </a:lnTo>
                  <a:lnTo>
                    <a:pt x="258" y="240"/>
                  </a:lnTo>
                  <a:lnTo>
                    <a:pt x="246" y="247"/>
                  </a:lnTo>
                  <a:lnTo>
                    <a:pt x="234" y="252"/>
                  </a:lnTo>
                  <a:lnTo>
                    <a:pt x="222" y="258"/>
                  </a:lnTo>
                  <a:lnTo>
                    <a:pt x="219" y="259"/>
                  </a:lnTo>
                  <a:lnTo>
                    <a:pt x="212" y="263"/>
                  </a:lnTo>
                  <a:lnTo>
                    <a:pt x="207" y="266"/>
                  </a:lnTo>
                  <a:lnTo>
                    <a:pt x="203" y="267"/>
                  </a:lnTo>
                  <a:lnTo>
                    <a:pt x="187" y="279"/>
                  </a:lnTo>
                  <a:lnTo>
                    <a:pt x="174" y="292"/>
                  </a:lnTo>
                  <a:lnTo>
                    <a:pt x="164" y="307"/>
                  </a:lnTo>
                  <a:lnTo>
                    <a:pt x="157" y="322"/>
                  </a:lnTo>
                  <a:lnTo>
                    <a:pt x="152" y="338"/>
                  </a:lnTo>
                  <a:lnTo>
                    <a:pt x="150" y="354"/>
                  </a:lnTo>
                  <a:lnTo>
                    <a:pt x="148" y="370"/>
                  </a:lnTo>
                  <a:lnTo>
                    <a:pt x="148" y="385"/>
                  </a:lnTo>
                  <a:lnTo>
                    <a:pt x="148" y="387"/>
                  </a:lnTo>
                  <a:lnTo>
                    <a:pt x="148" y="389"/>
                  </a:lnTo>
                  <a:lnTo>
                    <a:pt x="148" y="392"/>
                  </a:lnTo>
                  <a:lnTo>
                    <a:pt x="148" y="394"/>
                  </a:lnTo>
                  <a:lnTo>
                    <a:pt x="159" y="394"/>
                  </a:lnTo>
                  <a:lnTo>
                    <a:pt x="175" y="394"/>
                  </a:lnTo>
                  <a:lnTo>
                    <a:pt x="195" y="394"/>
                  </a:lnTo>
                  <a:lnTo>
                    <a:pt x="216" y="394"/>
                  </a:lnTo>
                  <a:lnTo>
                    <a:pt x="235" y="394"/>
                  </a:lnTo>
                  <a:lnTo>
                    <a:pt x="255" y="394"/>
                  </a:lnTo>
                  <a:lnTo>
                    <a:pt x="271" y="394"/>
                  </a:lnTo>
                  <a:lnTo>
                    <a:pt x="283" y="394"/>
                  </a:lnTo>
                  <a:lnTo>
                    <a:pt x="284" y="381"/>
                  </a:lnTo>
                  <a:lnTo>
                    <a:pt x="287" y="369"/>
                  </a:lnTo>
                  <a:lnTo>
                    <a:pt x="292" y="358"/>
                  </a:lnTo>
                  <a:lnTo>
                    <a:pt x="298" y="349"/>
                  </a:lnTo>
                  <a:lnTo>
                    <a:pt x="306" y="340"/>
                  </a:lnTo>
                  <a:lnTo>
                    <a:pt x="315" y="331"/>
                  </a:lnTo>
                  <a:lnTo>
                    <a:pt x="326" y="323"/>
                  </a:lnTo>
                  <a:lnTo>
                    <a:pt x="340" y="315"/>
                  </a:lnTo>
                  <a:lnTo>
                    <a:pt x="361" y="304"/>
                  </a:lnTo>
                  <a:lnTo>
                    <a:pt x="379" y="294"/>
                  </a:lnTo>
                  <a:lnTo>
                    <a:pt x="398" y="285"/>
                  </a:lnTo>
                  <a:lnTo>
                    <a:pt x="413" y="273"/>
                  </a:lnTo>
                  <a:lnTo>
                    <a:pt x="427" y="259"/>
                  </a:lnTo>
                  <a:lnTo>
                    <a:pt x="438" y="243"/>
                  </a:lnTo>
                  <a:lnTo>
                    <a:pt x="447" y="224"/>
                  </a:lnTo>
                  <a:lnTo>
                    <a:pt x="452" y="199"/>
                  </a:lnTo>
                  <a:lnTo>
                    <a:pt x="454" y="169"/>
                  </a:lnTo>
                  <a:lnTo>
                    <a:pt x="454" y="166"/>
                  </a:lnTo>
                  <a:lnTo>
                    <a:pt x="453" y="162"/>
                  </a:lnTo>
                  <a:lnTo>
                    <a:pt x="453" y="159"/>
                  </a:lnTo>
                  <a:lnTo>
                    <a:pt x="452" y="156"/>
                  </a:lnTo>
                  <a:lnTo>
                    <a:pt x="451" y="145"/>
                  </a:lnTo>
                  <a:lnTo>
                    <a:pt x="448" y="135"/>
                  </a:lnTo>
                  <a:lnTo>
                    <a:pt x="445" y="124"/>
                  </a:lnTo>
                  <a:lnTo>
                    <a:pt x="442" y="114"/>
                  </a:lnTo>
                  <a:lnTo>
                    <a:pt x="436" y="103"/>
                  </a:lnTo>
                  <a:lnTo>
                    <a:pt x="430" y="92"/>
                  </a:lnTo>
                  <a:lnTo>
                    <a:pt x="423" y="81"/>
                  </a:lnTo>
                  <a:lnTo>
                    <a:pt x="415" y="70"/>
                  </a:lnTo>
                  <a:lnTo>
                    <a:pt x="406" y="61"/>
                  </a:lnTo>
                  <a:lnTo>
                    <a:pt x="395" y="51"/>
                  </a:lnTo>
                  <a:lnTo>
                    <a:pt x="384" y="43"/>
                  </a:lnTo>
                  <a:lnTo>
                    <a:pt x="372" y="35"/>
                  </a:lnTo>
                  <a:lnTo>
                    <a:pt x="359" y="27"/>
                  </a:lnTo>
                  <a:lnTo>
                    <a:pt x="344" y="20"/>
                  </a:lnTo>
                  <a:lnTo>
                    <a:pt x="329" y="14"/>
                  </a:lnTo>
                  <a:lnTo>
                    <a:pt x="311" y="9"/>
                  </a:lnTo>
                  <a:lnTo>
                    <a:pt x="294" y="6"/>
                  </a:lnTo>
                  <a:lnTo>
                    <a:pt x="274" y="2"/>
                  </a:lnTo>
                  <a:lnTo>
                    <a:pt x="254" y="1"/>
                  </a:lnTo>
                  <a:lnTo>
                    <a:pt x="232" y="0"/>
                  </a:lnTo>
                  <a:lnTo>
                    <a:pt x="211" y="1"/>
                  </a:lnTo>
                  <a:lnTo>
                    <a:pt x="192" y="2"/>
                  </a:lnTo>
                  <a:lnTo>
                    <a:pt x="173" y="5"/>
                  </a:lnTo>
                  <a:lnTo>
                    <a:pt x="156" y="9"/>
                  </a:lnTo>
                  <a:lnTo>
                    <a:pt x="140" y="14"/>
                  </a:lnTo>
                  <a:lnTo>
                    <a:pt x="125" y="20"/>
                  </a:lnTo>
                  <a:lnTo>
                    <a:pt x="111" y="25"/>
                  </a:lnTo>
                  <a:lnTo>
                    <a:pt x="98" y="32"/>
                  </a:lnTo>
                  <a:lnTo>
                    <a:pt x="87" y="40"/>
                  </a:lnTo>
                  <a:lnTo>
                    <a:pt x="75" y="48"/>
                  </a:lnTo>
                  <a:lnTo>
                    <a:pt x="66" y="58"/>
                  </a:lnTo>
                  <a:lnTo>
                    <a:pt x="57" y="67"/>
                  </a:lnTo>
                  <a:lnTo>
                    <a:pt x="49" y="76"/>
                  </a:lnTo>
                  <a:lnTo>
                    <a:pt x="42" y="86"/>
                  </a:lnTo>
                  <a:lnTo>
                    <a:pt x="35" y="96"/>
                  </a:lnTo>
                  <a:lnTo>
                    <a:pt x="29" y="106"/>
                  </a:lnTo>
                  <a:lnTo>
                    <a:pt x="23" y="116"/>
                  </a:lnTo>
                  <a:lnTo>
                    <a:pt x="19" y="127"/>
                  </a:lnTo>
                  <a:lnTo>
                    <a:pt x="14" y="137"/>
                  </a:lnTo>
                  <a:lnTo>
                    <a:pt x="11" y="148"/>
                  </a:lnTo>
                  <a:lnTo>
                    <a:pt x="7" y="161"/>
                  </a:lnTo>
                  <a:lnTo>
                    <a:pt x="4" y="173"/>
                  </a:lnTo>
                  <a:lnTo>
                    <a:pt x="1" y="186"/>
                  </a:lnTo>
                  <a:lnTo>
                    <a:pt x="0" y="196"/>
                  </a:lnTo>
                  <a:lnTo>
                    <a:pt x="14" y="196"/>
                  </a:lnTo>
                  <a:lnTo>
                    <a:pt x="33" y="196"/>
                  </a:lnTo>
                  <a:lnTo>
                    <a:pt x="54" y="196"/>
                  </a:lnTo>
                  <a:lnTo>
                    <a:pt x="78" y="196"/>
                  </a:lnTo>
                  <a:lnTo>
                    <a:pt x="101" y="196"/>
                  </a:lnTo>
                  <a:lnTo>
                    <a:pt x="122" y="196"/>
                  </a:lnTo>
                  <a:lnTo>
                    <a:pt x="140" y="196"/>
                  </a:lnTo>
                  <a:lnTo>
                    <a:pt x="152" y="196"/>
                  </a:lnTo>
                  <a:lnTo>
                    <a:pt x="155" y="180"/>
                  </a:lnTo>
                  <a:lnTo>
                    <a:pt x="158" y="166"/>
                  </a:lnTo>
                  <a:lnTo>
                    <a:pt x="165" y="153"/>
                  </a:lnTo>
                  <a:lnTo>
                    <a:pt x="173" y="14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6" name="Freeform 28"/>
            <p:cNvSpPr/>
            <p:nvPr/>
          </p:nvSpPr>
          <p:spPr>
            <a:xfrm>
              <a:off x="2286000" y="3213360"/>
              <a:ext cx="173880" cy="176040"/>
            </a:xfrm>
            <a:custGeom>
              <a:avLst/>
              <a:gdLst>
                <a:gd name="textAreaLeft" fmla="*/ 0 w 173880"/>
                <a:gd name="textAreaRight" fmla="*/ 174240 w 173880"/>
                <a:gd name="textAreaTop" fmla="*/ 0 h 176040"/>
                <a:gd name="textAreaBottom" fmla="*/ 176400 h 176040"/>
              </a:gdLst>
              <a:ahLst/>
              <a:rect l="textAreaLeft" t="textAreaTop" r="textAreaRight" b="textAreaBottom"/>
              <a:pathLst>
                <a:path w="157" h="157">
                  <a:moveTo>
                    <a:pt x="144" y="36"/>
                  </a:moveTo>
                  <a:lnTo>
                    <a:pt x="139" y="27"/>
                  </a:lnTo>
                  <a:lnTo>
                    <a:pt x="132" y="21"/>
                  </a:lnTo>
                  <a:lnTo>
                    <a:pt x="125" y="15"/>
                  </a:lnTo>
                  <a:lnTo>
                    <a:pt x="117" y="9"/>
                  </a:lnTo>
                  <a:lnTo>
                    <a:pt x="108" y="6"/>
                  </a:lnTo>
                  <a:lnTo>
                    <a:pt x="98" y="2"/>
                  </a:lnTo>
                  <a:lnTo>
                    <a:pt x="89" y="1"/>
                  </a:lnTo>
                  <a:lnTo>
                    <a:pt x="79" y="0"/>
                  </a:lnTo>
                  <a:lnTo>
                    <a:pt x="68" y="1"/>
                  </a:lnTo>
                  <a:lnTo>
                    <a:pt x="59" y="2"/>
                  </a:lnTo>
                  <a:lnTo>
                    <a:pt x="50" y="6"/>
                  </a:lnTo>
                  <a:lnTo>
                    <a:pt x="41" y="9"/>
                  </a:lnTo>
                  <a:lnTo>
                    <a:pt x="33" y="15"/>
                  </a:lnTo>
                  <a:lnTo>
                    <a:pt x="26" y="21"/>
                  </a:lnTo>
                  <a:lnTo>
                    <a:pt x="19" y="27"/>
                  </a:lnTo>
                  <a:lnTo>
                    <a:pt x="13" y="36"/>
                  </a:lnTo>
                  <a:lnTo>
                    <a:pt x="9" y="42"/>
                  </a:lnTo>
                  <a:lnTo>
                    <a:pt x="6" y="51"/>
                  </a:lnTo>
                  <a:lnTo>
                    <a:pt x="3" y="59"/>
                  </a:lnTo>
                  <a:lnTo>
                    <a:pt x="2" y="67"/>
                  </a:lnTo>
                  <a:lnTo>
                    <a:pt x="0" y="69"/>
                  </a:lnTo>
                  <a:lnTo>
                    <a:pt x="0" y="72"/>
                  </a:lnTo>
                  <a:lnTo>
                    <a:pt x="0" y="75"/>
                  </a:lnTo>
                  <a:lnTo>
                    <a:pt x="0" y="78"/>
                  </a:lnTo>
                  <a:lnTo>
                    <a:pt x="2" y="94"/>
                  </a:lnTo>
                  <a:lnTo>
                    <a:pt x="6" y="108"/>
                  </a:lnTo>
                  <a:lnTo>
                    <a:pt x="13" y="122"/>
                  </a:lnTo>
                  <a:lnTo>
                    <a:pt x="24" y="133"/>
                  </a:lnTo>
                  <a:lnTo>
                    <a:pt x="35" y="143"/>
                  </a:lnTo>
                  <a:lnTo>
                    <a:pt x="48" y="151"/>
                  </a:lnTo>
                  <a:lnTo>
                    <a:pt x="63" y="155"/>
                  </a:lnTo>
                  <a:lnTo>
                    <a:pt x="79" y="157"/>
                  </a:lnTo>
                  <a:lnTo>
                    <a:pt x="95" y="155"/>
                  </a:lnTo>
                  <a:lnTo>
                    <a:pt x="109" y="151"/>
                  </a:lnTo>
                  <a:lnTo>
                    <a:pt x="123" y="143"/>
                  </a:lnTo>
                  <a:lnTo>
                    <a:pt x="134" y="133"/>
                  </a:lnTo>
                  <a:lnTo>
                    <a:pt x="143" y="122"/>
                  </a:lnTo>
                  <a:lnTo>
                    <a:pt x="151" y="108"/>
                  </a:lnTo>
                  <a:lnTo>
                    <a:pt x="156" y="94"/>
                  </a:lnTo>
                  <a:lnTo>
                    <a:pt x="157" y="78"/>
                  </a:lnTo>
                  <a:lnTo>
                    <a:pt x="157" y="75"/>
                  </a:lnTo>
                  <a:lnTo>
                    <a:pt x="157" y="72"/>
                  </a:lnTo>
                  <a:lnTo>
                    <a:pt x="156" y="69"/>
                  </a:lnTo>
                  <a:lnTo>
                    <a:pt x="156" y="67"/>
                  </a:lnTo>
                  <a:lnTo>
                    <a:pt x="154" y="59"/>
                  </a:lnTo>
                  <a:lnTo>
                    <a:pt x="151" y="51"/>
                  </a:lnTo>
                  <a:lnTo>
                    <a:pt x="148" y="42"/>
                  </a:lnTo>
                  <a:lnTo>
                    <a:pt x="144" y="36"/>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7" name="Freeform 29"/>
            <p:cNvSpPr/>
            <p:nvPr/>
          </p:nvSpPr>
          <p:spPr>
            <a:xfrm>
              <a:off x="2330640" y="2909520"/>
              <a:ext cx="2520" cy="21960"/>
            </a:xfrm>
            <a:custGeom>
              <a:avLst/>
              <a:gdLst>
                <a:gd name="textAreaLeft" fmla="*/ 0 w 2520"/>
                <a:gd name="textAreaRight" fmla="*/ 2880 w 2520"/>
                <a:gd name="textAreaTop" fmla="*/ 0 h 21960"/>
                <a:gd name="textAreaBottom" fmla="*/ 22320 h 21960"/>
              </a:gdLst>
              <a:ahLst/>
              <a:rect l="textAreaLeft" t="textAreaTop" r="textAreaRight" b="textAreaBottom"/>
              <a:pathLst>
                <a:path w="1" h="18">
                  <a:moveTo>
                    <a:pt x="0" y="0"/>
                  </a:moveTo>
                  <a:lnTo>
                    <a:pt x="0" y="0"/>
                  </a:lnTo>
                  <a:lnTo>
                    <a:pt x="1" y="18"/>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000" spc="-1" strike="noStrike">
                <a:solidFill>
                  <a:srgbClr val="000000"/>
                </a:solidFill>
                <a:latin typeface="Arial"/>
              </a:endParaRPr>
            </a:p>
          </p:txBody>
        </p:sp>
        <p:sp>
          <p:nvSpPr>
            <p:cNvPr id="878" name="Freeform 30"/>
            <p:cNvSpPr/>
            <p:nvPr/>
          </p:nvSpPr>
          <p:spPr>
            <a:xfrm>
              <a:off x="2665800" y="290304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1"/>
                  </a:moveTo>
                  <a:lnTo>
                    <a:pt x="0"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1" lang="en-US" sz="2000" spc="-1" strike="noStrike">
                <a:solidFill>
                  <a:srgbClr val="000000"/>
                </a:solidFill>
                <a:latin typeface="Arial"/>
              </a:endParaRPr>
            </a:p>
          </p:txBody>
        </p:sp>
        <p:sp>
          <p:nvSpPr>
            <p:cNvPr id="879" name="Freeform 32"/>
            <p:cNvSpPr/>
            <p:nvPr/>
          </p:nvSpPr>
          <p:spPr>
            <a:xfrm>
              <a:off x="2665800" y="2878200"/>
              <a:ext cx="1800" cy="9000"/>
            </a:xfrm>
            <a:custGeom>
              <a:avLst/>
              <a:gdLst>
                <a:gd name="textAreaLeft" fmla="*/ 0 w 1800"/>
                <a:gd name="textAreaRight" fmla="*/ 2160 w 1800"/>
                <a:gd name="textAreaTop" fmla="*/ 0 h 9000"/>
                <a:gd name="textAreaBottom" fmla="*/ 9360 h 9000"/>
              </a:gdLst>
              <a:ahLst/>
              <a:rect l="textAreaLeft" t="textAreaTop" r="textAreaRight" b="textAreaBottom"/>
              <a:pathLst>
                <a:path w="2" h="8">
                  <a:moveTo>
                    <a:pt x="0" y="8"/>
                  </a:moveTo>
                  <a:lnTo>
                    <a:pt x="2" y="6"/>
                  </a:lnTo>
                  <a:lnTo>
                    <a:pt x="2" y="4"/>
                  </a:lnTo>
                  <a:lnTo>
                    <a:pt x="2" y="2"/>
                  </a:lnTo>
                  <a:lnTo>
                    <a:pt x="2" y="0"/>
                  </a:lnTo>
                  <a:lnTo>
                    <a:pt x="2" y="2"/>
                  </a:lnTo>
                  <a:lnTo>
                    <a:pt x="2" y="4"/>
                  </a:lnTo>
                  <a:lnTo>
                    <a:pt x="2" y="6"/>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000" spc="-1" strike="noStrike">
                <a:solidFill>
                  <a:srgbClr val="000000"/>
                </a:solidFill>
                <a:latin typeface="Arial"/>
              </a:endParaRPr>
            </a:p>
          </p:txBody>
        </p:sp>
        <p:sp>
          <p:nvSpPr>
            <p:cNvPr id="880" name="Freeform 34"/>
            <p:cNvSpPr/>
            <p:nvPr/>
          </p:nvSpPr>
          <p:spPr>
            <a:xfrm>
              <a:off x="2330640" y="2844720"/>
              <a:ext cx="82440" cy="64800"/>
            </a:xfrm>
            <a:custGeom>
              <a:avLst/>
              <a:gdLst>
                <a:gd name="textAreaLeft" fmla="*/ 0 w 82440"/>
                <a:gd name="textAreaRight" fmla="*/ 82440 w 82440"/>
                <a:gd name="textAreaTop" fmla="*/ 0 h 64800"/>
                <a:gd name="textAreaBottom" fmla="*/ 65160 h 64800"/>
              </a:gdLst>
              <a:ahLst/>
              <a:rect l="textAreaLeft" t="textAreaTop" r="textAreaRight" b="textAreaBottom"/>
              <a:pathLst>
                <a:path w="74" h="59">
                  <a:moveTo>
                    <a:pt x="11" y="13"/>
                  </a:moveTo>
                  <a:lnTo>
                    <a:pt x="17" y="7"/>
                  </a:lnTo>
                  <a:lnTo>
                    <a:pt x="24" y="4"/>
                  </a:lnTo>
                  <a:lnTo>
                    <a:pt x="31" y="2"/>
                  </a:lnTo>
                  <a:lnTo>
                    <a:pt x="39" y="1"/>
                  </a:lnTo>
                  <a:lnTo>
                    <a:pt x="47" y="1"/>
                  </a:lnTo>
                  <a:lnTo>
                    <a:pt x="54" y="2"/>
                  </a:lnTo>
                  <a:lnTo>
                    <a:pt x="59" y="5"/>
                  </a:lnTo>
                  <a:lnTo>
                    <a:pt x="63" y="6"/>
                  </a:lnTo>
                  <a:lnTo>
                    <a:pt x="67" y="9"/>
                  </a:lnTo>
                  <a:lnTo>
                    <a:pt x="70" y="12"/>
                  </a:lnTo>
                  <a:lnTo>
                    <a:pt x="73" y="15"/>
                  </a:lnTo>
                  <a:lnTo>
                    <a:pt x="74" y="19"/>
                  </a:lnTo>
                  <a:lnTo>
                    <a:pt x="73" y="15"/>
                  </a:lnTo>
                  <a:lnTo>
                    <a:pt x="70" y="12"/>
                  </a:lnTo>
                  <a:lnTo>
                    <a:pt x="67" y="8"/>
                  </a:lnTo>
                  <a:lnTo>
                    <a:pt x="63" y="6"/>
                  </a:lnTo>
                  <a:lnTo>
                    <a:pt x="59" y="4"/>
                  </a:lnTo>
                  <a:lnTo>
                    <a:pt x="54" y="1"/>
                  </a:lnTo>
                  <a:lnTo>
                    <a:pt x="47" y="0"/>
                  </a:lnTo>
                  <a:lnTo>
                    <a:pt x="39" y="0"/>
                  </a:lnTo>
                  <a:lnTo>
                    <a:pt x="31" y="1"/>
                  </a:lnTo>
                  <a:lnTo>
                    <a:pt x="24" y="4"/>
                  </a:lnTo>
                  <a:lnTo>
                    <a:pt x="17" y="7"/>
                  </a:lnTo>
                  <a:lnTo>
                    <a:pt x="11" y="12"/>
                  </a:lnTo>
                  <a:lnTo>
                    <a:pt x="6" y="21"/>
                  </a:lnTo>
                  <a:lnTo>
                    <a:pt x="1" y="31"/>
                  </a:lnTo>
                  <a:lnTo>
                    <a:pt x="0" y="45"/>
                  </a:lnTo>
                  <a:lnTo>
                    <a:pt x="0" y="59"/>
                  </a:lnTo>
                  <a:lnTo>
                    <a:pt x="0" y="45"/>
                  </a:lnTo>
                  <a:lnTo>
                    <a:pt x="1" y="32"/>
                  </a:lnTo>
                  <a:lnTo>
                    <a:pt x="6" y="21"/>
                  </a:lnTo>
                  <a:lnTo>
                    <a:pt x="11" y="13"/>
                  </a:lnTo>
                  <a:close/>
                </a:path>
              </a:pathLst>
            </a:custGeom>
            <a:solidFill>
              <a:srgbClr val="cccccc"/>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881" name="Rectangle 35"/>
            <p:cNvSpPr/>
            <p:nvPr/>
          </p:nvSpPr>
          <p:spPr>
            <a:xfrm>
              <a:off x="2100960" y="2931840"/>
              <a:ext cx="232200" cy="1800"/>
            </a:xfrm>
            <a:prstGeom prst="rect">
              <a:avLst/>
            </a:prstGeom>
            <a:solidFill>
              <a:srgbClr val="cccccc"/>
            </a:solidFill>
            <a:ln w="0">
              <a:noFill/>
            </a:ln>
          </p:spPr>
          <p:style>
            <a:lnRef idx="0"/>
            <a:fillRef idx="0"/>
            <a:effectRef idx="0"/>
            <a:fontRef idx="minor"/>
          </p:style>
          <p:txBody>
            <a:bodyPr lIns="90000" rIns="90000" tIns="-45000" bIns="-45000"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2" name="Freeform 38"/>
            <p:cNvSpPr/>
            <p:nvPr/>
          </p:nvSpPr>
          <p:spPr>
            <a:xfrm>
              <a:off x="2665800" y="2887200"/>
              <a:ext cx="1800" cy="15480"/>
            </a:xfrm>
            <a:custGeom>
              <a:avLst/>
              <a:gdLst>
                <a:gd name="textAreaLeft" fmla="*/ 0 w 1800"/>
                <a:gd name="textAreaRight" fmla="*/ 2160 w 1800"/>
                <a:gd name="textAreaTop" fmla="*/ 0 h 15480"/>
                <a:gd name="textAreaBottom" fmla="*/ 15840 h 15480"/>
              </a:gdLst>
              <a:ahLst/>
              <a:rect l="textAreaLeft" t="textAreaTop" r="textAreaRight" b="textAreaBottom"/>
              <a:pathLst>
                <a:path w="1" h="14">
                  <a:moveTo>
                    <a:pt x="0" y="14"/>
                  </a:moveTo>
                  <a:lnTo>
                    <a:pt x="1" y="11"/>
                  </a:lnTo>
                  <a:lnTo>
                    <a:pt x="1" y="7"/>
                  </a:lnTo>
                  <a:lnTo>
                    <a:pt x="1" y="4"/>
                  </a:lnTo>
                  <a:lnTo>
                    <a:pt x="1" y="0"/>
                  </a:lnTo>
                  <a:lnTo>
                    <a:pt x="1" y="4"/>
                  </a:lnTo>
                  <a:lnTo>
                    <a:pt x="1" y="7"/>
                  </a:lnTo>
                  <a:lnTo>
                    <a:pt x="1" y="11"/>
                  </a:lnTo>
                  <a:lnTo>
                    <a:pt x="0" y="14"/>
                  </a:lnTo>
                  <a:close/>
                </a:path>
              </a:pathLst>
            </a:custGeom>
            <a:solidFill>
              <a:srgbClr val="cccccc"/>
            </a:solidFill>
            <a:ln w="0">
              <a:noFill/>
            </a:ln>
          </p:spPr>
          <p:style>
            <a:lnRef idx="0"/>
            <a:fillRef idx="0"/>
            <a:effectRef idx="0"/>
            <a:fontRef idx="minor"/>
          </p:style>
          <p:txBody>
            <a:bodyPr lIns="90000" rIns="90000" tIns="-30960" bIns="-30960" anchor="t">
              <a:noAutofit/>
            </a:bodyPr>
            <a:p>
              <a:endParaRPr b="1" lang="en-US" sz="2000" spc="-1" strike="noStrike">
                <a:solidFill>
                  <a:srgbClr val="000000"/>
                </a:solidFill>
                <a:latin typeface="Arial"/>
              </a:endParaRPr>
            </a:p>
          </p:txBody>
        </p:sp>
        <p:sp>
          <p:nvSpPr>
            <p:cNvPr id="883" name="Freeform 40"/>
            <p:cNvSpPr/>
            <p:nvPr/>
          </p:nvSpPr>
          <p:spPr>
            <a:xfrm>
              <a:off x="2250360" y="2864880"/>
              <a:ext cx="183240" cy="285480"/>
            </a:xfrm>
            <a:custGeom>
              <a:avLst/>
              <a:gdLst>
                <a:gd name="textAreaLeft" fmla="*/ 0 w 183240"/>
                <a:gd name="textAreaRight" fmla="*/ 183600 w 183240"/>
                <a:gd name="textAreaTop" fmla="*/ 0 h 285480"/>
                <a:gd name="textAreaBottom" fmla="*/ 285840 h 285480"/>
              </a:gdLst>
              <a:ahLst/>
              <a:rect l="textAreaLeft" t="textAreaTop" r="textAreaRight" b="textAreaBottom"/>
              <a:pathLst>
                <a:path w="164" h="255">
                  <a:moveTo>
                    <a:pt x="147" y="4"/>
                  </a:moveTo>
                  <a:lnTo>
                    <a:pt x="147" y="5"/>
                  </a:lnTo>
                  <a:lnTo>
                    <a:pt x="148" y="5"/>
                  </a:lnTo>
                  <a:lnTo>
                    <a:pt x="148" y="6"/>
                  </a:lnTo>
                  <a:lnTo>
                    <a:pt x="148" y="9"/>
                  </a:lnTo>
                  <a:lnTo>
                    <a:pt x="148" y="10"/>
                  </a:lnTo>
                  <a:lnTo>
                    <a:pt x="148" y="11"/>
                  </a:lnTo>
                  <a:lnTo>
                    <a:pt x="147" y="18"/>
                  </a:lnTo>
                  <a:lnTo>
                    <a:pt x="143" y="25"/>
                  </a:lnTo>
                  <a:lnTo>
                    <a:pt x="139" y="31"/>
                  </a:lnTo>
                  <a:lnTo>
                    <a:pt x="133" y="35"/>
                  </a:lnTo>
                  <a:lnTo>
                    <a:pt x="125" y="41"/>
                  </a:lnTo>
                  <a:lnTo>
                    <a:pt x="116" y="46"/>
                  </a:lnTo>
                  <a:lnTo>
                    <a:pt x="105" y="51"/>
                  </a:lnTo>
                  <a:lnTo>
                    <a:pt x="94" y="56"/>
                  </a:lnTo>
                  <a:lnTo>
                    <a:pt x="89" y="58"/>
                  </a:lnTo>
                  <a:lnTo>
                    <a:pt x="90" y="74"/>
                  </a:lnTo>
                  <a:lnTo>
                    <a:pt x="60" y="74"/>
                  </a:lnTo>
                  <a:lnTo>
                    <a:pt x="40" y="93"/>
                  </a:lnTo>
                  <a:lnTo>
                    <a:pt x="23" y="114"/>
                  </a:lnTo>
                  <a:lnTo>
                    <a:pt x="13" y="137"/>
                  </a:lnTo>
                  <a:lnTo>
                    <a:pt x="6" y="161"/>
                  </a:lnTo>
                  <a:lnTo>
                    <a:pt x="2" y="184"/>
                  </a:lnTo>
                  <a:lnTo>
                    <a:pt x="0" y="205"/>
                  </a:lnTo>
                  <a:lnTo>
                    <a:pt x="0" y="224"/>
                  </a:lnTo>
                  <a:lnTo>
                    <a:pt x="2" y="240"/>
                  </a:lnTo>
                  <a:lnTo>
                    <a:pt x="2" y="255"/>
                  </a:lnTo>
                  <a:lnTo>
                    <a:pt x="18" y="255"/>
                  </a:lnTo>
                  <a:lnTo>
                    <a:pt x="17" y="238"/>
                  </a:lnTo>
                  <a:lnTo>
                    <a:pt x="17" y="217"/>
                  </a:lnTo>
                  <a:lnTo>
                    <a:pt x="19" y="194"/>
                  </a:lnTo>
                  <a:lnTo>
                    <a:pt x="23" y="170"/>
                  </a:lnTo>
                  <a:lnTo>
                    <a:pt x="31" y="146"/>
                  </a:lnTo>
                  <a:lnTo>
                    <a:pt x="44" y="122"/>
                  </a:lnTo>
                  <a:lnTo>
                    <a:pt x="64" y="100"/>
                  </a:lnTo>
                  <a:lnTo>
                    <a:pt x="89" y="81"/>
                  </a:lnTo>
                  <a:lnTo>
                    <a:pt x="110" y="72"/>
                  </a:lnTo>
                  <a:lnTo>
                    <a:pt x="121" y="68"/>
                  </a:lnTo>
                  <a:lnTo>
                    <a:pt x="132" y="62"/>
                  </a:lnTo>
                  <a:lnTo>
                    <a:pt x="141" y="57"/>
                  </a:lnTo>
                  <a:lnTo>
                    <a:pt x="149" y="51"/>
                  </a:lnTo>
                  <a:lnTo>
                    <a:pt x="155" y="46"/>
                  </a:lnTo>
                  <a:lnTo>
                    <a:pt x="159" y="40"/>
                  </a:lnTo>
                  <a:lnTo>
                    <a:pt x="163" y="33"/>
                  </a:lnTo>
                  <a:lnTo>
                    <a:pt x="164" y="26"/>
                  </a:lnTo>
                  <a:lnTo>
                    <a:pt x="163" y="19"/>
                  </a:lnTo>
                  <a:lnTo>
                    <a:pt x="160" y="11"/>
                  </a:lnTo>
                  <a:lnTo>
                    <a:pt x="156" y="5"/>
                  </a:lnTo>
                  <a:lnTo>
                    <a:pt x="147" y="0"/>
                  </a:lnTo>
                  <a:lnTo>
                    <a:pt x="147" y="1"/>
                  </a:lnTo>
                  <a:lnTo>
                    <a:pt x="147" y="2"/>
                  </a:lnTo>
                  <a:lnTo>
                    <a:pt x="147" y="3"/>
                  </a:lnTo>
                  <a:lnTo>
                    <a:pt x="14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4" name="Freeform 41"/>
            <p:cNvSpPr/>
            <p:nvPr/>
          </p:nvSpPr>
          <p:spPr>
            <a:xfrm>
              <a:off x="2413080" y="2867040"/>
              <a:ext cx="2520" cy="4320"/>
            </a:xfrm>
            <a:custGeom>
              <a:avLst/>
              <a:gdLst>
                <a:gd name="textAreaLeft" fmla="*/ 0 w 2520"/>
                <a:gd name="textAreaRight" fmla="*/ 2880 w 2520"/>
                <a:gd name="textAreaTop" fmla="*/ 0 h 4320"/>
                <a:gd name="textAreaBottom" fmla="*/ 4680 h 4320"/>
              </a:gdLst>
              <a:ahLst/>
              <a:rect l="textAreaLeft" t="textAreaTop" r="textAreaRight" b="textAreaBottom"/>
              <a:pathLst>
                <a:path w="1" h="2">
                  <a:moveTo>
                    <a:pt x="0" y="0"/>
                  </a:moveTo>
                  <a:lnTo>
                    <a:pt x="0" y="1"/>
                  </a:lnTo>
                  <a:lnTo>
                    <a:pt x="0" y="2"/>
                  </a:lnTo>
                  <a:lnTo>
                    <a:pt x="0" y="1"/>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2000" spc="-1" strike="noStrike">
                <a:solidFill>
                  <a:srgbClr val="000000"/>
                </a:solidFill>
                <a:latin typeface="Arial"/>
              </a:endParaRPr>
            </a:p>
          </p:txBody>
        </p:sp>
        <p:sp>
          <p:nvSpPr>
            <p:cNvPr id="885" name="Freeform 42"/>
            <p:cNvSpPr/>
            <p:nvPr/>
          </p:nvSpPr>
          <p:spPr>
            <a:xfrm>
              <a:off x="2250360" y="2949480"/>
              <a:ext cx="67320" cy="200880"/>
            </a:xfrm>
            <a:custGeom>
              <a:avLst/>
              <a:gdLst>
                <a:gd name="textAreaLeft" fmla="*/ 0 w 67320"/>
                <a:gd name="textAreaRight" fmla="*/ 67680 w 67320"/>
                <a:gd name="textAreaTop" fmla="*/ 0 h 200880"/>
                <a:gd name="textAreaBottom" fmla="*/ 201240 h 200880"/>
              </a:gdLst>
              <a:ahLst/>
              <a:rect l="textAreaLeft" t="textAreaTop" r="textAreaRight" b="textAreaBottom"/>
              <a:pathLst>
                <a:path w="60" h="181">
                  <a:moveTo>
                    <a:pt x="60" y="0"/>
                  </a:moveTo>
                  <a:lnTo>
                    <a:pt x="59" y="0"/>
                  </a:lnTo>
                  <a:lnTo>
                    <a:pt x="38" y="19"/>
                  </a:lnTo>
                  <a:lnTo>
                    <a:pt x="22" y="41"/>
                  </a:lnTo>
                  <a:lnTo>
                    <a:pt x="12" y="63"/>
                  </a:lnTo>
                  <a:lnTo>
                    <a:pt x="5" y="86"/>
                  </a:lnTo>
                  <a:lnTo>
                    <a:pt x="2" y="109"/>
                  </a:lnTo>
                  <a:lnTo>
                    <a:pt x="0" y="131"/>
                  </a:lnTo>
                  <a:lnTo>
                    <a:pt x="0" y="149"/>
                  </a:lnTo>
                  <a:lnTo>
                    <a:pt x="2" y="165"/>
                  </a:lnTo>
                  <a:lnTo>
                    <a:pt x="2" y="181"/>
                  </a:lnTo>
                  <a:lnTo>
                    <a:pt x="2" y="166"/>
                  </a:lnTo>
                  <a:lnTo>
                    <a:pt x="0" y="150"/>
                  </a:lnTo>
                  <a:lnTo>
                    <a:pt x="0" y="131"/>
                  </a:lnTo>
                  <a:lnTo>
                    <a:pt x="2" y="110"/>
                  </a:lnTo>
                  <a:lnTo>
                    <a:pt x="6" y="87"/>
                  </a:lnTo>
                  <a:lnTo>
                    <a:pt x="13" y="63"/>
                  </a:lnTo>
                  <a:lnTo>
                    <a:pt x="23" y="40"/>
                  </a:lnTo>
                  <a:lnTo>
                    <a:pt x="40" y="19"/>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6" name="Freeform 43"/>
            <p:cNvSpPr/>
            <p:nvPr/>
          </p:nvSpPr>
          <p:spPr>
            <a:xfrm>
              <a:off x="2350800" y="2871360"/>
              <a:ext cx="64800" cy="60120"/>
            </a:xfrm>
            <a:custGeom>
              <a:avLst/>
              <a:gdLst>
                <a:gd name="textAreaLeft" fmla="*/ 0 w 64800"/>
                <a:gd name="textAreaRight" fmla="*/ 65160 w 64800"/>
                <a:gd name="textAreaTop" fmla="*/ 0 h 60120"/>
                <a:gd name="textAreaBottom" fmla="*/ 60480 h 60120"/>
              </a:gdLst>
              <a:ahLst/>
              <a:rect l="textAreaLeft" t="textAreaTop" r="textAreaRight" b="textAreaBottom"/>
              <a:pathLst>
                <a:path w="59" h="53">
                  <a:moveTo>
                    <a:pt x="5" y="51"/>
                  </a:moveTo>
                  <a:lnTo>
                    <a:pt x="16" y="46"/>
                  </a:lnTo>
                  <a:lnTo>
                    <a:pt x="27" y="41"/>
                  </a:lnTo>
                  <a:lnTo>
                    <a:pt x="36" y="36"/>
                  </a:lnTo>
                  <a:lnTo>
                    <a:pt x="44" y="30"/>
                  </a:lnTo>
                  <a:lnTo>
                    <a:pt x="50" y="26"/>
                  </a:lnTo>
                  <a:lnTo>
                    <a:pt x="54" y="20"/>
                  </a:lnTo>
                  <a:lnTo>
                    <a:pt x="58" y="13"/>
                  </a:lnTo>
                  <a:lnTo>
                    <a:pt x="59" y="6"/>
                  </a:lnTo>
                  <a:lnTo>
                    <a:pt x="59" y="5"/>
                  </a:lnTo>
                  <a:lnTo>
                    <a:pt x="59" y="4"/>
                  </a:lnTo>
                  <a:lnTo>
                    <a:pt x="59" y="1"/>
                  </a:lnTo>
                  <a:lnTo>
                    <a:pt x="59" y="0"/>
                  </a:lnTo>
                  <a:lnTo>
                    <a:pt x="59" y="1"/>
                  </a:lnTo>
                  <a:lnTo>
                    <a:pt x="59" y="3"/>
                  </a:lnTo>
                  <a:lnTo>
                    <a:pt x="59" y="4"/>
                  </a:lnTo>
                  <a:lnTo>
                    <a:pt x="59" y="5"/>
                  </a:lnTo>
                  <a:lnTo>
                    <a:pt x="58" y="12"/>
                  </a:lnTo>
                  <a:lnTo>
                    <a:pt x="54" y="19"/>
                  </a:lnTo>
                  <a:lnTo>
                    <a:pt x="50" y="25"/>
                  </a:lnTo>
                  <a:lnTo>
                    <a:pt x="44" y="30"/>
                  </a:lnTo>
                  <a:lnTo>
                    <a:pt x="36" y="36"/>
                  </a:lnTo>
                  <a:lnTo>
                    <a:pt x="27" y="41"/>
                  </a:lnTo>
                  <a:lnTo>
                    <a:pt x="16" y="46"/>
                  </a:lnTo>
                  <a:lnTo>
                    <a:pt x="5" y="51"/>
                  </a:lnTo>
                  <a:lnTo>
                    <a:pt x="0" y="53"/>
                  </a:lnTo>
                  <a:lnTo>
                    <a:pt x="5" y="51"/>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887" name="Freeform 44"/>
            <p:cNvSpPr/>
            <p:nvPr/>
          </p:nvSpPr>
          <p:spPr>
            <a:xfrm>
              <a:off x="2317680" y="2931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0" y="16"/>
                  </a:moveTo>
                  <a:lnTo>
                    <a:pt x="30" y="16"/>
                  </a:lnTo>
                  <a:lnTo>
                    <a:pt x="29" y="0"/>
                  </a:lnTo>
                  <a:lnTo>
                    <a:pt x="13" y="8"/>
                  </a:lnTo>
                  <a:lnTo>
                    <a:pt x="9" y="11"/>
                  </a:lnTo>
                  <a:lnTo>
                    <a:pt x="7" y="12"/>
                  </a:lnTo>
                  <a:lnTo>
                    <a:pt x="4" y="14"/>
                  </a:lnTo>
                  <a:lnTo>
                    <a:pt x="0"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888" name="Freeform 45"/>
            <p:cNvSpPr/>
            <p:nvPr/>
          </p:nvSpPr>
          <p:spPr>
            <a:xfrm>
              <a:off x="2317680" y="2931840"/>
              <a:ext cx="33120" cy="17640"/>
            </a:xfrm>
            <a:custGeom>
              <a:avLst/>
              <a:gdLst>
                <a:gd name="textAreaLeft" fmla="*/ 0 w 33120"/>
                <a:gd name="textAreaRight" fmla="*/ 33480 w 33120"/>
                <a:gd name="textAreaTop" fmla="*/ 0 h 17640"/>
                <a:gd name="textAreaBottom" fmla="*/ 18000 h 17640"/>
              </a:gdLst>
              <a:ahLst/>
              <a:rect l="textAreaLeft" t="textAreaTop" r="textAreaRight" b="textAreaBottom"/>
              <a:pathLst>
                <a:path w="30" h="16">
                  <a:moveTo>
                    <a:pt x="14" y="8"/>
                  </a:moveTo>
                  <a:lnTo>
                    <a:pt x="30" y="0"/>
                  </a:lnTo>
                  <a:lnTo>
                    <a:pt x="14" y="7"/>
                  </a:lnTo>
                  <a:lnTo>
                    <a:pt x="10" y="10"/>
                  </a:lnTo>
                  <a:lnTo>
                    <a:pt x="7" y="12"/>
                  </a:lnTo>
                  <a:lnTo>
                    <a:pt x="4" y="14"/>
                  </a:lnTo>
                  <a:lnTo>
                    <a:pt x="0" y="16"/>
                  </a:lnTo>
                  <a:lnTo>
                    <a:pt x="1" y="16"/>
                  </a:lnTo>
                  <a:lnTo>
                    <a:pt x="5" y="14"/>
                  </a:lnTo>
                  <a:lnTo>
                    <a:pt x="8" y="12"/>
                  </a:lnTo>
                  <a:lnTo>
                    <a:pt x="10" y="11"/>
                  </a:lnTo>
                  <a:lnTo>
                    <a:pt x="14"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889" name="Freeform 46"/>
            <p:cNvSpPr/>
            <p:nvPr/>
          </p:nvSpPr>
          <p:spPr>
            <a:xfrm>
              <a:off x="2328480" y="3235680"/>
              <a:ext cx="109080" cy="126720"/>
            </a:xfrm>
            <a:custGeom>
              <a:avLst/>
              <a:gdLst>
                <a:gd name="textAreaLeft" fmla="*/ 0 w 109080"/>
                <a:gd name="textAreaRight" fmla="*/ 109440 w 109080"/>
                <a:gd name="textAreaTop" fmla="*/ 0 h 126720"/>
                <a:gd name="textAreaBottom" fmla="*/ 127080 h 126720"/>
              </a:gdLst>
              <a:ahLst/>
              <a:rect l="textAreaLeft" t="textAreaTop" r="textAreaRight" b="textAreaBottom"/>
              <a:pathLst>
                <a:path w="98" h="114">
                  <a:moveTo>
                    <a:pt x="98" y="60"/>
                  </a:moveTo>
                  <a:lnTo>
                    <a:pt x="97" y="49"/>
                  </a:lnTo>
                  <a:lnTo>
                    <a:pt x="94" y="37"/>
                  </a:lnTo>
                  <a:lnTo>
                    <a:pt x="88" y="27"/>
                  </a:lnTo>
                  <a:lnTo>
                    <a:pt x="81" y="18"/>
                  </a:lnTo>
                  <a:lnTo>
                    <a:pt x="72" y="11"/>
                  </a:lnTo>
                  <a:lnTo>
                    <a:pt x="62" y="5"/>
                  </a:lnTo>
                  <a:lnTo>
                    <a:pt x="51" y="1"/>
                  </a:lnTo>
                  <a:lnTo>
                    <a:pt x="39" y="0"/>
                  </a:lnTo>
                  <a:lnTo>
                    <a:pt x="34" y="0"/>
                  </a:lnTo>
                  <a:lnTo>
                    <a:pt x="28" y="1"/>
                  </a:lnTo>
                  <a:lnTo>
                    <a:pt x="24" y="3"/>
                  </a:lnTo>
                  <a:lnTo>
                    <a:pt x="18" y="4"/>
                  </a:lnTo>
                  <a:lnTo>
                    <a:pt x="13" y="6"/>
                  </a:lnTo>
                  <a:lnTo>
                    <a:pt x="9" y="8"/>
                  </a:lnTo>
                  <a:lnTo>
                    <a:pt x="5" y="11"/>
                  </a:lnTo>
                  <a:lnTo>
                    <a:pt x="0" y="14"/>
                  </a:lnTo>
                  <a:lnTo>
                    <a:pt x="6" y="13"/>
                  </a:lnTo>
                  <a:lnTo>
                    <a:pt x="11" y="12"/>
                  </a:lnTo>
                  <a:lnTo>
                    <a:pt x="17" y="11"/>
                  </a:lnTo>
                  <a:lnTo>
                    <a:pt x="21" y="11"/>
                  </a:lnTo>
                  <a:lnTo>
                    <a:pt x="34" y="12"/>
                  </a:lnTo>
                  <a:lnTo>
                    <a:pt x="45" y="15"/>
                  </a:lnTo>
                  <a:lnTo>
                    <a:pt x="56" y="21"/>
                  </a:lnTo>
                  <a:lnTo>
                    <a:pt x="65" y="29"/>
                  </a:lnTo>
                  <a:lnTo>
                    <a:pt x="72" y="37"/>
                  </a:lnTo>
                  <a:lnTo>
                    <a:pt x="78" y="48"/>
                  </a:lnTo>
                  <a:lnTo>
                    <a:pt x="81" y="59"/>
                  </a:lnTo>
                  <a:lnTo>
                    <a:pt x="82" y="72"/>
                  </a:lnTo>
                  <a:lnTo>
                    <a:pt x="81" y="83"/>
                  </a:lnTo>
                  <a:lnTo>
                    <a:pt x="78" y="95"/>
                  </a:lnTo>
                  <a:lnTo>
                    <a:pt x="73" y="105"/>
                  </a:lnTo>
                  <a:lnTo>
                    <a:pt x="65" y="114"/>
                  </a:lnTo>
                  <a:lnTo>
                    <a:pt x="79" y="105"/>
                  </a:lnTo>
                  <a:lnTo>
                    <a:pt x="89" y="92"/>
                  </a:lnTo>
                  <a:lnTo>
                    <a:pt x="96" y="77"/>
                  </a:lnTo>
                  <a:lnTo>
                    <a:pt x="98" y="60"/>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0" name="Freeform 47"/>
            <p:cNvSpPr/>
            <p:nvPr/>
          </p:nvSpPr>
          <p:spPr>
            <a:xfrm>
              <a:off x="2152080" y="2701800"/>
              <a:ext cx="133920" cy="169560"/>
            </a:xfrm>
            <a:custGeom>
              <a:avLst/>
              <a:gdLst>
                <a:gd name="textAreaLeft" fmla="*/ 0 w 133920"/>
                <a:gd name="textAreaRight" fmla="*/ 134280 w 133920"/>
                <a:gd name="textAreaTop" fmla="*/ 0 h 169560"/>
                <a:gd name="textAreaBottom" fmla="*/ 169920 h 169560"/>
              </a:gdLst>
              <a:ahLst/>
              <a:rect l="textAreaLeft" t="textAreaTop" r="textAreaRight" b="textAreaBottom"/>
              <a:pathLst>
                <a:path w="121" h="152">
                  <a:moveTo>
                    <a:pt x="0" y="152"/>
                  </a:moveTo>
                  <a:lnTo>
                    <a:pt x="1" y="148"/>
                  </a:lnTo>
                  <a:lnTo>
                    <a:pt x="3" y="134"/>
                  </a:lnTo>
                  <a:lnTo>
                    <a:pt x="9" y="114"/>
                  </a:lnTo>
                  <a:lnTo>
                    <a:pt x="19" y="91"/>
                  </a:lnTo>
                  <a:lnTo>
                    <a:pt x="34" y="66"/>
                  </a:lnTo>
                  <a:lnTo>
                    <a:pt x="56" y="41"/>
                  </a:lnTo>
                  <a:lnTo>
                    <a:pt x="85" y="19"/>
                  </a:lnTo>
                  <a:lnTo>
                    <a:pt x="121" y="0"/>
                  </a:lnTo>
                  <a:lnTo>
                    <a:pt x="117" y="3"/>
                  </a:lnTo>
                  <a:lnTo>
                    <a:pt x="108" y="9"/>
                  </a:lnTo>
                  <a:lnTo>
                    <a:pt x="95" y="21"/>
                  </a:lnTo>
                  <a:lnTo>
                    <a:pt x="80" y="37"/>
                  </a:lnTo>
                  <a:lnTo>
                    <a:pt x="65" y="58"/>
                  </a:lnTo>
                  <a:lnTo>
                    <a:pt x="53" y="84"/>
                  </a:lnTo>
                  <a:lnTo>
                    <a:pt x="43" y="115"/>
                  </a:lnTo>
                  <a:lnTo>
                    <a:pt x="40" y="151"/>
                  </a:lnTo>
                  <a:lnTo>
                    <a:pt x="0" y="152"/>
                  </a:lnTo>
                  <a:close/>
                </a:path>
              </a:pathLst>
            </a:custGeom>
            <a:solidFill>
              <a:srgbClr val="b2cce5"/>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pic>
        <p:nvPicPr>
          <p:cNvPr id="891" name="Picture 27" descr=""/>
          <p:cNvPicPr/>
          <p:nvPr/>
        </p:nvPicPr>
        <p:blipFill>
          <a:blip r:embed="rId2"/>
          <a:stretch/>
        </p:blipFill>
        <p:spPr>
          <a:xfrm>
            <a:off x="2324160" y="3962520"/>
            <a:ext cx="357120" cy="1218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ing Lecture &amp; Practice</a:t>
            </a:r>
            <a:endParaRPr b="1" lang="en-US" sz="2800" spc="-1" strike="noStrike">
              <a:solidFill>
                <a:srgbClr val="000000"/>
              </a:solidFill>
              <a:latin typeface="Arial"/>
            </a:endParaRPr>
          </a:p>
        </p:txBody>
      </p:sp>
      <p:sp>
        <p:nvSpPr>
          <p:cNvPr id="893" name="Rectangle 3"/>
          <p:cNvSpPr/>
          <p:nvPr/>
        </p:nvSpPr>
        <p:spPr>
          <a:xfrm>
            <a:off x="3733920" y="1905120"/>
            <a:ext cx="4214520" cy="259056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4" name="Text Box 4"/>
          <p:cNvSpPr/>
          <p:nvPr/>
        </p:nvSpPr>
        <p:spPr>
          <a:xfrm>
            <a:off x="1752480" y="2819520"/>
            <a:ext cx="1513080" cy="630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808080"/>
                </a:solidFill>
                <a:latin typeface="Arial"/>
                <a:ea typeface="MS PGothic"/>
              </a:rPr>
              <a:t>Guided Exercises</a:t>
            </a:r>
            <a:endParaRPr b="1" lang="en-US" sz="2000" spc="-1" strike="noStrike">
              <a:solidFill>
                <a:srgbClr val="000000"/>
              </a:solidFill>
              <a:latin typeface="Arial"/>
            </a:endParaRPr>
          </a:p>
        </p:txBody>
      </p:sp>
      <p:sp>
        <p:nvSpPr>
          <p:cNvPr id="895" name="Text Box 5"/>
          <p:cNvSpPr/>
          <p:nvPr/>
        </p:nvSpPr>
        <p:spPr>
          <a:xfrm>
            <a:off x="1725480" y="3727440"/>
            <a:ext cx="1866960" cy="8204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dependent </a:t>
            </a:r>
            <a:br>
              <a:rPr sz="1800"/>
            </a:br>
            <a:r>
              <a:rPr b="1" lang="en-US" sz="1800" spc="-1" strike="noStrike">
                <a:solidFill>
                  <a:srgbClr val="000000"/>
                </a:solidFill>
                <a:latin typeface="Arial"/>
                <a:ea typeface="MS PGothic"/>
              </a:rPr>
              <a:t>&amp; Group Exercises</a:t>
            </a:r>
            <a:endParaRPr b="1" lang="en-US" sz="1800" spc="-1" strike="noStrike">
              <a:solidFill>
                <a:srgbClr val="000000"/>
              </a:solidFill>
              <a:latin typeface="Arial"/>
            </a:endParaRPr>
          </a:p>
        </p:txBody>
      </p:sp>
      <p:sp>
        <p:nvSpPr>
          <p:cNvPr id="896" name="Text Box 6"/>
          <p:cNvSpPr/>
          <p:nvPr/>
        </p:nvSpPr>
        <p:spPr>
          <a:xfrm>
            <a:off x="3809880" y="4572000"/>
            <a:ext cx="1067040" cy="963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1:</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a:t>
            </a:r>
            <a:br>
              <a:rPr sz="1800"/>
            </a:br>
            <a:r>
              <a:rPr b="1" lang="en-US" sz="1800" spc="-1" strike="noStrike">
                <a:solidFill>
                  <a:srgbClr val="000000"/>
                </a:solidFill>
                <a:latin typeface="Arial"/>
                <a:ea typeface="MS PGothic"/>
              </a:rPr>
              <a:t>Center</a:t>
            </a:r>
            <a:endParaRPr b="1" lang="en-US" sz="1800" spc="-1" strike="noStrike">
              <a:solidFill>
                <a:srgbClr val="000000"/>
              </a:solidFill>
              <a:latin typeface="Arial"/>
            </a:endParaRPr>
          </a:p>
        </p:txBody>
      </p:sp>
      <p:sp>
        <p:nvSpPr>
          <p:cNvPr id="897" name="Text Box 7"/>
          <p:cNvSpPr/>
          <p:nvPr/>
        </p:nvSpPr>
        <p:spPr>
          <a:xfrm>
            <a:off x="5105520" y="4572000"/>
            <a:ext cx="1698480" cy="96336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2:</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ontainment</a:t>
            </a:r>
            <a:endParaRPr b="1" lang="en-US" sz="1800" spc="-1" strike="noStrike">
              <a:solidFill>
                <a:srgbClr val="000000"/>
              </a:solidFill>
              <a:latin typeface="Arial"/>
            </a:endParaRPr>
          </a:p>
        </p:txBody>
      </p:sp>
      <p:sp>
        <p:nvSpPr>
          <p:cNvPr id="898" name="Text Box 8"/>
          <p:cNvSpPr/>
          <p:nvPr/>
        </p:nvSpPr>
        <p:spPr>
          <a:xfrm>
            <a:off x="6858000" y="4572000"/>
            <a:ext cx="1981080" cy="120744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se 3:</a:t>
            </a:r>
            <a:endParaRPr b="1" lang="en-US" sz="1800" spc="-1" strike="noStrike">
              <a:solidFill>
                <a:srgbClr val="000000"/>
              </a:solidFill>
              <a:latin typeface="Arial"/>
            </a:endParaRPr>
          </a:p>
          <a:p>
            <a:pPr>
              <a:lnSpc>
                <a:spcPct val="89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 &amp; Schedule Variance</a:t>
            </a:r>
            <a:endParaRPr b="1" lang="en-US" sz="1800" spc="-1" strike="noStrike">
              <a:solidFill>
                <a:srgbClr val="000000"/>
              </a:solidFill>
              <a:latin typeface="Arial"/>
            </a:endParaRPr>
          </a:p>
        </p:txBody>
      </p:sp>
      <p:grpSp>
        <p:nvGrpSpPr>
          <p:cNvPr id="899" name="Group 24"/>
          <p:cNvGrpSpPr/>
          <p:nvPr/>
        </p:nvGrpSpPr>
        <p:grpSpPr>
          <a:xfrm>
            <a:off x="762120" y="3429000"/>
            <a:ext cx="600120" cy="544680"/>
            <a:chOff x="762120" y="3429000"/>
            <a:chExt cx="600120" cy="544680"/>
          </a:xfrm>
        </p:grpSpPr>
        <p:sp>
          <p:nvSpPr>
            <p:cNvPr id="900" name="Oval 11"/>
            <p:cNvSpPr/>
            <p:nvPr/>
          </p:nvSpPr>
          <p:spPr>
            <a:xfrm>
              <a:off x="762120" y="3429000"/>
              <a:ext cx="600120" cy="544680"/>
            </a:xfrm>
            <a:prstGeom prst="ellipse">
              <a:avLst/>
            </a:prstGeom>
            <a:solidFill>
              <a:srgbClr val="d0dce6"/>
            </a:solidFill>
            <a:ln w="2844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000000"/>
                </a:solidFill>
                <a:latin typeface="Arial"/>
              </a:endParaRPr>
            </a:p>
          </p:txBody>
        </p:sp>
        <p:pic>
          <p:nvPicPr>
            <p:cNvPr id="901" name="Picture 12" descr="MCBS02023_0000[1]"/>
            <p:cNvPicPr/>
            <p:nvPr/>
          </p:nvPicPr>
          <p:blipFill>
            <a:blip r:embed="rId1"/>
            <a:stretch/>
          </p:blipFill>
          <p:spPr>
            <a:xfrm>
              <a:off x="869760" y="3503520"/>
              <a:ext cx="392040" cy="392400"/>
            </a:xfrm>
            <a:prstGeom prst="rect">
              <a:avLst/>
            </a:prstGeom>
            <a:ln w="0">
              <a:noFill/>
            </a:ln>
          </p:spPr>
        </p:pic>
      </p:grpSp>
      <p:sp>
        <p:nvSpPr>
          <p:cNvPr id="902" name="Text Box 13"/>
          <p:cNvSpPr/>
          <p:nvPr/>
        </p:nvSpPr>
        <p:spPr>
          <a:xfrm>
            <a:off x="1752480" y="2133720"/>
            <a:ext cx="1320840" cy="359280"/>
          </a:xfrm>
          <a:prstGeom prst="rect">
            <a:avLst/>
          </a:prstGeom>
          <a:noFill/>
          <a:ln w="0">
            <a:noFill/>
          </a:ln>
        </p:spPr>
        <p:style>
          <a:lnRef idx="0"/>
          <a:fillRef idx="0"/>
          <a:effectRef idx="0"/>
          <a:fontRef idx="minor"/>
        </p:style>
        <p:txBody>
          <a:bodyPr lIns="86760" rIns="86760" tIns="43920" bIns="43920" anchor="t">
            <a:spAutoFit/>
          </a:bodyPr>
          <a:p>
            <a:pP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66ff"/>
                </a:solidFill>
                <a:latin typeface="Arial"/>
                <a:ea typeface="MS PGothic"/>
              </a:rPr>
              <a:t>Lectures</a:t>
            </a:r>
            <a:endParaRPr b="1" lang="en-US" sz="2000" spc="-1" strike="noStrike">
              <a:solidFill>
                <a:srgbClr val="000000"/>
              </a:solidFill>
              <a:latin typeface="Arial"/>
            </a:endParaRPr>
          </a:p>
        </p:txBody>
      </p:sp>
      <p:grpSp>
        <p:nvGrpSpPr>
          <p:cNvPr id="903" name="Group 14"/>
          <p:cNvGrpSpPr/>
          <p:nvPr/>
        </p:nvGrpSpPr>
        <p:grpSpPr>
          <a:xfrm>
            <a:off x="3886200" y="2438280"/>
            <a:ext cx="3276360" cy="1282320"/>
            <a:chOff x="3886200" y="2438280"/>
            <a:chExt cx="3276360" cy="1282320"/>
          </a:xfrm>
        </p:grpSpPr>
        <p:sp>
          <p:nvSpPr>
            <p:cNvPr id="904" name="Line 15"/>
            <p:cNvSpPr/>
            <p:nvPr/>
          </p:nvSpPr>
          <p:spPr>
            <a:xfrm>
              <a:off x="3886200" y="2438280"/>
              <a:ext cx="1502280" cy="1038960"/>
            </a:xfrm>
            <a:prstGeom prst="line">
              <a:avLst/>
            </a:prstGeom>
            <a:ln w="38160">
              <a:solidFill>
                <a:srgbClr val="3366ff"/>
              </a:solidFill>
              <a:prstDash val="sysDash"/>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905" name="Line 16"/>
            <p:cNvSpPr/>
            <p:nvPr/>
          </p:nvSpPr>
          <p:spPr>
            <a:xfrm>
              <a:off x="5375880" y="3472920"/>
              <a:ext cx="1786680" cy="247680"/>
            </a:xfrm>
            <a:prstGeom prst="line">
              <a:avLst/>
            </a:prstGeom>
            <a:ln w="38160">
              <a:solidFill>
                <a:srgbClr val="3366ff"/>
              </a:solidFill>
              <a:prstDash val="sysDash"/>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grpSp>
        <p:nvGrpSpPr>
          <p:cNvPr id="906" name="Group 17"/>
          <p:cNvGrpSpPr/>
          <p:nvPr/>
        </p:nvGrpSpPr>
        <p:grpSpPr>
          <a:xfrm>
            <a:off x="3886200" y="2209680"/>
            <a:ext cx="3157200" cy="2012400"/>
            <a:chOff x="3886200" y="2209680"/>
            <a:chExt cx="3157200" cy="2012400"/>
          </a:xfrm>
        </p:grpSpPr>
        <p:sp>
          <p:nvSpPr>
            <p:cNvPr id="907" name="Line 18"/>
            <p:cNvSpPr/>
            <p:nvPr/>
          </p:nvSpPr>
          <p:spPr>
            <a:xfrm>
              <a:off x="3886200" y="2209680"/>
              <a:ext cx="1473120" cy="532440"/>
            </a:xfrm>
            <a:prstGeom prst="line">
              <a:avLst/>
            </a:prstGeom>
            <a:ln w="38160">
              <a:solidFill>
                <a:srgbClr val="80808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908" name="Line 19"/>
            <p:cNvSpPr/>
            <p:nvPr/>
          </p:nvSpPr>
          <p:spPr>
            <a:xfrm>
              <a:off x="5344920" y="2739960"/>
              <a:ext cx="1698480" cy="1482120"/>
            </a:xfrm>
            <a:prstGeom prst="line">
              <a:avLst/>
            </a:prstGeom>
            <a:ln w="38160">
              <a:solidFill>
                <a:srgbClr val="808080"/>
              </a:solidFill>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grpSp>
        <p:nvGrpSpPr>
          <p:cNvPr id="909" name="Group 20"/>
          <p:cNvGrpSpPr/>
          <p:nvPr/>
        </p:nvGrpSpPr>
        <p:grpSpPr>
          <a:xfrm>
            <a:off x="4038480" y="2133720"/>
            <a:ext cx="3411360" cy="1987200"/>
            <a:chOff x="4038480" y="2133720"/>
            <a:chExt cx="3411360" cy="1987200"/>
          </a:xfrm>
        </p:grpSpPr>
        <p:sp>
          <p:nvSpPr>
            <p:cNvPr id="910" name="Line 21"/>
            <p:cNvSpPr/>
            <p:nvPr/>
          </p:nvSpPr>
          <p:spPr>
            <a:xfrm flipV="1">
              <a:off x="4038480" y="3721320"/>
              <a:ext cx="1723680" cy="399600"/>
            </a:xfrm>
            <a:prstGeom prst="line">
              <a:avLst/>
            </a:prstGeom>
            <a:ln w="38160">
              <a:solidFill>
                <a:srgbClr val="000000"/>
              </a:solidFill>
              <a:miter/>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sp>
          <p:nvSpPr>
            <p:cNvPr id="911" name="Line 22"/>
            <p:cNvSpPr/>
            <p:nvPr/>
          </p:nvSpPr>
          <p:spPr>
            <a:xfrm flipV="1">
              <a:off x="5747400" y="2133720"/>
              <a:ext cx="1702440" cy="1587600"/>
            </a:xfrm>
            <a:prstGeom prst="line">
              <a:avLst/>
            </a:prstGeom>
            <a:ln w="38160">
              <a:solidFill>
                <a:srgbClr val="000000"/>
              </a:solidFill>
              <a:miter/>
              <a:tailEnd len="med" type="triangle" w="med"/>
            </a:ln>
          </p:spPr>
          <p:style>
            <a:lnRef idx="0"/>
            <a:fillRef idx="0"/>
            <a:effectRef idx="0"/>
            <a:fontRef idx="minor"/>
          </p:style>
          <p:txBody>
            <a:bodyPr lIns="86400" rIns="86400" tIns="43920" bIns="43920" anchor="ctr">
              <a:noAutofit/>
            </a:bodyPr>
            <a:p>
              <a:endParaRPr b="1" lang="en-US" sz="2000" spc="-1" strike="noStrike">
                <a:solidFill>
                  <a:srgbClr val="000000"/>
                </a:solidFill>
                <a:latin typeface="Arial"/>
              </a:endParaRPr>
            </a:p>
          </p:txBody>
        </p:sp>
      </p:grpSp>
      <p:sp>
        <p:nvSpPr>
          <p:cNvPr id="912" name="AutoShape 25"/>
          <p:cNvSpPr/>
          <p:nvPr/>
        </p:nvSpPr>
        <p:spPr>
          <a:xfrm>
            <a:off x="1447920" y="2743200"/>
            <a:ext cx="333360" cy="1828800"/>
          </a:xfrm>
          <a:custGeom>
            <a:avLst/>
            <a:gdLst>
              <a:gd name="textAreaLeft" fmla="*/ 213120 w 333360"/>
              <a:gd name="textAreaRight" fmla="*/ 333720 w 3333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3" name="Straight Connector 76"/>
          <p:cNvSpPr/>
          <p:nvPr/>
        </p:nvSpPr>
        <p:spPr>
          <a:xfrm>
            <a:off x="3276720" y="2309760"/>
            <a:ext cx="304560" cy="1800"/>
          </a:xfrm>
          <a:prstGeom prst="line">
            <a:avLst/>
          </a:prstGeom>
          <a:ln w="38160">
            <a:solidFill>
              <a:srgbClr val="3366ff"/>
            </a:solidFill>
            <a:prstDash val="sysDash"/>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914" name="Straight Connector 78"/>
          <p:cNvSpPr/>
          <p:nvPr/>
        </p:nvSpPr>
        <p:spPr>
          <a:xfrm>
            <a:off x="3276720" y="388620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915" name="Straight Connector 79"/>
          <p:cNvSpPr/>
          <p:nvPr/>
        </p:nvSpPr>
        <p:spPr>
          <a:xfrm>
            <a:off x="3276720" y="2971800"/>
            <a:ext cx="30456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pic>
        <p:nvPicPr>
          <p:cNvPr id="916" name="Picture 9" descr="C:\Documents and Settings\eah\Local Settings\Temporary Internet Files\Content.IE5\CL6BS5MN\MPj03413980000[1].jpg"/>
          <p:cNvPicPr/>
          <p:nvPr/>
        </p:nvPicPr>
        <p:blipFill>
          <a:blip r:embed="rId2"/>
          <a:stretch/>
        </p:blipFill>
        <p:spPr>
          <a:xfrm>
            <a:off x="762120" y="1752480"/>
            <a:ext cx="706320" cy="99072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903"/>
                                        </p:tgtEl>
                                        <p:attrNameLst>
                                          <p:attrName>style.visibility</p:attrName>
                                        </p:attrNameLst>
                                      </p:cBhvr>
                                      <p:to>
                                        <p:strVal val="visible"/>
                                      </p:to>
                                    </p:set>
                                    <p:animEffect filter="wipe(left)" transition="in">
                                      <p:cBhvr additive="repl">
                                        <p:cTn id="219" dur="500"/>
                                        <p:tgtEl>
                                          <p:spTgt spid="903"/>
                                        </p:tgtEl>
                                      </p:cBhvr>
                                    </p:animEffect>
                                  </p:childTnLst>
                                </p:cTn>
                              </p:par>
                              <p:par>
                                <p:cTn id="220" nodeType="withEffect" fill="hold" presetClass="emph" presetID="18">
                                  <p:stCondLst>
                                    <p:cond delay="0"/>
                                  </p:stCondLst>
                                  <p:iterate type="lt">
                                    <p:tmAbs val="20"/>
                                  </p:iterate>
                                  <p:childTnLst>
                                    <p:set>
                                      <p:cBhvr>
                                        <p:cTn id="221" dur="500" fill="hold"/>
                                        <p:tgtEl>
                                          <p:spTgt spid="902">
                                            <p:txEl>
                                              <p:pRg st="0" end="0"/>
                                            </p:txEl>
                                          </p:spTgt>
                                        </p:tgtEl>
                                        <p:attrNameLst>
                                          <p:attrName>style.textDecorationUnderline</p:attrName>
                                        </p:attrNameLst>
                                      </p:cBhvr>
                                      <p:to>
                                        <p:strVal val="tru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906"/>
                                        </p:tgtEl>
                                        <p:attrNameLst>
                                          <p:attrName>style.visibility</p:attrName>
                                        </p:attrNameLst>
                                      </p:cBhvr>
                                      <p:to>
                                        <p:strVal val="visible"/>
                                      </p:to>
                                    </p:set>
                                    <p:animEffect filter="wipe(left)" transition="in">
                                      <p:cBhvr additive="repl">
                                        <p:cTn id="226" dur="500"/>
                                        <p:tgtEl>
                                          <p:spTgt spid="906"/>
                                        </p:tgtEl>
                                      </p:cBhvr>
                                    </p:animEffect>
                                  </p:childTnLst>
                                </p:cTn>
                              </p:par>
                              <p:par>
                                <p:cTn id="227" nodeType="withEffect" fill="hold" presetClass="emph" presetID="18">
                                  <p:stCondLst>
                                    <p:cond delay="0"/>
                                  </p:stCondLst>
                                  <p:iterate type="lt">
                                    <p:tmAbs val="20"/>
                                  </p:iterate>
                                  <p:childTnLst>
                                    <p:set>
                                      <p:cBhvr>
                                        <p:cTn id="228" dur="500" fill="hold"/>
                                        <p:tgtEl>
                                          <p:spTgt spid="894">
                                            <p:txEl>
                                              <p:pRg st="0" end="0"/>
                                            </p:txEl>
                                          </p:spTgt>
                                        </p:tgtEl>
                                        <p:attrNameLst>
                                          <p:attrName>style.textDecorationUnderline</p:attrName>
                                        </p:attrNameLst>
                                      </p:cBhvr>
                                      <p:to>
                                        <p:strVal val="tru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909"/>
                                        </p:tgtEl>
                                        <p:attrNameLst>
                                          <p:attrName>style.visibility</p:attrName>
                                        </p:attrNameLst>
                                      </p:cBhvr>
                                      <p:to>
                                        <p:strVal val="visible"/>
                                      </p:to>
                                    </p:set>
                                    <p:animEffect filter="wipe(left)" transition="in">
                                      <p:cBhvr additive="repl">
                                        <p:cTn id="233" dur="500"/>
                                        <p:tgtEl>
                                          <p:spTgt spid="909"/>
                                        </p:tgtEl>
                                      </p:cBhvr>
                                    </p:animEffect>
                                  </p:childTnLst>
                                </p:cTn>
                              </p:par>
                              <p:par>
                                <p:cTn id="234" nodeType="withEffect" fill="hold" presetClass="emph" presetID="18">
                                  <p:stCondLst>
                                    <p:cond delay="0"/>
                                  </p:stCondLst>
                                  <p:iterate type="lt">
                                    <p:tmAbs val="20"/>
                                  </p:iterate>
                                  <p:childTnLst>
                                    <p:set>
                                      <p:cBhvr>
                                        <p:cTn id="235" dur="500" fill="hold"/>
                                        <p:tgtEl>
                                          <p:spTgt spid="895">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11"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1</a:t>
            </a:r>
            <a:endParaRPr b="0" lang="en-US" sz="20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ntroductions and expectations</a:t>
            </a:r>
            <a:endParaRPr b="0" lang="en-US" sz="2000" spc="-1" strike="noStrike">
              <a:solidFill>
                <a:srgbClr val="3c4f82"/>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ore concept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Before the improvement project begin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roadmap</a:t>
            </a:r>
            <a:endParaRPr b="0" lang="en-US" sz="2000" spc="-1" strike="noStrike">
              <a:solidFill>
                <a:srgbClr val="3c4f82"/>
              </a:solidFill>
              <a:latin typeface="Arial"/>
            </a:endParaRPr>
          </a:p>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2-4</a:t>
            </a:r>
            <a:endParaRPr b="0" lang="en-US" sz="2000" spc="-1" strike="noStrike">
              <a:solidFill>
                <a:srgbClr val="000000"/>
              </a:solidFill>
              <a:latin typeface="Arial"/>
            </a:endParaRPr>
          </a:p>
          <a:p>
            <a:pPr lvl="1" marL="28404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Application of the roadmap, using a variety of analytical techniques, to 3 case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rocess improvement in a call center</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Reduction of escaped defects from an inspection process</a:t>
            </a:r>
            <a:endParaRPr b="0" lang="en-US" sz="2000" spc="-1" strike="noStrike">
              <a:solidFill>
                <a:srgbClr val="3c4f82"/>
              </a:solidFill>
              <a:latin typeface="Arial"/>
            </a:endParaRPr>
          </a:p>
          <a:p>
            <a:pPr lvl="2" marL="576360" indent="-17964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Improved project cost and schedule predictability</a:t>
            </a:r>
            <a:endParaRPr b="0" lang="en-US" sz="2000" spc="-1" strike="noStrike">
              <a:solidFill>
                <a:srgbClr val="3c4f82"/>
              </a:solidFill>
              <a:latin typeface="Arial"/>
            </a:endParaRPr>
          </a:p>
          <a:p>
            <a:pPr indent="0">
              <a:lnSpc>
                <a:spcPct val="95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5</a:t>
            </a:r>
            <a:endParaRPr b="0" lang="en-US" sz="2000" spc="-1" strike="noStrike">
              <a:solidFill>
                <a:srgbClr val="000000"/>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iscussion of implementation obstacles and variations</a:t>
            </a:r>
            <a:endParaRPr b="0" lang="en-US" sz="2000" spc="-1" strike="noStrike">
              <a:solidFill>
                <a:srgbClr val="3c4f82"/>
              </a:solidFill>
              <a:latin typeface="Arial"/>
            </a:endParaRPr>
          </a:p>
          <a:p>
            <a:pPr lvl="1" marL="284040" indent="-169560">
              <a:lnSpc>
                <a:spcPct val="80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rap up</a:t>
            </a:r>
            <a:endParaRPr b="0" lang="en-US" sz="2000" spc="-1" strike="noStrike">
              <a:solidFill>
                <a:srgbClr val="3c4f82"/>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Materials &amp; References </a:t>
            </a:r>
            <a:endParaRPr b="1" lang="en-US" sz="2800" spc="-1" strike="noStrike">
              <a:solidFill>
                <a:srgbClr val="000000"/>
              </a:solidFill>
              <a:latin typeface="Arial"/>
            </a:endParaRPr>
          </a:p>
        </p:txBody>
      </p:sp>
      <p:sp>
        <p:nvSpPr>
          <p:cNvPr id="918"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binder containing</a:t>
            </a:r>
            <a:endParaRPr b="0" lang="en-US" sz="1800" spc="-1" strike="noStrike">
              <a:solidFill>
                <a:srgbClr val="000000"/>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six course modules</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exercises</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al-life project form</a:t>
            </a:r>
            <a:endParaRPr b="0" lang="en-US" sz="1800" spc="-1" strike="noStrike">
              <a:solidFill>
                <a:srgbClr val="3c4f82"/>
              </a:solidFill>
              <a:latin typeface="Arial"/>
            </a:endParaRPr>
          </a:p>
          <a:p>
            <a:pPr lvl="1" marL="284040" indent="-169560">
              <a:lnSpc>
                <a:spcPct val="95000"/>
              </a:lnSpc>
              <a:spcAft>
                <a:spcPts val="561"/>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4f82"/>
                </a:solidFill>
                <a:latin typeface="Arial"/>
              </a:rPr>
              <a:t>references</a:t>
            </a:r>
            <a:endParaRPr b="0" lang="en-US" sz="1800" spc="-1" strike="noStrike">
              <a:solidFill>
                <a:srgbClr val="3c4f82"/>
              </a:solidFill>
              <a:latin typeface="Arial"/>
            </a:endParaRPr>
          </a:p>
          <a:p>
            <a:pPr lvl="1" marL="284040" indent="-169560">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c4f82"/>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inated color job aid: Basic Statistics Reference (2 physical pages, 2-sided)</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x Sigma Advanced Tools Pocket Guide” by Rath &amp; Strong</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student files on CD-ROM or memory stick</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P, including help files</a:t>
            </a:r>
            <a:endParaRPr b="0" lang="en-US" sz="1800" spc="-1" strike="noStrike">
              <a:solidFill>
                <a:srgbClr val="000000"/>
              </a:solidFill>
              <a:latin typeface="Arial"/>
            </a:endParaRPr>
          </a:p>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Picture 8" descr=""/>
          <p:cNvPicPr/>
          <p:nvPr/>
        </p:nvPicPr>
        <p:blipFill>
          <a:blip r:embed="rId1"/>
          <a:stretch/>
        </p:blipFill>
        <p:spPr>
          <a:xfrm>
            <a:off x="533520" y="990720"/>
            <a:ext cx="8140680" cy="1828800"/>
          </a:xfrm>
          <a:prstGeom prst="rect">
            <a:avLst/>
          </a:prstGeom>
          <a:ln w="0">
            <a:noFill/>
          </a:ln>
        </p:spPr>
      </p:pic>
      <p:sp>
        <p:nvSpPr>
          <p:cNvPr id="920"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1</a:t>
            </a:r>
            <a:endParaRPr b="1" lang="en-US" sz="2800" spc="-1" strike="noStrike">
              <a:solidFill>
                <a:srgbClr val="000000"/>
              </a:solidFill>
              <a:latin typeface="Arial"/>
            </a:endParaRPr>
          </a:p>
        </p:txBody>
      </p:sp>
      <p:sp>
        <p:nvSpPr>
          <p:cNvPr id="921" name="Line 18"/>
          <p:cNvSpPr/>
          <p:nvPr/>
        </p:nvSpPr>
        <p:spPr>
          <a:xfrm>
            <a:off x="3200400" y="1676520"/>
            <a:ext cx="1066680" cy="68580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922" name="AutoShape 21"/>
          <p:cNvSpPr/>
          <p:nvPr/>
        </p:nvSpPr>
        <p:spPr>
          <a:xfrm>
            <a:off x="6248520" y="762120"/>
            <a:ext cx="2666880" cy="129528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pic>
        <p:nvPicPr>
          <p:cNvPr id="923" name="Picture 10" descr=""/>
          <p:cNvPicPr/>
          <p:nvPr/>
        </p:nvPicPr>
        <p:blipFill>
          <a:blip r:embed="rId2"/>
          <a:stretch/>
        </p:blipFill>
        <p:spPr>
          <a:xfrm>
            <a:off x="1066680" y="2666880"/>
            <a:ext cx="2948040" cy="1371600"/>
          </a:xfrm>
          <a:prstGeom prst="rect">
            <a:avLst/>
          </a:prstGeom>
          <a:ln w="0">
            <a:noFill/>
          </a:ln>
        </p:spPr>
      </p:pic>
      <p:pic>
        <p:nvPicPr>
          <p:cNvPr id="924" name="Picture 9" descr=""/>
          <p:cNvPicPr/>
          <p:nvPr/>
        </p:nvPicPr>
        <p:blipFill>
          <a:blip r:embed="rId3"/>
          <a:srcRect l="0" t="0" r="59994" b="0"/>
          <a:stretch/>
        </p:blipFill>
        <p:spPr>
          <a:xfrm>
            <a:off x="4249800" y="2424240"/>
            <a:ext cx="4665600" cy="4062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Picture 8" descr=""/>
          <p:cNvPicPr/>
          <p:nvPr/>
        </p:nvPicPr>
        <p:blipFill>
          <a:blip r:embed="rId1"/>
          <a:stretch/>
        </p:blipFill>
        <p:spPr>
          <a:xfrm>
            <a:off x="533520" y="990720"/>
            <a:ext cx="8140680" cy="1828800"/>
          </a:xfrm>
          <a:prstGeom prst="rect">
            <a:avLst/>
          </a:prstGeom>
          <a:ln w="0">
            <a:noFill/>
          </a:ln>
        </p:spPr>
      </p:pic>
      <p:pic>
        <p:nvPicPr>
          <p:cNvPr id="926" name="Picture 10" descr=""/>
          <p:cNvPicPr/>
          <p:nvPr/>
        </p:nvPicPr>
        <p:blipFill>
          <a:blip r:embed="rId2"/>
          <a:stretch/>
        </p:blipFill>
        <p:spPr>
          <a:xfrm>
            <a:off x="1066680" y="2666880"/>
            <a:ext cx="2948040" cy="1371600"/>
          </a:xfrm>
          <a:prstGeom prst="rect">
            <a:avLst/>
          </a:prstGeom>
          <a:ln w="0">
            <a:noFill/>
          </a:ln>
        </p:spPr>
      </p:pic>
      <p:sp>
        <p:nvSpPr>
          <p:cNvPr id="92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2</a:t>
            </a:r>
            <a:endParaRPr b="1" lang="en-US" sz="2800" spc="-1" strike="noStrike">
              <a:solidFill>
                <a:srgbClr val="000000"/>
              </a:solidFill>
              <a:latin typeface="Arial"/>
            </a:endParaRPr>
          </a:p>
        </p:txBody>
      </p:sp>
      <p:sp>
        <p:nvSpPr>
          <p:cNvPr id="928" name="Line 18"/>
          <p:cNvSpPr/>
          <p:nvPr/>
        </p:nvSpPr>
        <p:spPr>
          <a:xfrm>
            <a:off x="3048120" y="1905120"/>
            <a:ext cx="761760" cy="38088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929" name="AutoShape 21"/>
          <p:cNvSpPr/>
          <p:nvPr/>
        </p:nvSpPr>
        <p:spPr>
          <a:xfrm>
            <a:off x="6248520" y="762120"/>
            <a:ext cx="2666880" cy="129528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pic>
        <p:nvPicPr>
          <p:cNvPr id="930" name="Picture 9" descr=""/>
          <p:cNvPicPr/>
          <p:nvPr/>
        </p:nvPicPr>
        <p:blipFill>
          <a:blip r:embed="rId3"/>
          <a:stretch/>
        </p:blipFill>
        <p:spPr>
          <a:xfrm>
            <a:off x="4419720" y="2362320"/>
            <a:ext cx="3895560" cy="3485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1" name="Picture 8" descr=""/>
          <p:cNvPicPr/>
          <p:nvPr/>
        </p:nvPicPr>
        <p:blipFill>
          <a:blip r:embed="rId1"/>
          <a:stretch/>
        </p:blipFill>
        <p:spPr>
          <a:xfrm>
            <a:off x="533520" y="990720"/>
            <a:ext cx="8140680" cy="1828800"/>
          </a:xfrm>
          <a:prstGeom prst="rect">
            <a:avLst/>
          </a:prstGeom>
          <a:ln w="0">
            <a:noFill/>
          </a:ln>
        </p:spPr>
      </p:pic>
      <p:pic>
        <p:nvPicPr>
          <p:cNvPr id="932" name="Picture 10" descr=""/>
          <p:cNvPicPr/>
          <p:nvPr/>
        </p:nvPicPr>
        <p:blipFill>
          <a:blip r:embed="rId2"/>
          <a:stretch/>
        </p:blipFill>
        <p:spPr>
          <a:xfrm>
            <a:off x="1066680" y="2666880"/>
            <a:ext cx="2948040" cy="1371600"/>
          </a:xfrm>
          <a:prstGeom prst="rect">
            <a:avLst/>
          </a:prstGeom>
          <a:ln w="0">
            <a:noFill/>
          </a:ln>
        </p:spPr>
      </p:pic>
      <p:sp>
        <p:nvSpPr>
          <p:cNvPr id="933"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  Case 3</a:t>
            </a:r>
            <a:endParaRPr b="1" lang="en-US" sz="2800" spc="-1" strike="noStrike">
              <a:solidFill>
                <a:srgbClr val="000000"/>
              </a:solidFill>
              <a:latin typeface="Arial"/>
            </a:endParaRPr>
          </a:p>
        </p:txBody>
      </p:sp>
      <p:sp>
        <p:nvSpPr>
          <p:cNvPr id="934" name="Line 18"/>
          <p:cNvSpPr/>
          <p:nvPr/>
        </p:nvSpPr>
        <p:spPr>
          <a:xfrm>
            <a:off x="3429000" y="2209680"/>
            <a:ext cx="762120" cy="381240"/>
          </a:xfrm>
          <a:prstGeom prst="line">
            <a:avLst/>
          </a:prstGeom>
          <a:ln w="63360">
            <a:solidFill>
              <a:srgbClr val="3c4f82"/>
            </a:solidFill>
            <a:miter/>
            <a:tailEnd len="med" type="triangle" w="med"/>
          </a:ln>
        </p:spPr>
        <p:style>
          <a:lnRef idx="0"/>
          <a:fillRef idx="0"/>
          <a:effectRef idx="0"/>
          <a:fontRef idx="minor"/>
        </p:style>
        <p:txBody>
          <a:bodyPr lIns="0" rIns="0" tIns="0" bIns="0" anchor="t">
            <a:noAutofit/>
          </a:bodyPr>
          <a:p>
            <a:endParaRPr b="1" lang="en-US" sz="2000" spc="-1" strike="noStrike">
              <a:solidFill>
                <a:srgbClr val="000000"/>
              </a:solidFill>
              <a:latin typeface="Arial"/>
            </a:endParaRPr>
          </a:p>
        </p:txBody>
      </p:sp>
      <p:sp>
        <p:nvSpPr>
          <p:cNvPr id="935" name="AutoShape 21"/>
          <p:cNvSpPr/>
          <p:nvPr/>
        </p:nvSpPr>
        <p:spPr>
          <a:xfrm>
            <a:off x="6248520" y="1066680"/>
            <a:ext cx="2666880" cy="1295640"/>
          </a:xfrm>
          <a:prstGeom prst="wedgeRoundRectCallout">
            <a:avLst>
              <a:gd name="adj1" fmla="val -33777"/>
              <a:gd name="adj2" fmla="val 68629"/>
              <a:gd name="adj3" fmla="val 16667"/>
            </a:avLst>
          </a:prstGeom>
          <a:solidFill>
            <a:srgbClr val="ffffcc"/>
          </a:solidFill>
          <a:ln w="12600">
            <a:solidFill>
              <a:srgbClr val="36362e"/>
            </a:solidFill>
            <a:miter/>
          </a:ln>
        </p:spPr>
        <p:style>
          <a:lnRef idx="0"/>
          <a:fillRef idx="0"/>
          <a:effectRef idx="0"/>
          <a:fontRef idx="minor"/>
        </p:style>
        <p:txBody>
          <a:bodyPr lIns="0" rIns="0" tIns="0" bIns="0" anchor="t">
            <a:no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600" spc="-1" strike="noStrike">
                <a:solidFill>
                  <a:srgbClr val="000000"/>
                </a:solidFill>
                <a:latin typeface="Arial"/>
              </a:rPr>
              <a:t>Students should copy these folders and files from the Read-Only CDROM to their hard drives</a:t>
            </a:r>
            <a:endParaRPr b="1" lang="en-US" sz="1600" spc="-1" strike="noStrike">
              <a:solidFill>
                <a:srgbClr val="000000"/>
              </a:solidFill>
              <a:latin typeface="Arial"/>
            </a:endParaRPr>
          </a:p>
        </p:txBody>
      </p:sp>
      <p:pic>
        <p:nvPicPr>
          <p:cNvPr id="936" name="Picture 9" descr=""/>
          <p:cNvPicPr/>
          <p:nvPr/>
        </p:nvPicPr>
        <p:blipFill>
          <a:blip r:embed="rId3"/>
          <a:stretch/>
        </p:blipFill>
        <p:spPr>
          <a:xfrm>
            <a:off x="4249800" y="2666880"/>
            <a:ext cx="4665600" cy="3835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38" name="Group 3"/>
          <p:cNvGrpSpPr/>
          <p:nvPr/>
        </p:nvGrpSpPr>
        <p:grpSpPr>
          <a:xfrm>
            <a:off x="20520" y="1077840"/>
            <a:ext cx="2671920" cy="4016160"/>
            <a:chOff x="20520" y="1077840"/>
            <a:chExt cx="2671920" cy="4016160"/>
          </a:xfrm>
        </p:grpSpPr>
        <p:sp>
          <p:nvSpPr>
            <p:cNvPr id="939" name="Freeform 4"/>
            <p:cNvSpPr/>
            <p:nvPr/>
          </p:nvSpPr>
          <p:spPr>
            <a:xfrm>
              <a:off x="20520" y="334188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0" name="Freeform 5"/>
            <p:cNvSpPr/>
            <p:nvPr/>
          </p:nvSpPr>
          <p:spPr>
            <a:xfrm>
              <a:off x="20520" y="211968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1" name="Freeform 6"/>
            <p:cNvSpPr/>
            <p:nvPr/>
          </p:nvSpPr>
          <p:spPr>
            <a:xfrm>
              <a:off x="20520" y="396576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2" name="Freeform 7"/>
            <p:cNvSpPr/>
            <p:nvPr/>
          </p:nvSpPr>
          <p:spPr>
            <a:xfrm>
              <a:off x="20520" y="272664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3" name="Freeform 8"/>
            <p:cNvSpPr/>
            <p:nvPr/>
          </p:nvSpPr>
          <p:spPr>
            <a:xfrm>
              <a:off x="20520" y="233424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4" name="Freeform 9"/>
            <p:cNvSpPr/>
            <p:nvPr/>
          </p:nvSpPr>
          <p:spPr>
            <a:xfrm>
              <a:off x="20520" y="355536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5" name="Freeform 10"/>
            <p:cNvSpPr/>
            <p:nvPr/>
          </p:nvSpPr>
          <p:spPr>
            <a:xfrm>
              <a:off x="20520" y="294120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6" name="Freeform 11"/>
            <p:cNvSpPr/>
            <p:nvPr/>
          </p:nvSpPr>
          <p:spPr>
            <a:xfrm>
              <a:off x="20520" y="417924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7" name="Freeform 12"/>
            <p:cNvSpPr/>
            <p:nvPr/>
          </p:nvSpPr>
          <p:spPr>
            <a:xfrm>
              <a:off x="20520" y="4797360"/>
              <a:ext cx="1044000" cy="296640"/>
            </a:xfrm>
            <a:custGeom>
              <a:avLst/>
              <a:gdLst>
                <a:gd name="textAreaLeft" fmla="*/ 0 w 1044000"/>
                <a:gd name="textAreaRight" fmla="*/ 1044360 w 1044000"/>
                <a:gd name="textAreaTop" fmla="*/ 0 h 296640"/>
                <a:gd name="textAreaBottom" fmla="*/ 296640 h 29664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8" name="Freeform 13"/>
            <p:cNvSpPr/>
            <p:nvPr/>
          </p:nvSpPr>
          <p:spPr>
            <a:xfrm>
              <a:off x="20520" y="10778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9" name="Freeform 14"/>
            <p:cNvSpPr/>
            <p:nvPr/>
          </p:nvSpPr>
          <p:spPr>
            <a:xfrm>
              <a:off x="20520" y="170136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950" name="Text Box 15"/>
          <p:cNvSpPr/>
          <p:nvPr/>
        </p:nvSpPr>
        <p:spPr>
          <a:xfrm>
            <a:off x="2971800" y="2681280"/>
            <a:ext cx="5791320" cy="1928880"/>
          </a:xfrm>
          <a:prstGeom prst="rect">
            <a:avLst/>
          </a:prstGeom>
          <a:noFill/>
          <a:ln w="0">
            <a:noFill/>
          </a:ln>
        </p:spPr>
        <p:style>
          <a:lnRef idx="0"/>
          <a:fillRef idx="0"/>
          <a:effectRef idx="0"/>
          <a:fontRef idx="minor"/>
        </p:style>
        <p:txBody>
          <a:bodyPr rIns="92160" tIns="46080" bIns="46080" anchor="ctr">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Questions?</a:t>
            </a:r>
            <a:endParaRPr b="1"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the SEI </a:t>
            </a:r>
            <a:endParaRPr b="1" lang="en-US" sz="2800" spc="-1" strike="noStrike">
              <a:solidFill>
                <a:srgbClr val="000000"/>
              </a:solidFill>
              <a:latin typeface="Arial"/>
            </a:endParaRPr>
          </a:p>
        </p:txBody>
      </p:sp>
      <p:sp>
        <p:nvSpPr>
          <p:cNvPr id="113" name="PlaceHolder 2"/>
          <p:cNvSpPr>
            <a:spLocks noGrp="1"/>
          </p:cNvSpPr>
          <p:nvPr>
            <p:ph/>
          </p:nvPr>
        </p:nvSpPr>
        <p:spPr>
          <a:xfrm>
            <a:off x="533160" y="1294920"/>
            <a:ext cx="4647960" cy="5257800"/>
          </a:xfrm>
          <a:prstGeom prst="rect">
            <a:avLst/>
          </a:prstGeom>
          <a:noFill/>
          <a:ln w="0">
            <a:noFill/>
          </a:ln>
        </p:spPr>
        <p:txBody>
          <a:bodyPr lIns="0" rIns="0" tIns="0" bIns="0" anchor="t">
            <a:normAutofit/>
          </a:bodyPr>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 R&amp;D Laboratory FFRDC</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by OUSD (AT&amp;L)</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in 1984</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contract to                    </a:t>
            </a:r>
            <a:br>
              <a:rPr sz="2000"/>
            </a:b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s in Arlington, VA; Pittsburgh, PA; El Segundo, CA</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Improve the practice </a:t>
            </a:r>
            <a:br>
              <a:rPr sz="2000"/>
            </a:br>
            <a:r>
              <a:rPr b="0" lang="en-US" sz="2000" spc="-1" strike="noStrike">
                <a:solidFill>
                  <a:srgbClr val="000000"/>
                </a:solidFill>
                <a:latin typeface="Arial"/>
              </a:rPr>
              <a:t>of software engineering.</a:t>
            </a:r>
            <a:endParaRPr b="0" lang="en-US" sz="2000" spc="-1" strike="noStrike">
              <a:solidFill>
                <a:srgbClr val="000000"/>
              </a:solidFill>
              <a:latin typeface="Arial"/>
            </a:endParaRPr>
          </a:p>
        </p:txBody>
      </p:sp>
      <p:pic>
        <p:nvPicPr>
          <p:cNvPr id="114" name="Picture 5" descr=""/>
          <p:cNvPicPr/>
          <p:nvPr/>
        </p:nvPicPr>
        <p:blipFill>
          <a:blip r:embed="rId1"/>
          <a:stretch/>
        </p:blipFill>
        <p:spPr>
          <a:xfrm>
            <a:off x="5275440" y="1295280"/>
            <a:ext cx="3563640" cy="2901960"/>
          </a:xfrm>
          <a:prstGeom prst="rect">
            <a:avLst/>
          </a:prstGeom>
          <a:ln w="1260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1" lang="en-US" sz="2800" spc="-1" strike="noStrike">
              <a:solidFill>
                <a:srgbClr val="000000"/>
              </a:solidFill>
              <a:latin typeface="Arial"/>
            </a:endParaRPr>
          </a:p>
        </p:txBody>
      </p:sp>
      <p:sp>
        <p:nvSpPr>
          <p:cNvPr id="116" name=""/>
          <p:cNvSpPr txBox="1"/>
          <p:nvPr/>
        </p:nvSpPr>
        <p:spPr>
          <a:xfrm>
            <a:off x="533520" y="1294920"/>
            <a:ext cx="8237520" cy="4953240"/>
          </a:xfrm>
          <a:prstGeom prst="rect">
            <a:avLst/>
          </a:prstGeom>
          <a:noFill/>
          <a:ln w="0">
            <a:noFill/>
          </a:ln>
        </p:spPr>
        <p:txBody>
          <a:bodyPr lIns="0" rIns="0" tIns="0" bIns="0" anchor="t">
            <a:normAutofit/>
          </a:bodyPr>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acknowledge the following SEI affiliates for co-developing Improving Process Performance Using Six Sigma:</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Gary Gack, Six Sigma Advantage</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ave Hallowell, Six Sigma Advantage </a:t>
            </a:r>
            <a:br>
              <a:rPr sz="2000"/>
            </a:br>
            <a:r>
              <a:rPr b="0" lang="en-US" sz="2000" spc="-1" strike="noStrike">
                <a:solidFill>
                  <a:srgbClr val="3c4f82"/>
                </a:solidFill>
                <a:latin typeface="Arial"/>
              </a:rPr>
              <a:t>(Six Sigma Advantage logo appears on slides derived from their materials)</a:t>
            </a:r>
            <a:endParaRPr b="0" lang="en-US" sz="2000" spc="-1" strike="noStrike">
              <a:solidFill>
                <a:srgbClr val="3c4f82"/>
              </a:solidFill>
              <a:latin typeface="Arial"/>
            </a:endParaRPr>
          </a:p>
          <a:p>
            <a:pPr lvl="1" marL="284040" indent="-169560">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a:p>
            <a:pP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we would like to acknowledge the following people and organizations for their content contributions:</a:t>
            </a:r>
            <a:endParaRPr b="0" lang="en-US" sz="2000" spc="-1" strike="noStrike">
              <a:solidFill>
                <a:srgbClr val="000000"/>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United Space Alliance</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Warner Robins Air Logistics Center</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arry Bramble, Integrated Systems Diagnostic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ul Byrnes, Integrated Systems Diagnostics</a:t>
            </a:r>
            <a:endParaRPr b="0" lang="en-US" sz="2000" spc="-1" strike="noStrike">
              <a:solidFill>
                <a:srgbClr val="3c4f82"/>
              </a:solidFill>
              <a:latin typeface="Arial"/>
            </a:endParaRPr>
          </a:p>
          <a:p>
            <a:pPr lvl="1" marL="284040" indent="-169560">
              <a:lnSpc>
                <a:spcPct val="95000"/>
              </a:lnSpc>
              <a:spcBef>
                <a:spcPts val="374"/>
              </a:spcBef>
              <a:spcAft>
                <a:spcPts val="37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Lynn Penn &amp; Peter McLoone, Lockheed Martin, IS&amp;S</a:t>
            </a:r>
            <a:endParaRPr b="0" lang="en-US" sz="2000" spc="-1" strike="noStrike">
              <a:solidFill>
                <a:srgbClr val="3c4f8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llabus At A Glance</a:t>
            </a:r>
            <a:endParaRPr b="1" lang="en-US" sz="2800" spc="-1" strike="noStrike">
              <a:solidFill>
                <a:srgbClr val="000000"/>
              </a:solidFill>
              <a:latin typeface="Arial"/>
            </a:endParaRPr>
          </a:p>
        </p:txBody>
      </p:sp>
      <p:sp>
        <p:nvSpPr>
          <p:cNvPr id="118" name="Text Box 3"/>
          <p:cNvSpPr/>
          <p:nvPr/>
        </p:nvSpPr>
        <p:spPr>
          <a:xfrm>
            <a:off x="-115920" y="1855800"/>
            <a:ext cx="20480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MONDAY</a:t>
            </a:r>
            <a:endParaRPr b="1" lang="en-US" sz="2000" spc="-1" strike="noStrike">
              <a:solidFill>
                <a:srgbClr val="000000"/>
              </a:solidFill>
              <a:latin typeface="Arial"/>
            </a:endParaRPr>
          </a:p>
        </p:txBody>
      </p:sp>
      <p:sp>
        <p:nvSpPr>
          <p:cNvPr id="119" name="Rectangle 4"/>
          <p:cNvSpPr/>
          <p:nvPr/>
        </p:nvSpPr>
        <p:spPr>
          <a:xfrm>
            <a:off x="5291280" y="1733400"/>
            <a:ext cx="278604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0" name="Text Box 5"/>
          <p:cNvSpPr/>
          <p:nvPr/>
        </p:nvSpPr>
        <p:spPr>
          <a:xfrm>
            <a:off x="396720" y="2720880"/>
            <a:ext cx="153828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TUESDAY</a:t>
            </a:r>
            <a:endParaRPr b="1" lang="en-US" sz="2000" spc="-1" strike="noStrike">
              <a:solidFill>
                <a:srgbClr val="000000"/>
              </a:solidFill>
              <a:latin typeface="Arial"/>
            </a:endParaRPr>
          </a:p>
        </p:txBody>
      </p:sp>
      <p:sp>
        <p:nvSpPr>
          <p:cNvPr id="121" name="Text Box 6"/>
          <p:cNvSpPr/>
          <p:nvPr/>
        </p:nvSpPr>
        <p:spPr>
          <a:xfrm>
            <a:off x="-81000" y="3571920"/>
            <a:ext cx="20066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WEDNESDAY</a:t>
            </a:r>
            <a:endParaRPr b="1" lang="en-US" sz="2000" spc="-1" strike="noStrike">
              <a:solidFill>
                <a:srgbClr val="000000"/>
              </a:solidFill>
              <a:latin typeface="Arial"/>
            </a:endParaRPr>
          </a:p>
        </p:txBody>
      </p:sp>
      <p:sp>
        <p:nvSpPr>
          <p:cNvPr id="122" name="Text Box 7"/>
          <p:cNvSpPr/>
          <p:nvPr/>
        </p:nvSpPr>
        <p:spPr>
          <a:xfrm>
            <a:off x="228600" y="4448160"/>
            <a:ext cx="171144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THURSDAY</a:t>
            </a:r>
            <a:endParaRPr b="1" lang="en-US" sz="2000" spc="-1" strike="noStrike">
              <a:solidFill>
                <a:srgbClr val="000000"/>
              </a:solidFill>
              <a:latin typeface="Arial"/>
            </a:endParaRPr>
          </a:p>
        </p:txBody>
      </p:sp>
      <p:sp>
        <p:nvSpPr>
          <p:cNvPr id="123" name="Text Box 8"/>
          <p:cNvSpPr/>
          <p:nvPr/>
        </p:nvSpPr>
        <p:spPr>
          <a:xfrm>
            <a:off x="3240" y="5194440"/>
            <a:ext cx="1935000" cy="359280"/>
          </a:xfrm>
          <a:prstGeom prst="rect">
            <a:avLst/>
          </a:prstGeom>
          <a:noFill/>
          <a:ln w="0">
            <a:noFill/>
          </a:ln>
        </p:spPr>
        <p:style>
          <a:lnRef idx="0"/>
          <a:fillRef idx="0"/>
          <a:effectRef idx="0"/>
          <a:fontRef idx="minor"/>
        </p:style>
        <p:txBody>
          <a:bodyPr lIns="86760" rIns="86760" tIns="43920" bIns="43920" anchor="t">
            <a:spAutoFit/>
          </a:bodyPr>
          <a:p>
            <a:pPr algn="r">
              <a:lnSpc>
                <a:spcPct val="89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c4f82"/>
                </a:solidFill>
                <a:latin typeface="Arial"/>
                <a:ea typeface="MS PGothic"/>
              </a:rPr>
              <a:t>FRIDAY</a:t>
            </a:r>
            <a:endParaRPr b="1" lang="en-US" sz="2000" spc="-1" strike="noStrike">
              <a:solidFill>
                <a:srgbClr val="000000"/>
              </a:solidFill>
              <a:latin typeface="Arial"/>
            </a:endParaRPr>
          </a:p>
        </p:txBody>
      </p:sp>
      <p:sp>
        <p:nvSpPr>
          <p:cNvPr id="124" name="Rectangle 9"/>
          <p:cNvSpPr/>
          <p:nvPr/>
        </p:nvSpPr>
        <p:spPr>
          <a:xfrm>
            <a:off x="1905120" y="4334040"/>
            <a:ext cx="3276360" cy="4870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100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25" name="Rectangle 10"/>
          <p:cNvSpPr/>
          <p:nvPr/>
        </p:nvSpPr>
        <p:spPr>
          <a:xfrm>
            <a:off x="4194000" y="5076720"/>
            <a:ext cx="98748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Wrap-Up</a:t>
            </a:r>
            <a:endParaRPr b="1" lang="en-US" sz="1800" spc="-1" strike="noStrike">
              <a:solidFill>
                <a:srgbClr val="000000"/>
              </a:solidFill>
              <a:latin typeface="Arial"/>
            </a:endParaRPr>
          </a:p>
        </p:txBody>
      </p:sp>
      <p:sp>
        <p:nvSpPr>
          <p:cNvPr id="126" name="Rectangle 11"/>
          <p:cNvSpPr/>
          <p:nvPr/>
        </p:nvSpPr>
        <p:spPr>
          <a:xfrm>
            <a:off x="3160800" y="1733400"/>
            <a:ext cx="202068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7" name="Rectangle 12"/>
          <p:cNvSpPr/>
          <p:nvPr/>
        </p:nvSpPr>
        <p:spPr>
          <a:xfrm>
            <a:off x="1905120" y="2622600"/>
            <a:ext cx="327636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re Concepts</a:t>
            </a:r>
            <a:endParaRPr b="1" lang="en-US" sz="1800" spc="-1" strike="noStrike">
              <a:solidFill>
                <a:srgbClr val="000000"/>
              </a:solidFill>
              <a:latin typeface="Arial"/>
            </a:endParaRPr>
          </a:p>
        </p:txBody>
      </p:sp>
      <p:sp>
        <p:nvSpPr>
          <p:cNvPr id="128" name="Rectangle 13"/>
          <p:cNvSpPr/>
          <p:nvPr/>
        </p:nvSpPr>
        <p:spPr>
          <a:xfrm>
            <a:off x="5299200" y="2622600"/>
            <a:ext cx="277812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29" name="Rectangle 14"/>
          <p:cNvSpPr/>
          <p:nvPr/>
        </p:nvSpPr>
        <p:spPr>
          <a:xfrm>
            <a:off x="1905120" y="3481560"/>
            <a:ext cx="3276360" cy="49032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all Center Case</a:t>
            </a:r>
            <a:endParaRPr b="1" lang="en-US" sz="1800" spc="-1" strike="noStrike">
              <a:solidFill>
                <a:srgbClr val="000000"/>
              </a:solidFill>
              <a:latin typeface="Arial"/>
            </a:endParaRPr>
          </a:p>
        </p:txBody>
      </p:sp>
      <p:sp>
        <p:nvSpPr>
          <p:cNvPr id="130" name="Rectangle 16"/>
          <p:cNvSpPr/>
          <p:nvPr/>
        </p:nvSpPr>
        <p:spPr>
          <a:xfrm>
            <a:off x="1905120" y="1733400"/>
            <a:ext cx="1258920" cy="490680"/>
          </a:xfrm>
          <a:prstGeom prst="rect">
            <a:avLst/>
          </a:prstGeom>
          <a:solidFill>
            <a:srgbClr val="ebf0f5"/>
          </a:solid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Intro</a:t>
            </a:r>
            <a:endParaRPr b="1" lang="en-US" sz="1800" spc="-1" strike="noStrike">
              <a:solidFill>
                <a:srgbClr val="000000"/>
              </a:solidFill>
              <a:latin typeface="Arial"/>
            </a:endParaRPr>
          </a:p>
        </p:txBody>
      </p:sp>
      <p:sp>
        <p:nvSpPr>
          <p:cNvPr id="131" name="Rectangle 17"/>
          <p:cNvSpPr/>
          <p:nvPr/>
        </p:nvSpPr>
        <p:spPr>
          <a:xfrm>
            <a:off x="5294160" y="3476520"/>
            <a:ext cx="278316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Defect Case</a:t>
            </a:r>
            <a:endParaRPr b="1" lang="en-US" sz="1800" spc="-1" strike="noStrike">
              <a:solidFill>
                <a:srgbClr val="000000"/>
              </a:solidFill>
              <a:latin typeface="Arial"/>
            </a:endParaRPr>
          </a:p>
        </p:txBody>
      </p:sp>
      <p:sp>
        <p:nvSpPr>
          <p:cNvPr id="132" name="Rectangle 18"/>
          <p:cNvSpPr/>
          <p:nvPr/>
        </p:nvSpPr>
        <p:spPr>
          <a:xfrm>
            <a:off x="5300640" y="4316400"/>
            <a:ext cx="2776680" cy="48744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
        <p:nvSpPr>
          <p:cNvPr id="133" name="AutoShape 12"/>
          <p:cNvSpPr/>
          <p:nvPr/>
        </p:nvSpPr>
        <p:spPr>
          <a:xfrm rot="10800000">
            <a:off x="1828440" y="1371600"/>
            <a:ext cx="41292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Rectangle 16"/>
          <p:cNvSpPr/>
          <p:nvPr/>
        </p:nvSpPr>
        <p:spPr>
          <a:xfrm>
            <a:off x="1905120" y="5072040"/>
            <a:ext cx="2286000" cy="490680"/>
          </a:xfrm>
          <a:prstGeom prst="rect">
            <a:avLst/>
          </a:prstGeom>
          <a:noFill/>
          <a:ln w="9360">
            <a:solidFill>
              <a:srgbClr val="000000"/>
            </a:solidFill>
            <a:miter/>
          </a:ln>
        </p:spPr>
        <p:style>
          <a:lnRef idx="0"/>
          <a:fillRef idx="0"/>
          <a:effectRef idx="0"/>
          <a:fontRef idx="minor"/>
        </p:style>
        <p:txBody>
          <a:bodyPr wrap="none" lIns="86760" rIns="86760" tIns="43920" bIns="43920" anchor="ctr">
            <a:noAutofit/>
          </a:bodyPr>
          <a:p>
            <a:pPr algn="ctr">
              <a:lnSpc>
                <a:spcPct val="89000"/>
              </a:lnSpc>
              <a:spcBef>
                <a:spcPts val="9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Arial"/>
                <a:ea typeface="MS PGothic"/>
              </a:rPr>
              <a:t>Cost-Schedule Case</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p:txBody>
      </p:sp>
      <p:sp>
        <p:nvSpPr>
          <p:cNvPr id="136" name="PlaceHolder 2"/>
          <p:cNvSpPr>
            <a:spLocks noGrp="1"/>
          </p:cNvSpPr>
          <p:nvPr>
            <p:ph/>
          </p:nvPr>
        </p:nvSpPr>
        <p:spPr>
          <a:xfrm>
            <a:off x="533520" y="1294920"/>
            <a:ext cx="8237520" cy="4953240"/>
          </a:xfrm>
          <a:prstGeom prst="rect">
            <a:avLst/>
          </a:prstGeom>
          <a:noFill/>
          <a:ln w="0">
            <a:noFill/>
          </a:ln>
        </p:spPr>
        <p:txBody>
          <a:bodyPr lIns="0" rIns="0" tIns="0" bIns="0" anchor="t">
            <a:normAutofit/>
          </a:bodyPr>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4f82"/>
                </a:solidFill>
                <a:latin typeface="Arial"/>
              </a:rPr>
              <a:t>Introductions and logistic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SEMA curriculum and this cours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Paradigms</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DMAIC introduction &amp; roadma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4f82"/>
                </a:solidFill>
                <a:latin typeface="Arial"/>
              </a:rPr>
              <a:t>Case preparation</a:t>
            </a:r>
            <a:endParaRPr b="0" lang="en-US" sz="2000" spc="-1" strike="noStrike">
              <a:solidFill>
                <a:srgbClr val="3c4f82"/>
              </a:solidFill>
              <a:latin typeface="Arial"/>
            </a:endParaRPr>
          </a:p>
          <a:p>
            <a:pPr lvl="1" marL="284040" indent="0">
              <a:lnSpc>
                <a:spcPct val="95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c4f82"/>
              </a:solidFill>
              <a:latin typeface="Arial"/>
            </a:endParaRPr>
          </a:p>
        </p:txBody>
      </p:sp>
      <p:sp>
        <p:nvSpPr>
          <p:cNvPr id="137" name="AutoShape 12"/>
          <p:cNvSpPr/>
          <p:nvPr/>
        </p:nvSpPr>
        <p:spPr>
          <a:xfrm rot="5400000">
            <a:off x="-50760" y="1270080"/>
            <a:ext cx="412560" cy="311040"/>
          </a:xfrm>
          <a:prstGeom prst="triangle">
            <a:avLst>
              <a:gd name="adj" fmla="val 50000"/>
            </a:avLst>
          </a:prstGeom>
          <a:solidFill>
            <a:srgbClr val="5ca1fb"/>
          </a:solid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533520"/>
            <a:ext cx="8235720" cy="8380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Should Be Here?</a:t>
            </a:r>
            <a:endParaRPr b="1" lang="en-US" sz="2800" spc="-1" strike="noStrike">
              <a:solidFill>
                <a:srgbClr val="000000"/>
              </a:solidFill>
              <a:latin typeface="Arial"/>
            </a:endParaRPr>
          </a:p>
        </p:txBody>
      </p:sp>
      <p:sp>
        <p:nvSpPr>
          <p:cNvPr id="139" name=""/>
          <p:cNvSpPr txBox="1"/>
          <p:nvPr/>
        </p:nvSpPr>
        <p:spPr>
          <a:xfrm>
            <a:off x="533520" y="1294920"/>
            <a:ext cx="8237520" cy="4953240"/>
          </a:xfrm>
          <a:prstGeom prst="rect">
            <a:avLst/>
          </a:prstGeom>
          <a:noFill/>
          <a:ln w="0">
            <a:noFill/>
          </a:ln>
        </p:spPr>
        <p:txBody>
          <a:bodyPr lIns="0" rIns="0" tIns="0" bIns="0" anchor="t">
            <a:normAutofit/>
          </a:bodyPr>
          <a:p>
            <a:pPr>
              <a:lnSpc>
                <a:spcPct val="11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Professionals whose key focus is </a:t>
            </a:r>
            <a:br>
              <a:rPr sz="2000"/>
            </a:br>
            <a:r>
              <a:rPr b="1" lang="en-US" sz="2000" spc="-1" strike="noStrike">
                <a:solidFill>
                  <a:srgbClr val="000000"/>
                </a:solidFill>
                <a:latin typeface="Arial"/>
              </a:rPr>
              <a:t>using measurement methods to</a:t>
            </a:r>
            <a:endParaRPr b="0" lang="en-US" sz="2000" spc="-1" strike="noStrike">
              <a:solidFill>
                <a:srgbClr val="000000"/>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 </a:t>
            </a:r>
            <a:r>
              <a:rPr b="0" lang="en-US" sz="2000" spc="-1" strike="noStrike">
                <a:solidFill>
                  <a:srgbClr val="3c4f82"/>
                </a:solidFill>
                <a:latin typeface="Arial"/>
              </a:rPr>
              <a:t>acquir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manage,</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develop,</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support, and</a:t>
            </a:r>
            <a:endParaRPr b="0" lang="en-US" sz="2000" spc="-1" strike="noStrike">
              <a:solidFill>
                <a:srgbClr val="3c4f82"/>
              </a:solidFill>
              <a:latin typeface="Arial"/>
            </a:endParaRPr>
          </a:p>
          <a:p>
            <a:pPr lvl="1" marL="284040" indent="-169560">
              <a:lnSpc>
                <a:spcPct val="95000"/>
              </a:lnSpc>
              <a:spcAft>
                <a:spcPts val="624"/>
              </a:spcAft>
              <a:buClr>
                <a:srgbClr val="3c4f82"/>
              </a:buClr>
              <a:buFont typeface="Times"/>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c4f82"/>
                </a:solidFill>
                <a:latin typeface="Arial"/>
              </a:rPr>
              <a:t>improve</a:t>
            </a:r>
            <a:endParaRPr b="0" lang="en-US" sz="2000" spc="-1" strike="noStrike">
              <a:solidFill>
                <a:srgbClr val="3c4f82"/>
              </a:solidFill>
              <a:latin typeface="Arial"/>
            </a:endParaRPr>
          </a:p>
          <a:p>
            <a:pPr>
              <a:lnSpc>
                <a:spcPct val="115000"/>
              </a:lnSpc>
              <a:spcAft>
                <a:spcPts val="62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Product and Process.</a:t>
            </a:r>
            <a:endParaRPr b="0" lang="en-US" sz="2000" spc="-1" strike="noStrike">
              <a:solidFill>
                <a:srgbClr val="000000"/>
              </a:solidFill>
              <a:latin typeface="Arial"/>
            </a:endParaRPr>
          </a:p>
          <a:p>
            <a:pPr>
              <a:lnSpc>
                <a:spcPct val="95000"/>
              </a:lnSpc>
              <a:spcBef>
                <a:spcPts val="374"/>
              </a:spcBef>
              <a:spcAft>
                <a:spcPts val="374"/>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pic>
        <p:nvPicPr>
          <p:cNvPr id="140" name="Picture 22" descr="COMPUTERPIC.jpg"/>
          <p:cNvPicPr/>
          <p:nvPr/>
        </p:nvPicPr>
        <p:blipFill>
          <a:blip r:embed="rId1"/>
          <a:stretch/>
        </p:blipFill>
        <p:spPr>
          <a:xfrm>
            <a:off x="5257800" y="1295280"/>
            <a:ext cx="3225960" cy="2629080"/>
          </a:xfrm>
          <a:prstGeom prst="rect">
            <a:avLst/>
          </a:prstGeom>
          <a:ln w="0">
            <a:noFill/>
          </a:ln>
        </p:spPr>
      </p:pic>
      <p:sp>
        <p:nvSpPr>
          <p:cNvPr id="141" name="Rectangle 25"/>
          <p:cNvSpPr/>
          <p:nvPr/>
        </p:nvSpPr>
        <p:spPr>
          <a:xfrm>
            <a:off x="5257800" y="1295280"/>
            <a:ext cx="3218040" cy="2608560"/>
          </a:xfrm>
          <a:prstGeom prst="rect">
            <a:avLst/>
          </a:prstGeom>
          <a:noFill/>
          <a:ln w="12600">
            <a:solidFill>
              <a:srgbClr val="000000"/>
            </a:solidFill>
            <a:round/>
          </a:ln>
        </p:spPr>
        <p:style>
          <a:lnRef idx="0"/>
          <a:fillRef idx="0"/>
          <a:effectRef idx="0"/>
          <a:fontRef idx="minor"/>
        </p:style>
        <p:txBody>
          <a:bodyPr wrap="none"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5:51:20Z</dcterms:created>
  <dc:creator>Erin harper</dc:creator>
  <dc:description/>
  <dc:language>en-US</dc:language>
  <cp:lastModifiedBy>Sheela Nath</cp:lastModifiedBy>
  <cp:lastPrinted>2006-06-21T20:45:34Z</cp:lastPrinted>
  <dcterms:modified xsi:type="dcterms:W3CDTF">2020-09-30T06:19:21Z</dcterms:modified>
  <cp:revision>101</cp:revision>
  <dc:subject/>
  <dc:title>SEI CourseWare Template: Preformatted Design  and Template Items</dc:title>
</cp:coreProperties>
</file>